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93FF-3A21-46BE-BFC3-671E735E88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3DB3-5C25-485E-8797-6A82DCFE6F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8EAA-1875-4B4F-A623-D2F448141B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19A0-9936-4D36-A9EB-87D8B4466F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D621-5315-4066-8B72-562C6EE7FB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551B-246E-4EA7-9861-7A63BA571F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8DE2-ED90-4BA9-B16B-C14FA230587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A35A-953D-49B8-B1A5-195BC6AFD3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6797-EE47-49F2-A31A-91712ED9C8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177E-63FA-41D1-BBC8-634D9A998C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A9DD-ABE5-483C-A81D-E4AA599D5E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1A67-11B0-442E-998B-6969C46C08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5973-C806-4432-BF03-C2F44E1686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6BBD-9C23-4EE6-8CCE-768D86D7B5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898A-23D8-4E21-B1E2-22B83BB68A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FBE4-4A3C-423A-BCA6-DC48BBD949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F98C-B9DA-4511-BAE9-226BE4F45E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C205-2627-404B-B5F1-C66FE3E300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E7DB-35DE-4A7A-8314-B338461EDF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6E7B-6A51-4A0B-997B-EFDA99EBCA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CDFD-F68C-4AD4-8513-D13E48833B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CB7A-8D59-4E71-8173-4F4C1035DD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0A5E-A572-41C6-A0C5-9B783E0CB1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DF67-05D3-45EC-A604-9929050959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22E0-CF60-4A5E-AE1F-5DE0E783FE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21B3-08ED-4AB2-9D54-63A44309D0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3D8D-344B-47A5-A449-42036034B6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14A9-1554-4E2E-B286-21101B6ACF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DF9E-AD5A-4140-8661-3BDDF2E714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7EB42-CC9A-4BE8-896D-97E71F134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83DA-E4B8-4676-AD2B-EB9850F71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43DFF-0E87-4166-B4AE-F26D3BD8E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E12F-7C2F-4906-87AA-29A5F23A8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E2E1-1844-4DAB-BF13-3B318456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70A4D-AED7-4776-9DBB-66C730EF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59B0-8BEB-4D32-80AE-53A3A5C4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AE902-2B55-4221-BE6D-18F78D7FB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1EB4-4274-4629-86FD-57FFF4757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A49D-5734-4ABF-98FD-51808450E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F820-B3A1-41C6-813E-7E5F1C46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2506-0A46-47DD-B9DC-737D3CEA7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0273-B9C5-43C1-AA2C-7BEEA16F3DDA}"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1815-EA1C-4CD0-9F48-D004FF81FA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9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 natural</a:t>
            </a:r>
            <a:endParaRPr b="0" lang="en-US" sz="3400" spc="-1" strike="noStrike">
              <a:solidFill>
                <a:srgbClr val="000000"/>
              </a:solidFill>
              <a:latin typeface="Calibri"/>
            </a:endParaRPr>
          </a:p>
        </p:txBody>
      </p:sp>
      <p:sp>
        <p:nvSpPr>
          <p:cNvPr id="77"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jemplos de la sociedad primitiva muestran que la ley natural, como dictado de la razón en pro del bien humano, en cierta medida exige la restricción de las tendencias naturales del hombre hacia la preocupación por el propio interé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en todas partes (por ejemplo: la preocupación por la familia) probablemente no se originaron en un propósito justo y racional, sino en las pasiones mismas del amor propio, en cierta medid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mucho menos quizás constituyen dictados de la razón que no logran extenderse, precisamente porque carecen de fundamento suficiente en las pasiones human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ría que las dotes naturales u originales del hombre no le permiten por sí mismos y de manera inmediata convertirse en un ser moral y reflexiv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2A95-3A97-47AE-AC91-080AF6BF23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80" name=""/>
          <p:cNvSpPr txBox="1"/>
          <p:nvPr/>
        </p:nvSpPr>
        <p:spPr>
          <a:xfrm>
            <a:off x="250560" y="836280"/>
            <a:ext cx="8713800" cy="576108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cual ha llamado libertad al gobierno que se ajustaba a sus costumbres o a sus inclinacion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s el derecho de hacer todo lo que las leyes permiten, de modo que si un ciudadano pudiera hacer lo que las leyes prohíben, ya no habría libertad, pues los demás tendrían igualmente esta facult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 Estado (sociedad en la que hay leyes), la </a:t>
            </a:r>
            <a:r>
              <a:rPr b="0" i="1" lang="es-CL" sz="2400" spc="-1" strike="noStrike">
                <a:solidFill>
                  <a:srgbClr val="000000"/>
                </a:solidFill>
                <a:latin typeface="Calibri"/>
              </a:rPr>
              <a:t>libertad, políticamente hablando,</a:t>
            </a:r>
            <a:r>
              <a:rPr b="0" lang="es-CL" sz="2400" spc="-1" strike="noStrike">
                <a:solidFill>
                  <a:srgbClr val="000000"/>
                </a:solidFill>
                <a:latin typeface="Calibri"/>
              </a:rPr>
              <a:t> sólo puede consistir en </a:t>
            </a:r>
            <a:r>
              <a:rPr b="0" i="1" lang="es-CL" sz="2400" spc="-1" strike="noStrike">
                <a:solidFill>
                  <a:srgbClr val="000000"/>
                </a:solidFill>
                <a:latin typeface="Calibri"/>
              </a:rPr>
              <a:t>poder hacer lo que se debe querer y en no estar obligado a hacer lo que no se debe querer</a:t>
            </a:r>
            <a:r>
              <a:rPr b="0" lang="es-CL" sz="2400" spc="-1" strike="noStrike">
                <a:solidFill>
                  <a:srgbClr val="000000"/>
                </a:solidFill>
                <a:latin typeface="Calibri"/>
              </a:rPr>
              <a:t>.</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no se encuentra más que en los Estados moderados. No siempre aparece en ellos, sino sólo cuando no se abusa del poder.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hombre que tiene poder siente la inclinación de abusar de él, yendo hasta donde encuentra límit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AAA24-93D7-4CE8-98FE-73A49658AA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3"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glaterra moderna es el único país cuyas leyes tienen la libertad como su objeto dire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mente hablando, es el derecho de hacer lo que las leyes permit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una constitución equilibrada y el sentido del ciudadano de seguridad legal, donde la primera contribuye a este últi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mer requisito es la separación de los tres poderes del gobierno —legislativo, ejecutivo y judicial— de manera que se encuentren en diferentes m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os de estos poderes, o todos ellos, se combinan en las mismas personas, el poder se encontrará demasiado concentrado y el control será insuficiente.</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22F9-D302-4383-89FD-B0A83F1CEB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6"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Montesquieu hace es unir en un solo poder la ejecución de las leyes internas y la política exterior, concediendo a la vez independencia al poder judi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opósito, dicho en forma breve, es garantizar al ciudadano una seguridad aún mayor que la que era posible en el sistema de Loc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en su relación con la constitución requiere no sólo que estén separados los tres poderes sino que estén constituidos de una cierta man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de un ciudadano depende de la tranquilidad de espíritu que nace de la opinión que tiene cada uno de su segur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la libertad es necesario que el gobierno sea tal que ningún ciudadano pueda temer nada de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5BEE-35EB-4BAD-A3B9-F83800141C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9"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judicial debe ser entregado a tribunales ad hoc compuestos por los iguales del acusado, y los juicios han de estar determinados con tanta precisión como sea posible por la ley escrit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debe estar dividi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arte fundamental debe corresponder a los representantes debidamente elegidos del pueblo en su totalidad, y sólo aquellos que tengan condición tan baja que sean considerados sin voluntad propia carecerán de los derechos del voto.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ersonas que se distinguen por su linaje, riquezas u honores deben constituir un grupo de nobles que protejan sus privilegios hereditarios sirviendo como la segunda mitad de la legislatura.</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cutivo debe ser un monarca cuya inspección de la legislatura conste de un poder de vetar y cuyos ministros, a su vez, puedan ser observados y castigados por la legislatura, aunque él mismo no pueda ser legalmente destituido.</a:t>
            </a: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3228-F006-44A1-88EB-83205F962E3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2"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considera a Inglaterra no sólo más libre sino más justa y en ciertos respectos más sabia que las antiguas re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Ventajas:</a:t>
            </a:r>
            <a:endParaRPr b="0" lang="en-US" sz="24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clara de poderes y el mecanismo de control incorporado a las divisiones legislativa y ejecutiva.</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esentación de la opinión pública mediante una rama de la legislatura, la cual puede en consecuencia discutir cuestiones legislativas y omitir las decisiones ejecutivas.</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judicial es menos amenazador y más justo.</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jecutivo en manos de un solo individuo —poseerá un gran poder concentrado y motivos suficientes para ejercer ese poder vigorosamente.</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ría esperarse que un gobierno constitucional de este tipo funcionara sin una considerable cantidad de desavenencias internas, de modo que cierto sacrificio en cuanto a calidad y fluidez en el funcionamiento del gobierno, es el costo necesario de la libertad.</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7249-0081-45C1-8044-A9F93CD956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5" name=""/>
          <p:cNvSpPr txBox="1"/>
          <p:nvPr/>
        </p:nvSpPr>
        <p:spPr>
          <a:xfrm>
            <a:off x="250920" y="981000"/>
            <a:ext cx="842472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Inglaterra, la libertad no es sólo de acción y pensamiento, sino también de pa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 libre es sobre todo seguir las propias ambiciones de dinero, prestigio y po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glaterra es capitalista: han sido eliminados los límites morales a la adquisición competitiva son f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ralelo en el campo de la ambición es la política de parti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erialismo es más comercial que mili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e qué manera impide el espíritu comercial que se aniquile ella misma como resultado del lujo excesivo y la disolución?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AA21-AA00-4DE4-8C5B-F1DEA9D4A2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8" name=""/>
          <p:cNvSpPr txBox="1"/>
          <p:nvPr/>
        </p:nvSpPr>
        <p:spPr>
          <a:xfrm>
            <a:off x="324000" y="836280"/>
            <a:ext cx="842472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mpuestos altos mantienen a los hombres trabajando, y los gastos superfluos son considerados censurables, aunque no es claro si es sobre bases religiosas o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extrema de la competencia y la constante apertura de nuevas oportunidades económicas hace que la disolución sea más la excepción que la regl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la avaricia y la ambición constituyen los fundamentos morales del sistema inglés, no su enemigo moral. El sentido del interés propio de cada hombre sustenta su amor a la libertad v su patriot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2BED-6CF5-49D6-8AEE-42CF96D2CE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101" name=""/>
          <p:cNvSpPr txBox="1"/>
          <p:nvPr/>
        </p:nvSpPr>
        <p:spPr>
          <a:xfrm>
            <a:off x="179280" y="836280"/>
            <a:ext cx="8785440" cy="576108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Inglaterra la libertad de la mayoría apasionada garantiza la libertad de la minoría reflexiv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sistema inglés produce beneficios para todos, por los vicios mismos que permite y fomenta.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máximo de seguridad legal, una participación general en el gobierno y la actividad en el comercio dan como resultado un ciudadano orgulloso de su independencia, esperanzado de conseguir ventajas, pero completamente ciego al hecho de que es esclavo de pasiones vulgare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nglaterra es una sociedad secularizada, interesada en los bienes terrena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necesita de una religión común o virtud democrática para reunir a la comunidad y, en consecuencia, puede permitir más intimidad y libertad de expresión que en la propia Atenas de la Antigüedad.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 un sistema constitucional nuevo que ofrezca una forma permanente al esfuerzo por el propio interés, Inglaterra ha descubierto cómo aplazar casi indefinidamente la disolución intern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17EB-625B-4110-B92B-D1F5C91A5FA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0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hace primero un examen de las estructuras políticas, es decir, de los medios para reprimir el conflic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gobierno tiene una naturaleza y un principio a los cuales sus leyes deben remiti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ocemos su naturaleza cuando sabemos quién gobierna y cómo lo hace; las pasiones que lo mueven son su princip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incipales clases de gobierno so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ública (democrática o aristocrática),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narqu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al objetivo de las formas de gobierno es formar las leyes, instituciones y prácticas por las cuales cada forma se perfeccion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B6EC-E4B6-4605-9806-D1D5A18C2C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ontesquieu y la división de poderes</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ntes de la ley: la sociedad primitiv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ey.</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mas de gobiern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B1D9-25BE-4D59-9EFF-513A9BCA63E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07"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una democracia adecuadamente constituida, el pueblo soberano delega la autoridad para hacer lo que él mismo no puede hacer.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ecesita ser guiado en asuntos exteriores y en la preparación de la legislación por un consejo o senado, y sólo puede tener confianza en él si él mismo lo elige (legitimidad).</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no exige que todo ciudadano sea elegible para un cargo público, sino que todos participen en la selección de funcionari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enadores y magistrados civiles de menor jerarquía deben elegirse por sorteo, no mediante el voto, entre voluntarios tomados entre los no necesitados: </a:t>
            </a:r>
            <a:r>
              <a:rPr b="0" i="1" lang="es-CL" sz="2300" spc="-1" strike="noStrike">
                <a:solidFill>
                  <a:srgbClr val="000000"/>
                </a:solidFill>
                <a:latin typeface="Calibri"/>
              </a:rPr>
              <a:t>los pobres no son elegibles</a:t>
            </a:r>
            <a:r>
              <a:rPr b="0" lang="es-CL" sz="2300" spc="-1" strike="noStrike">
                <a:solidFill>
                  <a:srgbClr val="000000"/>
                </a:solidFill>
                <a:latin typeface="Calibri"/>
              </a:rPr>
              <a:t>.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litares y los magistrados civiles superiores deben ser elegidos por todos, una vez más, entre aquellos que poseen riqueza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embros de los tribunales populares se eligen por sorteo entre todos los voluntarios, pobres o ric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2051-BFAD-4603-BC37-41C8C51D5E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0"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o es simple gobierno de la mayoría, ni simple gobierno por sorteo. Es una mezc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ecesita el conservadurismo así como la independencia económica y el tiempo libre del acaudal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requiere mérito, en cuya obtención ayuda el uso de las técnicas de elección y examen de candida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El principio de la democracia es la virtud</a:t>
            </a:r>
            <a:r>
              <a:rPr b="0" lang="es-CL" sz="2400" spc="-1" strike="noStrike">
                <a:solidFill>
                  <a:srgbClr val="000000"/>
                </a:solidFill>
                <a:latin typeface="Calibri"/>
              </a:rPr>
              <a:t>, donde todos participan en la elaboración de las leyes que ellos mismos deben obedecer y en la elección de sus propios gobernantes de entre ellos mis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 muy alto grado de voluntad o dedicación pública al bien comú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3121-B4F3-4EE9-B958-6356D76CD1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3" name=""/>
          <p:cNvSpPr txBox="1"/>
          <p:nvPr/>
        </p:nvSpPr>
        <p:spPr>
          <a:xfrm>
            <a:off x="250560" y="836280"/>
            <a:ext cx="8713800" cy="576108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es:</a:t>
            </a:r>
            <a:endParaRPr b="0" lang="en-US" sz="23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atriotismo, </a:t>
            </a:r>
            <a:endParaRPr b="0" lang="en-US" sz="19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mor a la república y las leyes y de él se derivan las virtudes ciudadanas particulares de probidad, templanza, valor y ambición patriótica. </a:t>
            </a:r>
            <a:endParaRPr b="0" lang="en-US" sz="19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ara conservar la virtud deben evitarse los extremos de pobreza y riqueza (desigualdad-inequidad), estableciendo mínimos y máximos legales a la posesión de la prop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precisa una cuasi igualdad, y más que eso, un nivel general relativamente bajo de riqueza, de modo que se asegure la frugalidad (templanza) y se evite el lujo. Esta condición debe a la vez existir y ser apreciad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tras formas de mantener la virtud son un consejo de ancianos para censurar, elegidos de por vida para mantener la pureza de las costumbres; fuerte autoridad paterna; leyes suntuarias; la acusación pública de las esposas infieles; y, en general, la mutua vigilancia de todos en lo que concierne a conduct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E542-CF45-43F3-91B1-624967F242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6"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sólo puede subsistir en una ciudad-Estado pequeña, cuya cohesión tan semejante a la de una familia engendra una continua preferencia por el bien público por encima del priva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us asambleas no son representativa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es compatible con un clero independiente —es decir, con un Estado dentro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característica más atractiva de la democracia es la grandeza moral de sus ciudadano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asegura a sus ciudadanos un alto grado de libertad y seguridad bajo el amparo de la ley.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be establecer forzosamente límites tanto a su grandeza como a su libert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lección elemental de democracia está en una ciudadanía que está constituida por agricultores que trabajan (producción) y por quienes también combatan(seguridad-protección).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7147-97B8-4F26-90D1-0D53B47759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ública Aristocrática </a:t>
            </a:r>
            <a:endParaRPr b="0" lang="en-US" sz="3400" spc="-1" strike="noStrike">
              <a:solidFill>
                <a:srgbClr val="000000"/>
              </a:solidFill>
              <a:latin typeface="Calibri"/>
            </a:endParaRPr>
          </a:p>
        </p:txBody>
      </p:sp>
      <p:sp>
        <p:nvSpPr>
          <p:cNvPr id="119"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un régimen en el cual sólo una parte del pueblo es soberan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ristocracia depende de la desigualdad política y económica entre los nobles soberanos y el pueblo sin participación.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poco común que los nobles identifiquen su propio interés con el interés de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más probable de la aristocracia es un espíritu de </a:t>
            </a:r>
            <a:r>
              <a:rPr b="0" i="1" lang="es-CL" sz="2300" spc="-1" strike="noStrike">
                <a:solidFill>
                  <a:srgbClr val="000000"/>
                </a:solidFill>
                <a:latin typeface="Calibri"/>
              </a:rPr>
              <a:t>moderación</a:t>
            </a:r>
            <a:r>
              <a:rPr b="0" lang="es-CL" sz="2300" spc="-1" strike="noStrike">
                <a:solidFill>
                  <a:srgbClr val="000000"/>
                </a:solidFill>
                <a:latin typeface="Calibri"/>
              </a:rPr>
              <a:t> en los nobles, que los contiene de buscar una superioridad desmesurada sobre los demás en su posición v con respecto a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difícil consolidar leyes e instituciones que conduzcan a este límit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cuanto mayor es el número de los nobles, y menor y más pobre el conjunto de aquellos que carecen de derechos políticos, más saludable es la aristocraci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C1DB-7618-4ED9-B699-DA256ADF14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2"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onarquía, gobierna una persona de acuerdo con leyes fijas y establecidas. Esto hace necesario que haya poderes intermedios entre el monarca y el pueblo, de ahí la nobleza, la Iglesia y los concejos. Debe existir también un depositario o guardián de las leyes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untas, estas fuerzas —en virtud de sus privilegios e independencia— pueden frenar las acciones tanto del monarca como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cuando el monarca combina en su persona el poder legislativo y el poder ejecutivo (como en Francia), el gobierno se inclina a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os que la monarquía posea una estructura como ésta, no será un régimen establ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AC8A-635C-428C-A3C0-4F870566D0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5"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basta tener una buena monarquía para tener un buen monarc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gobierno posee una naturaleza o constitución sólo si su estructura no depende de circunstancia tan poco fiable como las dotes morales naturales o aprendidas de un individuo importante.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admite que el carácter moral de un monarca es tan vital para la libertad de su país como lo son sus ley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de la monarquía es el </a:t>
            </a:r>
            <a:r>
              <a:rPr b="0" i="1" lang="es-CL" sz="2300" spc="-1" strike="noStrike">
                <a:solidFill>
                  <a:srgbClr val="000000"/>
                </a:solidFill>
                <a:latin typeface="Calibri"/>
              </a:rPr>
              <a:t>honor</a:t>
            </a:r>
            <a:r>
              <a:rPr b="0" lang="es-CL" sz="2300" spc="-1" strike="noStrike">
                <a:solidFill>
                  <a:srgbClr val="000000"/>
                </a:solidFill>
                <a:latin typeface="Calibri"/>
              </a:rPr>
              <a:t>.</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es sumamente severo en su crítica moral de las cortes y de los hombres principales de las monarquías de cualquier parte del mun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ce alusión a su carácter miserable y a su marrullería (mala intención), que se difunde por todos los niveles de la socied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n embargo, lo más buscado —el honor, o superioridad de condición y personal— sirve como sustituto de los incentivos de la acción virtuosa.</a:t>
            </a: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246A-557F-4C24-8369-034EE5AAC80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8" name=""/>
          <p:cNvSpPr txBox="1"/>
          <p:nvPr/>
        </p:nvSpPr>
        <p:spPr>
          <a:xfrm>
            <a:off x="0" y="836280"/>
            <a:ext cx="896472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mbición de distinguirse, propia de todas las clases e individuos, provoca conductas que redundan en el beneficio público a pesar de tener como propósito sólo el bien privado o egoíst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leyes que favorecen el honor en las monarquías, deben garantizar privilegios hereditarios a las personas y la propiedad de la noblez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lujo (¿consumo actual?) ha de permitirse como medio de sustentar al pobre, y favorecerse el comercio por parte de los que no son noble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onarquía está más dispuesta de manera inherente a la guerra y la conquista de lo que lo está la república, y por su naturaleza precisa de un territorio más grande.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pansión inmoderada debilita el poder del honor y propicia el poder despótico.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la monarquía es menos moral, menos justa y menos estable que la democracia. Debe asegurar inmensas desigualdades hereditarias.</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0E11-5726-4D13-A85F-03575166C2F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1"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existe donde un hombre gobierna de acuerdo con sus deseos sin ley algu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hace uso de un auxiliar político superior o visir que rige mientras el déspota despilfar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io es el temor, surgido por el ejercicio de la fuerza brutal especialmente sobre el prócer, quien de otra manera oprimiría a las ma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el despotismo cumple una cierta función pública, pero también depende de que sus súbditos carezcan de virtud, honor y conocimientos, pues éstos son peligrosos para el régim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gobierno más inhumano, corrompido y estúpido, y sin embargo prevalece entre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D4D5-017F-411E-A7F8-AD9EA4CA56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4"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spera en forma natural entre poblaciones numerosas pero timoratas que ocupan territorios muy grand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onsecuencia, sólo un hombre que gobierna por medio de su fuerza puede mantener unido el país y prevenir el único mal mayor, la anarquí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asos, el despotismo es intrínsecamente incapaz de hacer mejoras esenciales: su existencia misma depende del empleo permanente de la violencia cruel y sanguinaria</a:t>
            </a: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D2CC-5ED7-4C76-B496-502A1BF7832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principio, los hombres eran apenas distinguibles de las best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arecer de lenguaje y de razón, se dejaban guiar por temores y deseos físicos instintivos para salvaguardar su integridad individual y después, a asociarse entre sí; sólo tiempo después podrían desear conscientemente permanecer en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sociedad engendra descontento. Los grupos intentan hacerse privilegiados en la posesión de sus ventajas incitados entonces por una conciencia de su propia fuerza, se dedican a luchar unos contra otr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de la guerra de donde surgen la ley, el derecho o lo jus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CAC8-74FB-48E2-8FD8-46CAD706F6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37"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las cuatro formas de gobierno, Montesquieu considera a la democracia como la mejor y al despotismo como la pe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es elogiada más por la virtud de sus ciudadanos que por la libertad y seguridad que les ofr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al virtud es considerada una pasión o un sentimiento, algo que todo ciudadano siente en virtud de haberse criado en dicha comu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quiere decir que la virtud fundada en la razón o el entendimiento y no en la pasión, la cual podemos denominar virtud racional, no tiene preeminencia ni en la democracia ni en las formas políticas inferiores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toda virtud con significación política se mantiene en el nivel de la pasión y el prejuicio.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98A2-C804-4D3D-9F95-54C22BAB2F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14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7 de septiembre de 2010</a:t>
            </a:r>
            <a:endParaRPr b="0" lang="en-US" sz="2000" spc="-1" strike="noStrike">
              <a:solidFill>
                <a:srgbClr val="000000"/>
              </a:solidFill>
              <a:latin typeface="Calibri"/>
            </a:endParaRPr>
          </a:p>
        </p:txBody>
      </p:sp>
      <p:pic>
        <p:nvPicPr>
          <p:cNvPr id="141" name="Picture 5" descr="escuela de gobierno y gestión pública"/>
          <p:cNvPicPr/>
          <p:nvPr/>
        </p:nvPicPr>
        <p:blipFill>
          <a:blip r:embed="rId1"/>
          <a:stretch/>
        </p:blipFill>
        <p:spPr>
          <a:xfrm>
            <a:off x="0" y="0"/>
            <a:ext cx="2371680" cy="933480"/>
          </a:xfrm>
          <a:prstGeom prst="rect">
            <a:avLst/>
          </a:prstGeom>
          <a:ln w="0">
            <a:noFill/>
          </a:ln>
        </p:spPr>
      </p:pic>
      <p:pic>
        <p:nvPicPr>
          <p:cNvPr id="142"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surge como medio para suprimir la guerra, ya sea dentro de las sociedades o entre ell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las sociedades, las relaciones entre gobernantes y gobernados (la ley política) y de un ciudadano con otro (ley civil) se establecen de este modo para unir a la comunidad desagarrada por la guer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l derecho, lo justo, lo obligatorio, se origina con la idea de ley y no precede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osee por naturaleza en el origen una conciencia o sentido del deb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ega que la naturaleza requiera, o esté más de acuerdo con, alguna forma de gobierno particular o conjunto de leyes.</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6F4D-5248-46EF-B5EC-C2015CDBC5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o anterior omite la alusión a las "anteriores relaciones de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relaciones o derechos que preceden a todo derecho positivo, tienen un carácter peculiar que imponen una correspondencia mínim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bedecer las leyes positiva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r agradecido por los beneficios recibi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tenerse supeditado al ser que ha creado al hombre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volver el mal con el mismo m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obligaciones resultan insuficientes para prescribir la plenitud de la justicia o del bien humano por el que deben guiarse las sociedad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3F5B-B0F6-449D-9521-752F3E734C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5"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no habla en forma explícita de las relaciones familiares originales, pero sugiere que contenían algunos de los más profundos secretos de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da probabilidad, la familia como unidad estable no existió sino que tuvo que surgir de una condición de promiscu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hibiciones del incesto tuvieron que aparecer como manera de proporcionar una base para la paz y el cuidado mutu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I macho gobernaba la familia en virtud de su fuerza superior, y la hembra permanecía en una posición subordinada e incluso ser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ondiciones, la poligamia se encontraba muy extend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FE6F-9D40-4FC8-B339-9A2A31F468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8" name=""/>
          <p:cNvSpPr txBox="1"/>
          <p:nvPr/>
        </p:nvSpPr>
        <p:spPr>
          <a:xfrm>
            <a:off x="250560" y="836280"/>
            <a:ext cx="8713800" cy="576108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ociedades primitivas eran salvajes o bárbaras, dependiendo de si, como cazadores, las personas permanecen en tribus aisladas (nómade) o sí, como pastores, pueden unirse en una horda (sedentarios-agricultura-ganaderí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axa organización permitió a cada hombre considerable libertad, y la ausencia de dinero contribuyó a crear una igualdad casi completa de posesiones y en consecuencia de una mínima explo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oridad política se encontraba en manos del fuerte, el sabio y el viej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guerras era (y son) crueles y la toma de esclavos fue una práctica norm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igión, y con frecuencia los sacerdotes, tenían (y tienen) gran influencia.</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800E-EAA3-4326-BA6C-330A3758148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71"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scripción del ser humano primitivo puede ayudar a aclarar el verdadero sentido de la ley natur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natural consiste en aquellos derechos y deberes de los individuos o de las naciones que deben respetarse en todas partes por el bien que produc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la ley natural es natural a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diferente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recho a la propia conservación y libertad de los individuos y naciones.</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obligaciones mutuas que vinculan a los miembros de la familia. Sólo éstos han de ser universales entre el género humano.</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realidad, las diversas clausulas de la ley natural difieren en el grado en el que son verdaderamente respetadas y también en el momento de su origen en la historia humana.</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E090-CD3D-4374-A9AF-9A9A278CFD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a:t>
            </a:r>
            <a:endParaRPr b="0" lang="en-US" sz="3400" spc="-1" strike="noStrike">
              <a:solidFill>
                <a:srgbClr val="000000"/>
              </a:solidFill>
              <a:latin typeface="Calibri"/>
            </a:endParaRPr>
          </a:p>
        </p:txBody>
      </p:sp>
      <p:sp>
        <p:nvSpPr>
          <p:cNvPr id="7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define a las leyes, en un sentido lato, como las relaciones necesarias que se derivan de la naturaleza de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son relaciones; existen objetivamente y por neces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gobiernan la acción de todas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en general, es la razón humana en la medida en que gobierna a todas las personas de la tierra; y las leyes políticas y civiles de cada nación tienen que ser simplemente los casos particulares en los que se aplica la razón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cada nación tienen que estar relacionada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su forma de gobierno,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circunstancias físicas (por ejemplo: el clima, la geografía)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las condiciones sociales (libertad, costumbres, comercio, religión).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s las relaciones que las leyes tienen o deben tener, consideradas en su conjunto, constituyen su espíritu.</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B124-E8AB-4953-BFF8-DCEA612CE4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9T03:30:21Z</dcterms:modified>
  <cp:revision>410</cp:revision>
  <dc:subject/>
  <dc:title>HISTORIA DEL PENSAMIENTO POLÍTICO</dc:title>
</cp:coreProperties>
</file>