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61C6B-8BE3-490F-8225-EAE810B0485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25BFC-3758-45C5-BD2C-7793ED55628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71C70-67C6-4DA6-9BEA-CC6FE106660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6A904-C3EA-4D12-BAB1-F7DBBFA1C12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E54B-FD62-4304-93E9-2E97BD8A2C8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89581-51AA-401E-8292-6514D9B1D1B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8718D-2A40-423B-B217-635B8891BAE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0509E-2CA3-4CFA-A60F-00F0160108F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B2E02-B409-4DE9-9A67-1187B879FAA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9F620-2A9F-4C47-AF17-A8FEF583117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F31E3-880D-4DEB-8CCA-E6BA301308C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5BB99-5CF1-437C-96F1-3E5B5C1439B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0B07C-A50A-4646-8111-72DA3ABD688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249B9-AB36-4701-9CFC-C328719C322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AF3E0-F731-40C9-A5C9-4E5A94AAD6E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8ACCB-AD05-4697-A7F9-F4C58D79D6A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479C9-1CDA-4EA8-B43B-9C7A8751607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34955-253A-48B1-8A21-6F6C76ACCA2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D07F5-CE10-48A3-B514-6F40085ED67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3C345-A8DB-470D-AE8E-05C138DEA1E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C508-4665-4B19-854C-A076C810B1B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9CC49-ED7A-4680-9D82-347DFA3D242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35F9E-6CA6-46F3-9DA9-F905F3752BC8}"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670BD-20AF-4D0B-AFA4-8AD59ADC8B1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56858-1144-4D75-887A-72886536FDA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E0F9F-E8B4-4234-8687-7EC6A48D2CA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109B-A70E-429D-A9C5-C0BA570665E6}"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D1B06-530E-4B9F-9E0D-975C920DB4E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7B7769-B319-4FD1-BEB7-7E1C6B6B4D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F3CE5-5BCF-4AF8-BC9E-3FC520639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489DF4-268D-4736-9B34-96672DC3F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5B03A-E715-4D7D-BC10-DD57695693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E3275-A783-4A82-9BF8-57DFA6EA4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7831D-576C-454E-8C8F-7FC62005D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C22154-F75B-4439-87E9-55AF7F902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A868B-158E-40E8-8488-050D4A0A65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1EA1A-925C-4E1A-9CA7-0B09EF7EA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F50A3-AC4C-45A7-ACBE-F508A03EF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CE034-1079-4A25-A7BF-AFA73C761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1A957-192E-439E-8982-DB80BB779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B4D84-FF83-49D2-B750-E76C9C67B9B3}" type="datetime">
              <a:rPr b="0" lang="es-C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E69C5-1269-49AD-A81F-EB498098F85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John Locke</a:t>
            </a:r>
            <a:endParaRPr b="0" lang="en-US" sz="36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8 – 22 de septiem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6 Imagen" descr="07 John Locke.bmp"/>
          <p:cNvPicPr/>
          <p:nvPr/>
        </p:nvPicPr>
        <p:blipFill>
          <a:blip r:embed="rId2"/>
          <a:stretch/>
        </p:blipFill>
        <p:spPr>
          <a:xfrm>
            <a:off x="7451640" y="50760"/>
            <a:ext cx="165744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26028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77"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uno de los hombres está obligado a su propia preservación y no debe abandonar voluntariamente su condición, debe también, cuando no está en juego su propia conservación, hacer tanto como pueda por la conservación de los demás, a menos que se trate de hacer justicia contra un ofensor (derecho a la vida y a la defensa de ésta).</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impedir que los hombres atropellen los derechos de los demás y se hagan daño unos a otros, se coloca en las manos de cada uno, en ese estado, la ejecución de la ley natural; con lo cual todos tienen derecho a castigar a quienes infrinjan esa ley, con una sanción tal que impida su viol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26C17-A176-42DE-A3DE-985030157DB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26028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80" name=""/>
          <p:cNvSpPr txBox="1"/>
          <p:nvPr/>
        </p:nvSpPr>
        <p:spPr>
          <a:xfrm>
            <a:off x="250920" y="1052280"/>
            <a:ext cx="8642160" cy="5545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Necesidad de asociación</a:t>
            </a:r>
            <a:r>
              <a:rPr b="0" lang="es-CL" sz="2400" spc="-1" strike="noStrike">
                <a:solidFill>
                  <a:srgbClr val="000000"/>
                </a:solidFill>
                <a:latin typeface="Calibri"/>
              </a:rPr>
              <a:t>: en vista de que no podemos por nosotros mismos procurarnos un adecuado suministro de los bienes necesarios para vivir, nos sentimos inducidos a buscar comunión y camaradería con los demás para compensar así las deficiencias y defectos que experimentamos cuando vivimos solos y nos valemos únicamente de nuestros propios med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fue el motivo por el cual en un principio los hombres se unieron entre sí en sociedades polític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9F248-8497-4A5F-B748-DB581560E63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26028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83" name=""/>
          <p:cNvSpPr txBox="1"/>
          <p:nvPr/>
        </p:nvSpPr>
        <p:spPr>
          <a:xfrm>
            <a:off x="250920" y="1052280"/>
            <a:ext cx="8642160" cy="5545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Necesidad de asociación</a:t>
            </a:r>
            <a:r>
              <a:rPr b="0" lang="es-CL" sz="2400" spc="-1" strike="noStrike">
                <a:solidFill>
                  <a:srgbClr val="000000"/>
                </a:solidFill>
                <a:latin typeface="Calibri"/>
              </a:rPr>
              <a:t>: en vista de que no podemos por nosotros mismos procurarnos un adecuado suministro de los bienes necesarios para vivir, nos sentimos inducidos a buscar comunión y camaradería con los demás para compensar así las deficiencias y defectos que experimentamos cuando vivimos solos y nos valemos únicamente de nuestros propios medi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fue el motivo por el cual en un principio los hombres se unieron entre sí en sociedades política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EA640-91C4-4717-9E81-211B47AE55E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ibertad</a:t>
            </a:r>
            <a:endParaRPr b="0" lang="en-US" sz="3400" spc="-1" strike="noStrike">
              <a:solidFill>
                <a:srgbClr val="000000"/>
              </a:solidFill>
              <a:latin typeface="Calibri"/>
            </a:endParaRPr>
          </a:p>
        </p:txBody>
      </p:sp>
      <p:sp>
        <p:nvSpPr>
          <p:cNvPr id="86" name=""/>
          <p:cNvSpPr txBox="1"/>
          <p:nvPr/>
        </p:nvSpPr>
        <p:spPr>
          <a:xfrm>
            <a:off x="250920" y="836280"/>
            <a:ext cx="864216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La libertad natural del hombre</a:t>
            </a:r>
            <a:r>
              <a:rPr b="1" lang="es-CL" sz="2400" spc="-1" strike="noStrike">
                <a:solidFill>
                  <a:srgbClr val="000000"/>
                </a:solidFill>
                <a:latin typeface="Calibri"/>
              </a:rPr>
              <a:t> </a:t>
            </a:r>
            <a:r>
              <a:rPr b="0" lang="es-CL" sz="2400" spc="-1" strike="noStrike">
                <a:solidFill>
                  <a:srgbClr val="000000"/>
                </a:solidFill>
                <a:latin typeface="Calibri"/>
              </a:rPr>
              <a:t>consiste en no estar sometido a ningún poder superior sobre la tierra, y en no encontrarse bajo la voluntad o autoridad legislativa de otro hombre, sino en tener únicamente como norma la ley de la naturaleza.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La libertad del hombre en sociedad</a:t>
            </a:r>
            <a:r>
              <a:rPr b="1" lang="es-CL" sz="2400" spc="-1" strike="noStrike">
                <a:solidFill>
                  <a:srgbClr val="000000"/>
                </a:solidFill>
                <a:latin typeface="Calibri"/>
              </a:rPr>
              <a:t> </a:t>
            </a:r>
            <a:r>
              <a:rPr b="0" lang="es-CL" sz="2400" spc="-1" strike="noStrike">
                <a:solidFill>
                  <a:srgbClr val="000000"/>
                </a:solidFill>
                <a:latin typeface="Calibri"/>
              </a:rPr>
              <a:t>consiste en no estar sujeto a otro poder legislativo que aquel que se establece por consentimiento dentro de la comunidad (jurisdicción territorial), ni al dominio de otra voluntad, ni a las limitaciones de ley alguna, salvo las que la legislatura promulgue de acuerdo con el mandato que se le ha confiad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F245-F8C0-4B5D-A9CD-ECD931AB997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ibertad</a:t>
            </a:r>
            <a:endParaRPr b="0" lang="en-US" sz="3400" spc="-1" strike="noStrike">
              <a:solidFill>
                <a:srgbClr val="000000"/>
              </a:solidFill>
              <a:latin typeface="Calibri"/>
            </a:endParaRPr>
          </a:p>
        </p:txBody>
      </p:sp>
      <p:sp>
        <p:nvSpPr>
          <p:cNvPr id="89" name=""/>
          <p:cNvSpPr txBox="1"/>
          <p:nvPr/>
        </p:nvSpPr>
        <p:spPr>
          <a:xfrm>
            <a:off x="250920" y="836280"/>
            <a:ext cx="8642160" cy="57610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La libertad de los hombres bajo el gobierno civil</a:t>
            </a:r>
            <a:r>
              <a:rPr b="1" lang="es-CL" sz="2400" spc="-1" strike="noStrike">
                <a:solidFill>
                  <a:srgbClr val="000000"/>
                </a:solidFill>
                <a:latin typeface="Calibri"/>
              </a:rPr>
              <a:t> </a:t>
            </a:r>
            <a:r>
              <a:rPr b="0" lang="es-CL" sz="2400" spc="-1" strike="noStrike">
                <a:solidFill>
                  <a:srgbClr val="000000"/>
                </a:solidFill>
                <a:latin typeface="Calibri"/>
              </a:rPr>
              <a:t>consiste en disponer de una norma permanente conforme a la cual ajustar sus vidas; norma común a todos los miembros de esa sociedad y que ha sido establecida por el poder legislativo que se ha erigido dentro de ella (constitución)</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la libertad es seguir la propia voluntad en todo aquello que no está prescrito por norma; de no estar sometido a la voluntad inconstante, incierta, desconocida y arbitraria de otro hombre, gobernante, monar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é es la libertad para usted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E8AEB-596A-46D6-A7AA-2CA5840CEDD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89">
                                            <p:txEl>
                                              <p:pRg st="0" end="0"/>
                                            </p:txEl>
                                          </p:spTgt>
                                        </p:tgtEl>
                                        <p:attrNameLst>
                                          <p:attrName>style.visibility</p:attrName>
                                        </p:attrNameLst>
                                      </p:cBhvr>
                                      <p:to>
                                        <p:strVal val="visible"/>
                                      </p:to>
                                    </p:set>
                                    <p:anim calcmode="lin" valueType="num">
                                      <p:cBhvr additive="base">
                                        <p:cTn id="34"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89">
                                            <p:txEl>
                                              <p:pRg st="2" end="2"/>
                                            </p:txEl>
                                          </p:spTgt>
                                        </p:tgtEl>
                                        <p:attrNameLst>
                                          <p:attrName>style.visibility</p:attrName>
                                        </p:attrNameLst>
                                      </p:cBhvr>
                                      <p:to>
                                        <p:strVal val="visible"/>
                                      </p:to>
                                    </p:set>
                                    <p:anim calcmode="lin" valueType="num">
                                      <p:cBhvr additive="base">
                                        <p:cTn id="40" dur="500" fill="hold"/>
                                        <p:tgtEl>
                                          <p:spTgt spid="89">
                                            <p:txEl>
                                              <p:pRg st="2" end="2"/>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89">
                                            <p:txEl>
                                              <p:pRg st="4" end="4"/>
                                            </p:txEl>
                                          </p:spTgt>
                                        </p:tgtEl>
                                        <p:attrNameLst>
                                          <p:attrName>style.visibility</p:attrName>
                                        </p:attrNameLst>
                                      </p:cBhvr>
                                      <p:to>
                                        <p:strVal val="visible"/>
                                      </p:to>
                                    </p:set>
                                    <p:anim calcmode="lin" valueType="num">
                                      <p:cBhvr additive="base">
                                        <p:cTn id="46" dur="500" fill="hold"/>
                                        <p:tgtEl>
                                          <p:spTgt spid="8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89000"/>
            <a:ext cx="8640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piedad</a:t>
            </a:r>
            <a:endParaRPr b="0" lang="en-US" sz="3400" spc="-1" strike="noStrike">
              <a:solidFill>
                <a:srgbClr val="000000"/>
              </a:solidFill>
              <a:latin typeface="Calibri"/>
            </a:endParaRPr>
          </a:p>
        </p:txBody>
      </p:sp>
      <p:sp>
        <p:nvSpPr>
          <p:cNvPr id="92" name=""/>
          <p:cNvSpPr txBox="1"/>
          <p:nvPr/>
        </p:nvSpPr>
        <p:spPr>
          <a:xfrm>
            <a:off x="250920" y="836280"/>
            <a:ext cx="8642160" cy="5761080"/>
          </a:xfrm>
          <a:prstGeom prst="rect">
            <a:avLst/>
          </a:prstGeom>
          <a:noFill/>
          <a:ln w="0">
            <a:noFill/>
          </a:ln>
        </p:spPr>
        <p:txBody>
          <a:bodyPr anchor="t">
            <a:normAutofit fontScale="96000"/>
          </a:bodyPr>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ios, que dio a los hombres el mundo en común, también les dio la razón para que hagan uso de ella de la manera más ventajosa y conveniente para la vida. </a:t>
            </a: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tierra, y todo lo que ella contiene, les fue dada a los hombres para su sustento y bienestar.</a:t>
            </a: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Habiendo sido colocados a disposición de los hombres la tierra y animales, por </a:t>
            </a:r>
            <a:r>
              <a:rPr b="0" i="1" lang="es-CL" sz="2300" spc="-1" strike="noStrike">
                <a:solidFill>
                  <a:srgbClr val="000000"/>
                </a:solidFill>
                <a:latin typeface="Calibri"/>
              </a:rPr>
              <a:t>necesidad</a:t>
            </a:r>
            <a:r>
              <a:rPr b="0" lang="es-CL" sz="2300" spc="-1" strike="noStrike">
                <a:solidFill>
                  <a:srgbClr val="000000"/>
                </a:solidFill>
                <a:latin typeface="Calibri"/>
              </a:rPr>
              <a:t> tendrá que haber algún medio de apropiárselos, a fin de que cualquier hombre en particular pueda llegar a servirse o extraer algún provecho de ellos.</a:t>
            </a: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ada hombre tiene la propiedad de su propia persona, nadie tiene derecho alguno sobre ella. El esfuerzo de su cuerpo y el trabajo de sus manos son genuinamente suyos. </a:t>
            </a: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Cuando un hombre extrae alguna cosa del estado en que la naturaleza la dispuso y la dejó, ha puesto en esa cosa su esfuerzo y le ha agregado algo que es suyo; y, por ello, la ha convertido en su propiedad.</a:t>
            </a: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9040" indent="-3290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13160" indent="-27432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4D769-FD7E-485D-A707-0DB1D82236F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79280" y="189000"/>
            <a:ext cx="8640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piedad</a:t>
            </a:r>
            <a:endParaRPr b="0" lang="en-US" sz="3400" spc="-1" strike="noStrike">
              <a:solidFill>
                <a:srgbClr val="000000"/>
              </a:solidFill>
              <a:latin typeface="Calibri"/>
            </a:endParaRPr>
          </a:p>
        </p:txBody>
      </p:sp>
      <p:sp>
        <p:nvSpPr>
          <p:cNvPr id="95" name=""/>
          <p:cNvSpPr txBox="1"/>
          <p:nvPr/>
        </p:nvSpPr>
        <p:spPr>
          <a:xfrm>
            <a:off x="250920" y="836280"/>
            <a:ext cx="8642160" cy="5761080"/>
          </a:xfrm>
          <a:prstGeom prst="rect">
            <a:avLst/>
          </a:prstGeom>
          <a:noFill/>
          <a:ln w="0">
            <a:noFill/>
          </a:ln>
        </p:spPr>
        <p:txBody>
          <a:bodyPr anchor="t">
            <a:normAutofit fontScale="97000"/>
          </a:bodyPr>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hombre puede apropiarse de una cosa por su trabajo en la medida en que le es posible emplearla con provecho para su vida antes que se eche a perder. </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o que excede a ese límite es más de lo que le corresponde y le pertenece a otros. Nada de lo que Dios creó fue hecho para que el hombre lo malgaste o destruya.</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extensión de tierra que un hombre labra, planta, mejora y cultiva, y cuyos productos puede utilizar, constituye la medida de su propiedad. </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ios y su propia razón le mandaban que se adueñase de la tierra, que la cultivara para hacerla útil para la vida, y le agregara algo suyo: su trabajo. </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Aquel que obedeciendo el mandato de Dios cultivó la tierra, labró y sembró una parte de ella, le añadió algo que era de su propiedad, algo sobre lo cual nadie más tenía derecho alguno, y que nadie podía arrebatarle sin ocasionarle un daño.</a:t>
            </a: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2640" indent="-3326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20720" indent="-2772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B436F-1B2C-481D-A1A3-131B7E925E7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89000"/>
            <a:ext cx="8640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piedad</a:t>
            </a:r>
            <a:endParaRPr b="0" lang="en-US" sz="3400" spc="-1" strike="noStrike">
              <a:solidFill>
                <a:srgbClr val="000000"/>
              </a:solidFill>
              <a:latin typeface="Calibri"/>
            </a:endParaRPr>
          </a:p>
        </p:txBody>
      </p:sp>
      <p:sp>
        <p:nvSpPr>
          <p:cNvPr id="98" name=""/>
          <p:cNvSpPr txBox="1"/>
          <p:nvPr/>
        </p:nvSpPr>
        <p:spPr>
          <a:xfrm>
            <a:off x="250920" y="836280"/>
            <a:ext cx="8642160" cy="5761080"/>
          </a:xfrm>
          <a:prstGeom prst="rect">
            <a:avLst/>
          </a:prstGeom>
          <a:noFill/>
          <a:ln w="0">
            <a:noFill/>
          </a:ln>
        </p:spPr>
        <p:txBody>
          <a:bodyPr anchor="t">
            <a:normAutofit fontScale="95000"/>
          </a:bodyPr>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ios les dio a los hombres el mundo en común; sin embargo, puesto que se los dio para su beneficio y para que extrajesen del mismo el mayor provecho posible para su vida, no cabe suponer que Dios pensase que el mundo debía quedar para siempre como una propiedad en común. </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ios lo dio para que el hombre laborioso y racional se sirviese del mismo (</a:t>
            </a:r>
            <a:r>
              <a:rPr b="0" i="1" lang="es-CL" sz="2300" spc="-1" strike="noStrike">
                <a:solidFill>
                  <a:srgbClr val="000000"/>
                </a:solidFill>
                <a:latin typeface="Calibri"/>
              </a:rPr>
              <a:t>y su trabajo le conferiría el título de propiedad</a:t>
            </a:r>
            <a:r>
              <a:rPr b="0" lang="es-CL" sz="2300" spc="-1" strike="noStrike">
                <a:solidFill>
                  <a:srgbClr val="000000"/>
                </a:solidFill>
                <a:latin typeface="Calibri"/>
              </a:rPr>
              <a:t>); no lo dio para satisfacción del capricho o de la avaricia del pendenciero y del alborotador.</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e ahí que la labranza o el cultivo de la tierra y la adquisición del derecho de propiedad de la misma van unidas entre sí. </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una da el título a la otra. </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ios, al ordenar el cultivo de la tierra, da, a la vez, la autorización para adueñarse de la cultivada. Y la condición humana, que exige trabajar y materiales con qué hacerlo, necesariamente conduce a la propiedad privada.</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05600" indent="-2714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E4FA4-621E-4C9B-B78D-117777752A9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115920"/>
            <a:ext cx="8640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opiedad</a:t>
            </a:r>
            <a:endParaRPr b="0" lang="en-US" sz="3400" spc="-1" strike="noStrike">
              <a:solidFill>
                <a:srgbClr val="000000"/>
              </a:solidFill>
              <a:latin typeface="Calibri"/>
            </a:endParaRPr>
          </a:p>
        </p:txBody>
      </p:sp>
      <p:sp>
        <p:nvSpPr>
          <p:cNvPr id="101" name=""/>
          <p:cNvSpPr txBox="1"/>
          <p:nvPr/>
        </p:nvSpPr>
        <p:spPr>
          <a:xfrm>
            <a:off x="250920" y="691920"/>
            <a:ext cx="8642160" cy="5761080"/>
          </a:xfrm>
          <a:prstGeom prst="rect">
            <a:avLst/>
          </a:prstGeom>
          <a:noFill/>
          <a:ln w="0">
            <a:noFill/>
          </a:ln>
        </p:spPr>
        <p:txBody>
          <a:bodyPr anchor="t">
            <a:normAutofit fontScale="95000"/>
          </a:bodyPr>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300" spc="-1" strike="noStrike">
                <a:solidFill>
                  <a:srgbClr val="000000"/>
                </a:solidFill>
                <a:latin typeface="Calibri"/>
              </a:rPr>
              <a:t>Límite de la propiedad</a:t>
            </a:r>
            <a:r>
              <a:rPr b="0" lang="es-CL" sz="2300" spc="-1" strike="noStrike">
                <a:solidFill>
                  <a:srgbClr val="000000"/>
                </a:solidFill>
                <a:latin typeface="Calibri"/>
              </a:rPr>
              <a:t>: la medida de la propiedad la definió bien la Naturaleza limitándola a lo que alcanza el trabajo del hombre y su utilidad para la vida. Tal medida limitaba la posesión de cada hombre a una proporción muy moderada: la confinaba a lo que cada cual podía apropiarse para sí sin perjuicio para los demás.</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el mundo habría tierra suficiente como para satisfacer las necesidades del doble de habitantes si no fuera porque la invención del dinero, y el acuerdo tácito de los hombres en fijarle un valor.</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n algunos lugares del mundo el crecimiento de la población y de los recursos, mediante el uso del dinero, hicieron que la tierra escasease y, por tanto, adquiriese cierto valor.</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s distintas comunidades establecieron los límites de sus respectivos territorios y regularon por medio de leyes las propiedades de los individuos miembros de las mismas. </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e esa manera, por convenio y acuerdo mutuos, establecieron la propiedad que el trabajo y la industriosidad habían iniciado. </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05600" indent="-2714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7175A-8E45-4561-8CA3-FC49ED64097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115920"/>
            <a:ext cx="8640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 política o civil</a:t>
            </a:r>
            <a:endParaRPr b="0" lang="en-US" sz="3400" spc="-1" strike="noStrike">
              <a:solidFill>
                <a:srgbClr val="000000"/>
              </a:solidFill>
              <a:latin typeface="Calibri"/>
            </a:endParaRPr>
          </a:p>
        </p:txBody>
      </p:sp>
      <p:sp>
        <p:nvSpPr>
          <p:cNvPr id="104" name=""/>
          <p:cNvSpPr txBox="1"/>
          <p:nvPr/>
        </p:nvSpPr>
        <p:spPr>
          <a:xfrm>
            <a:off x="250920" y="764640"/>
            <a:ext cx="8642160" cy="5688360"/>
          </a:xfrm>
          <a:prstGeom prst="rect">
            <a:avLst/>
          </a:prstGeom>
          <a:noFill/>
          <a:ln w="0">
            <a:noFill/>
          </a:ln>
        </p:spPr>
        <p:txBody>
          <a:bodyPr anchor="t">
            <a:normAutofit fontScale="99000"/>
          </a:bodyPr>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Una sociedad política no puede existir ni subsistir si no posee en sí misma poder para defender la propiedad y, por tanto, para castigar las faltas de los miembros de esa sociedad.</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Una sociedad política únicamente puede donde cada uno de los miembros ha renunciado a su poder natural poniéndolo en manos de la comunidad, en todos aquellos casos en que puede recurrir en demanda de protección a la ley establecida por esa sociedad.</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Al quedar excluido el juicio particular de c/u de los miembros, la comunidad se convierte en árbitro mediante el establecimiento de reglas permanentes, imparciales e iguales para todas las partes.</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Por intermedio de hombres autorizados por la comunidad para la ejecución de esas normas, resuelve todas las diferencias que puedan surgir entre los miembros de esa sociedad en cualquier asunto de derecho, y castiga los delitos que cualquier miembro haya cometido contra la sociedad, aplicando las penas que la ley establece.</a:t>
            </a: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39480" indent="-3394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35480" indent="-28296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35936-12FB-4AED-8019-54C8A9EAB7C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2130120"/>
            <a:ext cx="878544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000000"/>
                </a:solidFill>
                <a:latin typeface="Calibri"/>
              </a:rPr>
              <a:t>“</a:t>
            </a:r>
            <a:r>
              <a:rPr b="1" i="1" lang="es-CL" sz="4000" spc="-1" strike="noStrike">
                <a:solidFill>
                  <a:srgbClr val="000000"/>
                </a:solidFill>
                <a:latin typeface="Calibri"/>
              </a:rPr>
              <a:t>La razón por la que los hombres entran en la sociedad es para preservar su propiedad” </a:t>
            </a:r>
            <a:br>
              <a:rPr sz="4000"/>
            </a:br>
            <a:r>
              <a:rPr b="0" lang="es-CL" sz="3600" spc="-1" strike="noStrike">
                <a:solidFill>
                  <a:srgbClr val="000000"/>
                </a:solidFill>
                <a:latin typeface="Calibri"/>
              </a:rPr>
              <a:t>(Lock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79280" y="115920"/>
            <a:ext cx="8640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 política o civil</a:t>
            </a:r>
            <a:endParaRPr b="0" lang="en-US" sz="3400" spc="-1" strike="noStrike">
              <a:solidFill>
                <a:srgbClr val="000000"/>
              </a:solidFill>
              <a:latin typeface="Calibri"/>
            </a:endParaRPr>
          </a:p>
        </p:txBody>
      </p:sp>
      <p:sp>
        <p:nvSpPr>
          <p:cNvPr id="107" name=""/>
          <p:cNvSpPr txBox="1"/>
          <p:nvPr/>
        </p:nvSpPr>
        <p:spPr>
          <a:xfrm>
            <a:off x="250920" y="764640"/>
            <a:ext cx="8642160" cy="5688360"/>
          </a:xfrm>
          <a:prstGeom prst="rect">
            <a:avLst/>
          </a:prstGeom>
          <a:noFill/>
          <a:ln w="0">
            <a:noFill/>
          </a:ln>
        </p:spPr>
        <p:txBody>
          <a:bodyPr anchor="t">
            <a:normAutofit fontScale="95000"/>
          </a:bodyPr>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Estado viene a disponer del poder para establecer qué castigo habrá de aplicarse a las diferentes transgresiones que considera merecen una sanción, cometidas por los miembros de la sociedad (este es el poder de hacer leyes); así como tiene el poder de castigar cualquier daño infligido a uno de sus miembros por alguien que no lo es (es decir, el poder de la guerra y de la paz).</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objeto de esos poderes es la defensa de la propiedad de todos los miembros de esa sociedad, hasta donde sea posible.</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Por otra parte, la monarquía es incompatible con la sociedad civil y no puede ser considerada de ninguna manera como una forma de gobierno civil. </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Allí donde existen personas que no disponen de esa autoridad a la cual recurrir para que decida acerca de las diferencias surgidas entre ellas, esas personas se encuentran todavía viviendo en el estado de naturaleza. Y en esa misma situación se halla todo príncipe absoluto con respecto a todos aquellos que están sometidos a su dominio.</a:t>
            </a: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25800" indent="-32580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705600" indent="-27144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sp>
        <p:nvSpPr>
          <p:cNvPr id="1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A8EA-24E9-4C6B-9B4F-B307138947D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79280" y="115920"/>
            <a:ext cx="8640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 política o civil</a:t>
            </a:r>
            <a:endParaRPr b="0" lang="en-US" sz="3400" spc="-1" strike="noStrike">
              <a:solidFill>
                <a:srgbClr val="000000"/>
              </a:solidFill>
              <a:latin typeface="Calibri"/>
            </a:endParaRPr>
          </a:p>
        </p:txBody>
      </p:sp>
      <p:sp>
        <p:nvSpPr>
          <p:cNvPr id="110" name=""/>
          <p:cNvSpPr txBox="1"/>
          <p:nvPr/>
        </p:nvSpPr>
        <p:spPr>
          <a:xfrm>
            <a:off x="178920" y="764640"/>
            <a:ext cx="8713800" cy="5688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Origen</a:t>
            </a:r>
            <a:r>
              <a:rPr b="0" lang="es-CL" sz="2400" spc="-1" strike="noStrike">
                <a:solidFill>
                  <a:srgbClr val="000000"/>
                </a:solidFill>
                <a:latin typeface="Calibri"/>
              </a:rPr>
              <a:t>: lo que da inicio y realmente constituye una sociedad política cualquiera, no es otra cosa que el consentimiento de cierto número de hombres libres capaces de formar una mayoría, para unirse e incorporarse a una comunidad de esa clase. Aquello, y solamente aquello, es lo que dio o puede dar comienzo en el mundo a cualquier gobierno legítim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s cuantos consienten en formar un cuerpo político bajo un gobierno se obligan a sí mismos ante los demás miembros de esa sociedad a someterse a la decisión de la mayoría y a aceptar las restricciones que de ella emane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uando la mayoría no puede obligar a los demás miembros, la sociedad no puede actuar como un cuerpo, y, por consiguiente, volverá a disolverse de inmediat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A4085-2A2A-4BA8-A478-0BE5C1AEB71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115920"/>
            <a:ext cx="864072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Sociedad política o civil</a:t>
            </a:r>
            <a:endParaRPr b="0" lang="en-US" sz="3400" spc="-1" strike="noStrike">
              <a:solidFill>
                <a:srgbClr val="000000"/>
              </a:solidFill>
              <a:latin typeface="Calibri"/>
            </a:endParaRPr>
          </a:p>
        </p:txBody>
      </p:sp>
      <p:sp>
        <p:nvSpPr>
          <p:cNvPr id="113" name=""/>
          <p:cNvSpPr txBox="1"/>
          <p:nvPr/>
        </p:nvSpPr>
        <p:spPr>
          <a:xfrm>
            <a:off x="178920" y="764640"/>
            <a:ext cx="8713800" cy="5688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 que una comunidad hace es lo que han consentido sus miembros individuales, y puesto que la comunidad es un cuerpo, en tanto cuerpo, entonces, debe moverse en alguna dirección. Siendo así, el cuerpo deberá moverse hacia donde lo impulse la fuerza mayor, y esa fuerza mayor es el consentimiento de la mayoría; de lo contrario la comunidad no podría actuar o continuar siendo un solo cuerpo, que es a lo que cada uno de los individuos dio su consentimiento al ingresar en ella. Esa es la razón por la que todos los miembros de una comunidad están obligados a aceptar la resolución a que llega la mayoría.</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E6F18-B321-430A-9343-D2EBAEB0601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Finalidades de la sociedad política y del gobierno</a:t>
            </a:r>
            <a:endParaRPr b="0" lang="en-US" sz="3200" spc="-1" strike="noStrike">
              <a:solidFill>
                <a:srgbClr val="000000"/>
              </a:solidFill>
              <a:latin typeface="Calibri"/>
            </a:endParaRPr>
          </a:p>
        </p:txBody>
      </p:sp>
      <p:sp>
        <p:nvSpPr>
          <p:cNvPr id="116" name=""/>
          <p:cNvSpPr txBox="1"/>
          <p:nvPr/>
        </p:nvSpPr>
        <p:spPr>
          <a:xfrm>
            <a:off x="178920" y="764640"/>
            <a:ext cx="8713800" cy="5688360"/>
          </a:xfrm>
          <a:prstGeom prst="rect">
            <a:avLst/>
          </a:prstGeom>
          <a:noFill/>
          <a:ln w="0">
            <a:noFill/>
          </a:ln>
        </p:spPr>
        <p:txBody>
          <a:bodyPr anchor="t">
            <a:normAutofit fontScale="96000"/>
          </a:bodyPr>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mayor y principal finalidad que persiguen los hombres al reunirse en Estados, sometiéndose a un gobierno, es la protección de su propiedad, protección que es incompleta en el estado de naturaleza.</a:t>
            </a:r>
            <a:endParaRPr b="0" lang="en-US" sz="2400" spc="-1" strike="noStrike">
              <a:solidFill>
                <a:srgbClr val="000000"/>
              </a:solidFill>
              <a:latin typeface="Calibri"/>
            </a:endParaRPr>
          </a:p>
          <a:p>
            <a:pPr marL="329040" indent="-329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Calibri"/>
              </a:rPr>
              <a:t>¿Qué se necesita entonces para resguardar la propiedad?</a:t>
            </a:r>
            <a:endParaRPr b="0" lang="en-US" sz="2400" spc="-1" strike="noStrike">
              <a:solidFill>
                <a:srgbClr val="000000"/>
              </a:solidFill>
              <a:latin typeface="Calibri"/>
            </a:endParaRPr>
          </a:p>
          <a:p>
            <a:pPr marL="329040" indent="-32904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necesita una ley establecida, fija y conocida, aceptada y aprobada por consenso general, que sirva de norma de lo justo y de lo injusto, y de medida común para la resolución de todas las controversias que se susciten (imperio de la ley).</a:t>
            </a:r>
            <a:endParaRPr b="0" lang="en-US" sz="2400" spc="-1" strike="noStrike">
              <a:solidFill>
                <a:srgbClr val="000000"/>
              </a:solidFill>
              <a:latin typeface="Calibri"/>
            </a:endParaRPr>
          </a:p>
          <a:p>
            <a:pPr marL="329040" indent="-32904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estado de naturaleza hace falta un juez conocido e imparcial con autoridad para decidir </a:t>
            </a:r>
            <a:r>
              <a:rPr b="0" i="1" lang="es-CL" sz="2400" spc="-1" strike="noStrike">
                <a:solidFill>
                  <a:srgbClr val="000000"/>
                </a:solidFill>
                <a:latin typeface="Calibri"/>
              </a:rPr>
              <a:t>todas</a:t>
            </a:r>
            <a:r>
              <a:rPr b="0" lang="es-CL" sz="2400" spc="-1" strike="noStrike">
                <a:solidFill>
                  <a:srgbClr val="000000"/>
                </a:solidFill>
                <a:latin typeface="Calibri"/>
              </a:rPr>
              <a:t> las diferencias, de acuerdo con la ley establecida (árbitro).</a:t>
            </a:r>
            <a:endParaRPr b="0" lang="en-US" sz="2400" spc="-1" strike="noStrike">
              <a:solidFill>
                <a:srgbClr val="000000"/>
              </a:solidFill>
              <a:latin typeface="Calibri"/>
            </a:endParaRPr>
          </a:p>
          <a:p>
            <a:pPr marL="329040" indent="-329040" algn="just">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estado de naturaleza suele faltar un poder que respalde y sostenga la sentencia cuando ésta es justa, y que la ejecute debidamente (órganos auxiliares de administración de justicia).</a:t>
            </a: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13160" indent="-27432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65548-1197-472E-86F1-EB341C0823D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Finalidades de la sociedad política y del gobierno</a:t>
            </a:r>
            <a:endParaRPr b="0" lang="en-US" sz="3200" spc="-1" strike="noStrike">
              <a:solidFill>
                <a:srgbClr val="000000"/>
              </a:solidFill>
              <a:latin typeface="Calibri"/>
            </a:endParaRPr>
          </a:p>
        </p:txBody>
      </p:sp>
      <p:sp>
        <p:nvSpPr>
          <p:cNvPr id="119" name=""/>
          <p:cNvSpPr txBox="1"/>
          <p:nvPr/>
        </p:nvSpPr>
        <p:spPr>
          <a:xfrm>
            <a:off x="178920" y="764640"/>
            <a:ext cx="8713800" cy="5688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entrar en sociedad los hombres renuncian a la igualdad, a la libertad y al poder ejecutivo que tenían en el estado de naturaleza, y se lo entregan a la sociedad para que el poder legislativo disponga de ellos conforme lo requiera el bien de esa sociedad. </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í radica el derecho y nacimiento de ambos poderes (legislativo y ejecutivo) y también el de gobiernos y sociedades polític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40F82-A73F-4BDD-A7D8-DFF07C2FB51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Finalidades de la sociedad política y del gobierno</a:t>
            </a:r>
            <a:endParaRPr b="0" lang="en-US" sz="3200" spc="-1" strike="noStrike">
              <a:solidFill>
                <a:srgbClr val="000000"/>
              </a:solidFill>
              <a:latin typeface="Calibri"/>
            </a:endParaRPr>
          </a:p>
        </p:txBody>
      </p:sp>
      <p:sp>
        <p:nvSpPr>
          <p:cNvPr id="122" name=""/>
          <p:cNvSpPr txBox="1"/>
          <p:nvPr/>
        </p:nvSpPr>
        <p:spPr>
          <a:xfrm>
            <a:off x="178920" y="764640"/>
            <a:ext cx="8713800" cy="5688360"/>
          </a:xfrm>
          <a:prstGeom prst="rect">
            <a:avLst/>
          </a:prstGeom>
          <a:noFill/>
          <a:ln w="0">
            <a:noFill/>
          </a:ln>
        </p:spPr>
        <p:txBody>
          <a:bodyPr anchor="t">
            <a:normAutofit fontScale="97000"/>
          </a:bodyPr>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Estado de Derecho y Bien Común</a:t>
            </a:r>
            <a:r>
              <a:rPr b="0" lang="es-CL" sz="2400" spc="-1" strike="noStrike">
                <a:solidFill>
                  <a:srgbClr val="000000"/>
                </a:solidFill>
                <a:latin typeface="Calibri"/>
              </a:rPr>
              <a:t>: quienquiera que tenga en sus manos el poder legislativo o supremo de un Estado, tiene la obligación de gobernar mediante leyes establecidas y permanentes, promulgadas y conocidas por la población, y no por medio de decretos extemporáneos (imperio y respeto a la legalidad).</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mbién debe proveer de jueces imparciales y rectos, quienes han de resolver las controversias de acuerdo a esas leyes.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Y de emplear el poder de la comunidad, al interior del país, únicamente para la ejecución de esas leyes y, en el exterior, para prevenir o exigir la reparación de los daños causados por extranjeros, y para defender a la comunidad de incursiones violentas o invasiones. </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o lo cual no tiene otra finalidad que lograr la paz, la seguridad y el bien de la población.</a:t>
            </a: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2772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2FEC9-AE77-4CD0-A10F-A63AEE7AC33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oder legislativo</a:t>
            </a:r>
            <a:endParaRPr b="0" lang="en-US" sz="3200" spc="-1" strike="noStrike">
              <a:solidFill>
                <a:srgbClr val="000000"/>
              </a:solidFill>
              <a:latin typeface="Calibri"/>
            </a:endParaRPr>
          </a:p>
        </p:txBody>
      </p:sp>
      <p:sp>
        <p:nvSpPr>
          <p:cNvPr id="125" name=""/>
          <p:cNvSpPr txBox="1"/>
          <p:nvPr/>
        </p:nvSpPr>
        <p:spPr>
          <a:xfrm>
            <a:off x="178920" y="764640"/>
            <a:ext cx="8713800" cy="56883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ley primera y fundamental de todas las comunidades políticas es el establecimiento del poder legislativo, al igual que la ley natural primera y básica, que debe regir incluso al poder de legislar, es la preservación de la sociedad y de cada uno de sus miembros.</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e poder legislativo no sólo es el poder supremo de la comunidad, sino que es sagrado e inalterable en las manos en que la comunidad lo situó una vez.</a:t>
            </a:r>
            <a:endParaRPr b="0" lang="en-US" sz="2400" spc="-1" strike="noStrike">
              <a:solidFill>
                <a:srgbClr val="000000"/>
              </a:solidFill>
              <a:latin typeface="Calibri"/>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obediencia que uno puede estar obligado a cumplir por efecto de los lazos más solemnes se apoya en último término en este poder supremo, y está regida por las leyes que él dic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A4BF-C622-4575-843F-357B1EE967A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oder legislativo</a:t>
            </a:r>
            <a:endParaRPr b="0" lang="en-US" sz="3200" spc="-1" strike="noStrike">
              <a:solidFill>
                <a:srgbClr val="000000"/>
              </a:solidFill>
              <a:latin typeface="Calibri"/>
            </a:endParaRPr>
          </a:p>
        </p:txBody>
      </p:sp>
      <p:sp>
        <p:nvSpPr>
          <p:cNvPr id="128" name=""/>
          <p:cNvSpPr txBox="1"/>
          <p:nvPr/>
        </p:nvSpPr>
        <p:spPr>
          <a:xfrm>
            <a:off x="178920" y="764640"/>
            <a:ext cx="8713800" cy="5688360"/>
          </a:xfrm>
          <a:prstGeom prst="rect">
            <a:avLst/>
          </a:prstGeom>
          <a:noFill/>
          <a:ln w="0">
            <a:noFill/>
          </a:ln>
        </p:spPr>
        <p:txBody>
          <a:bodyPr anchor="t">
            <a:normAutofit fontScale="96000"/>
          </a:bodyPr>
          <a:p>
            <a:pPr marL="329040" indent="-32904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Calibri"/>
              </a:rPr>
              <a:t>Restricciones</a:t>
            </a:r>
            <a:r>
              <a:rPr b="0" lang="es-CL" sz="2200" spc="-1" strike="noStrike">
                <a:solidFill>
                  <a:srgbClr val="000000"/>
                </a:solidFill>
                <a:latin typeface="Calibri"/>
              </a:rPr>
              <a:t>:</a:t>
            </a:r>
            <a:endParaRPr b="0" lang="en-US" sz="2200" spc="-1" strike="noStrike">
              <a:solidFill>
                <a:srgbClr val="000000"/>
              </a:solidFill>
              <a:latin typeface="Calibri"/>
            </a:endParaRPr>
          </a:p>
          <a:p>
            <a:pPr marL="329040" indent="-3290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Calibri"/>
              </a:rPr>
              <a:t>No es ni puede ser un poder absolutamente arbitrario sobre las vidas y los bienes de las personas</a:t>
            </a:r>
            <a:r>
              <a:rPr b="0" lang="es-CL" sz="2200" spc="-1" strike="noStrike">
                <a:solidFill>
                  <a:srgbClr val="000000"/>
                </a:solidFill>
                <a:latin typeface="Calibri"/>
              </a:rPr>
              <a:t>. El poder del legislador llega únicamente hasta donde llega el bien público de la sociedad. Es un poder que no tiene otra finalidad que la preservación.</a:t>
            </a:r>
            <a:endParaRPr b="0" lang="en-US" sz="2200" spc="-1" strike="noStrike">
              <a:solidFill>
                <a:srgbClr val="000000"/>
              </a:solidFill>
              <a:latin typeface="Calibri"/>
            </a:endParaRPr>
          </a:p>
          <a:p>
            <a:pPr marL="329040" indent="-3290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autoridad suprema o poder legislativo no puede atribuirse la facultad de gobernar mediante decretos arbitrarios o circunstanciales, sino que está obligada a dispensar la justicia y a señalar los derechos de los súbditos mediante leyes fijas y promulgadas, aplicadas por jueces conocidos. </a:t>
            </a:r>
            <a:endParaRPr b="0" lang="en-US" sz="2200" spc="-1" strike="noStrike">
              <a:solidFill>
                <a:srgbClr val="000000"/>
              </a:solidFill>
              <a:latin typeface="Calibri"/>
            </a:endParaRPr>
          </a:p>
          <a:p>
            <a:pPr marL="329040" indent="-3290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poder supremo no puede arrebatar ninguna parte de sus propiedades a ningún hombre sin su propio consentimiento.</a:t>
            </a:r>
            <a:endParaRPr b="0" lang="en-US" sz="2200" spc="-1" strike="noStrike">
              <a:solidFill>
                <a:srgbClr val="000000"/>
              </a:solidFill>
              <a:latin typeface="Calibri"/>
            </a:endParaRPr>
          </a:p>
          <a:p>
            <a:pPr marL="329040" indent="-3290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poder legislativo no puede transferir a otras manos el poder de hacer las leyes, ya que este poder lo tiene únicamente por delegación del pueblo. El pueblo es el único que puede determinar la forma de gobierno de la comunidad política, y eso lo hace al instituir el poder legislativo, y señalar en qué manos debe estar.</a:t>
            </a:r>
            <a:endParaRPr b="0" lang="en-US" sz="2200" spc="-1" strike="noStrike">
              <a:solidFill>
                <a:srgbClr val="000000"/>
              </a:solidFill>
              <a:latin typeface="Calibri"/>
            </a:endParaRPr>
          </a:p>
          <a:p>
            <a:pPr marL="329040" indent="-329040" algn="just">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13160" indent="-2743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44F2B-D17C-490B-B9D9-19CD04E91F0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Separación de Poderes</a:t>
            </a:r>
            <a:endParaRPr b="0" lang="en-US" sz="3200" spc="-1" strike="noStrike">
              <a:solidFill>
                <a:srgbClr val="000000"/>
              </a:solidFill>
              <a:latin typeface="Calibri"/>
            </a:endParaRPr>
          </a:p>
        </p:txBody>
      </p:sp>
      <p:sp>
        <p:nvSpPr>
          <p:cNvPr id="131" name=""/>
          <p:cNvSpPr txBox="1"/>
          <p:nvPr/>
        </p:nvSpPr>
        <p:spPr>
          <a:xfrm>
            <a:off x="178920" y="764640"/>
            <a:ext cx="8713800" cy="5688360"/>
          </a:xfrm>
          <a:prstGeom prst="rect">
            <a:avLst/>
          </a:prstGeom>
          <a:noFill/>
          <a:ln w="0">
            <a:noFill/>
          </a:ln>
        </p:spPr>
        <p:txBody>
          <a:bodyPr anchor="t">
            <a:normAutofit/>
          </a:bodyPr>
          <a:p>
            <a:pPr marL="457200" indent="-4572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l poder legislativo es aquel que tiene el derecho de señalar cómo debe emplearse la fuerza de la comunidad para la preservación de ella y de sus miembros; las leyes están destinadas a ser cumplidas de manera ininterrumpida, y tienen vigencia constante; pero para hacerlas se requiere escaso tiempo. Por lo tanto, no es necesario que el poder legislativo esté siempre en ejercicio. </a:t>
            </a:r>
            <a:endParaRPr b="0" lang="en-US" sz="2200" spc="-1" strike="noStrike">
              <a:solidFill>
                <a:srgbClr val="000000"/>
              </a:solidFill>
              <a:latin typeface="Calibri"/>
            </a:endParaRPr>
          </a:p>
          <a:p>
            <a:pPr marL="457200" indent="-4572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Sería una tentación demasiado fuerte para la debilidad humana, dada su tendencia a aferrarse al poder, confiar la tarea de ejecutar las leyes a las mismas personas que tienen el poder de hacerlas.</a:t>
            </a:r>
            <a:endParaRPr b="0" lang="en-US" sz="2200" spc="-1" strike="noStrike">
              <a:solidFill>
                <a:srgbClr val="000000"/>
              </a:solidFill>
              <a:latin typeface="Calibri"/>
            </a:endParaRPr>
          </a:p>
          <a:p>
            <a:pPr marL="457200" indent="-4572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las comunidades políticas bien ordenadas, el poder legislativo se pone en manos de varias personas que tienen el poder de hacer leyes, y una vez promulgadas se separan de nuevo los legisladores quedando ellos mismos sujetos a dichas leyes. </a:t>
            </a:r>
            <a:endParaRPr b="0" lang="en-US" sz="2200" spc="-1" strike="noStrike">
              <a:solidFill>
                <a:srgbClr val="000000"/>
              </a:solidFill>
              <a:latin typeface="Calibri"/>
            </a:endParaRPr>
          </a:p>
          <a:p>
            <a:pPr marL="457200" indent="-4572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e procedimiento es un motivo poderoso para que los legisladores cuiden de hacer las leyes en vistas del bien público (alternancia en el poder como antídoto contra la corrupción y abuso de poder).</a:t>
            </a:r>
            <a:endParaRPr b="0" lang="en-US" sz="2200" spc="-1" strike="noStrike">
              <a:solidFill>
                <a:srgbClr val="000000"/>
              </a:solidFill>
              <a:latin typeface="Calibri"/>
            </a:endParaRPr>
          </a:p>
          <a:p>
            <a:pPr marL="457200" indent="-4572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57200" indent="-45720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743040" indent="-2858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81B5E-85E2-438C-9D40-66A6B61BFD7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250920" y="189000"/>
            <a:ext cx="864216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Separación de Poderes</a:t>
            </a:r>
            <a:endParaRPr b="0" lang="en-US" sz="3200" spc="-1" strike="noStrike">
              <a:solidFill>
                <a:srgbClr val="000000"/>
              </a:solidFill>
              <a:latin typeface="Calibri"/>
            </a:endParaRPr>
          </a:p>
        </p:txBody>
      </p:sp>
      <p:sp>
        <p:nvSpPr>
          <p:cNvPr id="134" name=""/>
          <p:cNvSpPr txBox="1"/>
          <p:nvPr/>
        </p:nvSpPr>
        <p:spPr>
          <a:xfrm>
            <a:off x="178920" y="764640"/>
            <a:ext cx="8713800" cy="5688360"/>
          </a:xfrm>
          <a:prstGeom prst="rect">
            <a:avLst/>
          </a:prstGeom>
          <a:noFill/>
          <a:ln w="0">
            <a:noFill/>
          </a:ln>
        </p:spPr>
        <p:txBody>
          <a:bodyPr anchor="t">
            <a:normAutofit fontScale="93000"/>
          </a:bodyPr>
          <a:p>
            <a:pPr marL="425160" indent="-425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unque las leyes se hacen de una vez y en un tiempo breve, ellas tienen una fuerza constante y duradera y requieren ser aplicadas de manera permanente. </a:t>
            </a:r>
            <a:endParaRPr b="0" lang="en-US" sz="2400" spc="-1" strike="noStrike">
              <a:solidFill>
                <a:srgbClr val="000000"/>
              </a:solidFill>
              <a:latin typeface="Calibri"/>
            </a:endParaRPr>
          </a:p>
          <a:p>
            <a:pPr marL="425160" indent="-425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necesario que exista un poder siempre en ejercicio que cuide de la ejecución de las leyes mientras éstas se mantienen vigentes. Por esta razón, los poderes legislativo y ejecutivo frecuentemente se encuentran separados.</a:t>
            </a:r>
            <a:endParaRPr b="0" lang="en-US" sz="2400" spc="-1" strike="noStrike">
              <a:solidFill>
                <a:srgbClr val="000000"/>
              </a:solidFill>
              <a:latin typeface="Calibri"/>
            </a:endParaRPr>
          </a:p>
          <a:p>
            <a:pPr marL="425160" indent="-425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todos los casos, mientras subsiste el gobierno, el poder legislativo es el poder supremo, porque quien puede imponer leyes a otro necesita ser superior a éste. Puesto que el poder legislativo tiene el derecho de hacer leyes para todas las partes de la sociedad y para todos sus miembros, prescribiendo reglas para sus acciones y otorgando poder para su ejecución, necesariamente debe ser el poder supremo, y todos los demás poderes entregados a partes o a miembros de la sociedad deberán derivarse de él y quedarle subordinados.</a:t>
            </a:r>
            <a:endParaRPr b="0" lang="en-US" sz="2400" spc="-1" strike="noStrike">
              <a:solidFill>
                <a:srgbClr val="000000"/>
              </a:solidFill>
              <a:latin typeface="Calibri"/>
            </a:endParaRPr>
          </a:p>
          <a:p>
            <a:pPr marL="425160" indent="-425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25160" indent="-4251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90840" indent="-2656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19C2D-07EF-440E-AAD0-E43E28CE07E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Locke y el liberalismo</a:t>
            </a:r>
            <a:endParaRPr b="0" lang="en-US" sz="4000" spc="-1" strike="noStrike">
              <a:solidFill>
                <a:srgbClr val="000000"/>
              </a:solidFill>
              <a:latin typeface="Calibri"/>
            </a:endParaRPr>
          </a:p>
        </p:txBody>
      </p:sp>
      <p:sp>
        <p:nvSpPr>
          <p:cNvPr id="54" name="2 Marcador de contenido"/>
          <p:cNvSpPr/>
          <p:nvPr/>
        </p:nvSpPr>
        <p:spPr>
          <a:xfrm>
            <a:off x="609480" y="1052640"/>
            <a:ext cx="8229600" cy="540072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erfil del autor.</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Bases del poder.</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Estado de Naturaleza.</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Libertad</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opiedad.</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ociedad política o civil.</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oder legislativo.</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Separación de poderes.</a:t>
            </a: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10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3E18A-EE0C-4BDF-A7B4-C0FC4AFCA99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79280" y="2130120"/>
            <a:ext cx="8785440" cy="1469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000000"/>
                </a:solidFill>
                <a:latin typeface="Calibri"/>
              </a:rPr>
              <a:t>“</a:t>
            </a:r>
            <a:r>
              <a:rPr b="1" i="1" lang="es-CL" sz="4000" spc="-1" strike="noStrike">
                <a:solidFill>
                  <a:srgbClr val="000000"/>
                </a:solidFill>
                <a:latin typeface="Calibri"/>
              </a:rPr>
              <a:t>Dondequiera que la ley termine, la tiranía comienza” </a:t>
            </a:r>
            <a:br>
              <a:rPr sz="4000"/>
            </a:br>
            <a:r>
              <a:rPr b="0" lang="es-CL" sz="3600" spc="-1" strike="noStrike">
                <a:solidFill>
                  <a:srgbClr val="000000"/>
                </a:solidFill>
                <a:latin typeface="Calibri"/>
              </a:rPr>
              <a:t>(Lock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3600" spc="-1" strike="noStrike">
                <a:solidFill>
                  <a:srgbClr val="000000"/>
                </a:solidFill>
                <a:latin typeface="Calibri"/>
              </a:rPr>
              <a:t>John Locke</a:t>
            </a:r>
            <a:endParaRPr b="0" lang="en-US" sz="3600" spc="-1" strike="noStrike">
              <a:solidFill>
                <a:srgbClr val="000000"/>
              </a:solidFill>
              <a:latin typeface="Calibri"/>
            </a:endParaRPr>
          </a:p>
        </p:txBody>
      </p:sp>
      <p:sp>
        <p:nvSpPr>
          <p:cNvPr id="138"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8 – 22 de septiembre de 2010</a:t>
            </a:r>
            <a:endParaRPr b="0" lang="en-US" sz="2000" spc="-1" strike="noStrike">
              <a:solidFill>
                <a:srgbClr val="000000"/>
              </a:solidFill>
              <a:latin typeface="Calibri"/>
            </a:endParaRPr>
          </a:p>
        </p:txBody>
      </p:sp>
      <p:pic>
        <p:nvPicPr>
          <p:cNvPr id="139" name="Picture 5" descr="escuela de gobierno y gestión pública"/>
          <p:cNvPicPr/>
          <p:nvPr/>
        </p:nvPicPr>
        <p:blipFill>
          <a:blip r:embed="rId1"/>
          <a:stretch/>
        </p:blipFill>
        <p:spPr>
          <a:xfrm>
            <a:off x="0" y="0"/>
            <a:ext cx="2371680" cy="933480"/>
          </a:xfrm>
          <a:prstGeom prst="rect">
            <a:avLst/>
          </a:prstGeom>
          <a:ln w="0">
            <a:noFill/>
          </a:ln>
        </p:spPr>
      </p:pic>
      <p:pic>
        <p:nvPicPr>
          <p:cNvPr id="140" name="6 Imagen" descr="07 John Locke.bmp"/>
          <p:cNvPicPr/>
          <p:nvPr/>
        </p:nvPicPr>
        <p:blipFill>
          <a:blip r:embed="rId2"/>
          <a:stretch/>
        </p:blipFill>
        <p:spPr>
          <a:xfrm>
            <a:off x="7451640" y="50760"/>
            <a:ext cx="165744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43920"/>
            <a:ext cx="822960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fil del autor</a:t>
            </a:r>
            <a:endParaRPr b="0" lang="en-US" sz="36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30C2E-6655-4AF2-BE8A-5182F8EC4AF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58" name="8 CuadroTexto"/>
          <p:cNvSpPr/>
          <p:nvPr/>
        </p:nvSpPr>
        <p:spPr>
          <a:xfrm>
            <a:off x="108000" y="4292640"/>
            <a:ext cx="8891640" cy="2530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Nació en 1632 y murió en 1704. </a:t>
            </a:r>
            <a:endParaRPr b="0" lang="en-US" sz="1900" spc="-1" strike="noStrike">
              <a:solidFill>
                <a:srgbClr val="000000"/>
              </a:solidFill>
              <a:latin typeface="Arial"/>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ocke había comenzado a adquirir figuración pública a partir de 1666, tras iniciar su relación amistosa con Lord Ashley, quien posteriormente se convertiría en el Conde de Shaftesbury, fundaría el partido Whig (antiguo nombre del Partido Liberal británico), y llegaría a ser Lord Canciller en 1672.</a:t>
            </a:r>
            <a:endParaRPr b="0" lang="en-US" sz="1900" spc="-1" strike="noStrike">
              <a:solidFill>
                <a:srgbClr val="000000"/>
              </a:solidFill>
              <a:latin typeface="Arial"/>
            </a:endParaRPr>
          </a:p>
          <a:p>
            <a:pPr marL="343080" indent="-343080" algn="just">
              <a:lnSpc>
                <a:spcPct val="10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influencia política de Ashley le permitió acceder a ciertos cargos públicos que le proporcionaron un conocimiento directo acerca del funcionamiento de la política real. Fue en ese tiempo cuando comenzó a incubarse su pensamiento filosófico.</a:t>
            </a:r>
            <a:endParaRPr b="0" lang="en-US" sz="1900" spc="-1" strike="noStrike">
              <a:solidFill>
                <a:srgbClr val="000000"/>
              </a:solidFill>
              <a:latin typeface="Arial"/>
            </a:endParaRPr>
          </a:p>
        </p:txBody>
      </p:sp>
      <p:pic>
        <p:nvPicPr>
          <p:cNvPr id="59" name="6 Imagen" descr="07c John Locke.bmp"/>
          <p:cNvPicPr/>
          <p:nvPr/>
        </p:nvPicPr>
        <p:blipFill>
          <a:blip r:embed="rId1"/>
          <a:stretch/>
        </p:blipFill>
        <p:spPr>
          <a:xfrm>
            <a:off x="2556000" y="549360"/>
            <a:ext cx="4176720" cy="373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15920"/>
            <a:ext cx="822960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Perfil del autor</a:t>
            </a:r>
            <a:endParaRPr b="0" lang="en-US" sz="3600" spc="-1" strike="noStrike">
              <a:solidFill>
                <a:srgbClr val="000000"/>
              </a:solidFill>
              <a:latin typeface="Calibri"/>
            </a:endParaRPr>
          </a:p>
        </p:txBody>
      </p:sp>
      <p:sp>
        <p:nvSpPr>
          <p:cNvPr id="61" name=""/>
          <p:cNvSpPr txBox="1"/>
          <p:nvPr/>
        </p:nvSpPr>
        <p:spPr>
          <a:xfrm>
            <a:off x="250920" y="1773000"/>
            <a:ext cx="8642160" cy="4824360"/>
          </a:xfrm>
          <a:prstGeom prst="rect">
            <a:avLst/>
          </a:prstGeom>
          <a:noFill/>
          <a:ln w="0">
            <a:noFill/>
          </a:ln>
        </p:spPr>
        <p:txBody>
          <a:bodyPr anchor="t">
            <a:normAutofit fontScale="98000"/>
          </a:bodyPr>
          <a:p>
            <a:pPr marL="335880" indent="-3358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ntre 1694 y 1700, bajo el reinado de Guillermo III, se convirtió en consejero y confidente de Lord Somers, principal figura del gobierno, quien ocupó el cargo de Lord Canciller desde 1697 hasta 1700. Durante este periodo la influencia práctica del pensamiento de Locke se extendió rápidamente, puesto que los principios liberales de su filosofía proporcionaron a los Whigs una orientación coherente para el diseño de sus políticas.</a:t>
            </a:r>
            <a:endParaRPr b="0" lang="en-US" sz="1900" spc="-1" strike="noStrike">
              <a:solidFill>
                <a:srgbClr val="000000"/>
              </a:solidFill>
              <a:latin typeface="Calibri"/>
            </a:endParaRPr>
          </a:p>
          <a:p>
            <a:pPr marL="335880" indent="-3358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n el campo de la teoría del conocimiento, Locke fue el iniciador del llamado “empirismo inglés”, y en el ámbito de la filosofía política su pensamiento constituyó uno de los pilares fundamentales de la teoría democrática moderna y, en particular, del liberalismo clásico.</a:t>
            </a:r>
            <a:endParaRPr b="0" lang="en-US" sz="1900" spc="-1" strike="noStrike">
              <a:solidFill>
                <a:srgbClr val="000000"/>
              </a:solidFill>
              <a:latin typeface="Calibri"/>
            </a:endParaRPr>
          </a:p>
          <a:p>
            <a:pPr marL="335880" indent="-3358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autoridad de Locke confirió un sólido sustento a la creencia, crecientemente extendida durante el siglo XVIII, en los derechos del individuo y en la libertad natural del hombre.</a:t>
            </a:r>
            <a:endParaRPr b="0" lang="en-US" sz="1900" spc="-1" strike="noStrike">
              <a:solidFill>
                <a:srgbClr val="000000"/>
              </a:solidFill>
              <a:latin typeface="Calibri"/>
            </a:endParaRPr>
          </a:p>
          <a:p>
            <a:pPr marL="335880" indent="-3358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os nuevos principios políticos que se impusieron tras el triunfo de la Revolución encontraron un insuperable apoyo teórico en el pensamiento de Locke: consagraba el Parlamentarismo contra el “Derecho divino de los Reyes”.</a:t>
            </a:r>
            <a:endParaRPr b="0" lang="en-US" sz="1900" spc="-1" strike="noStrike">
              <a:solidFill>
                <a:srgbClr val="000000"/>
              </a:solidFill>
              <a:latin typeface="Calibri"/>
            </a:endParaRPr>
          </a:p>
          <a:p>
            <a:pPr marL="335880" indent="-3358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35880" indent="-3358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6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03722-55EA-4D6B-8FC0-3553BF1485C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3" name="6 Imagen" descr="07b John Locke.bmp"/>
          <p:cNvPicPr/>
          <p:nvPr/>
        </p:nvPicPr>
        <p:blipFill>
          <a:blip r:embed="rId1"/>
          <a:stretch/>
        </p:blipFill>
        <p:spPr>
          <a:xfrm>
            <a:off x="7596360" y="189000"/>
            <a:ext cx="1238040" cy="1466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Bases del Poder: “De lo divino a lo humano ”</a:t>
            </a:r>
            <a:endParaRPr b="0" lang="en-US" sz="3400" spc="-1" strike="noStrike">
              <a:solidFill>
                <a:srgbClr val="000000"/>
              </a:solidFill>
              <a:latin typeface="Calibri"/>
            </a:endParaRPr>
          </a:p>
        </p:txBody>
      </p:sp>
      <p:sp>
        <p:nvSpPr>
          <p:cNvPr id="65"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uente tradicional de la legitimidad del poder era Di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imposible concebir una mejor base de legitimidad de la autoridad política que ésa; pero, por cierto, bajo la condición de que exista una fe social viva en que Dios, de alguna manera, interviene directamente en los asuntos humanos y confiere a ciertos hombres el poder de gobernar a los demá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a fe se hallaba en crisis en los tiempos de Locke, habiendo él mismo contribuido a socavarl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ra urgente encontrar un nuevo fundamento para la legitimación de la autoridad política, dado que cuando el existente se encuentra seriamente cuestionado por los disturbios sociales,  resultan inevitables, como lo ilustra precisamente la convulsionada historia política de Inglaterra en el siglo XVII.</a:t>
            </a:r>
            <a:endParaRPr b="0" lang="en-US" sz="2400" spc="-1" strike="noStrike">
              <a:solidFill>
                <a:srgbClr val="000000"/>
              </a:solidFill>
              <a:latin typeface="Calibri"/>
            </a:endParaRPr>
          </a:p>
        </p:txBody>
      </p:sp>
      <p:sp>
        <p:nvSpPr>
          <p:cNvPr id="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960C2-90C3-47ED-B4C4-3C495F89360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Bases del Poder: “De lo divino a lo humano ”</a:t>
            </a:r>
            <a:endParaRPr b="0" lang="en-US" sz="3400" spc="-1" strike="noStrike">
              <a:solidFill>
                <a:srgbClr val="000000"/>
              </a:solidFill>
              <a:latin typeface="Calibri"/>
            </a:endParaRPr>
          </a:p>
        </p:txBody>
      </p:sp>
      <p:sp>
        <p:nvSpPr>
          <p:cNvPr id="68"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el poder político se entiende como el derecho de hacer leyes con sanciones de muerte y, consecuentemente, todas las sancionadas con penas menores, para la regulación y preservación de la propiedad; y de emplear la fuerza de la comunidad para la ejecución de tales leyes, para defenderla de atropellos extranjeros; y todo esto sólo en vistas del bien públic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ementos de la definición anterior:</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Formación de leyes.</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ey como mecanismo de seguridad de la propiedad, de regulación de la incertidumbre.</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onopolios del uso de la fuerza legítima para ejecución de las leyes (órganos auxiliares de la administración de justicia).</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fensa de amenaza extranjera.</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Finalidad el bien público.</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3542-2D01-46E4-A7B6-A4DC10144100}"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68">
                                            <p:txEl>
                                              <p:pRg st="0" end="0"/>
                                            </p:txEl>
                                          </p:spTgt>
                                        </p:tgtEl>
                                        <p:attrNameLst>
                                          <p:attrName>style.visibility</p:attrName>
                                        </p:attrNameLst>
                                      </p:cBhvr>
                                      <p:to>
                                        <p:strVal val="visible"/>
                                      </p:to>
                                    </p:set>
                                    <p:animEffect filter="wipe(down)" transition="in">
                                      <p:cBhvr additive="repl">
                                        <p:cTn id="7" dur="500"/>
                                        <p:tgtEl>
                                          <p:spTgt spid="6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68">
                                            <p:txEl>
                                              <p:pRg st="1" end="1"/>
                                            </p:txEl>
                                          </p:spTgt>
                                        </p:tgtEl>
                                        <p:attrNameLst>
                                          <p:attrName>style.visibility</p:attrName>
                                        </p:attrNameLst>
                                      </p:cBhvr>
                                      <p:to>
                                        <p:strVal val="visible"/>
                                      </p:to>
                                    </p:set>
                                    <p:animEffect filter="wipe(down)" transition="in">
                                      <p:cBhvr additive="repl">
                                        <p:cTn id="12" dur="500"/>
                                        <p:tgtEl>
                                          <p:spTgt spid="68">
                                            <p:txEl>
                                              <p:pRg st="1" end="1"/>
                                            </p:txEl>
                                          </p:spTgt>
                                        </p:tgtEl>
                                      </p:cBhvr>
                                    </p:animEffect>
                                  </p:childTnLst>
                                </p:cTn>
                              </p:par>
                              <p:par>
                                <p:cTn id="13" nodeType="withEffect" fill="hold" presetClass="entr" presetID="22" presetSubtype="4">
                                  <p:stCondLst>
                                    <p:cond delay="0"/>
                                  </p:stCondLst>
                                  <p:childTnLst>
                                    <p:set>
                                      <p:cBhvr>
                                        <p:cTn id="14" dur="1" fill="hold">
                                          <p:stCondLst>
                                            <p:cond delay="0"/>
                                          </p:stCondLst>
                                        </p:cTn>
                                        <p:tgtEl>
                                          <p:spTgt spid="68">
                                            <p:txEl>
                                              <p:pRg st="2" end="2"/>
                                            </p:txEl>
                                          </p:spTgt>
                                        </p:tgtEl>
                                        <p:attrNameLst>
                                          <p:attrName>style.visibility</p:attrName>
                                        </p:attrNameLst>
                                      </p:cBhvr>
                                      <p:to>
                                        <p:strVal val="visible"/>
                                      </p:to>
                                    </p:set>
                                    <p:animEffect filter="wipe(down)" transition="in">
                                      <p:cBhvr additive="repl">
                                        <p:cTn id="15" dur="500"/>
                                        <p:tgtEl>
                                          <p:spTgt spid="68">
                                            <p:txEl>
                                              <p:pRg st="2" end="2"/>
                                            </p:txEl>
                                          </p:spTgt>
                                        </p:tgtEl>
                                      </p:cBhvr>
                                    </p:animEffect>
                                  </p:childTnLst>
                                </p:cTn>
                              </p:par>
                              <p:par>
                                <p:cTn id="16" nodeType="withEffect" fill="hold" presetClass="entr" presetID="22" presetSubtype="4">
                                  <p:stCondLst>
                                    <p:cond delay="0"/>
                                  </p:stCondLst>
                                  <p:childTnLst>
                                    <p:set>
                                      <p:cBhvr>
                                        <p:cTn id="17" dur="1" fill="hold">
                                          <p:stCondLst>
                                            <p:cond delay="0"/>
                                          </p:stCondLst>
                                        </p:cTn>
                                        <p:tgtEl>
                                          <p:spTgt spid="68">
                                            <p:txEl>
                                              <p:pRg st="3" end="3"/>
                                            </p:txEl>
                                          </p:spTgt>
                                        </p:tgtEl>
                                        <p:attrNameLst>
                                          <p:attrName>style.visibility</p:attrName>
                                        </p:attrNameLst>
                                      </p:cBhvr>
                                      <p:to>
                                        <p:strVal val="visible"/>
                                      </p:to>
                                    </p:set>
                                    <p:animEffect filter="wipe(down)" transition="in">
                                      <p:cBhvr additive="repl">
                                        <p:cTn id="18" dur="500"/>
                                        <p:tgtEl>
                                          <p:spTgt spid="68">
                                            <p:txEl>
                                              <p:pRg st="3" end="3"/>
                                            </p:txEl>
                                          </p:spTgt>
                                        </p:tgtEl>
                                      </p:cBhvr>
                                    </p:animEffect>
                                  </p:childTnLst>
                                </p:cTn>
                              </p:par>
                              <p:par>
                                <p:cTn id="19" nodeType="withEffect" fill="hold" presetClass="entr" presetID="22" presetSubtype="4">
                                  <p:stCondLst>
                                    <p:cond delay="0"/>
                                  </p:stCondLst>
                                  <p:childTnLst>
                                    <p:set>
                                      <p:cBhvr>
                                        <p:cTn id="20" dur="1" fill="hold">
                                          <p:stCondLst>
                                            <p:cond delay="0"/>
                                          </p:stCondLst>
                                        </p:cTn>
                                        <p:tgtEl>
                                          <p:spTgt spid="68">
                                            <p:txEl>
                                              <p:pRg st="4" end="4"/>
                                            </p:txEl>
                                          </p:spTgt>
                                        </p:tgtEl>
                                        <p:attrNameLst>
                                          <p:attrName>style.visibility</p:attrName>
                                        </p:attrNameLst>
                                      </p:cBhvr>
                                      <p:to>
                                        <p:strVal val="visible"/>
                                      </p:to>
                                    </p:set>
                                    <p:animEffect filter="wipe(down)" transition="in">
                                      <p:cBhvr additive="repl">
                                        <p:cTn id="21" dur="500"/>
                                        <p:tgtEl>
                                          <p:spTgt spid="68">
                                            <p:txEl>
                                              <p:pRg st="4" end="4"/>
                                            </p:txEl>
                                          </p:spTgt>
                                        </p:tgtEl>
                                      </p:cBhvr>
                                    </p:animEffect>
                                  </p:childTnLst>
                                </p:cTn>
                              </p:par>
                              <p:par>
                                <p:cTn id="22" nodeType="withEffect" fill="hold" presetClass="entr" presetID="22" presetSubtype="4">
                                  <p:stCondLst>
                                    <p:cond delay="0"/>
                                  </p:stCondLst>
                                  <p:childTnLst>
                                    <p:set>
                                      <p:cBhvr>
                                        <p:cTn id="23" dur="1" fill="hold">
                                          <p:stCondLst>
                                            <p:cond delay="0"/>
                                          </p:stCondLst>
                                        </p:cTn>
                                        <p:tgtEl>
                                          <p:spTgt spid="68">
                                            <p:txEl>
                                              <p:pRg st="5" end="5"/>
                                            </p:txEl>
                                          </p:spTgt>
                                        </p:tgtEl>
                                        <p:attrNameLst>
                                          <p:attrName>style.visibility</p:attrName>
                                        </p:attrNameLst>
                                      </p:cBhvr>
                                      <p:to>
                                        <p:strVal val="visible"/>
                                      </p:to>
                                    </p:set>
                                    <p:animEffect filter="wipe(down)" transition="in">
                                      <p:cBhvr additive="repl">
                                        <p:cTn id="24" dur="500"/>
                                        <p:tgtEl>
                                          <p:spTgt spid="68">
                                            <p:txEl>
                                              <p:pRg st="5" end="5"/>
                                            </p:txEl>
                                          </p:spTgt>
                                        </p:tgtEl>
                                      </p:cBhvr>
                                    </p:animEffect>
                                  </p:childTnLst>
                                </p:cTn>
                              </p:par>
                              <p:par>
                                <p:cTn id="25" nodeType="withEffect" fill="hold" presetClass="entr" presetID="22" presetSubtype="4">
                                  <p:stCondLst>
                                    <p:cond delay="0"/>
                                  </p:stCondLst>
                                  <p:childTnLst>
                                    <p:set>
                                      <p:cBhvr>
                                        <p:cTn id="26" dur="1" fill="hold">
                                          <p:stCondLst>
                                            <p:cond delay="0"/>
                                          </p:stCondLst>
                                        </p:cTn>
                                        <p:tgtEl>
                                          <p:spTgt spid="68">
                                            <p:txEl>
                                              <p:pRg st="6" end="6"/>
                                            </p:txEl>
                                          </p:spTgt>
                                        </p:tgtEl>
                                        <p:attrNameLst>
                                          <p:attrName>style.visibility</p:attrName>
                                        </p:attrNameLst>
                                      </p:cBhvr>
                                      <p:to>
                                        <p:strVal val="visible"/>
                                      </p:to>
                                    </p:set>
                                    <p:animEffect filter="wipe(down)" transition="in">
                                      <p:cBhvr additive="repl">
                                        <p:cTn id="27" dur="500"/>
                                        <p:tgtEl>
                                          <p:spTgt spid="6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71"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uál es el estado en que naturalmente se encuentran los hombr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 </a:t>
            </a:r>
            <a:r>
              <a:rPr b="1" lang="es-CL" sz="2400" spc="-1" strike="noStrike">
                <a:solidFill>
                  <a:srgbClr val="000000"/>
                </a:solidFill>
                <a:latin typeface="Calibri"/>
              </a:rPr>
              <a:t>estado de perfecta libertad </a:t>
            </a:r>
            <a:r>
              <a:rPr b="0" lang="es-CL" sz="2400" spc="-1" strike="noStrike">
                <a:solidFill>
                  <a:srgbClr val="000000"/>
                </a:solidFill>
                <a:latin typeface="Calibri"/>
              </a:rPr>
              <a:t>para ordenar sus acciones y para disponer de sus posesiones y personas como a ellos les parezca más conveniente, dentro de los límites de la ley natural, sin pedir permiso ni depender de la voluntad de otro hombr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también un </a:t>
            </a:r>
            <a:r>
              <a:rPr b="1" lang="es-CL" sz="2400" spc="-1" strike="noStrike">
                <a:solidFill>
                  <a:srgbClr val="000000"/>
                </a:solidFill>
                <a:latin typeface="Calibri"/>
              </a:rPr>
              <a:t>estado de igualdad</a:t>
            </a:r>
            <a:r>
              <a:rPr b="0" lang="es-CL" sz="2400" spc="-1" strike="noStrike">
                <a:solidFill>
                  <a:srgbClr val="000000"/>
                </a:solidFill>
                <a:latin typeface="Calibri"/>
              </a:rPr>
              <a:t>, en el que todo poder y toda jurisdicción son recíprocos, donde nadie tiene más que otro, salvo que el Señor y Amo de todas ellas haya colocado, mediante un acto manifiesto de su voluntad, a uno sobre los demás, y le haya conferido, mediante un nombramiento evidente y claro, un derecho incuestionable al poder y la soberanía.</a:t>
            </a: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43C02-AAE0-4A8F-A7B6-C8D2A5629294}"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26028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Estado de Naturaleza</a:t>
            </a:r>
            <a:endParaRPr b="0" lang="en-US" sz="3400" spc="-1" strike="noStrike">
              <a:solidFill>
                <a:srgbClr val="000000"/>
              </a:solidFill>
              <a:latin typeface="Calibri"/>
            </a:endParaRPr>
          </a:p>
        </p:txBody>
      </p:sp>
      <p:sp>
        <p:nvSpPr>
          <p:cNvPr id="74" name=""/>
          <p:cNvSpPr txBox="1"/>
          <p:nvPr/>
        </p:nvSpPr>
        <p:spPr>
          <a:xfrm>
            <a:off x="250920" y="981000"/>
            <a:ext cx="864216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Si bien este es un estado de libertad, no lo es de licencia:</a:t>
            </a:r>
            <a:r>
              <a:rPr b="0" lang="es-CL" sz="2400" spc="-1" strike="noStrike">
                <a:solidFill>
                  <a:srgbClr val="000000"/>
                </a:solidFill>
                <a:latin typeface="Calibri"/>
              </a:rPr>
              <a:t> aunque el hombre en este estado tiene una libertad ilimitada para disponer de su persona y de sus bienes, no posee libertad para destruirse a sí mismo, ni siquiera a alguna de las criaturas que posee, a menos que lo exija un fin más noble que el de su mera preserva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El estado de naturaleza tiene una ley natural por la cual se gobierna, y esa ley obliga a todos</a:t>
            </a:r>
            <a:r>
              <a:rPr b="0" lang="es-CL" sz="2400" spc="-1" strike="noStrike">
                <a:solidFill>
                  <a:srgbClr val="000000"/>
                </a:solidFill>
                <a:latin typeface="Calibri"/>
              </a:rPr>
              <a:t>: nadie debe dañar a otro en su vida, salud, libertad o posesion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Estamos dotados de iguales facultades: </a:t>
            </a:r>
            <a:r>
              <a:rPr b="0" lang="es-CL" sz="2400" spc="-1" strike="noStrike">
                <a:solidFill>
                  <a:srgbClr val="000000"/>
                </a:solidFill>
                <a:latin typeface="Calibri"/>
              </a:rPr>
              <a:t>participamos todos en una misma comunidad de naturaleza, donde no puede suponerse que haya entre nosotros una subordinación tal que nos autorice a destruirnos mutuamente, como si estuviésemos hechos los unos para la utilidad de los otr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57EA9-8542-464C-B0F0-08F8B02683A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09-23T20:26:34Z</dcterms:modified>
  <cp:revision>331</cp:revision>
  <dc:subject/>
  <dc:title>HISTORIA DEL PENSAMIENTO POLÍTICO</dc:title>
</cp:coreProperties>
</file>