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41BD-A52E-4B3C-BBA7-EF30C501B9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CCD7-4376-43A6-B642-6B60054C33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4971-B809-41DE-A8F6-A9F63B5C8F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01ED5-11DD-456C-9384-EE3C1E724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F70C-14F7-44A0-A97B-2594DE98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3733D-CA05-4254-8250-73A6D74CE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AC2C3-EB3C-4DAD-819C-4DAEA4D53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A0CFF-AD58-4759-BABC-B5D5A4DD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CCCA-4F93-4856-B5EE-77FAD03D3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F863-F7EE-4394-80C5-3AAB32E6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3F425-4E5E-4A5E-9B16-B066AFBF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08ED-EDD1-4A5C-9FFF-70758384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C346-5A8D-4B28-9610-848B34AC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78A0-9106-4E9D-A574-55B7DF66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80A3-1A37-481F-BB6A-B163D636F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65E6-11A6-4935-8505-466FD89B80F0}"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CABB-8B17-4915-9836-FC95E186D2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Qué es la política?</a:t>
            </a:r>
            <a:endParaRPr b="0" lang="en-US" sz="4000" spc="-1" strike="noStrike">
              <a:solidFill>
                <a:srgbClr val="000000"/>
              </a:solidFill>
              <a:latin typeface="Calibri"/>
            </a:endParaRPr>
          </a:p>
        </p:txBody>
      </p:sp>
      <p:sp>
        <p:nvSpPr>
          <p:cNvPr id="80" name=""/>
          <p:cNvSpPr txBox="1"/>
          <p:nvPr/>
        </p:nvSpPr>
        <p:spPr>
          <a:xfrm>
            <a:off x="457200" y="981000"/>
            <a:ext cx="8229600" cy="4741920"/>
          </a:xfrm>
          <a:prstGeom prst="rect">
            <a:avLst/>
          </a:prstGeom>
          <a:noFill/>
          <a:ln w="0">
            <a:noFill/>
          </a:ln>
        </p:spPr>
        <p:txBody>
          <a:bodyPr anchor="t">
            <a:normAutofit fontScale="82000"/>
          </a:bodyPr>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la lucha por el poder.</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Maquiavelo, no se debe unir la política con la ética, dado que en la realidad no están juntos.</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grandes hechos políticos y sociales, no hay o se carece de moral.</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subordina todo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ideal que la ética y la política coincidan, pero bajo problemas se adopta el bien político o virtud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política, los principios valóricos son influyentes, pero quedan subordinados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ubordinación se debe hacer por razones de Estado, alcanzando el bien político.</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D6AE-B559-4562-B539-FE359E78A7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3" name=""/>
          <p:cNvSpPr txBox="1"/>
          <p:nvPr/>
        </p:nvSpPr>
        <p:spPr>
          <a:xfrm>
            <a:off x="457200" y="1052280"/>
            <a:ext cx="8229600" cy="474156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es el poder?: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un medio, nunca debe ser el fin.</a:t>
            </a:r>
            <a:endParaRPr b="0" lang="en-US" sz="24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para usarlo y no se limita en sí.</a:t>
            </a:r>
            <a:endParaRPr b="0" lang="en-US" sz="24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va a ser siempre el medio necesario para lograr el bien comú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descripción de los actos de poder, en su ejecución por los “príncipes nuevos”, surgen como un modelo de realismo político.</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tiende a la expansió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y el éxito se acepta o suma partidarios, en cambio con el fracaso los partidarios se aleja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A10B-A03D-4960-9CC1-B1F122B899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6" name=""/>
          <p:cNvSpPr txBox="1"/>
          <p:nvPr/>
        </p:nvSpPr>
        <p:spPr>
          <a:xfrm>
            <a:off x="178920" y="1052280"/>
            <a:ext cx="8713800" cy="474156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Maquiavelo, es difícil ser amado y temido a la vez.</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deberá preferir ser temido a ser amado, pues ser amado depende de los demás, mientras que ser temido depende de uno mismo.</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hay que evitar ser odiado, príncipe evitará ser odiado si se abstiene de las propiedades y de las mujeres de sus súbdit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tema de El Príncipe es el príncipe del todo nuevo en un Estado, de la nueva fundación.</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Y el modelo para el fundador es el criminal en extremo saga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ado esto, para ustedes a ¿quién se debería considerar príncipe en la historia de los puebl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CD3-2BA9-456C-BCF5-F871E3C9F4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89" name=""/>
          <p:cNvSpPr txBox="1"/>
          <p:nvPr/>
        </p:nvSpPr>
        <p:spPr>
          <a:xfrm>
            <a:off x="457200" y="1052280"/>
            <a:ext cx="8229600" cy="474156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ementos del bien común:</a:t>
            </a:r>
            <a:endParaRPr b="0" lang="en-US" sz="28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eguridad</a:t>
            </a:r>
            <a:r>
              <a:rPr b="0" lang="es-CL" sz="2400" spc="-1" strike="noStrike">
                <a:solidFill>
                  <a:srgbClr val="000000"/>
                </a:solidFill>
                <a:latin typeface="Calibri"/>
              </a:rPr>
              <a:t>:  es la sobrevivencia física de los ciudadanos, es absolutamente fundamental.</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bilidad</a:t>
            </a:r>
            <a:r>
              <a:rPr b="0" lang="es-CL" sz="2400" spc="-1" strike="noStrike">
                <a:solidFill>
                  <a:srgbClr val="000000"/>
                </a:solidFill>
                <a:latin typeface="Calibri"/>
              </a:rPr>
              <a:t>: es siempre un bien político en situaciones que la inestabilidad amenaza la seguridad.</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enestar</a:t>
            </a:r>
            <a:r>
              <a:rPr b="0" lang="es-CL" sz="2400" spc="-1" strike="noStrike">
                <a:solidFill>
                  <a:srgbClr val="000000"/>
                </a:solidFill>
                <a:latin typeface="Calibri"/>
              </a:rPr>
              <a:t>: en algunas ocasiones, pero subordinada a las dos anteriores.</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hay que apartarse del bien mientras se pueda, sino que hay que saber entrar en el mal cuando sea necesario.</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imera misión del príncipe es conseguir la seguridad, la cual es una necesidad polític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18A8-E6ED-45D0-AFFC-F689E90E37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92" name=""/>
          <p:cNvSpPr txBox="1"/>
          <p:nvPr/>
        </p:nvSpPr>
        <p:spPr>
          <a:xfrm>
            <a:off x="457200" y="1052280"/>
            <a:ext cx="8229600" cy="47415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libertad del príncipe está siempre condicionada por la necesidad política.</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no puede abusar de sus potestades cuando no justifique sus actos, pero sí los justifica, el pueblo puede perdonarlo.</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lograr la seguridad, el príncipe debe tener poder.</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garantizar la sobrevivencia física, siempre es necesario el poder para conseguir los fine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Bien Político = Éxito Político (cumplir los fines propuesto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éxito se mide ex post, en donde se XXX todas las acciones (medios) del pasado.</a:t>
            </a:r>
            <a:endParaRPr b="0" lang="en-US" sz="27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AB99-9FC1-408B-8594-EB4991ED68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95" name=""/>
          <p:cNvSpPr txBox="1"/>
          <p:nvPr/>
        </p:nvSpPr>
        <p:spPr>
          <a:xfrm>
            <a:off x="179280" y="765000"/>
            <a:ext cx="8785440" cy="5328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capacidad del príncipe para bastarse a sí mismo y colocar los designios individuales de los hombres bajo el imperio de su voluntad polít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el talento de controlar las situacion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erdadera virtud se ve en la capacidad de mantener el principad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Política: está integrada por todo aquello que sirve al príncipe para lograr y mantener el poder, prescindiendo de lo mo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características del príncipe a adoptar, dependerán de las circunstancias y del logro del bien político.</a:t>
            </a:r>
            <a:endParaRPr b="0" lang="en-US" sz="28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A60E-9251-4B6E-A185-C4A5A8BA8CB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virtud</a:t>
            </a:r>
            <a:endParaRPr b="0" lang="en-US" sz="4000" spc="-1" strike="noStrike">
              <a:solidFill>
                <a:srgbClr val="000000"/>
              </a:solidFill>
              <a:latin typeface="Calibri"/>
            </a:endParaRPr>
          </a:p>
        </p:txBody>
      </p:sp>
      <p:sp>
        <p:nvSpPr>
          <p:cNvPr id="98" name=""/>
          <p:cNvSpPr txBox="1"/>
          <p:nvPr/>
        </p:nvSpPr>
        <p:spPr>
          <a:xfrm>
            <a:off x="457200" y="919080"/>
            <a:ext cx="8229600" cy="4741920"/>
          </a:xfrm>
          <a:prstGeom prst="rect">
            <a:avLst/>
          </a:prstGeom>
          <a:noFill/>
          <a:ln w="0">
            <a:noFill/>
          </a:ln>
        </p:spPr>
        <p:txBody>
          <a:bodyPr anchor="t">
            <a:normAutofit fontScale="91000"/>
          </a:bodyPr>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no se pueden tener todas las características, es necesario que el príncipe sea tan prudente (prudencia: capacidad de la razón para encontrar el medio más adecuado para realizar un fin) como para evitar vicios que le harían perder el estado de como los que se puede mantener (ocupar ciertos vicios).</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irtud moral queda subordinada a la virtu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necesario que el príncipe sea bueno y malo, lo cual depende de la necesidad.</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está exento de un comportamiento moral, pero está limitado por la necesida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virtuoso sabe aprovechar el momento para aplicar la virtud.</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DFDD-393A-4F98-BC05-603AD8E2C5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1" name=""/>
          <p:cNvSpPr txBox="1"/>
          <p:nvPr/>
        </p:nvSpPr>
        <p:spPr>
          <a:xfrm>
            <a:off x="179280" y="1125000"/>
            <a:ext cx="8507520" cy="5000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asgos centrales de la virtud:</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uerza</a:t>
            </a:r>
            <a:r>
              <a:rPr b="0" lang="es-CL" sz="2400" spc="-1" strike="noStrike">
                <a:solidFill>
                  <a:srgbClr val="000000"/>
                </a:solidFill>
                <a:latin typeface="Calibri"/>
              </a:rPr>
              <a:t>: el príncipe es fuerte físicamente por su potencia corporal, salud y capacidad para el combate.</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teligencia bélica y estratégica</a:t>
            </a:r>
            <a:r>
              <a:rPr b="0" i="1" lang="es-CL" sz="2400" spc="-1" strike="noStrike">
                <a:solidFill>
                  <a:srgbClr val="000000"/>
                </a:solidFill>
                <a:latin typeface="Calibri"/>
              </a:rPr>
              <a:t>: </a:t>
            </a:r>
            <a:r>
              <a:rPr b="0" lang="es-CL" sz="2400" spc="-1" strike="noStrike">
                <a:solidFill>
                  <a:srgbClr val="000000"/>
                </a:solidFill>
                <a:latin typeface="Calibri"/>
              </a:rPr>
              <a:t>capacidad para organizar a las fuerzas armadas y emplearlas adecuadamente en la guerra externa y la represión interna.</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ominación de los deseos humanos a través del miedo</a:t>
            </a:r>
            <a:r>
              <a:rPr b="0" lang="es-CL" sz="2400" spc="-1" strike="noStrike">
                <a:solidFill>
                  <a:srgbClr val="000000"/>
                </a:solidFill>
                <a:latin typeface="Calibri"/>
              </a:rPr>
              <a:t>: facultad de usar recursos sicológicos de castigo y temor.</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imensión prudencial de la virtud</a:t>
            </a:r>
            <a:r>
              <a:rPr b="0" lang="es-CL" sz="2400" spc="-1" strike="noStrike">
                <a:solidFill>
                  <a:srgbClr val="000000"/>
                </a:solidFill>
                <a:latin typeface="Calibri"/>
              </a:rPr>
              <a:t>: la aplicación de la razón previsiva del príncipe en la construcción de instituciones eficaces y durables, habilitadas para sobrevivirlo y perdurar largamente en el tiempo.</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0DC1-646D-4BC8-B3EF-8D2D290E71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4" name=""/>
          <p:cNvSpPr txBox="1"/>
          <p:nvPr/>
        </p:nvSpPr>
        <p:spPr>
          <a:xfrm>
            <a:off x="179280" y="1125000"/>
            <a:ext cx="8507520" cy="5000760"/>
          </a:xfrm>
          <a:prstGeom prst="rect">
            <a:avLst/>
          </a:prstGeom>
          <a:noFill/>
          <a:ln w="0">
            <a:noFill/>
          </a:ln>
        </p:spPr>
        <p:txBody>
          <a:bodyPr anchor="t">
            <a:normAutofit fontScale="92000"/>
          </a:bodyPr>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del príncipe tiene como principal antagonista a la fortuna, entendida como la voluntad de los otros, y es básicamente un poder de dominación. </a:t>
            </a:r>
            <a:endParaRPr b="0" lang="en-US" sz="2800" spc="-1" strike="noStrike">
              <a:solidFill>
                <a:srgbClr val="000000"/>
              </a:solidFill>
              <a:latin typeface="Calibri"/>
            </a:endParaRPr>
          </a:p>
          <a:p>
            <a:pPr marL="315360" indent="-31536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centro de la virtud es la prudencia, entendida como la capacidad de la razón para encontrar el medio más adecuado para realizar un fin, sin considerar la bondad objetiva de ambos.</a:t>
            </a:r>
            <a:endParaRPr b="0" lang="en-US" sz="2800" spc="-1" strike="noStrike">
              <a:solidFill>
                <a:srgbClr val="000000"/>
              </a:solidFill>
              <a:latin typeface="Calibri"/>
            </a:endParaRPr>
          </a:p>
          <a:p>
            <a:pPr marL="315360" indent="-3153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5E07-3DD5-4B65-9E41-D82F1C872AC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07" name=""/>
          <p:cNvSpPr txBox="1"/>
          <p:nvPr/>
        </p:nvSpPr>
        <p:spPr>
          <a:xfrm>
            <a:off x="179280" y="847440"/>
            <a:ext cx="8785440" cy="51022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á fuera del radio de acción del príncip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funde con el destino o con la providencia divin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es el campo del libre arbitrio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ámbito donde se desarrollan los actos realizables por el ser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on las utopías, ni tampoco las fuerzas superiores, que escapan a la capacidad de la voluntad humana libre, sino de aquellos que el hombre puede efectivamente ejecutar por sus propias fuerza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e campo es indeterminado y su principal característica es su volubilidad.</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trola ni puede controlarse.</a:t>
            </a:r>
            <a:endParaRPr b="0" lang="en-US" sz="26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EC15-4E2C-4B75-8BB3-89D6D187C8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t>
            </a:r>
            <a:r>
              <a:rPr b="0" lang="es-CL" sz="4400" spc="-1" strike="noStrike">
                <a:solidFill>
                  <a:srgbClr val="000000"/>
                </a:solidFill>
                <a:latin typeface="Calibri"/>
              </a:rPr>
              <a:t>Detrás de cada gran fortuna hay un crimen” (Balz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10" name=""/>
          <p:cNvSpPr txBox="1"/>
          <p:nvPr/>
        </p:nvSpPr>
        <p:spPr>
          <a:xfrm>
            <a:off x="179280" y="847440"/>
            <a:ext cx="8785440" cy="51022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 régimen se basa en ésta, es inestabl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nteniendo el poder se obtiene la estabilidad en el régimen, posibilitando la seguridad de los ciudadano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lo anterior, se requiere el despliegue de la virtud, aprovechando y limitando a la fortu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virtuoso debe quitarle espacio a la fortuna a través de la virtu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n embargo, la fortuna es necesaria porque abre posibilidades.</a:t>
            </a: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E9AB-EA7E-4D68-A8B9-0C6E1C857A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3" name=""/>
          <p:cNvSpPr txBox="1"/>
          <p:nvPr/>
        </p:nvSpPr>
        <p:spPr>
          <a:xfrm>
            <a:off x="250560" y="765000"/>
            <a:ext cx="8435880" cy="4741920"/>
          </a:xfrm>
          <a:prstGeom prst="rect">
            <a:avLst/>
          </a:prstGeom>
          <a:noFill/>
          <a:ln w="0">
            <a:noFill/>
          </a:ln>
        </p:spPr>
        <p:txBody>
          <a:bodyPr anchor="t">
            <a:normAutofit fontScale="88000"/>
          </a:bodyPr>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leyes</a:t>
            </a:r>
            <a:r>
              <a:rPr b="0" lang="es-CL" sz="2700" spc="-1" strike="noStrike">
                <a:solidFill>
                  <a:srgbClr val="000000"/>
                </a:solidFill>
                <a:latin typeface="Calibri"/>
              </a:rPr>
              <a:t>: éstas son útiles para la acción del príncipe (mantener el poder y la virtud).</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armas</a:t>
            </a:r>
            <a:r>
              <a:rPr b="0" lang="es-CL" sz="2700" spc="-1" strike="noStrike">
                <a:solidFill>
                  <a:srgbClr val="000000"/>
                </a:solidFill>
                <a:latin typeface="Calibri"/>
              </a:rPr>
              <a:t>: las armas permiten que se cumplan las leyes. Éstas son un respaldo para las leyes. Una buena arma es la que es efectiva</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Tener ejército propio.</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debe ser el capitán.</a:t>
            </a:r>
            <a:endParaRPr b="0" lang="en-US" sz="2700" spc="-1" strike="noStrike">
              <a:solidFill>
                <a:srgbClr val="000000"/>
              </a:solidFill>
              <a:latin typeface="Calibri"/>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asi no puede haber duda de que Maquiavelo prefería las repúblicas a las monarquías, fuesen tiránicas o no tiránicas. Detestaba la opresión que no es puesta al servicio del bienestar del pueblo y por tanto del gobierno eficiente, en especial de una justicia punitiva imparcial y discreta.</a:t>
            </a:r>
            <a:endParaRPr b="0" lang="en-US" sz="2700" spc="-1" strike="noStrike">
              <a:solidFill>
                <a:srgbClr val="000000"/>
              </a:solidFill>
              <a:latin typeface="Calibri"/>
            </a:endParaRPr>
          </a:p>
          <a:p>
            <a:pPr marL="452520" indent="-4525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F99A-3A49-4163-8A84-C5864E2F65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6" name=""/>
          <p:cNvSpPr txBox="1"/>
          <p:nvPr/>
        </p:nvSpPr>
        <p:spPr>
          <a:xfrm>
            <a:off x="250560" y="765000"/>
            <a:ext cx="8435880" cy="4741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naciones rara vez restablecen la misma organización gubernativa, porque casi ningún Estado tiene tan larga vida que sufra muchas de estas mutaciones sin arruinarse, siendo frecuente que por tantos trabajos y por la falta de consejo y de fuerza quede sometido a otro Estado vecino, cuya organización sea mejor. Si esto no sucede, se le verá sufrir perpetuamente los referidos cambios.</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nace como una forma de regulación de las conductas que producen daño. </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F48E-8BD7-4641-B88E-65C56D6839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9" name=""/>
          <p:cNvSpPr txBox="1"/>
          <p:nvPr/>
        </p:nvSpPr>
        <p:spPr>
          <a:xfrm>
            <a:off x="250560" y="765000"/>
            <a:ext cx="8435880" cy="4741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odas las formas de gobierno son perjudiciales; las tres que calificamos de buenas (monarquía, aristocracia y democracia) por su escasa duración, y las otras tres (tiranía, oligarquía, licencia) por la malignidad de su índole. </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legislador prudente que conozca estos efectos, huirá de ellas, estableciendo un régimen mixto que de todas participe, el cual será más firme y estable; porque en una Constitución donde coexistan la monarquía, la aristocracia y la democracia, cada uno de estos poderes vigila y contrarresta los abusos de los otros.</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4DC0-FE0E-4D35-A1F8-C76AAF07CC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2" name=""/>
          <p:cNvSpPr txBox="1"/>
          <p:nvPr/>
        </p:nvSpPr>
        <p:spPr>
          <a:xfrm>
            <a:off x="250560" y="1052280"/>
            <a:ext cx="8435880" cy="4741560"/>
          </a:xfrm>
          <a:prstGeom prst="rect">
            <a:avLst/>
          </a:prstGeom>
          <a:noFill/>
          <a:ln w="0">
            <a:noFill/>
          </a:ln>
        </p:spPr>
        <p:txBody>
          <a:bodyPr anchor="t">
            <a:normAutofit fontScale="96000"/>
          </a:bodyPr>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ixto, cuyo paradigma es la res publica romana, gracias a su naturaleza mixta, rompe el ciclo de aparición, madurez y decadencia de los regímenes puros. </a:t>
            </a:r>
            <a:endParaRPr b="0" lang="en-US" sz="2600" spc="-1" strike="noStrike">
              <a:solidFill>
                <a:srgbClr val="000000"/>
              </a:solidFill>
              <a:latin typeface="Calibri"/>
            </a:endParaRPr>
          </a:p>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pueblos empiezan por organizarse políticamente bajo el régimen monárquico; éste decae y se transforma en tiranía; el tirano es defenestrado por los mejores, la aristocracia; los aristócratas se corrompen y pasan a ser una oligarquía; el pueblo se levanta e instaura una democracia; ésta, a su vez, también se corrompe y cae en el populismo demagógico, que finalmente es reemplazado por un conductor carismático. En este último tramo se ha vuelto a la monarquía. </a:t>
            </a:r>
            <a:endParaRPr b="0" lang="en-US" sz="26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7AAC-3355-443F-8A91-BFE0C27BCB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5" name=""/>
          <p:cNvSpPr txBox="1"/>
          <p:nvPr/>
        </p:nvSpPr>
        <p:spPr>
          <a:xfrm>
            <a:off x="250560" y="1052280"/>
            <a:ext cx="8435880" cy="4741560"/>
          </a:xfrm>
          <a:prstGeom prst="rect">
            <a:avLst/>
          </a:prstGeom>
          <a:noFill/>
          <a:ln w="0">
            <a:noFill/>
          </a:ln>
        </p:spPr>
        <p:txBody>
          <a:bodyPr anchor="t">
            <a:normAutofit/>
          </a:bodyPr>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iclo reinicia su eterno retorno. ¿Cómo se sale de este movimiento perpetuamente circular? A través de un régimen que reúna las características de los tres modelos legítimos y buenos. Tal es el caso de la república romana, que supo integrar de la monarquía, el consulado; de la aristocracia, el senado; de la democracia, el tribunado de la plebe. </a:t>
            </a:r>
            <a:endParaRPr b="0" lang="en-US" sz="2600" spc="-1" strike="noStrike">
              <a:solidFill>
                <a:srgbClr val="000000"/>
              </a:solidFill>
              <a:latin typeface="Calibri"/>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quiavelo valora al régimen mixto por su estabilidad en el tiempo, por su capacidad de duración.</a:t>
            </a:r>
            <a:endParaRPr b="0" lang="en-US" sz="2600" spc="-1" strike="noStrike">
              <a:solidFill>
                <a:srgbClr val="000000"/>
              </a:solidFill>
              <a:latin typeface="Calibri"/>
            </a:endParaRPr>
          </a:p>
        </p:txBody>
      </p:sp>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25C3-5DC3-4924-858F-31DF29B248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8" name=""/>
          <p:cNvSpPr txBox="1"/>
          <p:nvPr/>
        </p:nvSpPr>
        <p:spPr>
          <a:xfrm>
            <a:off x="250560" y="1052280"/>
            <a:ext cx="8435880" cy="4741560"/>
          </a:xfrm>
          <a:prstGeom prst="rect">
            <a:avLst/>
          </a:prstGeom>
          <a:noFill/>
          <a:ln w="0">
            <a:noFill/>
          </a:ln>
        </p:spPr>
        <p:txBody>
          <a:bodyPr anchor="t">
            <a:normAutofit fontScale="92000"/>
          </a:bodyPr>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ingún hombre sabio censurará el empleo de algún procedimiento extraordinario para fundar un reino u organizar una república; pero conviene al fundador que, cuando el hecho le acuse, el resultado le excuse; y si éste es bueno, como sucedió en el caso de Rómulo, siempre se le absolverá.</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a reunión de hombres no es apropiada para organizar un régimen de gobierno, porque la diversidad de opiniones impide conocer lo más útil; establecido y aceptado el régimen, tampoco se ponen todos de acuerdo para derribarlo.</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cambia con las circunstancias y los hombres no cambian de método. Las repúblicas perecen también por no ajustar sus instituciones a los tiempos</a:t>
            </a:r>
            <a:endParaRPr b="0" lang="en-US" sz="2600" spc="-1" strike="noStrike">
              <a:solidFill>
                <a:srgbClr val="000000"/>
              </a:solidFill>
              <a:latin typeface="Calibri"/>
            </a:endParaRPr>
          </a:p>
        </p:txBody>
      </p:sp>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AC4C-0F35-4D9E-BFA3-F088FD64D5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Maquiavelo y el Poder</a:t>
            </a:r>
            <a:endParaRPr b="0" lang="en-US" sz="44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l deber ser al ser de los hechos.</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hombre.</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Qué es la polític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pode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bien.</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virtud.</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ortun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undamentos de todo Estado.</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4817-5D1D-4D84-8D5D-104B19CD9A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4">
                                            <p:txEl>
                                              <p:pRg st="9" end="9"/>
                                            </p:txEl>
                                          </p:spTgt>
                                        </p:tgtEl>
                                        <p:attrNameLst>
                                          <p:attrName>style.visibility</p:attrName>
                                        </p:attrNameLst>
                                      </p:cBhvr>
                                      <p:to>
                                        <p:strVal val="visible"/>
                                      </p:to>
                                    </p:set>
                                    <p:anim calcmode="lin" valueType="num">
                                      <p:cBhvr additive="repl">
                                        <p:cTn id="61"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62" dur="500" fill="hold"/>
                                        <p:tgtEl>
                                          <p:spTgt spid="5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
          <p:cNvSpPr txBox="1"/>
          <p:nvPr/>
        </p:nvSpPr>
        <p:spPr>
          <a:xfrm>
            <a:off x="179280" y="3860640"/>
            <a:ext cx="8677440" cy="1368720"/>
          </a:xfrm>
          <a:prstGeom prst="rect">
            <a:avLst/>
          </a:prstGeom>
          <a:noFill/>
          <a:ln w="0">
            <a:noFill/>
          </a:ln>
        </p:spPr>
        <p:txBody>
          <a:bodyPr anchor="t">
            <a:normAutofit fontScale="64000"/>
          </a:bodyPr>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esos cambios, hay que poner en primera línea la consolidación de una forma política inédita: </a:t>
            </a:r>
            <a:r>
              <a:rPr b="0" i="1" lang="es-CL" sz="2000" spc="-1" strike="noStrike">
                <a:solidFill>
                  <a:srgbClr val="000000"/>
                </a:solidFill>
                <a:latin typeface="Calibri"/>
              </a:rPr>
              <a:t>los Estados nacionales</a:t>
            </a:r>
            <a:r>
              <a:rPr b="0" lang="es-CL" sz="2000" spc="-1" strike="noStrike">
                <a:solidFill>
                  <a:srgbClr val="000000"/>
                </a:solidFill>
                <a:latin typeface="Calibri"/>
              </a:rPr>
              <a:t>.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estructuras políticas del feudalismo habían entrado en su fase de crisis terminal y en España, Francia e Inglaterra, las monarquías habían promovido la unidad nacional y establecido las bases del Estado moderno.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terminación de los límites del espacio físico de cada Estado nacional, el locus de su soberanía, se había transformado lentamente en una política armada por la hegemonía política de Europa, e Italia en un campo de batalla de las potencias beligerantes.</a:t>
            </a: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8CDD-5AC5-4F14-8D10-2564AF92532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 name="6 Imagen" descr="05b Nicolás Maquiavelo.bmp"/>
          <p:cNvPicPr/>
          <p:nvPr/>
        </p:nvPicPr>
        <p:blipFill>
          <a:blip r:embed="rId1"/>
          <a:stretch/>
        </p:blipFill>
        <p:spPr>
          <a:xfrm>
            <a:off x="237960" y="1484280"/>
            <a:ext cx="2318040" cy="1873440"/>
          </a:xfrm>
          <a:prstGeom prst="rect">
            <a:avLst/>
          </a:prstGeom>
          <a:ln w="0">
            <a:noFill/>
          </a:ln>
        </p:spPr>
      </p:pic>
      <p:sp>
        <p:nvSpPr>
          <p:cNvPr id="60" name="8 CuadroTexto"/>
          <p:cNvSpPr/>
          <p:nvPr/>
        </p:nvSpPr>
        <p:spPr>
          <a:xfrm>
            <a:off x="2484360" y="692280"/>
            <a:ext cx="6480360" cy="35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ció en Florencia en 1469-1527, que en esa época era una república, bajo el gobierno de la familia Médici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talia estaba dividida en pequeños estados, entre los cuales la ciudad natal de Maquiavelo era el más importan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de Maquiavelo transcurre en un país dividido y en constantes guerras, donde la política se ejerce con extrema crudeza. Desde Florencia asiste a una enorme cantidad de eventos, bajo cuya superficie se desplazan los grandes cambios del siglo XV.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2" name=""/>
          <p:cNvSpPr txBox="1"/>
          <p:nvPr/>
        </p:nvSpPr>
        <p:spPr>
          <a:xfrm>
            <a:off x="250560" y="692280"/>
            <a:ext cx="5616360" cy="59054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política de Florencia, en relación con su propia estabilidad y con el resto de Italia y las potencias presentes en el escenario italiano, y recíprocamente, la política de todos los actores del escenario europeo, constituyen el vasto campo de observación de Maquiavelo. </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giro magistral que imprime al análisis político está relacionado con la conducta de los actores centrales que se desplazan en ese escenario. Una conducta que no descansaba sobre los antiguos principios de legitimidad política vigentes durante la Edad Media.</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ales principios son puestos entre paréntesis por Maquiavelo, en beneficio de los nuevos axiomas de ejercicio del poder, que el mismo se encargó de hacer explícitos en su obra.</a:t>
            </a:r>
            <a:endParaRPr b="0" lang="en-US" sz="21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2F2B-084D-4DB2-AAEA-91B9B96A96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6 Imagen" descr="05b Nicolás Maquiavelo.bmp"/>
          <p:cNvPicPr/>
          <p:nvPr/>
        </p:nvPicPr>
        <p:blipFill>
          <a:blip r:embed="rId1"/>
          <a:stretch/>
        </p:blipFill>
        <p:spPr>
          <a:xfrm>
            <a:off x="6227640" y="2421000"/>
            <a:ext cx="2264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6" name=""/>
          <p:cNvSpPr txBox="1"/>
          <p:nvPr/>
        </p:nvSpPr>
        <p:spPr>
          <a:xfrm>
            <a:off x="179280" y="1019160"/>
            <a:ext cx="8785440" cy="5578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uptura</a:t>
            </a:r>
            <a:r>
              <a:rPr b="0" lang="es-CL" sz="3200" spc="-1" strike="noStrike">
                <a:solidFill>
                  <a:srgbClr val="000000"/>
                </a:solidFill>
                <a:latin typeface="Calibri"/>
              </a:rPr>
              <a:t> del estudio de la política: </a:t>
            </a:r>
            <a:endParaRPr b="0" lang="en-US" sz="32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ne sustituir el enfoque normativo, el “deber ser”, por el de los hechos políticos, el “ser”.</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aporte se traduce en su metodología de estudio, el método histórico.</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materia prima es la historia, en donde los hechos morales no tienen gran importancia en los hechos sociale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Maquiavelo no hay una proposición de un determinado orden social, a diferencia de los clásicos anteriores.</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F313-9953-4621-A96F-A406ED85BE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 calcmode="lin" valueType="num">
                                      <p:cBhvr additive="base">
                                        <p:cTn id="6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6">
                                            <p:txEl>
                                              <p:pRg st="1" end="1"/>
                                            </p:txEl>
                                          </p:spTgt>
                                        </p:tgtEl>
                                        <p:attrNameLst>
                                          <p:attrName>style.visibility</p:attrName>
                                        </p:attrNameLst>
                                      </p:cBhvr>
                                      <p:to>
                                        <p:strVal val="visible"/>
                                      </p:to>
                                    </p:set>
                                    <p:anim calcmode="lin" valueType="num">
                                      <p:cBhvr additive="base">
                                        <p:cTn id="7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6">
                                            <p:txEl>
                                              <p:pRg st="2" end="2"/>
                                            </p:txEl>
                                          </p:spTgt>
                                        </p:tgtEl>
                                        <p:attrNameLst>
                                          <p:attrName>style.visibility</p:attrName>
                                        </p:attrNameLst>
                                      </p:cBhvr>
                                      <p:to>
                                        <p:strVal val="visible"/>
                                      </p:to>
                                    </p:set>
                                    <p:anim calcmode="lin" valueType="num">
                                      <p:cBhvr additive="base">
                                        <p:cTn id="7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 calcmode="lin" valueType="num">
                                      <p:cBhvr additive="base">
                                        <p:cTn id="8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anim calcmode="lin" valueType="num">
                                      <p:cBhvr additive="base">
                                        <p:cTn id="87"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9" name=""/>
          <p:cNvSpPr txBox="1"/>
          <p:nvPr/>
        </p:nvSpPr>
        <p:spPr>
          <a:xfrm>
            <a:off x="179280" y="907560"/>
            <a:ext cx="8785440" cy="5689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aquiavelo no le preocupa el tema religioso, pero el príncipe no debe alejarse de la religión, debe aparentar a la masa ser religioso si es que no lo 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omentos cumbres o grandes hecho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olucion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uer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ubrimientos, conquista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ayor cambio político es la instauración de un régimen políti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5793-5082-438E-8B95-C80D785272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4 Flecha derecha"/>
          <p:cNvSpPr/>
          <p:nvPr/>
        </p:nvSpPr>
        <p:spPr>
          <a:xfrm>
            <a:off x="4140360" y="3573360"/>
            <a:ext cx="1008000" cy="503280"/>
          </a:xfrm>
          <a:prstGeom prst="rightArrow">
            <a:avLst>
              <a:gd name="adj1" fmla="val 50000"/>
              <a:gd name="adj2" fmla="val 4998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5292720" y="328464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on violenta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odas apuntan a la victoria.</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cinden de aspectos morale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auto-restri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 calcmode="lin" valueType="num">
                                      <p:cBhvr additive="base">
                                        <p:cTn id="9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2" end="2"/>
                                            </p:txEl>
                                          </p:spTgt>
                                        </p:tgtEl>
                                        <p:attrNameLst>
                                          <p:attrName>style.visibility</p:attrName>
                                        </p:attrNameLst>
                                      </p:cBhvr>
                                      <p:to>
                                        <p:strVal val="visible"/>
                                      </p:to>
                                    </p:set>
                                    <p:anim calcmode="lin" valueType="num">
                                      <p:cBhvr additive="base">
                                        <p:cTn id="10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 calcmode="lin" valueType="num">
                                      <p:cBhvr additive="base">
                                        <p:cTn id="1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69">
                                            <p:txEl>
                                              <p:pRg st="4" end="4"/>
                                            </p:txEl>
                                          </p:spTgt>
                                        </p:tgtEl>
                                        <p:attrNameLst>
                                          <p:attrName>style.visibility</p:attrName>
                                        </p:attrNameLst>
                                      </p:cBhvr>
                                      <p:to>
                                        <p:strVal val="visible"/>
                                      </p:to>
                                    </p:set>
                                    <p:anim calcmode="lin" valueType="num">
                                      <p:cBhvr additive="base">
                                        <p:cTn id="10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base">
                                        <p:cTn id="11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22" dur="1000" fill="hold"/>
                                        <p:tgtEl>
                                          <p:spTgt spid="71"/>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2"/>
                                        </p:tgtEl>
                                        <p:attrNameLst>
                                          <p:attrName>style.visibility</p:attrName>
                                        </p:attrNameLst>
                                      </p:cBhvr>
                                      <p:to>
                                        <p:strVal val="visible"/>
                                      </p:to>
                                    </p:set>
                                    <p:animEffect filter="wipe(down)"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9">
                                            <p:txEl>
                                              <p:pRg st="7" end="7"/>
                                            </p:txEl>
                                          </p:spTgt>
                                        </p:tgtEl>
                                        <p:attrNameLst>
                                          <p:attrName>style.visibility</p:attrName>
                                        </p:attrNameLst>
                                      </p:cBhvr>
                                      <p:to>
                                        <p:strVal val="visible"/>
                                      </p:to>
                                    </p:set>
                                    <p:anim calcmode="lin" valueType="num">
                                      <p:cBhvr additive="base">
                                        <p:cTn id="136"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4" name=""/>
          <p:cNvSpPr txBox="1"/>
          <p:nvPr/>
        </p:nvSpPr>
        <p:spPr>
          <a:xfrm>
            <a:off x="179280" y="980640"/>
            <a:ext cx="8785440" cy="5472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naturaleza de los hombres es mal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tiene una visión muy pesimista de la naturaleza huma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iensa que los hombres son malos y que siempre están dispuestos a “emplear su malignidad”.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esta razón, el deseo humano no es solamente un dinamismo de cambio continuo —desde lo actualmente poseído a nuevas posesiones—, sino un proceso destructivo de todo orden político posible.</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88EB-0B5C-46CC-B393-BD6AABA852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4">
                                            <p:txEl>
                                              <p:pRg st="0" end="0"/>
                                            </p:txEl>
                                          </p:spTgt>
                                        </p:tgtEl>
                                        <p:attrNameLst>
                                          <p:attrName>style.visibility</p:attrName>
                                        </p:attrNameLst>
                                      </p:cBhvr>
                                      <p:to>
                                        <p:strVal val="visible"/>
                                      </p:to>
                                    </p:set>
                                    <p:anim calcmode="lin" valueType="num">
                                      <p:cBhvr additive="base">
                                        <p:cTn id="1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4">
                                            <p:txEl>
                                              <p:pRg st="1" end="1"/>
                                            </p:txEl>
                                          </p:spTgt>
                                        </p:tgtEl>
                                        <p:attrNameLst>
                                          <p:attrName>style.visibility</p:attrName>
                                        </p:attrNameLst>
                                      </p:cBhvr>
                                      <p:to>
                                        <p:strVal val="visible"/>
                                      </p:to>
                                    </p:set>
                                    <p:anim calcmode="lin" valueType="num">
                                      <p:cBhvr additive="base">
                                        <p:cTn id="1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4">
                                            <p:txEl>
                                              <p:pRg st="2" end="2"/>
                                            </p:txEl>
                                          </p:spTgt>
                                        </p:tgtEl>
                                        <p:attrNameLst>
                                          <p:attrName>style.visibility</p:attrName>
                                        </p:attrNameLst>
                                      </p:cBhvr>
                                      <p:to>
                                        <p:strVal val="visible"/>
                                      </p:to>
                                    </p:set>
                                    <p:anim calcmode="lin" valueType="num">
                                      <p:cBhvr additive="base">
                                        <p:cTn id="1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4">
                                            <p:txEl>
                                              <p:pRg st="3" end="3"/>
                                            </p:txEl>
                                          </p:spTgt>
                                        </p:tgtEl>
                                        <p:attrNameLst>
                                          <p:attrName>style.visibility</p:attrName>
                                        </p:attrNameLst>
                                      </p:cBhvr>
                                      <p:to>
                                        <p:strVal val="visible"/>
                                      </p:to>
                                    </p:set>
                                    <p:anim calcmode="lin" valueType="num">
                                      <p:cBhvr additive="base">
                                        <p:cTn id="1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7" name=""/>
          <p:cNvSpPr txBox="1"/>
          <p:nvPr/>
        </p:nvSpPr>
        <p:spPr>
          <a:xfrm>
            <a:off x="179280" y="1052640"/>
            <a:ext cx="878544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olubilidad de los hombres está relacionada con sus deseos, y con el carácter constantemente insatisfecho de los mismos. Esa es la fuente de los cambios que el príncipe debe manejar para estabilizar y orientar el proceso polític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hacen el bien por fuerza; pero cuando gozan de medios y libertad para ejecutar el mal, todo lo llenan de confusión y desord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Calibri"/>
              </a:rPr>
              <a:t>Maquiavelo y su preocupación por la recuperación de los antiguos modos y órdenes: </a:t>
            </a:r>
            <a:r>
              <a:rPr b="0" lang="es-CL" sz="2600" spc="-1" strike="noStrike">
                <a:solidFill>
                  <a:srgbClr val="000000"/>
                </a:solidFill>
                <a:latin typeface="Calibri"/>
              </a:rPr>
              <a:t>los hombres eran buenos en el principio, no por causa de su inocencia sino porque estaban en garra del terror y del miedo: del terror y del miedo radicales e iniciales; al comienzo no había Amor sino Terror.</a:t>
            </a:r>
            <a:endParaRPr b="0" lang="en-US" sz="26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EB92-1545-4A4D-9DD8-2E01C784D2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7">
                                            <p:txEl>
                                              <p:pRg st="0" end="0"/>
                                            </p:txEl>
                                          </p:spTgt>
                                        </p:tgtEl>
                                        <p:attrNameLst>
                                          <p:attrName>style.visibility</p:attrName>
                                        </p:attrNameLst>
                                      </p:cBhvr>
                                      <p:to>
                                        <p:strVal val="visible"/>
                                      </p:to>
                                    </p:set>
                                    <p:anim calcmode="lin" valueType="num">
                                      <p:cBhvr additive="base">
                                        <p:cTn id="17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7">
                                            <p:txEl>
                                              <p:pRg st="2" end="2"/>
                                            </p:txEl>
                                          </p:spTgt>
                                        </p:tgtEl>
                                        <p:attrNameLst>
                                          <p:attrName>style.visibility</p:attrName>
                                        </p:attrNameLst>
                                      </p:cBhvr>
                                      <p:to>
                                        <p:strVal val="visible"/>
                                      </p:to>
                                    </p:set>
                                    <p:anim calcmode="lin" valueType="num">
                                      <p:cBhvr additive="base">
                                        <p:cTn id="18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06T19:20:53Z</dcterms:modified>
  <cp:revision>255</cp:revision>
  <dc:subject/>
  <dc:title>HISTORIA DEL PENSAMIENTO POLÍTICO</dc:title>
</cp:coreProperties>
</file>