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E801F-C481-4710-91C6-9AB0736C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16E79-8F85-4012-AC61-196977B4F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3B21C-EEF2-4B35-89CC-8B6C6F03D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31022-5D49-4C9D-90E8-2ABADBFB6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E9C4A-233E-4E6A-8855-41099827B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6B42-9FEF-474E-A0D5-98330F01F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E11B-D952-4E13-AA31-5450D3D16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D58A5-EC7A-4367-927C-D4FFE3B6A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CF34-35EE-440E-8BC0-B20F21F97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2DA7-52F2-4A19-B299-AE99A552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B811-C852-41FE-8AD4-0B819F13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0984F-97B4-4E74-A382-480F5DA85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F592-7C8D-499A-A325-5C476D82ECD7}" type="datetime">
              <a:rPr b="0" lang="es-C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67A6-FCE7-4F60-B324-04DEA83BCC7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to Tomás de Aquino</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5 – 30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5 Imagen" descr="04 Santo Tomás.bmp"/>
          <p:cNvPicPr/>
          <p:nvPr/>
        </p:nvPicPr>
        <p:blipFill>
          <a:blip r:embed="rId2"/>
          <a:stretch/>
        </p:blipFill>
        <p:spPr>
          <a:xfrm>
            <a:off x="7462800" y="44280"/>
            <a:ext cx="1573200" cy="229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familia</a:t>
            </a:r>
            <a:endParaRPr b="0" lang="en-US" sz="4000" spc="-1" strike="noStrike">
              <a:solidFill>
                <a:srgbClr val="000000"/>
              </a:solidFill>
              <a:latin typeface="Calibri"/>
            </a:endParaRPr>
          </a:p>
        </p:txBody>
      </p:sp>
      <p:sp>
        <p:nvSpPr>
          <p:cNvPr id="72" name=""/>
          <p:cNvSpPr txBox="1"/>
          <p:nvPr/>
        </p:nvSpPr>
        <p:spPr>
          <a:xfrm>
            <a:off x="457200" y="691920"/>
            <a:ext cx="8229600" cy="5289480"/>
          </a:xfrm>
          <a:prstGeom prst="rect">
            <a:avLst/>
          </a:prstGeom>
          <a:noFill/>
          <a:ln w="0">
            <a:noFill/>
          </a:ln>
        </p:spPr>
        <p:txBody>
          <a:bodyPr anchor="t">
            <a:normAutofit fontScale="90000"/>
          </a:bodyPr>
          <a:p>
            <a:pPr marL="308520" indent="-308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primera sociedad a la que pertenece y sin la cual no podrían vivir, y mucho menos vivir bien, es la familia, cuyo propósito específico es satisfacer las necesidades de la vida y así garantizar la conservación del individuo y de la especie (reproducción y preservación).</a:t>
            </a:r>
            <a:endParaRPr b="0" lang="en-US" sz="2600" spc="-1" strike="noStrike">
              <a:solidFill>
                <a:srgbClr val="000000"/>
              </a:solidFill>
              <a:latin typeface="Calibri"/>
            </a:endParaRPr>
          </a:p>
          <a:p>
            <a:pPr marL="308520" indent="-308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ciencia o arte que tiene como objeto la administración adecuada de la familia es la economía o gobierno familiar, que trata, básicamente, de la adquisición y administración de los artículos de primera necesidad que son utilizados o consumidos por los miembros de la familia.</a:t>
            </a:r>
            <a:endParaRPr b="0" lang="en-US" sz="2600" spc="-1" strike="noStrike">
              <a:solidFill>
                <a:srgbClr val="000000"/>
              </a:solidFill>
              <a:latin typeface="Calibri"/>
            </a:endParaRPr>
          </a:p>
          <a:p>
            <a:pPr marL="308520" indent="-308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la familia por sí sola, no puede aportar todos los bienes materiales que el hombre necesita para su sustento y protección, ni es capaz de conducir a todos sus miembros a la perfección de la virtud.</a:t>
            </a:r>
            <a:endParaRPr b="0" lang="en-US" sz="2600" spc="-1" strike="noStrike">
              <a:solidFill>
                <a:srgbClr val="000000"/>
              </a:solidFill>
              <a:latin typeface="Calibri"/>
            </a:endParaRPr>
          </a:p>
        </p:txBody>
      </p:sp>
      <p:sp>
        <p:nvSpPr>
          <p:cNvPr id="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A2E8-2DDF-4215-AC4D-246CD49A1FA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a:t>
            </a:r>
            <a:endParaRPr b="0" lang="en-US" sz="4000" spc="-1" strike="noStrike">
              <a:solidFill>
                <a:srgbClr val="000000"/>
              </a:solidFill>
              <a:latin typeface="Calibri"/>
            </a:endParaRPr>
          </a:p>
        </p:txBody>
      </p:sp>
      <p:sp>
        <p:nvSpPr>
          <p:cNvPr id="75" name=""/>
          <p:cNvSpPr txBox="1"/>
          <p:nvPr/>
        </p:nvSpPr>
        <p:spPr>
          <a:xfrm>
            <a:off x="179280" y="1197000"/>
            <a:ext cx="8785440" cy="4525920"/>
          </a:xfrm>
          <a:prstGeom prst="rect">
            <a:avLst/>
          </a:prstGeom>
          <a:noFill/>
          <a:ln w="0">
            <a:noFill/>
          </a:ln>
        </p:spPr>
        <p:txBody>
          <a:bodyPr anchor="t">
            <a:normAutofit fontScale="85000"/>
          </a:bodyPr>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asociación humana auténticamente autosuficiente, única capaz de asegurar las condiciones de la virtud y satisfacer todas las necesidades y aspiraciones terrenales del hombre es la ciudad.</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 la obra más perfecta de la razón práctica.</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l hombre compete vivir en sociedad, puesto que viviendo en solitario no puede proveer a las necesidades de la vida, se sigue que tanto más perfecta será la sociedad cuanto más suficiente sea para cubrir dichas necesidades.</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como sociedad perfecta, abarca todas las otras asociaciones que los seres humanos son capaces de formar, incluyendo la familia, cuyo fin está subordinado al suyo propio, que es el bien humano completo.</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D369-31FE-4986-BF22-BF467A1790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7000"/>
          </a:bodyPr>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dentro del marco de la sociedad civil puede el hombre alcanzar la plenitud de la vida.</a:t>
            </a:r>
            <a:endParaRPr b="0" lang="en-US" sz="2700" spc="-1" strike="noStrike">
              <a:solidFill>
                <a:srgbClr val="000000"/>
              </a:solidFill>
              <a:latin typeface="Calibri"/>
            </a:endParaRPr>
          </a:p>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tá integrada por una multiplicidad de partes heterogéneas, cada unas de las cuales tiene su labor o función especial. </a:t>
            </a:r>
            <a:endParaRPr b="0" lang="en-US" sz="2700" spc="-1" strike="noStrike">
              <a:solidFill>
                <a:srgbClr val="000000"/>
              </a:solidFill>
              <a:latin typeface="Calibri"/>
            </a:endParaRPr>
          </a:p>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sencial que en una ciudad haya solo una autoridad, cuya tarea consista en velar por el bien del conjunto (interés colectivo por sobre el individual), y mantener el orden y la unidad entre sus diversos componentes (seguridad y resolución de conflictos)</a:t>
            </a:r>
            <a:endParaRPr b="0" lang="en-US" sz="2700" spc="-1" strike="noStrike">
              <a:solidFill>
                <a:srgbClr val="000000"/>
              </a:solidFill>
              <a:latin typeface="Calibri"/>
            </a:endParaRPr>
          </a:p>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autoridad política es el elemento determinante de la ciudad.</a:t>
            </a:r>
            <a:endParaRPr b="0" lang="en-US" sz="2700" spc="-1" strike="noStrike">
              <a:solidFill>
                <a:srgbClr val="000000"/>
              </a:solidFill>
              <a:latin typeface="Calibri"/>
            </a:endParaRPr>
          </a:p>
        </p:txBody>
      </p:sp>
      <p:sp>
        <p:nvSpPr>
          <p:cNvPr id="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B780-31FD-4A22-9512-EEE4B89B39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a:t>
            </a:r>
            <a:endParaRPr b="0" lang="en-US" sz="4000" spc="-1" strike="noStrike">
              <a:solidFill>
                <a:srgbClr val="000000"/>
              </a:solidFill>
              <a:latin typeface="Calibri"/>
            </a:endParaRPr>
          </a:p>
        </p:txBody>
      </p:sp>
      <p:sp>
        <p:nvSpPr>
          <p:cNvPr id="81" name=""/>
          <p:cNvSpPr txBox="1"/>
          <p:nvPr/>
        </p:nvSpPr>
        <p:spPr>
          <a:xfrm>
            <a:off x="457200" y="836280"/>
            <a:ext cx="8229600" cy="5289480"/>
          </a:xfrm>
          <a:prstGeom prst="rect">
            <a:avLst/>
          </a:prstGeom>
          <a:noFill/>
          <a:ln w="0">
            <a:noFill/>
          </a:ln>
        </p:spPr>
        <p:txBody>
          <a:bodyPr anchor="t">
            <a:normAutofit fontScale="90000"/>
          </a:bodyPr>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a ciudad sin régimen es como un cuerpo sin alma.</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i la ciudad es natural, la autoridad política, indispensable para ella, también es natural.</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autoridad política constituye el gobierno de hombres libres sobre hombres libres, y tiene como objetivo el bien de todos los ciudadanos.</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 más que la suma de las partes, y su fin general es más que la suma de los intereses particulares de sus miembros.</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 anterior al individuo.</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or encima y más allá de la supervivencia, la ciudad tiene como propósito la promoción de la vida buena o virtud entre sus ciudadanos.</a:t>
            </a:r>
            <a:endParaRPr b="0" lang="en-US" sz="2700" spc="-1" strike="noStrike">
              <a:solidFill>
                <a:srgbClr val="000000"/>
              </a:solidFill>
              <a:latin typeface="Calibri"/>
            </a:endParaRPr>
          </a:p>
        </p:txBody>
      </p:sp>
      <p:sp>
        <p:nvSpPr>
          <p:cNvPr id="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5485-AA92-444A-8DB0-772723D40A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ien común</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2000"/>
          </a:bodyPr>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fin de la ciudad adopta el carácter de un bien común, es decir, de un bien que es compartido por cada ciudadano de una ciudad.</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bien común de la ciudad es, en sí mismo, el bien propio, aunque ello no significa el bien privado del ciudadano individual.</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mo bien propio, es objeto de una inclinación más poderosa que aquella que le impele al ciudadano a buscar su bien privado.</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caso de conflicto entre el bien común y el bien privado, el primero toma precedencia natural sobre el último.</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C95E-1E3B-4F95-8A6F-E8AA299F5D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ien comú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bien común y el fin de la autoridad política es, en primera instancia, la paz o la armonía de las diferentes partes que se combinan para integrar la ciudad.</a:t>
            </a:r>
            <a:endParaRPr b="0" lang="en-US" sz="2700" spc="-1" strike="noStrike">
              <a:solidFill>
                <a:srgbClr val="000000"/>
              </a:solidFill>
              <a:latin typeface="Calibri"/>
            </a:endParaRPr>
          </a:p>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xiste cuando cada parte se adapta al todo y funciona en él con razonable facilidad.</a:t>
            </a:r>
            <a:endParaRPr b="0" lang="en-US" sz="2700" spc="-1" strike="noStrike">
              <a:solidFill>
                <a:srgbClr val="000000"/>
              </a:solidFill>
              <a:latin typeface="Calibri"/>
            </a:endParaRPr>
          </a:p>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 unidad fundamental, junto con la capacidad de contrarrestar las fuerzas que amenazan con destruirla, sólo representa la condición mínima en que puede subsistir la ciudad.</a:t>
            </a:r>
            <a:endParaRPr b="0" lang="en-US" sz="2700" spc="-1" strike="noStrike">
              <a:solidFill>
                <a:srgbClr val="000000"/>
              </a:solidFill>
              <a:latin typeface="Calibri"/>
            </a:endParaRPr>
          </a:p>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7BBD-1362-4077-92AD-3770B0F4E0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0" name=""/>
          <p:cNvSpPr txBox="1"/>
          <p:nvPr/>
        </p:nvSpPr>
        <p:spPr>
          <a:xfrm>
            <a:off x="179280" y="765000"/>
            <a:ext cx="8785440" cy="5361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necesario que los hombres que viven en sociedad sean diligentemente gobernados por algún jefe.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todas las cosas que se ordenan a un fin, y que pueden proceder de distinta manera, es necesario un dirigente que conduzca al fin debid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hombres tienden de diversos modos al fin que se proponen, como manifiestan sus diversos afanes y acciones. Por consiguiente, necesita un dirigente que lo conduzca al fi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o los objetivos que persigue una ciudad quedan determinados, en mayor medida, por los hombres que tienen el voto decisivo en tal ciudad y, por tanto, constituyen su régime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régimen es el modo de vida de una ciudad con particular referencia al modo (forma) en que dentro de ella está distribuido el poder polític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distingue a una ciudad de otra y le confiere su específica nobleza o grandeza, es precisamente el régimen por el cual es gobernada.</a:t>
            </a:r>
            <a:endParaRPr b="0" lang="en-US" sz="2000" spc="-1" strike="noStrike">
              <a:solidFill>
                <a:srgbClr val="000000"/>
              </a:solidFill>
              <a:latin typeface="Calibri"/>
            </a:endParaRPr>
          </a:p>
        </p:txBody>
      </p:sp>
      <p:sp>
        <p:nvSpPr>
          <p:cNvPr id="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69E2-00D5-402A-8204-BE581F51B8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3" name=""/>
          <p:cNvSpPr txBox="1"/>
          <p:nvPr/>
        </p:nvSpPr>
        <p:spPr>
          <a:xfrm>
            <a:off x="179280" y="765000"/>
            <a:ext cx="8785440" cy="536112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que distingue a una ciudad de otra y le confiere su específica nobleza o grandeza, es precisamente el régimen por el cual es gobernada.</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razonable que el mejor hombre (capacidad de conocimiento y virtud) deba gobernar a los demás y que los cargos de gobierno deban ser distribuidos de acuerdo con la virtud.</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a sociedad de hombres libres es conducida por quien la rige al bien común de la sociedad, el régimen será recto y justo, cual conviene a hombres libre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ás deseable, tanto por motivos de unidad como de la nobleza del fin al que está dedicado, es la monarquía o el gobierno incondicional de solo un hombre sabio, con vistas a la virtud.</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217A-3BBC-4CF2-8A16-F0804D03CB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6" name=""/>
          <p:cNvSpPr txBox="1"/>
          <p:nvPr/>
        </p:nvSpPr>
        <p:spPr>
          <a:xfrm>
            <a:off x="179280" y="765000"/>
            <a:ext cx="8507520" cy="5361120"/>
          </a:xfrm>
          <a:prstGeom prst="rect">
            <a:avLst/>
          </a:prstGeom>
          <a:noFill/>
          <a:ln w="0">
            <a:noFill/>
          </a:ln>
        </p:spPr>
        <p:txBody>
          <a:bodyPr anchor="t">
            <a:normAutofit fontScale="99000"/>
          </a:bodyPr>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teóricamente la monarquía absoluta es el mejor de los regímenes justos, también es el que entraña los mayores peligros.</a:t>
            </a:r>
            <a:endParaRPr b="0" lang="en-US" sz="2600" spc="-1" strike="noStrike">
              <a:solidFill>
                <a:srgbClr val="000000"/>
              </a:solidFill>
              <a:latin typeface="Calibri"/>
            </a:endParaRPr>
          </a:p>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l régimen se ordena, no al bien común de la sociedad, sino al bien privado del regente, será un régimen injusto y perverso.</a:t>
            </a:r>
            <a:endParaRPr b="0" lang="en-US" sz="2600" spc="-1" strike="noStrike">
              <a:solidFill>
                <a:srgbClr val="000000"/>
              </a:solidFill>
              <a:latin typeface="Calibri"/>
            </a:endParaRPr>
          </a:p>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los vastos poderes de que se está investido el rey, a menos que sea un hombre insólitamente virtuoso, puede corromperse y su gobierno degenerar con facilidad en tiranía (palabra derivada de “fortaleza”, en razón de que oprime por la fuerza, no gobierna con justicia), el cual es el peor de todos los gobiernos, dado que por su naturaleza misma, es el que más se aleja del bien común.</a:t>
            </a:r>
            <a:endParaRPr b="0" lang="en-US" sz="2600" spc="-1" strike="noStrike">
              <a:solidFill>
                <a:srgbClr val="000000"/>
              </a:solidFill>
              <a:latin typeface="Calibri"/>
            </a:endParaRPr>
          </a:p>
        </p:txBody>
      </p:sp>
      <p:sp>
        <p:nvSpPr>
          <p:cNvPr id="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33CD-CA08-4592-9999-84C1C934F2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9" name=""/>
          <p:cNvSpPr txBox="1"/>
          <p:nvPr/>
        </p:nvSpPr>
        <p:spPr>
          <a:xfrm>
            <a:off x="457200" y="765000"/>
            <a:ext cx="8229600" cy="53611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 el régimen injusto está en manos, no de uno, sino de varios, aunque pocos, recibe el nombre de oligarquía, es decir, principado de unos pocos, que oprimen al pueblo por el lucro de riquezas, distinguiéndose del tirano sólo por la plural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 el régimen injusto es ejercido por muchos, se llama democracia, es decir, principado del pueblo, esto es, cuando la masa plebeya oprime a los ricos por la fuerza numérica de la multitud, en cuyo caso todo el pueblo viene a ser un tirano.</a:t>
            </a:r>
            <a:endParaRPr b="0" lang="en-US" sz="2800" spc="-1" strike="noStrike">
              <a:solidFill>
                <a:srgbClr val="000000"/>
              </a:solidFill>
              <a:latin typeface="Calibri"/>
            </a:endParaRPr>
          </a:p>
        </p:txBody>
      </p:sp>
      <p:sp>
        <p:nvSpPr>
          <p:cNvPr id="10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C3F7-1011-4CE0-9430-0A6E874B036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21" dur="500"/>
                                        <p:tgtEl>
                                          <p:spTgt spid="9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26"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to Tomás de Aquino</a:t>
            </a:r>
            <a:endParaRPr b="0" lang="en-US" sz="4400" spc="-1" strike="noStrike">
              <a:solidFill>
                <a:srgbClr val="000000"/>
              </a:solidFill>
              <a:latin typeface="Calibri"/>
            </a:endParaRPr>
          </a:p>
        </p:txBody>
      </p:sp>
      <p:sp>
        <p:nvSpPr>
          <p:cNvPr id="46" name="2 Marcador de contenido"/>
          <p:cNvSpPr/>
          <p:nvPr/>
        </p:nvSpPr>
        <p:spPr>
          <a:xfrm>
            <a:off x="609480" y="1557360"/>
            <a:ext cx="8229600" cy="5040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lgunos aspectos relevantes:</a:t>
            </a:r>
            <a:endParaRPr b="0" lang="en-US" sz="3000" spc="-1" strike="noStrike">
              <a:solidFill>
                <a:srgbClr val="000000"/>
              </a:solidFill>
              <a:latin typeface="Arial"/>
            </a:endParaRPr>
          </a:p>
          <a:p>
            <a:pPr lvl="1" marL="1028880" indent="-571680" algn="just">
              <a:lnSpc>
                <a:spcPct val="80000"/>
              </a:lnSpc>
              <a:spcBef>
                <a:spcPts val="60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Santo Tomás y Aristóteles.</a:t>
            </a:r>
            <a:endParaRPr b="0" lang="en-US" sz="2400" spc="-1" strike="noStrike">
              <a:solidFill>
                <a:srgbClr val="000000"/>
              </a:solidFill>
              <a:latin typeface="Arial"/>
            </a:endParaRPr>
          </a:p>
          <a:p>
            <a:pPr lvl="1" marL="1028880" indent="-571680" algn="just">
              <a:lnSpc>
                <a:spcPct val="80000"/>
              </a:lnSpc>
              <a:spcBef>
                <a:spcPts val="60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Filosofía y teología.</a:t>
            </a:r>
            <a:endParaRPr b="0" lang="en-US" sz="2400" spc="-1" strike="noStrike">
              <a:solidFill>
                <a:srgbClr val="000000"/>
              </a:solidFill>
              <a:latin typeface="Arial"/>
            </a:endParaRPr>
          </a:p>
          <a:p>
            <a:pPr lvl="1" marL="1028880" indent="-571680" algn="just">
              <a:lnSpc>
                <a:spcPct val="80000"/>
              </a:lnSpc>
              <a:spcBef>
                <a:spcPts val="60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El hombre y las diferencias.</a:t>
            </a:r>
            <a:endParaRPr b="0" lang="en-US" sz="24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régimen polític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amil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égime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ley.</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F6AF-CEBB-425F-9D65-6B19ECD3DD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102" name=""/>
          <p:cNvSpPr txBox="1"/>
          <p:nvPr/>
        </p:nvSpPr>
        <p:spPr>
          <a:xfrm>
            <a:off x="394920" y="765000"/>
            <a:ext cx="8280360" cy="5361120"/>
          </a:xfrm>
          <a:prstGeom prst="rect">
            <a:avLst/>
          </a:prstGeom>
          <a:noFill/>
          <a:ln w="0">
            <a:noFill/>
          </a:ln>
        </p:spPr>
        <p:txBody>
          <a:bodyPr anchor="t">
            <a:normAutofit fontScale="94000"/>
          </a:bodyPr>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mbién hay que distinguir el régimen justo.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s administrado por muchos, tal régimen recibe el nombre común de política (república), como ocurre al dominar en la ciudad o en la provincia una multitud de guerreros.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s administrado por unos pocos, que sean virtuosos, el régimen se llama aristocracia, es decir, principado óptimo o de los mejores, que por eso reciben el nombre de grandes.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l gobierno justo está en manos de uno, éste se llama propiamente rey.</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razón de rey es que sea uno el que presida y que sea un auténtico pastor que busca el bien común de la sociedad y no sus intereses. </a:t>
            </a:r>
            <a:endParaRPr b="0" lang="en-US" sz="2600" spc="-1" strike="noStrike">
              <a:solidFill>
                <a:srgbClr val="000000"/>
              </a:solidFill>
              <a:latin typeface="Calibri"/>
            </a:endParaRPr>
          </a:p>
        </p:txBody>
      </p:sp>
      <p:sp>
        <p:nvSpPr>
          <p:cNvPr id="10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0B3A-F92B-4D3F-BAF0-0503C3F5D3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33" dur="500"/>
                                        <p:tgtEl>
                                          <p:spTgt spid="10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38" dur="500"/>
                                        <p:tgtEl>
                                          <p:spTgt spid="102">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3" dur="500"/>
                                        <p:tgtEl>
                                          <p:spTgt spid="102">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8" dur="500"/>
                                        <p:tgtEl>
                                          <p:spTgt spid="102">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3"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105" name=""/>
          <p:cNvSpPr txBox="1"/>
          <p:nvPr/>
        </p:nvSpPr>
        <p:spPr>
          <a:xfrm>
            <a:off x="394920" y="765000"/>
            <a:ext cx="8280360" cy="53611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unidad de la ciudad requiere que las pretensiones conflictivas de los diversos elementos que hay en ella sean tomados en consideración y reconciliados dentro de lo posibl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en combinarse las demandas de la sabiduría y la excelencia con las del consentimiento gene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fines concretos, el mejor régimen es el llamado régimen mixto o el régimen que mezcla, en forma armoniosa, los mejores rasgos de la monarquía, la aristocracia y la constitución (república).</a:t>
            </a:r>
            <a:endParaRPr b="0" lang="en-US" sz="2800" spc="-1" strike="noStrike">
              <a:solidFill>
                <a:srgbClr val="000000"/>
              </a:solidFill>
              <a:latin typeface="Calibri"/>
            </a:endParaRPr>
          </a:p>
        </p:txBody>
      </p:sp>
      <p:sp>
        <p:nvSpPr>
          <p:cNvPr id="1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B91F-0B11-4C53-B55C-A2A01D83799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60" dur="500"/>
                                        <p:tgtEl>
                                          <p:spTgt spid="105">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65" dur="500"/>
                                        <p:tgtEl>
                                          <p:spTgt spid="10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70"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08" name=""/>
          <p:cNvSpPr txBox="1"/>
          <p:nvPr/>
        </p:nvSpPr>
        <p:spPr>
          <a:xfrm>
            <a:off x="394920" y="765000"/>
            <a:ext cx="8280360" cy="53611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ey es una cierta regla y medida de los actos, por la cual se induce a actuar o se retrae de la acción: la ley, en efecto, se llama así en cuanto procede de “ligar”, puesto que obliga a actua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leyes son el instrumento privilegiado de la polític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medio de las leyes, el gobernante promueve la justicia y el bien moral entre los ciudadano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moral se adquiere justo por la repetición de aquellos actos que la ley prescribe, o por vivir habitualmente y educarse de acuerdo a las leyes buena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48B4-6281-4DB3-BB1B-5396206C04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77" dur="500"/>
                                        <p:tgtEl>
                                          <p:spTgt spid="108">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82" dur="500"/>
                                        <p:tgtEl>
                                          <p:spTgt spid="108">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87" dur="500"/>
                                        <p:tgtEl>
                                          <p:spTgt spid="108">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92"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11" name=""/>
          <p:cNvSpPr txBox="1"/>
          <p:nvPr/>
        </p:nvSpPr>
        <p:spPr>
          <a:xfrm>
            <a:off x="394920" y="765000"/>
            <a:ext cx="8280360" cy="53611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mportancia de la ley es que ésta adopta un carácter arquitectónico y constituye el acto más importante de la política.</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abilidad y eficacia de un régimen, o para cualquiera, es el imperio de la ley, que casi todo el tiempo se vuelve una necesidad práctica por la habitual escasez de hombres sabios y los abusos a los que está expuesto el gobierno por decret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necesario que las leyes sean promulgadas, aplicadas y, cuando sea necesario, enmendadas por los hombres.</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pocas palabras, ellas mismas son producto del régimen en que se origina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3811-52A0-48A7-B08D-B561F5212A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99" dur="500"/>
                                        <p:tgtEl>
                                          <p:spTgt spid="11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104" dur="500"/>
                                        <p:tgtEl>
                                          <p:spTgt spid="111">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109" dur="500"/>
                                        <p:tgtEl>
                                          <p:spTgt spid="11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11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14" name=""/>
          <p:cNvSpPr txBox="1"/>
          <p:nvPr/>
        </p:nvSpPr>
        <p:spPr>
          <a:xfrm>
            <a:off x="394920" y="765000"/>
            <a:ext cx="8280360" cy="53611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fin último de la vida humana es la felicidad o bienaventuran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que la ley corresponda primordialmente a lo que se ordena a la bienaventuranz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humanas son justas o injusta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ordena al bien comú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humana se establece para el común de los hombres, donde la mayor parte son hombres no perfectos en la virtu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humana no prohíbe todos los vicios, de los cuales se abstienen los hombres virtuosos, sino sólo los más graves, de los cuales es posible abstenerse a la mayor parte y, entre ellos, principalmente aquellos que van en daño de los otros, sin cuya prohibición la sociedad humana no puede permanecer. Así, la ley humana prohíbe los homicidios, los hur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906C-05F9-4506-ADAB-B168C90068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121" dur="500"/>
                                        <p:tgtEl>
                                          <p:spTgt spid="11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26" dur="500"/>
                                        <p:tgtEl>
                                          <p:spTgt spid="114">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31" dur="500"/>
                                        <p:tgtEl>
                                          <p:spTgt spid="114">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36" dur="500"/>
                                        <p:tgtEl>
                                          <p:spTgt spid="114">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41" dur="500"/>
                                        <p:tgtEl>
                                          <p:spTgt spid="114">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4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17" name=""/>
          <p:cNvSpPr txBox="1"/>
          <p:nvPr/>
        </p:nvSpPr>
        <p:spPr>
          <a:xfrm>
            <a:off x="394920" y="765000"/>
            <a:ext cx="8497800" cy="5361120"/>
          </a:xfrm>
          <a:prstGeom prst="rect">
            <a:avLst/>
          </a:prstGeom>
          <a:noFill/>
          <a:ln w="0">
            <a:noFill/>
          </a:ln>
        </p:spPr>
        <p:txBody>
          <a:bodyPr anchor="t">
            <a:normAutofit fontScale="97000"/>
          </a:bodyPr>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racterísticas del viejo institucionalismo</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egalismo</a:t>
            </a:r>
            <a:r>
              <a:rPr b="0" lang="es-CL" sz="2000" spc="-1" strike="noStrike">
                <a:solidFill>
                  <a:srgbClr val="000000"/>
                </a:solidFill>
                <a:latin typeface="Calibri"/>
              </a:rPr>
              <a:t>: esta característica se ocupa de la ley en la actividad gubernamental. La ley es elemento fundamental del ejercicio del poder. La ley constituye la estructura del sector público mismo como una herramienta fundamental del gobierno para influir sobre el comportamiento de los ciudadanos. Ocuparse de las instituciones políticas era igual a ocuparse de la legislación. Así, la ley era una institución, y tenía cierta capacidad para difundir una lógica de lo adecuado que se puede apreciar en los institucionalistas normativos.</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Estructuralismo</a:t>
            </a:r>
            <a:r>
              <a:rPr b="0" lang="es-CL" sz="2000" spc="-1" strike="noStrike">
                <a:solidFill>
                  <a:srgbClr val="000000"/>
                </a:solidFill>
                <a:latin typeface="Calibri"/>
              </a:rPr>
              <a:t>: la estructura cuenta y determina el comportamiento. Aquí se asume que si se identifican los aspectos salientes de la estructura, podría predecirse el comportamiento del sistema. El estructuralismo tendió a concentrarse en las principales características institucionales de los sistemas políticos.</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Holismo</a:t>
            </a:r>
            <a:r>
              <a:rPr b="0" lang="es-CL" sz="2000" spc="-1" strike="noStrike">
                <a:solidFill>
                  <a:srgbClr val="000000"/>
                </a:solidFill>
                <a:latin typeface="Calibri"/>
              </a:rPr>
              <a:t>: está relacionada con la comparación. Los analistas cuando elaboraban sus estudios, solían comparar sistemas íntegros en vez de examinar instituciones individuales. Se tendió a formular generalizaciones, lo que dificultó la elaboración de teorías.</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A95C-6F93-4545-8B29-C9BD97561F0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20" name=""/>
          <p:cNvSpPr txBox="1"/>
          <p:nvPr/>
        </p:nvSpPr>
        <p:spPr>
          <a:xfrm>
            <a:off x="394920" y="765000"/>
            <a:ext cx="8497800" cy="5361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racterísticas del viejo institucionalism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Historicismo</a:t>
            </a:r>
            <a:r>
              <a:rPr b="0" lang="es-CL" sz="2000" spc="-1" strike="noStrike">
                <a:solidFill>
                  <a:srgbClr val="000000"/>
                </a:solidFill>
                <a:latin typeface="Calibri"/>
              </a:rPr>
              <a:t>: el análisis de los viejos institucionalistas se caracterizaron por examinar cómo los sistemas políticos estaban insertos en su desarrollo histórico, como también en su presente cultural y socioeconómico. Además, el comportamiento individual era función de su historia colectiva y de su comprensión del significado de su política influenciada por su historia. La concepción desarrollista de la política apuntaba a las interacciones de la política  y el entorno socioeconómico. Las acciones del Estado influenciaban a la sociedad en la misma medida en que ésta moldeaba a la polític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álisis Normativo</a:t>
            </a:r>
            <a:r>
              <a:rPr b="0" lang="es-CL" sz="2000" spc="-1" strike="noStrike">
                <a:solidFill>
                  <a:srgbClr val="000000"/>
                </a:solidFill>
                <a:latin typeface="Calibri"/>
              </a:rPr>
              <a:t>: los análisis de los viejos institucionalistas tenían un fuerte elemento normativo. Éstos vinculaban sus declaraciones descriptivas acerca de la política como una preocupación por el buen gobierno.</a:t>
            </a:r>
            <a:endParaRPr b="0" lang="en-US" sz="2000" spc="-1" strike="noStrike">
              <a:solidFill>
                <a:srgbClr val="000000"/>
              </a:solidFill>
              <a:latin typeface="Calibri"/>
            </a:endParaRPr>
          </a:p>
        </p:txBody>
      </p:sp>
      <p:sp>
        <p:nvSpPr>
          <p:cNvPr id="1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3487-FFF9-4905-8315-D7F4E3F29A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 Santo Tomás de Aquino</a:t>
            </a:r>
            <a:endParaRPr b="0" lang="en-US" sz="3600" spc="-1" strike="noStrike">
              <a:solidFill>
                <a:srgbClr val="000000"/>
              </a:solidFill>
              <a:latin typeface="Calibri"/>
            </a:endParaRPr>
          </a:p>
        </p:txBody>
      </p:sp>
      <p:sp>
        <p:nvSpPr>
          <p:cNvPr id="123"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5 – 30 de agosto de 2010</a:t>
            </a:r>
            <a:endParaRPr b="0" lang="en-US" sz="2000" spc="-1" strike="noStrike">
              <a:solidFill>
                <a:srgbClr val="000000"/>
              </a:solidFill>
              <a:latin typeface="Calibri"/>
            </a:endParaRPr>
          </a:p>
        </p:txBody>
      </p:sp>
      <p:pic>
        <p:nvPicPr>
          <p:cNvPr id="124" name="Picture 5" descr="escuela de gobierno y gestión pública"/>
          <p:cNvPicPr/>
          <p:nvPr/>
        </p:nvPicPr>
        <p:blipFill>
          <a:blip r:embed="rId1"/>
          <a:stretch/>
        </p:blipFill>
        <p:spPr>
          <a:xfrm>
            <a:off x="0" y="0"/>
            <a:ext cx="2371680" cy="933480"/>
          </a:xfrm>
          <a:prstGeom prst="rect">
            <a:avLst/>
          </a:prstGeom>
          <a:ln w="0">
            <a:noFill/>
          </a:ln>
        </p:spPr>
      </p:pic>
      <p:pic>
        <p:nvPicPr>
          <p:cNvPr id="125" name="5 Imagen" descr="04 Santo Tomás.bmp"/>
          <p:cNvPicPr/>
          <p:nvPr/>
        </p:nvPicPr>
        <p:blipFill>
          <a:blip r:embed="rId2"/>
          <a:stretch/>
        </p:blipFill>
        <p:spPr>
          <a:xfrm>
            <a:off x="7462800" y="44280"/>
            <a:ext cx="1573200" cy="229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5000"/>
          </a:bodyPr>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 durante toda su vida maestro de teología. Es decir, enseñó sólo teología. Esta ciencia, según lo explica el mismo Tomás en el comienzo de la Summa que dedica a ella, comprende en su objeto todo lo que puede ser sabido.</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 que distingue al teólogo de los demás científicos es el criterio con que juzga y su intención cognoscitiva: su finalidad es conocer a Dios, y a todas las cosas en cuanto son criaturas de Dios, o en cuanto Dios es fin de su existencia.</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de Aquino se ocupa de los temas políticos en tiempos que no son de crisis. Situación que es fundamental para entender el estilo de sus escritos y el modo de tratar esos temas. Es ésta una gran diferencia que distingue su obra de la de otros filósofos políticos, como Platón, Aristóteles, San Agustín o, entre los modernos, Hobbes.</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compone sus obras en tiempos de Luis IX, el Santo, cuando Europa vivía el apogeo de la civilización feudal y de la cultura de la Cristiandad. La decadencia, que siempre está incubada en los momentos culminantes de una cultura, sólo iba a manifestar sus primeros síntomas hacia 1280, después de la muerte de Tomás. Esto significa que Tomás no encara el tema político considerado como problema universal.</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a los 49 años de edad.</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de Aquino (1225-1274) fue el segundo hijo de una familia noble italia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entra como novicio en la Orden de Predicadores en 124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uvo como maestro, durante tres años, a Alberto de Bollstädt, conocido más tarde como Alberto Magno. Se ordena sacerdote en 1251, y desde entonces su oficio es el estudio y la enseñanza, que desempeña en la Universidad de París y en la corte pontific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260B-A695-45A5-9ED5-553B29DD55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5 Imagen" descr="04b Santo Tomás.bmp"/>
          <p:cNvPicPr/>
          <p:nvPr/>
        </p:nvPicPr>
        <p:blipFill>
          <a:blip r:embed="rId1"/>
          <a:stretch/>
        </p:blipFill>
        <p:spPr>
          <a:xfrm>
            <a:off x="395280" y="692280"/>
            <a:ext cx="2448000" cy="2832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anto Tomás y Aristóteles</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to Tomás de Aquino ocupa una posición única en la historia del pensamiento político como el más ilustre de todos los aristotélicos cristianos.</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izo, más que nadie, por establecer a Aristóteles como la principal autoridad filosófica en el occidente cristiano.</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mejor manera de comprender su filosofía política es como modificación de la filosofía política aristotélica a la luz de la revelación cristiana.</a:t>
            </a:r>
            <a:endParaRPr b="0" lang="en-US" sz="3000" spc="-1" strike="noStrike">
              <a:solidFill>
                <a:srgbClr val="000000"/>
              </a:solidFill>
              <a:latin typeface="Calibri"/>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3D39-55AB-4FC8-8DB7-FC89E1A654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Filosofía y teología</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anto Tomás distingue entre los dominios de la fe y la razón o entre la filosofía y teología, cada una de las cuales es concebida como una ciencia completa e independiente.</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ilosofía procede a la luz de principios conocidos y evidentes en sí mismos, y representa la perfección del entendimiento del orden natural del universo del hombre.</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teología ofrece una explicación completa del comienzo y del fin de todas las cosas como aparecen a la luz de la revelación divina. Sus premisas se derivan de la fe y aprovechan las doctrinas filosóficas como instrumentos.</a:t>
            </a:r>
            <a:endParaRPr b="0" lang="en-US" sz="2600" spc="-1" strike="noStrike">
              <a:solidFill>
                <a:srgbClr val="000000"/>
              </a:solidFill>
              <a:latin typeface="Calibri"/>
            </a:endParaRPr>
          </a:p>
        </p:txBody>
      </p:sp>
      <p:sp>
        <p:nvSpPr>
          <p:cNvPr id="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E13E-767D-42F1-8C54-68299E62E8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Filosofía y teología</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La armonía preestablecida entre las verdades de la revelación y el conocimiento adquirido, está fundada teóricamente sobre la suposición que Dios, revelador de la verdad divina, también es autor de la naturaleza.</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Toda discrepancia entre la biblia y las enseñanzas de los filósofos puede atribuirse a la imperfección del espíritu humano, que ha interpretado mal los datos de la revelación, o bien ha errado en la búsqueda de la verdad natural.</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l alma humana es la más débil de las sustancias intelectuales.</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Todo conocimiento del hombre se origina en los sentidos y se obtiene mediante abstracción de las cosas sensible.</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96E8-5DAA-4C4C-B394-3499464DB1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hombre y las diferencia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diferencia al hombre como ser cognoscente es la “razón”, llega a la verdad, de a poco, por medio de un complejo proceso racion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or causas de diferencias individuales debidas a su naturaleza corporal, no todos los hombres poseen la misma capacidad intelectual, ni están todos igualmente bien dispuestos a alcanzar el conocimiento.</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23B5-3B28-42AA-9EA7-9D142BC8E9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l régimen político</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fundamento de la filosofía política de Santo Tomás es la noción aristotélica de naturaleza.</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ás que todos los animales, el hombre es un ser político y soci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es natural en él, no como algo dado por la naturaleza, sino como algo a lo que él se inclina por naturaleza y que es necesario para la perfección de naturaleza racion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producto más notable de la naturaleza, viene a este mundo más indefenso e inerme (desprovisto de armas) que ningún otro animal.</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1A0B-CD72-4F9C-AC09-E4A3F1268EB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l régimen político</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cambio, la naturaleza lo ha dotado con la razón, el habla y las manos, con las que logra con el tiempo cuidar de sí mismo (seguridad) y satisfacer sus necesidades según van surgiendo (trab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está más allá de la capacidad de un solo individuo obtener todo lo que necesita para manteners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depende de la ayuda que recibe de otros (cooperación).</a:t>
            </a: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2245-E999-4DEB-891D-13D51251A2D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30T19:47:05Z</dcterms:modified>
  <cp:revision>207</cp:revision>
  <dc:subject/>
  <dc:title>HISTORIA DEL PENSAMIENTO POLÍTICO</dc:title>
</cp:coreProperties>
</file>