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F82C0-7A67-4E01-8FED-8F927C265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EAF3-4680-4064-B9A1-4E527180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701A3-4001-4131-A491-40857724A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9B29D-626C-4A61-9224-D6F7EFA51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F4AB-BBF0-41C9-8129-7C0A5B0B5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63376-4D50-46C7-9276-F551446C2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7B11-8888-48C8-A8D4-23F04ECB8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0FE5-6DA0-409E-9D81-0FAF3D5B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93215-8A92-45E4-A112-A350F6F6D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AADD1-1E7C-42D2-A3DA-620F0CA9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9BE4-91AF-48AC-9B32-F5B381F0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B048-8987-4F3F-AA43-09FB13048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F4C0-45C3-4BE0-9357-4DDC1EA3805C}" type="datetime">
              <a:rPr b="0" lang="es-CL"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D62C-AF57-4836-A64E-74ED73FB699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ARISTÓTE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3 – 23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3"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ciudadano tiene que saber y poder tanto obedecer como mandar, y la virtud del ciudadano consiste precisamente en conocer el gobierno de los libres desde ambos puntos de vist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prudencia del gobernante es una virtud peculiar suya; las demás parecen ser necesariamente comunes a gobernados y gobernantes; pero en el gobernado no es virtud la prudencia, sino la opinión verdader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gobernante también sigue el canon de su perfectibilidad. La virtud o perfección de la actividad gobernante se denomina prudencia. La prudencia en el campo de los asuntos públicos, consiste en la virtud del gobernante para aplicar la recta razón en la consecución del bien público. La razón no se aplica para saber o conocer la verdad teórica, sino la opinión verdadera y ésta se refiere a aquello que es probable, y, por lo mismo, verosímil.</a:t>
            </a:r>
            <a:endParaRPr b="0" lang="en-US" sz="2400" spc="-1" strike="noStrike">
              <a:solidFill>
                <a:srgbClr val="000000"/>
              </a:solidFill>
              <a:latin typeface="Calibri"/>
            </a:endParaRPr>
          </a:p>
        </p:txBody>
      </p:sp>
      <p:sp>
        <p:nvSpPr>
          <p:cNvPr id="7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2B4B-5DC4-4D28-AB63-51E7AA50D6E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73">
                                            <p:txEl>
                                              <p:pRg st="0" end="0"/>
                                            </p:txEl>
                                          </p:spTgt>
                                        </p:tgtEl>
                                        <p:attrNameLst>
                                          <p:attrName>style.visibility</p:attrName>
                                        </p:attrNameLst>
                                      </p:cBhvr>
                                      <p:to>
                                        <p:strVal val="visible"/>
                                      </p:to>
                                    </p:set>
                                    <p:animEffect filter="wipe(down)" transition="in">
                                      <p:cBhvr additive="repl">
                                        <p:cTn id="157" dur="500"/>
                                        <p:tgtEl>
                                          <p:spTgt spid="7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73">
                                            <p:txEl>
                                              <p:pRg st="1" end="1"/>
                                            </p:txEl>
                                          </p:spTgt>
                                        </p:tgtEl>
                                        <p:attrNameLst>
                                          <p:attrName>style.visibility</p:attrName>
                                        </p:attrNameLst>
                                      </p:cBhvr>
                                      <p:to>
                                        <p:strVal val="visible"/>
                                      </p:to>
                                    </p:set>
                                    <p:animEffect filter="wipe(down)" transition="in">
                                      <p:cBhvr additive="repl">
                                        <p:cTn id="162" dur="500"/>
                                        <p:tgtEl>
                                          <p:spTgt spid="7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73">
                                            <p:txEl>
                                              <p:pRg st="2" end="2"/>
                                            </p:txEl>
                                          </p:spTgt>
                                        </p:tgtEl>
                                        <p:attrNameLst>
                                          <p:attrName>style.visibility</p:attrName>
                                        </p:attrNameLst>
                                      </p:cBhvr>
                                      <p:to>
                                        <p:strVal val="visible"/>
                                      </p:to>
                                    </p:set>
                                    <p:animEffect filter="wipe(down)" transition="in">
                                      <p:cBhvr additive="repl">
                                        <p:cTn id="167"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6"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stitución es una ordenación de todas las magistraturas, y especialmente de la suprema, y es supremo en todas partes el gobierno de la ciudad, y ese gobierno es el régim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por naturaleza un animal político y, por tanto, aun sin tener ninguna necesidad de auxilio mutuo, los hombres tienden a la convivencia, si bien es verdad que también los une la utilidad común, en la medida en que a cada uno corresponde una parte del bienestar. Este es, efectivamente, el fin princip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regímenes que se proponen el bien común son rectos desde el punto de vista de la justicia absoluta, y los que sólo tienen en cuenta el de los gobernantes son defectuosos y todos ellos desviaciones de los regímenes rectos, pues son despóticos y la ciudad es una comunidad de hombres libres.</a:t>
            </a:r>
            <a:endParaRPr b="0" lang="en-US" sz="2400" spc="-1" strike="noStrike">
              <a:solidFill>
                <a:srgbClr val="000000"/>
              </a:solidFill>
              <a:latin typeface="Calibri"/>
            </a:endParaRPr>
          </a:p>
        </p:txBody>
      </p:sp>
      <p:sp>
        <p:nvSpPr>
          <p:cNvPr id="7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A8FE-A934-4E88-BC49-1ED4D19EB7D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174" dur="500"/>
                                        <p:tgtEl>
                                          <p:spTgt spid="7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179" dur="500"/>
                                        <p:tgtEl>
                                          <p:spTgt spid="7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184"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9" name=""/>
          <p:cNvSpPr txBox="1"/>
          <p:nvPr/>
        </p:nvSpPr>
        <p:spPr>
          <a:xfrm>
            <a:off x="457200" y="1125000"/>
            <a:ext cx="822960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os gobiernos se diferencian según sus fines</a:t>
            </a:r>
            <a:r>
              <a:rPr b="0" lang="es-CL" sz="2400" spc="-1" strike="noStrike">
                <a:solidFill>
                  <a:srgbClr val="000000"/>
                </a:solidFill>
                <a:latin typeface="Calibri"/>
              </a:rPr>
              <a:t>: puesto que régimen y gobierno significan lo mismo y gobierno es el elemento soberano de las ciudades, necesariamente será soberano o un individuo, o la minoría, o la mayoría; cuando el uno o la minoría o la mayoría gobiernan en vista del bien común, esos regímenes serán necesariamente rectos, y aquellos en que se gobierne atendiendo al interés particular del uno, de los pocos o de la masa serán desviaciones; porque, o no se debe llamar ciudadanos a los miembros de una ciudad, o deben participar de sus ventajas.</a:t>
            </a:r>
            <a:endParaRPr b="0" lang="en-US" sz="2400" spc="-1" strike="noStrike">
              <a:solidFill>
                <a:srgbClr val="000000"/>
              </a:solidFill>
              <a:latin typeface="Calibri"/>
            </a:endParaRPr>
          </a:p>
        </p:txBody>
      </p:sp>
      <p:sp>
        <p:nvSpPr>
          <p:cNvPr id="8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FE79-7FE3-4207-B4FD-0D110CDF8AC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9">
                                            <p:txEl>
                                              <p:pRg st="0" end="0"/>
                                            </p:txEl>
                                          </p:spTgt>
                                        </p:tgtEl>
                                        <p:attrNameLst>
                                          <p:attrName>style.visibility</p:attrName>
                                        </p:attrNameLst>
                                      </p:cBhvr>
                                      <p:to>
                                        <p:strVal val="visible"/>
                                      </p:to>
                                    </p:set>
                                    <p:animEffect filter="wipe(down)" transition="in">
                                      <p:cBhvr additive="repl">
                                        <p:cTn id="191"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82"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égimen político (politeia) es la organización de las magistraturas en las ciudades, cómo se distribuyen, cuál es el elemento soberano y cuál es el fin de la comunidad en cada caso.</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gímenes justos: la monarquía, la aristocracia y la repúblic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gímenes desviados: la tiranía de la monarquía, la oligarquía de la aristocracia, y la democracia de la repúblic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onstitución es un ordenamiento de las posiciones de poder. Estas posiciones se distribuyen según el criterio establecido por cada régimen. Así, en la oligarquía se privilegia a los ricos, en la democracia a los pobres y en el régimen llamado politeia se sigue un principio distributivo de igual libertad, a partir del cual pobres y ricos participan equitativamente de las posiciones y funciones de poder.</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leyes son independientes de las características del régimen, y según ellas deben mandar los gobernantes y vigilar a los transgresores.</a:t>
            </a:r>
            <a:endParaRPr b="0" lang="en-US" sz="2200" spc="-1" strike="noStrike">
              <a:solidFill>
                <a:srgbClr val="000000"/>
              </a:solidFill>
              <a:latin typeface="Calibri"/>
            </a:endParaRPr>
          </a:p>
        </p:txBody>
      </p:sp>
      <p:sp>
        <p:nvSpPr>
          <p:cNvPr id="8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D500-B5D3-4CB6-B182-D9195107547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198" dur="500"/>
                                        <p:tgtEl>
                                          <p:spTgt spid="8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203" dur="500"/>
                                        <p:tgtEl>
                                          <p:spTgt spid="82">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08" dur="500"/>
                                        <p:tgtEl>
                                          <p:spTgt spid="82">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13" dur="500"/>
                                        <p:tgtEl>
                                          <p:spTgt spid="8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18"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85" name=""/>
          <p:cNvSpPr txBox="1"/>
          <p:nvPr/>
        </p:nvSpPr>
        <p:spPr>
          <a:xfrm>
            <a:off x="179280" y="1125000"/>
            <a:ext cx="8507520" cy="55436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usa de que existan diversos regímenes es que toda ciudad tiene varias partes: que responden a diferencias de riqueza (ricos, condición intermedia y pobres), los que tienen armas y los que no (protección), existen diferencias intra clases (pueblo: obreros, comerciantes, campesino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sible que los mismos ciudadanos sean a la vez pobres y ricos. Por eso, éstos parecen constituir principalmente las partes de la ciudad: los ricos y los pobres. Además, como generalmente los ricos son pocos y los pobres muchos, estas partes de la ciudad aparecen como contrarias, de modo que la preponderancia de una u otra constituye los regímenes, y éstos parecen ser dos: la democracia y la oligarquía.</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las diferencias fundadas en la riqueza, existen las que se fundan en el linaje o en la virtud.</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Calibri"/>
              </a:rPr>
              <a:t>Democracia y oligarquía</a:t>
            </a:r>
            <a:r>
              <a:rPr b="0" lang="es-CL" sz="2000" spc="-1" strike="noStrike">
                <a:solidFill>
                  <a:srgbClr val="000000"/>
                </a:solidFill>
                <a:latin typeface="Calibri"/>
              </a:rPr>
              <a:t>: las formas oligárquicas son las más estridentes y despóticas; las democráticas, las más lánguidas y blanda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y democracia cuando son los libres los que tienen la soberanía, y oligarquía cuando la tienen los ricos; pero da la coincidencia de que los primeros constituyen la mayoría y los segundos son pocos, pues libres son muchos, pero ricos poco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EA9B-3A35-4118-ABDB-F066C845AAE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225" dur="500"/>
                                        <p:tgtEl>
                                          <p:spTgt spid="8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wipe(down)" transition="in">
                                      <p:cBhvr additive="repl">
                                        <p:cTn id="230" dur="500"/>
                                        <p:tgtEl>
                                          <p:spTgt spid="8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85">
                                            <p:txEl>
                                              <p:pRg st="2" end="2"/>
                                            </p:txEl>
                                          </p:spTgt>
                                        </p:tgtEl>
                                        <p:attrNameLst>
                                          <p:attrName>style.visibility</p:attrName>
                                        </p:attrNameLst>
                                      </p:cBhvr>
                                      <p:to>
                                        <p:strVal val="visible"/>
                                      </p:to>
                                    </p:set>
                                    <p:animEffect filter="wipe(down)" transition="in">
                                      <p:cBhvr additive="repl">
                                        <p:cTn id="235" dur="500"/>
                                        <p:tgtEl>
                                          <p:spTgt spid="8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85">
                                            <p:txEl>
                                              <p:pRg st="3" end="3"/>
                                            </p:txEl>
                                          </p:spTgt>
                                        </p:tgtEl>
                                        <p:attrNameLst>
                                          <p:attrName>style.visibility</p:attrName>
                                        </p:attrNameLst>
                                      </p:cBhvr>
                                      <p:to>
                                        <p:strVal val="visible"/>
                                      </p:to>
                                    </p:set>
                                    <p:animEffect filter="wipe(down)" transition="in">
                                      <p:cBhvr additive="repl">
                                        <p:cTn id="240" dur="500"/>
                                        <p:tgtEl>
                                          <p:spTgt spid="85">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85">
                                            <p:txEl>
                                              <p:pRg st="4" end="4"/>
                                            </p:txEl>
                                          </p:spTgt>
                                        </p:tgtEl>
                                        <p:attrNameLst>
                                          <p:attrName>style.visibility</p:attrName>
                                        </p:attrNameLst>
                                      </p:cBhvr>
                                      <p:to>
                                        <p:strVal val="visible"/>
                                      </p:to>
                                    </p:set>
                                    <p:animEffect filter="wipe(down)" transition="in">
                                      <p:cBhvr additive="repl">
                                        <p:cTn id="24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ipos de Democracia</a:t>
            </a:r>
            <a:endParaRPr b="0" lang="en-US" sz="4000" spc="-1" strike="noStrike">
              <a:solidFill>
                <a:srgbClr val="000000"/>
              </a:solidFill>
              <a:latin typeface="Calibri"/>
            </a:endParaRPr>
          </a:p>
        </p:txBody>
      </p:sp>
      <p:sp>
        <p:nvSpPr>
          <p:cNvPr id="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A095-B95C-490B-8C83-6540B42C4D8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89" name=""/>
          <p:cNvGraphicFramePr/>
          <p:nvPr/>
        </p:nvGraphicFramePr>
        <p:xfrm>
          <a:off x="1523880" y="1397160"/>
          <a:ext cx="6096240" cy="3581280"/>
        </p:xfrm>
        <a:graphic>
          <a:graphicData uri="http://schemas.openxmlformats.org/drawingml/2006/table">
            <a:tbl>
              <a:tblPr/>
              <a:tblGrid>
                <a:gridCol w="6096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fundada en la igualdad completa de ricos y pob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censitaria, con requisitos moderados de bie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basada en pertenencia estricta al linaje de los libres, como requisito para acceder a la ciudadanía. Supremacía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abierta a todos los ciudadanos. Supremacía de la ley.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extrema, donde la mayoría se impone arbitrariamente sobre la minoría. No hay bien común, ni régimen leg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0" name="7 CuadroTexto"/>
          <p:cNvSpPr/>
          <p:nvPr/>
        </p:nvSpPr>
        <p:spPr>
          <a:xfrm>
            <a:off x="324000" y="5300640"/>
            <a:ext cx="842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 las leyes no tienen autoridad no hay república. La ley debe estar por encima de todo, y los magistrados y la república deben decidir únicamente de los casos particular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ipos de Oligarquía</a:t>
            </a:r>
            <a:endParaRPr b="0" lang="en-US" sz="4000" spc="-1" strike="noStrike">
              <a:solidFill>
                <a:srgbClr val="000000"/>
              </a:solidFill>
              <a:latin typeface="Calibri"/>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714D-1029-4F28-9052-CC04FBECF7F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93" name=""/>
          <p:cNvGraphicFramePr/>
          <p:nvPr/>
        </p:nvGraphicFramePr>
        <p:xfrm>
          <a:off x="1523880" y="1397160"/>
          <a:ext cx="6096240" cy="4302000"/>
        </p:xfrm>
        <a:graphic>
          <a:graphicData uri="http://schemas.openxmlformats.org/drawingml/2006/table">
            <a:tbl>
              <a:tblPr/>
              <a:tblGrid>
                <a:gridCol w="6096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fundada en un censo elevado. Muchos ricos y fortuna intermedia. Supremacía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enso elevado y elección de autoridades por cooptación. Ricos con grandes fortunas. Participación restringida de los no-ricos. Supremacía de la ley orientada por la minorí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argos de autoridad hereditarios. Existencia de pequeñas minorías de ricos con grandes fortunas. No hay participación fuera de este círculo y las posiciones de poder son hereditari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argos hereditarios y ausencia de ley. Existencia de una ultra minoría con fortunas gigantescas. No hay imperio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ambios de régimen</a:t>
            </a:r>
            <a:endParaRPr b="0" lang="en-US" sz="3200" spc="-1" strike="noStrike">
              <a:solidFill>
                <a:srgbClr val="000000"/>
              </a:solidFill>
              <a:latin typeface="Calibri"/>
            </a:endParaRPr>
          </a:p>
        </p:txBody>
      </p:sp>
      <p:sp>
        <p:nvSpPr>
          <p:cNvPr id="95"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ocultarse que muchas veces el régimen legal no es democrático pero las costumbres y la formación hacen que se gobierne democráticamente, y a la inversa, en otros casos el régimen legal es democrático, pero por las costumbres y la formación se administra más bien como una oligarq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ocurre principalmente después de los cambios de régimen, porque los ciudadanos no cambian inmediatamente, sino que se contenta al principio con pequeñas exigencias recíprocas, de modo que las leyes siguen siendo las antes existentes, pero ejercen el poder los que han hecho la revol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ser aplicable el precepto anterior a la transición post dictadura milit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D40C-F20C-4774-A078-B9C92304837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98" name=""/>
          <p:cNvSpPr txBox="1"/>
          <p:nvPr/>
        </p:nvSpPr>
        <p:spPr>
          <a:xfrm>
            <a:off x="179280" y="1125000"/>
            <a:ext cx="8507520" cy="55436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Calibri"/>
              </a:rPr>
              <a:t>Aristocracia</a:t>
            </a:r>
            <a:r>
              <a:rPr b="0" lang="es-CL" sz="2200" spc="-1" strike="noStrike">
                <a:solidFill>
                  <a:srgbClr val="000000"/>
                </a:solidFill>
                <a:latin typeface="Calibri"/>
              </a:rPr>
              <a:t>: en ellos las magistraturas se eligen no sólo de acuerdo con la riqueza, sino también con la virtud.</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ristocracia parece consistir especialmente en la distribución de los honores de acuerdo con la virtud, pues el principio de la aristocracia es la virtud, el de la oligarquía la riqueza y el de la democracia la libertad. La opinión de la mayoría prevalece en todas ellas, ya que tanto en una oligarquía, como en una aristocracia, como en la democracia, tiene fuerza de ley lo que opina la mayor parte de los que participan del gobierno.</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Calibri"/>
              </a:rPr>
              <a:t>República</a:t>
            </a:r>
            <a:r>
              <a:rPr b="0" lang="es-CL" sz="2200" spc="-1" strike="noStrike">
                <a:solidFill>
                  <a:srgbClr val="000000"/>
                </a:solidFill>
                <a:latin typeface="Calibri"/>
              </a:rPr>
              <a:t>: es, en términos generales, una mezcla de oligarquía y democracia. Las que se inclinan a la democracia suelen llamarse repúblicas, y las que tienden más bien a la oligarquía, aristocracias, porque la educación y la nobleza suelen acompañar de preferencia a los más rico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demás, los ricos parecen tener aquello cuya carencia hace que los delincuentes delincan; por eso los llamamos selectos y distinguidos; y lo mismo que la aristocracia concede la supremacía a los mejores ciudadanos, también se dice que las oligarquías están constituidas principalmente por los selecto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E9FB-3D56-47CF-AEFB-25860D79ABE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252" dur="500"/>
                                        <p:tgtEl>
                                          <p:spTgt spid="98">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257" dur="500"/>
                                        <p:tgtEl>
                                          <p:spTgt spid="98">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262" dur="500"/>
                                        <p:tgtEl>
                                          <p:spTgt spid="98">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267"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101" name=""/>
          <p:cNvSpPr txBox="1"/>
          <p:nvPr/>
        </p:nvSpPr>
        <p:spPr>
          <a:xfrm>
            <a:off x="179280" y="1125000"/>
            <a:ext cx="8507520" cy="554364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ejor régimen político: la constitución media.</a:t>
            </a:r>
            <a:endParaRPr b="0" lang="en-US" sz="22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toda ciudad hay tres elementos: los muy ricos, los muy pobres, y los intermedios entre unos y otros.</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uanto se trata de la posesión de los bienes de la fortuna, la intermedia es la mejor de todas, porque es la que más fácilmente obedece a la razón.</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clase media ni apetece demasiado los cargos ni los rehúye.</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ricos no reconocen autoridad.</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obres sólo saben obedecer.</a:t>
            </a:r>
            <a:endParaRPr b="0" lang="en-US" sz="19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omunidad implica la amistad. La ciudad debe estar constituida de elementos iguales y semejantes en el mayor grado posible, y esta condición se da especialmente en los elementos medios de modo que una ciudad así será necesariamente la mejor gobernad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ciudadanos medios son los más estables en las ciudades, porque ni codician lo ajeno como los pobres, ni otros desean lo suyo, como los pobres lo que tienen los ricos, y al no ser objeto de conspiraciones ni conspirar, viven en seguridad.</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85F4-1EEA-4E60-9ABB-AB390B4A799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 calcmode="lin" valueType="num">
                                      <p:cBhvr additive="base">
                                        <p:cTn id="274"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01">
                                            <p:txEl>
                                              <p:pRg st="1" end="1"/>
                                            </p:txEl>
                                          </p:spTgt>
                                        </p:tgtEl>
                                        <p:attrNameLst>
                                          <p:attrName>style.visibility</p:attrName>
                                        </p:attrNameLst>
                                      </p:cBhvr>
                                      <p:to>
                                        <p:strVal val="visible"/>
                                      </p:to>
                                    </p:set>
                                    <p:anim calcmode="lin" valueType="num">
                                      <p:cBhvr additive="base">
                                        <p:cTn id="278"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01">
                                            <p:txEl>
                                              <p:pRg st="1" end="1"/>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101">
                                            <p:txEl>
                                              <p:pRg st="2" end="2"/>
                                            </p:txEl>
                                          </p:spTgt>
                                        </p:tgtEl>
                                        <p:attrNameLst>
                                          <p:attrName>style.visibility</p:attrName>
                                        </p:attrNameLst>
                                      </p:cBhvr>
                                      <p:to>
                                        <p:strVal val="visible"/>
                                      </p:to>
                                    </p:set>
                                    <p:anim calcmode="lin" valueType="num">
                                      <p:cBhvr additive="base">
                                        <p:cTn id="282"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01">
                                            <p:txEl>
                                              <p:pRg st="3" end="3"/>
                                            </p:txEl>
                                          </p:spTgt>
                                        </p:tgtEl>
                                        <p:attrNameLst>
                                          <p:attrName>style.visibility</p:attrName>
                                        </p:attrNameLst>
                                      </p:cBhvr>
                                      <p:to>
                                        <p:strVal val="visible"/>
                                      </p:to>
                                    </p:set>
                                    <p:anim calcmode="lin" valueType="num">
                                      <p:cBhvr additive="base">
                                        <p:cTn id="286"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01">
                                            <p:txEl>
                                              <p:pRg st="4" end="4"/>
                                            </p:txEl>
                                          </p:spTgt>
                                        </p:tgtEl>
                                        <p:attrNameLst>
                                          <p:attrName>style.visibility</p:attrName>
                                        </p:attrNameLst>
                                      </p:cBhvr>
                                      <p:to>
                                        <p:strVal val="visible"/>
                                      </p:to>
                                    </p:set>
                                    <p:anim calcmode="lin" valueType="num">
                                      <p:cBhvr additive="base">
                                        <p:cTn id="290"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01">
                                            <p:txEl>
                                              <p:pRg st="5" end="5"/>
                                            </p:txEl>
                                          </p:spTgt>
                                        </p:tgtEl>
                                        <p:attrNameLst>
                                          <p:attrName>style.visibility</p:attrName>
                                        </p:attrNameLst>
                                      </p:cBhvr>
                                      <p:to>
                                        <p:strVal val="visible"/>
                                      </p:to>
                                    </p:set>
                                    <p:anim calcmode="lin" valueType="num">
                                      <p:cBhvr additive="base">
                                        <p:cTn id="294"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01">
                                            <p:txEl>
                                              <p:pRg st="6" end="6"/>
                                            </p:txEl>
                                          </p:spTgt>
                                        </p:tgtEl>
                                        <p:attrNameLst>
                                          <p:attrName>style.visibility</p:attrName>
                                        </p:attrNameLst>
                                      </p:cBhvr>
                                      <p:to>
                                        <p:strVal val="visible"/>
                                      </p:to>
                                    </p:set>
                                    <p:anim calcmode="lin" valueType="num">
                                      <p:cBhvr additive="base">
                                        <p:cTn id="300"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01">
                                            <p:txEl>
                                              <p:pRg st="7" end="7"/>
                                            </p:txEl>
                                          </p:spTgt>
                                        </p:tgtEl>
                                        <p:attrNameLst>
                                          <p:attrName>style.visibility</p:attrName>
                                        </p:attrNameLst>
                                      </p:cBhvr>
                                      <p:to>
                                        <p:strVal val="visible"/>
                                      </p:to>
                                    </p:set>
                                    <p:anim calcmode="lin" valueType="num">
                                      <p:cBhvr additive="base">
                                        <p:cTn id="306"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l naturalismo en Aristóteles</a:t>
            </a:r>
            <a:endParaRPr b="0" lang="en-US" sz="4400" spc="-1" strike="noStrike">
              <a:solidFill>
                <a:srgbClr val="000000"/>
              </a:solidFill>
              <a:latin typeface="Calibri"/>
            </a:endParaRPr>
          </a:p>
        </p:txBody>
      </p:sp>
      <p:sp>
        <p:nvSpPr>
          <p:cNvPr id="45"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iudad y la vida humana superior.</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ole social del hombre.</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mejor régimen y la felicidad.</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mbio político y revolucione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B861-B4FD-424B-854A-6F0CC339BB6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104"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3821-9030-4C47-B48A-DD4C2C70E56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 name="5 CuadroTexto"/>
          <p:cNvSpPr/>
          <p:nvPr/>
        </p:nvSpPr>
        <p:spPr>
          <a:xfrm>
            <a:off x="179280" y="765000"/>
            <a:ext cx="8785440" cy="5277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jor comunidad política es la constituida por el elemento intermedio, y que están bien gobernadas las ciudades en las cuales este elemento es muy numeroso y más fuerte que los otros dos juntos, o por lo menos que cada uno de ellos, pues su adición </a:t>
            </a:r>
            <a:r>
              <a:rPr b="0" i="1" lang="es-CL" sz="2000" spc="-1" strike="noStrike">
                <a:solidFill>
                  <a:srgbClr val="000000"/>
                </a:solidFill>
                <a:latin typeface="Calibri"/>
              </a:rPr>
              <a:t>produce el equilibrio e impide los excesos contrarios</a:t>
            </a:r>
            <a:r>
              <a:rPr b="0" lang="es-CL" sz="2000" spc="-1" strike="noStrike">
                <a:solidFill>
                  <a:srgbClr val="000000"/>
                </a:solidFill>
                <a:latin typeface="Calibri"/>
              </a:rPr>
              <a:t>.</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régimen intermedio es el mejor, es evidente, puesto que es el único </a:t>
            </a:r>
            <a:r>
              <a:rPr b="0" i="1" lang="es-CL" sz="2000" spc="-1" strike="noStrike">
                <a:solidFill>
                  <a:srgbClr val="000000"/>
                </a:solidFill>
                <a:latin typeface="Calibri"/>
              </a:rPr>
              <a:t>libre de sediciones</a:t>
            </a:r>
            <a:r>
              <a:rPr b="0" lang="es-CL" sz="2000" spc="-1" strike="noStrike">
                <a:solidFill>
                  <a:srgbClr val="000000"/>
                </a:solidFill>
                <a:latin typeface="Calibri"/>
              </a:rPr>
              <a:t>. En efecto, donde el elemento intermedio es numeroso es donde menos sediciones y disensiones civiles se producen, y las grandes ciudades están más libres de sediciones por la misma razón, porque la clase media es numerosa.</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democracias son también más firmes y duraderas que las oligarquías por las clases medias, que son más numerosas y participan más de los honores en las democracias que en las oligarquías, pues cuando aquéllas faltan y los pobres alcanzan un número excesivo, surgen los fracasos y pronto desaparecen. </a:t>
            </a:r>
            <a:r>
              <a:rPr b="0" i="1" lang="es-CL" sz="2000" spc="-1" strike="noStrike">
                <a:solidFill>
                  <a:srgbClr val="000000"/>
                </a:solidFill>
                <a:latin typeface="Calibri"/>
              </a:rPr>
              <a:t>Debe considerarse como prueba de esto el hecho de que los mejores legisladores han sido ciudadanos medi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14" dur="500"/>
                                        <p:tgtEl>
                                          <p:spTgt spid="106">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19" dur="500"/>
                                        <p:tgtEl>
                                          <p:spTgt spid="10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24"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mejor régimen y la felicidad</a:t>
            </a:r>
            <a:endParaRPr b="0" lang="en-US" sz="3600" spc="-1" strike="noStrike">
              <a:solidFill>
                <a:srgbClr val="000000"/>
              </a:solidFill>
              <a:latin typeface="Calibri"/>
            </a:endParaRPr>
          </a:p>
        </p:txBody>
      </p:sp>
      <p:sp>
        <p:nvSpPr>
          <p:cNvPr id="108"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6AE7-382D-4282-B488-02AEB0728C5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 name="5 CuadroTexto"/>
          <p:cNvSpPr/>
          <p:nvPr/>
        </p:nvSpPr>
        <p:spPr>
          <a:xfrm>
            <a:off x="179280" y="765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participa de la felicidad en la misma medida que de la virtud y de la prudencia, y actúa de acuerdo con ella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iudad mejor es a la vez feliz y próspera. Es imposible que les vaya bien a los que no obran bien, y no hay obra buena ni del individuo ni de la ciudad fuera de la virtud y la prudencia.</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mejor, tanto para el individuo aislado como en común para los ciudades, es la que va acompañada de una virtud suficientemente dotada de recursos para participar en acciones virtuosa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de cada uno de los hombres es la misma que la de la ciudad.</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vidente que el régimen mejor será forzosamente aquel cuya organización permita a cualquier ciudadano prosperar más y llevar una vida feliz.</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tipo de Estado sería el del precepto anter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331" dur="500"/>
                                        <p:tgtEl>
                                          <p:spTgt spid="110">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336" dur="500"/>
                                        <p:tgtEl>
                                          <p:spTgt spid="110">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341" dur="500"/>
                                        <p:tgtEl>
                                          <p:spTgt spid="110">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346" dur="500"/>
                                        <p:tgtEl>
                                          <p:spTgt spid="11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351" dur="500"/>
                                        <p:tgtEl>
                                          <p:spTgt spid="110">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35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mejor régimen y la felicidad</a:t>
            </a:r>
            <a:endParaRPr b="0" lang="en-US" sz="3600" spc="-1" strike="noStrike">
              <a:solidFill>
                <a:srgbClr val="000000"/>
              </a:solidFill>
              <a:latin typeface="Calibri"/>
            </a:endParaRPr>
          </a:p>
        </p:txBody>
      </p:sp>
      <p:sp>
        <p:nvSpPr>
          <p:cNvPr id="112"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CD6E-736D-42EB-815D-A81584DB29C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 name="5 CuadroTexto"/>
          <p:cNvSpPr/>
          <p:nvPr/>
        </p:nvSpPr>
        <p:spPr>
          <a:xfrm>
            <a:off x="179280" y="765000"/>
            <a:ext cx="8785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vidente que una ciudad sola puede ser feliz por sí misma si está bien gobernada, siempre que sea posible que una ciudad se administre por sí misma sirviéndose de leyes buenas, y en ese caso la organización de su régimen político no estará orientada hacia la guerra ni hacia la dominación de los enemigo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mpre que un individuo sea mejor en virtud y en capacidad para realizar las mejores acciones, será bueno seguirle y justo obedecerle; pero debe tener no sólo virtud, sino capacidad de ejecución.</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emos de afirmar que la felicidad consiste en la prosperidad, la vida práctica será la mejor, tanto en común para la ciudad como para el individuo.</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éxito es un fin, luego también es una actividad.</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363" dur="500"/>
                                        <p:tgtEl>
                                          <p:spTgt spid="114">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368" dur="500"/>
                                        <p:tgtEl>
                                          <p:spTgt spid="114">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373" dur="500"/>
                                        <p:tgtEl>
                                          <p:spTgt spid="114">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378"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Cambio político y revoluciones</a:t>
            </a:r>
            <a:endParaRPr b="0" lang="en-US" sz="3600" spc="-1" strike="noStrike">
              <a:solidFill>
                <a:srgbClr val="000000"/>
              </a:solidFill>
              <a:latin typeface="Calibri"/>
            </a:endParaRPr>
          </a:p>
        </p:txBody>
      </p:sp>
      <p:sp>
        <p:nvSpPr>
          <p:cNvPr id="116"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6E7C-BCFD-4E26-9FC1-F9C2C88B527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 name="5 CuadroTexto"/>
          <p:cNvSpPr/>
          <p:nvPr/>
        </p:nvSpPr>
        <p:spPr>
          <a:xfrm>
            <a:off x="179280" y="888840"/>
            <a:ext cx="8785440" cy="496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uando unos u otros no participan del poder según sus ideas preconcebidas, se sublevan, se sublevarían con más justicia que todos los demás, pero son los que menos suelen hacerlo.</a:t>
            </a:r>
            <a:endParaRPr b="0" lang="en-US" sz="26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ormas en que se producen los cambios:</a:t>
            </a:r>
            <a:endParaRPr b="0" lang="en-US" sz="26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ectan al régimen (sustituir un régimen por otro).</a:t>
            </a:r>
            <a:endParaRPr b="0" lang="en-US" sz="20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iembros del régimen mismo.</a:t>
            </a:r>
            <a:endParaRPr b="0" lang="en-US" sz="20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cuestiones de grado.</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ublevaciones tienen siempre por causa la desigualdad, pero no si los desiguales tienen lo que les corresponde, y en general los que se sublevan lo hacen buscando la igualdad. </a:t>
            </a:r>
            <a:endParaRPr b="0" lang="en-US" sz="26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gualdad es de dos clases: igualdad numérica (en cantidad y tamaño) e igualdad según los merecimientos (proporcion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385" dur="500"/>
                                        <p:tgtEl>
                                          <p:spTgt spid="11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390" dur="500"/>
                                        <p:tgtEl>
                                          <p:spTgt spid="118">
                                            <p:txEl>
                                              <p:pRg st="1" end="1"/>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393" dur="500"/>
                                        <p:tgtEl>
                                          <p:spTgt spid="118">
                                            <p:txEl>
                                              <p:pRg st="2" end="2"/>
                                            </p:txEl>
                                          </p:spTgt>
                                        </p:tgtEl>
                                      </p:cBhvr>
                                    </p:animEffect>
                                  </p:childTnLst>
                                </p:cTn>
                              </p:par>
                              <p:par>
                                <p:cTn id="394" nodeType="withEffect" fill="hold" presetClass="entr" presetID="22" presetSubtype="4">
                                  <p:stCondLst>
                                    <p:cond delay="0"/>
                                  </p:stCondLst>
                                  <p:childTnLst>
                                    <p:set>
                                      <p:cBhvr>
                                        <p:cTn id="395"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396" dur="500"/>
                                        <p:tgtEl>
                                          <p:spTgt spid="118">
                                            <p:txEl>
                                              <p:pRg st="3" end="3"/>
                                            </p:txEl>
                                          </p:spTgt>
                                        </p:tgtEl>
                                      </p:cBhvr>
                                    </p:animEffect>
                                  </p:childTnLst>
                                </p:cTn>
                              </p:par>
                              <p:par>
                                <p:cTn id="397" nodeType="withEffect" fill="hold" presetClass="entr" presetID="22" presetSubtype="4">
                                  <p:stCondLst>
                                    <p:cond delay="0"/>
                                  </p:stCondLst>
                                  <p:childTnLst>
                                    <p:set>
                                      <p:cBhvr>
                                        <p:cTn id="398"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399" dur="500"/>
                                        <p:tgtEl>
                                          <p:spTgt spid="118">
                                            <p:txEl>
                                              <p:pRg st="4" end="4"/>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404" dur="500"/>
                                        <p:tgtEl>
                                          <p:spTgt spid="118">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18">
                                            <p:txEl>
                                              <p:pRg st="6" end="6"/>
                                            </p:txEl>
                                          </p:spTgt>
                                        </p:tgtEl>
                                        <p:attrNameLst>
                                          <p:attrName>style.visibility</p:attrName>
                                        </p:attrNameLst>
                                      </p:cBhvr>
                                      <p:to>
                                        <p:strVal val="visible"/>
                                      </p:to>
                                    </p:set>
                                    <p:animEffect filter="wipe(down)" transition="in">
                                      <p:cBhvr additive="repl">
                                        <p:cTn id="409"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Cambio político y revoluciones</a:t>
            </a:r>
            <a:endParaRPr b="0" lang="en-US" sz="3600" spc="-1" strike="noStrike">
              <a:solidFill>
                <a:srgbClr val="000000"/>
              </a:solidFill>
              <a:latin typeface="Calibri"/>
            </a:endParaRPr>
          </a:p>
        </p:txBody>
      </p:sp>
      <p:sp>
        <p:nvSpPr>
          <p:cNvPr id="120"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F62A-C9E5-423C-8EC6-54690C47D9E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 name="5 CuadroTexto"/>
          <p:cNvSpPr/>
          <p:nvPr/>
        </p:nvSpPr>
        <p:spPr>
          <a:xfrm>
            <a:off x="179280" y="765000"/>
            <a:ext cx="8785440" cy="5641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usas de cambios y revoluciones:</a:t>
            </a:r>
            <a:endParaRPr b="0" lang="en-US" sz="28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sigualdades (la más general).</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soberbia, deseo de lucro, honor, miedo, desprecio.</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recimiento desproporcionado de la ciudad.</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intrigas y negligencia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 emplazamiento de la ciudad, cuando afecta la unidad de la ciudad (¿centro-periferia?).</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inucias (sobre todo cuando son cargos altos, asuntos amorosos. Por lo general, las clases superiores arrastran a la ciudad).</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falta de homogeneidad de los grupo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aumentar el prestigio o poder de los magistrado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que han sido causantes del poderío.</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s partes de la ciudad son contrarias entre sí.</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416" dur="500"/>
                                        <p:tgtEl>
                                          <p:spTgt spid="122">
                                            <p:txEl>
                                              <p:pRg st="0" end="0"/>
                                            </p:txEl>
                                          </p:spTgt>
                                        </p:tgtEl>
                                      </p:cBhvr>
                                    </p:animEffect>
                                  </p:childTnLst>
                                </p:cTn>
                              </p:par>
                              <p:par>
                                <p:cTn id="417" nodeType="withEffect" fill="hold" presetClass="entr" presetID="22" presetSubtype="4">
                                  <p:stCondLst>
                                    <p:cond delay="0"/>
                                  </p:stCondLst>
                                  <p:childTnLst>
                                    <p:set>
                                      <p:cBhvr>
                                        <p:cTn id="41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419" dur="500"/>
                                        <p:tgtEl>
                                          <p:spTgt spid="122">
                                            <p:txEl>
                                              <p:pRg st="1" end="1"/>
                                            </p:txEl>
                                          </p:spTgt>
                                        </p:tgtEl>
                                      </p:cBhvr>
                                    </p:animEffect>
                                  </p:childTnLst>
                                </p:cTn>
                              </p:par>
                              <p:par>
                                <p:cTn id="420" nodeType="withEffect" fill="hold" presetClass="entr" presetID="22" presetSubtype="4">
                                  <p:stCondLst>
                                    <p:cond delay="0"/>
                                  </p:stCondLst>
                                  <p:childTnLst>
                                    <p:set>
                                      <p:cBhvr>
                                        <p:cTn id="421"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422" dur="500"/>
                                        <p:tgtEl>
                                          <p:spTgt spid="122">
                                            <p:txEl>
                                              <p:pRg st="2" end="2"/>
                                            </p:txEl>
                                          </p:spTgt>
                                        </p:tgtEl>
                                      </p:cBhvr>
                                    </p:animEffect>
                                  </p:childTnLst>
                                </p:cTn>
                              </p:par>
                              <p:par>
                                <p:cTn id="423" nodeType="withEffect" fill="hold" presetClass="entr" presetID="22" presetSubtype="4">
                                  <p:stCondLst>
                                    <p:cond delay="0"/>
                                  </p:stCondLst>
                                  <p:childTnLst>
                                    <p:set>
                                      <p:cBhvr>
                                        <p:cTn id="424"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425" dur="500"/>
                                        <p:tgtEl>
                                          <p:spTgt spid="122">
                                            <p:txEl>
                                              <p:pRg st="3" end="3"/>
                                            </p:txEl>
                                          </p:spTgt>
                                        </p:tgtEl>
                                      </p:cBhvr>
                                    </p:animEffect>
                                  </p:childTnLst>
                                </p:cTn>
                              </p:par>
                              <p:par>
                                <p:cTn id="426" nodeType="withEffect" fill="hold" presetClass="entr" presetID="22" presetSubtype="4">
                                  <p:stCondLst>
                                    <p:cond delay="0"/>
                                  </p:stCondLst>
                                  <p:childTnLst>
                                    <p:set>
                                      <p:cBhvr>
                                        <p:cTn id="427"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428" dur="500"/>
                                        <p:tgtEl>
                                          <p:spTgt spid="122">
                                            <p:txEl>
                                              <p:pRg st="4" end="4"/>
                                            </p:txEl>
                                          </p:spTgt>
                                        </p:tgtEl>
                                      </p:cBhvr>
                                    </p:animEffect>
                                  </p:childTnLst>
                                </p:cTn>
                              </p:par>
                              <p:par>
                                <p:cTn id="429" nodeType="withEffect" fill="hold" presetClass="entr" presetID="22" presetSubtype="4">
                                  <p:stCondLst>
                                    <p:cond delay="0"/>
                                  </p:stCondLst>
                                  <p:childTnLst>
                                    <p:set>
                                      <p:cBhvr>
                                        <p:cTn id="430"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431" dur="500"/>
                                        <p:tgtEl>
                                          <p:spTgt spid="122">
                                            <p:txEl>
                                              <p:pRg st="5" end="5"/>
                                            </p:txEl>
                                          </p:spTgt>
                                        </p:tgtEl>
                                      </p:cBhvr>
                                    </p:animEffect>
                                  </p:childTnLst>
                                </p:cTn>
                              </p:par>
                              <p:par>
                                <p:cTn id="432" nodeType="withEffect" fill="hold" presetClass="entr" presetID="22" presetSubtype="4">
                                  <p:stCondLst>
                                    <p:cond delay="0"/>
                                  </p:stCondLst>
                                  <p:childTnLst>
                                    <p:set>
                                      <p:cBhvr>
                                        <p:cTn id="43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434" dur="500"/>
                                        <p:tgtEl>
                                          <p:spTgt spid="122">
                                            <p:txEl>
                                              <p:pRg st="6" end="6"/>
                                            </p:txEl>
                                          </p:spTgt>
                                        </p:tgtEl>
                                      </p:cBhvr>
                                    </p:animEffect>
                                  </p:childTnLst>
                                </p:cTn>
                              </p:par>
                              <p:par>
                                <p:cTn id="435" nodeType="withEffect" fill="hold" presetClass="entr" presetID="22" presetSubtype="4">
                                  <p:stCondLst>
                                    <p:cond delay="0"/>
                                  </p:stCondLst>
                                  <p:childTnLst>
                                    <p:set>
                                      <p:cBhvr>
                                        <p:cTn id="436" dur="1" fill="hold">
                                          <p:stCondLst>
                                            <p:cond delay="0"/>
                                          </p:stCondLst>
                                        </p:cTn>
                                        <p:tgtEl>
                                          <p:spTgt spid="122">
                                            <p:txEl>
                                              <p:pRg st="7" end="7"/>
                                            </p:txEl>
                                          </p:spTgt>
                                        </p:tgtEl>
                                        <p:attrNameLst>
                                          <p:attrName>style.visibility</p:attrName>
                                        </p:attrNameLst>
                                      </p:cBhvr>
                                      <p:to>
                                        <p:strVal val="visible"/>
                                      </p:to>
                                    </p:set>
                                    <p:animEffect filter="wipe(down)" transition="in">
                                      <p:cBhvr additive="repl">
                                        <p:cTn id="437" dur="500"/>
                                        <p:tgtEl>
                                          <p:spTgt spid="122">
                                            <p:txEl>
                                              <p:pRg st="7" end="7"/>
                                            </p:txEl>
                                          </p:spTgt>
                                        </p:tgtEl>
                                      </p:cBhvr>
                                    </p:animEffect>
                                  </p:childTnLst>
                                </p:cTn>
                              </p:par>
                              <p:par>
                                <p:cTn id="438" nodeType="withEffect" fill="hold" presetClass="entr" presetID="22" presetSubtype="4">
                                  <p:stCondLst>
                                    <p:cond delay="0"/>
                                  </p:stCondLst>
                                  <p:childTnLst>
                                    <p:set>
                                      <p:cBhvr>
                                        <p:cTn id="439" dur="1" fill="hold">
                                          <p:stCondLst>
                                            <p:cond delay="0"/>
                                          </p:stCondLst>
                                        </p:cTn>
                                        <p:tgtEl>
                                          <p:spTgt spid="122">
                                            <p:txEl>
                                              <p:pRg st="8" end="8"/>
                                            </p:txEl>
                                          </p:spTgt>
                                        </p:tgtEl>
                                        <p:attrNameLst>
                                          <p:attrName>style.visibility</p:attrName>
                                        </p:attrNameLst>
                                      </p:cBhvr>
                                      <p:to>
                                        <p:strVal val="visible"/>
                                      </p:to>
                                    </p:set>
                                    <p:animEffect filter="wipe(down)" transition="in">
                                      <p:cBhvr additive="repl">
                                        <p:cTn id="440" dur="500"/>
                                        <p:tgtEl>
                                          <p:spTgt spid="122">
                                            <p:txEl>
                                              <p:pRg st="8" end="8"/>
                                            </p:txEl>
                                          </p:spTgt>
                                        </p:tgtEl>
                                      </p:cBhvr>
                                    </p:animEffect>
                                  </p:childTnLst>
                                </p:cTn>
                              </p:par>
                              <p:par>
                                <p:cTn id="441" nodeType="withEffect" fill="hold" presetClass="entr" presetID="22" presetSubtype="4">
                                  <p:stCondLst>
                                    <p:cond delay="0"/>
                                  </p:stCondLst>
                                  <p:childTnLst>
                                    <p:set>
                                      <p:cBhvr>
                                        <p:cTn id="442" dur="1" fill="hold">
                                          <p:stCondLst>
                                            <p:cond delay="0"/>
                                          </p:stCondLst>
                                        </p:cTn>
                                        <p:tgtEl>
                                          <p:spTgt spid="122">
                                            <p:txEl>
                                              <p:pRg st="9" end="9"/>
                                            </p:txEl>
                                          </p:spTgt>
                                        </p:tgtEl>
                                        <p:attrNameLst>
                                          <p:attrName>style.visibility</p:attrName>
                                        </p:attrNameLst>
                                      </p:cBhvr>
                                      <p:to>
                                        <p:strVal val="visible"/>
                                      </p:to>
                                    </p:set>
                                    <p:animEffect filter="wipe(down)" transition="in">
                                      <p:cBhvr additive="repl">
                                        <p:cTn id="443" dur="500"/>
                                        <p:tgtEl>
                                          <p:spTgt spid="122">
                                            <p:txEl>
                                              <p:pRg st="9" end="9"/>
                                            </p:txEl>
                                          </p:spTgt>
                                        </p:tgtEl>
                                      </p:cBhvr>
                                    </p:animEffect>
                                  </p:childTnLst>
                                </p:cTn>
                              </p:par>
                              <p:par>
                                <p:cTn id="444" nodeType="withEffect" fill="hold" presetClass="entr" presetID="22" presetSubtype="4">
                                  <p:stCondLst>
                                    <p:cond delay="0"/>
                                  </p:stCondLst>
                                  <p:childTnLst>
                                    <p:set>
                                      <p:cBhvr>
                                        <p:cTn id="445" dur="1" fill="hold">
                                          <p:stCondLst>
                                            <p:cond delay="0"/>
                                          </p:stCondLst>
                                        </p:cTn>
                                        <p:tgtEl>
                                          <p:spTgt spid="122">
                                            <p:txEl>
                                              <p:pRg st="10" end="10"/>
                                            </p:txEl>
                                          </p:spTgt>
                                        </p:tgtEl>
                                        <p:attrNameLst>
                                          <p:attrName>style.visibility</p:attrName>
                                        </p:attrNameLst>
                                      </p:cBhvr>
                                      <p:to>
                                        <p:strVal val="visible"/>
                                      </p:to>
                                    </p:set>
                                    <p:animEffect filter="wipe(down)" transition="in">
                                      <p:cBhvr additive="repl">
                                        <p:cTn id="446" dur="5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ARISTÓTELE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3 – 23 de agosto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8" name=""/>
          <p:cNvSpPr txBox="1"/>
          <p:nvPr/>
        </p:nvSpPr>
        <p:spPr>
          <a:xfrm>
            <a:off x="3276720" y="907920"/>
            <a:ext cx="5759280" cy="5400720"/>
          </a:xfrm>
          <a:prstGeom prst="rect">
            <a:avLst/>
          </a:prstGeom>
          <a:noFill/>
          <a:ln w="0">
            <a:noFill/>
          </a:ln>
        </p:spPr>
        <p:txBody>
          <a:bodyPr anchor="t">
            <a:normAutofit fontScale="95000"/>
          </a:bodyPr>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llí recibe su formación intelectual y moral en un lapso de 20 años; o sea, entre los años 317 y 347 a. C. hasta la muerte de Platón. En este último año, abandona la Academia y deja Atenas para instalarse en Assos, en el noroeste del Asia Menor.</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l año 343 a. C. Filipo II invita a Aristóteles a hacerse cargo de la educación de su hijo Alejandro. Esta tarea de orientación y supervisión pedagógica dura 7 años, entre los 13 y los 20 años de su pupilo; hasta la muerte del padre de éste.</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istóteles retorna a Atenas ese mismo año del 336 a. C. Allí funda una institución similar a la Academia de Platón, bajo el nombre de Liceo. Esa estancia es bastante prolongada; se extiende desde el año 336 hasta el 323 a. C., cubriendo todo el período de su madurez intelectual (entre los 47 y los 61 años de edad).</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temprana muerte de Alejandro produce en la península helena un período de inestabilidad política que altera la vida de Aristóteles en Atenas. El hecho de que no tuviese la nacionalidad ateniense echaba sombra sobre su lealtad a la ciudad.</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incertidumbre política y la desconfianza ateniense lo indujeron a abandonar Atenas el año 323 a. C. e instalarse en Calcis (isla de Eubea), lugar originario de su madre, donde muere al año siguiente, a la edad de 62 años.</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6 Rectángulo"/>
          <p:cNvSpPr/>
          <p:nvPr/>
        </p:nvSpPr>
        <p:spPr>
          <a:xfrm>
            <a:off x="34920" y="4292640"/>
            <a:ext cx="32418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istóteles nació el año 384 a. C. en Estagira, al norte de Grecia, en Macedonia. Su padre era médico del rey Amyntas, padre de Filipo II y abuelo de Alejandro Magno.</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a edad de 17 años se traslada a Atenas, donde se incorpora a la Academia de Platón. </a:t>
            </a:r>
            <a:endParaRPr b="0" lang="en-US" sz="1600" spc="-1" strike="noStrike">
              <a:solidFill>
                <a:srgbClr val="000000"/>
              </a:solidFill>
              <a:latin typeface="Calibri"/>
            </a:endParaRPr>
          </a:p>
        </p:txBody>
      </p:sp>
      <p:sp>
        <p:nvSpPr>
          <p:cNvPr id="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57C3-B8A8-4252-AA7A-1075E4A178B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1" name="5 Imagen" descr="02b Aristóteles.bmp"/>
          <p:cNvPicPr/>
          <p:nvPr/>
        </p:nvPicPr>
        <p:blipFill>
          <a:blip r:embed="rId1"/>
          <a:stretch/>
        </p:blipFill>
        <p:spPr>
          <a:xfrm>
            <a:off x="179280" y="765000"/>
            <a:ext cx="2737080" cy="356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Política</a:t>
            </a:r>
            <a:endParaRPr b="0" lang="en-US" sz="4000" spc="-1" strike="noStrike">
              <a:solidFill>
                <a:srgbClr val="000000"/>
              </a:solidFill>
              <a:latin typeface="Calibri"/>
            </a:endParaRPr>
          </a:p>
        </p:txBody>
      </p:sp>
      <p:sp>
        <p:nvSpPr>
          <p:cNvPr id="53" name=""/>
          <p:cNvSpPr txBox="1"/>
          <p:nvPr/>
        </p:nvSpPr>
        <p:spPr>
          <a:xfrm>
            <a:off x="457200" y="1125360"/>
            <a:ext cx="8229600" cy="5399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olitika: “asuntos o cosas política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 de Aristóteles es uno de los clásicos fundamentales de la filosofía política universal.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 reúne una serie de ensayos escritos en épocas distintas y reunidos posteriorment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distintos tópicos de La política fueron desarrollados en un lapso de treinta año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Junto con La república de Platón son los textos inaugurales de la reflexión sobre la política en Occident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57F8-F622-4403-88FB-3D2C05AF21C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15" dur="500"/>
                                        <p:tgtEl>
                                          <p:spTgt spid="5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53">
                                            <p:txEl>
                                              <p:pRg st="1" end="1"/>
                                            </p:txEl>
                                          </p:spTgt>
                                        </p:tgtEl>
                                        <p:attrNameLst>
                                          <p:attrName>style.visibility</p:attrName>
                                        </p:attrNameLst>
                                      </p:cBhvr>
                                      <p:to>
                                        <p:strVal val="visible"/>
                                      </p:to>
                                    </p:set>
                                    <p:animEffect filter="wipe(down)" transition="in">
                                      <p:cBhvr additive="repl">
                                        <p:cTn id="20" dur="500"/>
                                        <p:tgtEl>
                                          <p:spTgt spid="53">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25" dur="500"/>
                                        <p:tgtEl>
                                          <p:spTgt spid="53">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Effect filter="wipe(down)" transition="in">
                                      <p:cBhvr additive="repl">
                                        <p:cTn id="30" dur="500"/>
                                        <p:tgtEl>
                                          <p:spTgt spid="53">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3">
                                            <p:txEl>
                                              <p:pRg st="4" end="4"/>
                                            </p:txEl>
                                          </p:spTgt>
                                        </p:tgtEl>
                                        <p:attrNameLst>
                                          <p:attrName>style.visibility</p:attrName>
                                        </p:attrNameLst>
                                      </p:cBhvr>
                                      <p:to>
                                        <p:strVal val="visible"/>
                                      </p:to>
                                    </p:set>
                                    <p:animEffect filter="wipe(down)" transition="in">
                                      <p:cBhvr additive="repl">
                                        <p:cTn id="35"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 y la vida humana superior</a:t>
            </a:r>
            <a:endParaRPr b="0" lang="en-US" sz="4000" spc="-1" strike="noStrike">
              <a:solidFill>
                <a:srgbClr val="000000"/>
              </a:solidFill>
              <a:latin typeface="Calibri"/>
            </a:endParaRPr>
          </a:p>
        </p:txBody>
      </p:sp>
      <p:sp>
        <p:nvSpPr>
          <p:cNvPr id="56"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oda ciudad (pólis) es una comunidad (koinomía) y que toda comunidad está constituida en vista de algún bien (agathon), porque los hombres siempre actúan mirando a lo que les parece bueno; y si todas tienden a algún bien, es evidente que más que ninguna, y al bien más principal, la principal entre todas y que comprende todas las demás, a saber, la llamada ciudad y comunidad civil.</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Origen, desarrollo natural y necesidad articulan la concepción aristotélica de la pólis como una comunidad fundada en la naturaleza (physis) y no en las convenciones humanas.</a:t>
            </a:r>
            <a:endParaRPr b="0" lang="en-US" sz="3000" spc="-1" strike="noStrike">
              <a:solidFill>
                <a:srgbClr val="000000"/>
              </a:solidFill>
              <a:latin typeface="Calibri"/>
            </a:endParaRPr>
          </a:p>
        </p:txBody>
      </p:sp>
      <p:sp>
        <p:nvSpPr>
          <p:cNvPr id="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D945-52C1-4BE2-AC61-739678715A6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42" dur="500"/>
                                        <p:tgtEl>
                                          <p:spTgt spid="56">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47"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 y la vida humana superior</a:t>
            </a:r>
            <a:endParaRPr b="0" lang="en-US" sz="4000" spc="-1" strike="noStrike">
              <a:solidFill>
                <a:srgbClr val="000000"/>
              </a:solidFill>
              <a:latin typeface="Calibri"/>
            </a:endParaRPr>
          </a:p>
        </p:txBody>
      </p:sp>
      <p:sp>
        <p:nvSpPr>
          <p:cNvPr id="59" name=""/>
          <p:cNvSpPr txBox="1"/>
          <p:nvPr/>
        </p:nvSpPr>
        <p:spPr>
          <a:xfrm>
            <a:off x="457200" y="1125360"/>
            <a:ext cx="8229600" cy="5399280"/>
          </a:xfrm>
          <a:prstGeom prst="rect">
            <a:avLst/>
          </a:prstGeom>
          <a:noFill/>
          <a:ln w="0">
            <a:noFill/>
          </a:ln>
        </p:spPr>
        <p:txBody>
          <a:bodyPr anchor="t">
            <a:normAutofit fontScale="99000"/>
          </a:bodyPr>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utoridad v/s Obediencia.</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pecialización de las partes: cada cosa para un solo fin, cada órgano puede llevar a cabo su función de la mejor manera si no sirve para muchas, sino para una sola.</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asa</a:t>
            </a:r>
            <a:r>
              <a:rPr b="0" lang="es-CL" sz="2600" spc="-1" strike="noStrike">
                <a:solidFill>
                  <a:srgbClr val="000000"/>
                </a:solidFill>
                <a:latin typeface="Calibri"/>
              </a:rPr>
              <a:t>	</a:t>
            </a:r>
            <a:r>
              <a:rPr b="0" lang="es-CL" sz="2600" spc="-1" strike="noStrike">
                <a:solidFill>
                  <a:srgbClr val="000000"/>
                </a:solidFill>
                <a:latin typeface="Calibri"/>
              </a:rPr>
              <a:t>Aldea</a:t>
            </a:r>
            <a:r>
              <a:rPr b="0" lang="es-CL" sz="2600" spc="-1" strike="noStrike">
                <a:solidFill>
                  <a:srgbClr val="000000"/>
                </a:solidFill>
                <a:latin typeface="Calibri"/>
              </a:rPr>
              <a:t>	</a:t>
            </a:r>
            <a:r>
              <a:rPr b="0" lang="es-CL" sz="2600" spc="-1" strike="noStrike">
                <a:solidFill>
                  <a:srgbClr val="000000"/>
                </a:solidFill>
                <a:latin typeface="Calibri"/>
              </a:rPr>
              <a:t>	</a:t>
            </a:r>
            <a:r>
              <a:rPr b="0" lang="es-CL" sz="2600" spc="-1" strike="noStrike">
                <a:solidFill>
                  <a:srgbClr val="000000"/>
                </a:solidFill>
                <a:latin typeface="Calibri"/>
              </a:rPr>
              <a:t>Ciudad.</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Zoon Politikón: la ciudad es una de las cosas naturales, y que el hombre es por naturaleza un animal político. </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hombre es un animal político (zoon politikón ) porque por naturaleza pertenece a la pólis, que es la forma de comunidad en que puede realizar la plenitud de sus fines.</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término zoon politikón es más comprehensivo que social. La sociabilidad culmina en el ejercicio de la pertenencia y participación en la pólis.</a:t>
            </a:r>
            <a:endParaRPr b="0" lang="en-US" sz="2600" spc="-1" strike="noStrike">
              <a:solidFill>
                <a:srgbClr val="000000"/>
              </a:solidFill>
              <a:latin typeface="Calibri"/>
            </a:endParaRPr>
          </a:p>
        </p:txBody>
      </p:sp>
      <p:sp>
        <p:nvSpPr>
          <p:cNvPr id="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C32A-5E03-4ECF-88EE-72A827ADA59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5 Flecha derecha"/>
          <p:cNvSpPr/>
          <p:nvPr/>
        </p:nvSpPr>
        <p:spPr>
          <a:xfrm>
            <a:off x="1692360" y="2781360"/>
            <a:ext cx="503280" cy="216000"/>
          </a:xfrm>
          <a:prstGeom prst="rightArrow">
            <a:avLst>
              <a:gd name="adj1" fmla="val 50000"/>
              <a:gd name="adj2" fmla="val 4993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6 Flecha derecha"/>
          <p:cNvSpPr/>
          <p:nvPr/>
        </p:nvSpPr>
        <p:spPr>
          <a:xfrm>
            <a:off x="3492360" y="2781360"/>
            <a:ext cx="503280" cy="216000"/>
          </a:xfrm>
          <a:prstGeom prst="rightArrow">
            <a:avLst>
              <a:gd name="adj1" fmla="val 50000"/>
              <a:gd name="adj2" fmla="val 4993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54" dur="500"/>
                                        <p:tgtEl>
                                          <p:spTgt spid="5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59" dur="500"/>
                                        <p:tgtEl>
                                          <p:spTgt spid="59">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64" dur="500"/>
                                        <p:tgtEl>
                                          <p:spTgt spid="59">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9">
                                            <p:txEl>
                                              <p:pRg st="3" end="3"/>
                                            </p:txEl>
                                          </p:spTgt>
                                        </p:tgtEl>
                                        <p:attrNameLst>
                                          <p:attrName>style.visibility</p:attrName>
                                        </p:attrNameLst>
                                      </p:cBhvr>
                                      <p:to>
                                        <p:strVal val="visible"/>
                                      </p:to>
                                    </p:set>
                                    <p:animEffect filter="wipe(down)" transition="in">
                                      <p:cBhvr additive="repl">
                                        <p:cTn id="69" dur="500"/>
                                        <p:tgtEl>
                                          <p:spTgt spid="59">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74" dur="500"/>
                                        <p:tgtEl>
                                          <p:spTgt spid="5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79"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Índole social del hombre: 3 argumentos</a:t>
            </a:r>
            <a:endParaRPr b="0" lang="en-US" sz="3600" spc="-1" strike="noStrike">
              <a:solidFill>
                <a:srgbClr val="000000"/>
              </a:solidFill>
              <a:latin typeface="Calibri"/>
            </a:endParaRPr>
          </a:p>
        </p:txBody>
      </p:sp>
      <p:sp>
        <p:nvSpPr>
          <p:cNvPr id="64" name=""/>
          <p:cNvSpPr txBox="1"/>
          <p:nvPr/>
        </p:nvSpPr>
        <p:spPr>
          <a:xfrm>
            <a:off x="457200" y="1125360"/>
            <a:ext cx="8229600" cy="5399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Posesión de la palabra</a:t>
            </a:r>
            <a:r>
              <a:rPr b="0" lang="es-CL" sz="3000" spc="-1" strike="noStrike">
                <a:solidFill>
                  <a:srgbClr val="000000"/>
                </a:solidFill>
                <a:latin typeface="Calibri"/>
              </a:rPr>
              <a:t>: el hombre tiene la capacidad del lenguaje, a través de éste se puede expresar. Se manifiestan las ideas básicas de la relación con los demá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El hombre es un animal social y político</a:t>
            </a:r>
            <a:r>
              <a:rPr b="0" lang="es-CL" sz="3000" spc="-1" strike="noStrike">
                <a:solidFill>
                  <a:srgbClr val="000000"/>
                </a:solidFill>
                <a:latin typeface="Calibri"/>
              </a:rPr>
              <a:t>: es la naturaleza y no una convención humana, la que prescribe lo social y político del homb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La ética</a:t>
            </a:r>
            <a:r>
              <a:rPr b="0" lang="es-CL" sz="3000" spc="-1" strike="noStrike">
                <a:solidFill>
                  <a:srgbClr val="000000"/>
                </a:solidFill>
                <a:latin typeface="Calibri"/>
              </a:rPr>
              <a:t>: la naturaleza es un universo de fines y ellos se definen como bienes. El fin o bien último al que aspira el hombre es la felicidad, y ese es el fin por el cual se constituye la polis.</a:t>
            </a:r>
            <a:endParaRPr b="0" lang="en-US" sz="3000" spc="-1" strike="noStrike">
              <a:solidFill>
                <a:srgbClr val="000000"/>
              </a:solidFill>
              <a:latin typeface="Calibri"/>
            </a:endParaRPr>
          </a:p>
        </p:txBody>
      </p:sp>
      <p:sp>
        <p:nvSpPr>
          <p:cNvPr id="6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B875-7E91-4669-8932-DDD061F6759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86" dur="500"/>
                                        <p:tgtEl>
                                          <p:spTgt spid="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91" dur="500"/>
                                        <p:tgtEl>
                                          <p:spTgt spid="6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96"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67"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la actividad del político y del legislador gira en torno a la ciudad; y la constitución (</a:t>
            </a:r>
            <a:r>
              <a:rPr b="0" i="1" lang="es-CL" sz="2400" spc="-1" strike="noStrike">
                <a:solidFill>
                  <a:srgbClr val="000000"/>
                </a:solidFill>
                <a:latin typeface="Calibri"/>
              </a:rPr>
              <a:t>politeia</a:t>
            </a:r>
            <a:r>
              <a:rPr b="0" lang="es-CL" sz="2400" spc="-1" strike="noStrike">
                <a:solidFill>
                  <a:srgbClr val="000000"/>
                </a:solidFill>
                <a:latin typeface="Calibri"/>
              </a:rPr>
              <a:t>) es cierta ordenación (</a:t>
            </a:r>
            <a:r>
              <a:rPr b="0" i="1" lang="es-CL" sz="2400" spc="-1" strike="noStrike">
                <a:solidFill>
                  <a:srgbClr val="000000"/>
                </a:solidFill>
                <a:latin typeface="Calibri"/>
              </a:rPr>
              <a:t>taxis</a:t>
            </a:r>
            <a:r>
              <a:rPr b="0" lang="es-CL" sz="2400" spc="-1" strike="noStrike">
                <a:solidFill>
                  <a:srgbClr val="000000"/>
                </a:solidFill>
                <a:latin typeface="Calibri"/>
              </a:rPr>
              <a:t>) de los habitantes de la ciudad (</a:t>
            </a:r>
            <a:r>
              <a:rPr b="0" i="1" lang="es-CL" sz="2400" spc="-1" strike="noStrike">
                <a:solidFill>
                  <a:srgbClr val="000000"/>
                </a:solidFill>
                <a:latin typeface="Calibri"/>
              </a:rPr>
              <a:t>polis</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ción de la ciudadanía es variable según régimen, la que lo hace ser temporal y especi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iudadano se define por la participación en la administración de justicia y en el gobierno (asamblea). Corresponde  a la definición en democraci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iudadano no lo es por habitar en un sitio determinado, ni por participar de ciertos derechos en la medida necesaria para poder ser sometidos a proceso o entablarl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iendo: ciudadano es el que tiene derecho a participar en la función deliberativa o judicial de la ciudad.</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iendo: ciudad es la muchedumbre de tales ciudadanos suficiente para vivir con autarquí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DECA-0C29-4B95-985A-E063EE56856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03" dur="500"/>
                                        <p:tgtEl>
                                          <p:spTgt spid="6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08" dur="500"/>
                                        <p:tgtEl>
                                          <p:spTgt spid="6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13" dur="500"/>
                                        <p:tgtEl>
                                          <p:spTgt spid="6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18" dur="500"/>
                                        <p:tgtEl>
                                          <p:spTgt spid="6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23" dur="500"/>
                                        <p:tgtEl>
                                          <p:spTgt spid="67">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2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define al régimen es la forma de la ciudad. Si la forma cambia, su antigua composición varía y deja de ser lo que era, para cobrar otro modo de ser. Toda substitución de la constitución significa que la comunidad tiene otra forma de soberanía o gobierno, es una ciudad distint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aunque sean desiguales, tienen una obra común que es la seguridad de la comunidad, y la comunidad es el régimen; por tanto, la virtud del ciudadano ha de referirse necesariamente al régim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ernante y el gobernado deben aprender cosas distintas y no las mismas, y el ciudadano debe entender y participar de unas y otra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fección de la participación en los asuntos públicos consiste en saber ser gobernado y en saber gobernar, esto es el imperio político o principio de autoridad.</a:t>
            </a:r>
            <a:endParaRPr b="0" lang="en-US" sz="2400" spc="-1" strike="noStrike">
              <a:solidFill>
                <a:srgbClr val="000000"/>
              </a:solidFill>
              <a:latin typeface="Calibri"/>
            </a:endParaRPr>
          </a:p>
        </p:txBody>
      </p:sp>
      <p:sp>
        <p:nvSpPr>
          <p:cNvPr id="7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E688-20FE-4189-AFB9-3C881560E97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animEffect filter="wipe(down)" transition="in">
                                      <p:cBhvr additive="repl">
                                        <p:cTn id="135" dur="500"/>
                                        <p:tgtEl>
                                          <p:spTgt spid="7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0">
                                            <p:txEl>
                                              <p:pRg st="1" end="1"/>
                                            </p:txEl>
                                          </p:spTgt>
                                        </p:tgtEl>
                                        <p:attrNameLst>
                                          <p:attrName>style.visibility</p:attrName>
                                        </p:attrNameLst>
                                      </p:cBhvr>
                                      <p:to>
                                        <p:strVal val="visible"/>
                                      </p:to>
                                    </p:set>
                                    <p:animEffect filter="wipe(down)" transition="in">
                                      <p:cBhvr additive="repl">
                                        <p:cTn id="140" dur="500"/>
                                        <p:tgtEl>
                                          <p:spTgt spid="7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70">
                                            <p:txEl>
                                              <p:pRg st="2" end="2"/>
                                            </p:txEl>
                                          </p:spTgt>
                                        </p:tgtEl>
                                        <p:attrNameLst>
                                          <p:attrName>style.visibility</p:attrName>
                                        </p:attrNameLst>
                                      </p:cBhvr>
                                      <p:to>
                                        <p:strVal val="visible"/>
                                      </p:to>
                                    </p:set>
                                    <p:animEffect filter="wipe(down)" transition="in">
                                      <p:cBhvr additive="repl">
                                        <p:cTn id="145" dur="500"/>
                                        <p:tgtEl>
                                          <p:spTgt spid="7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70">
                                            <p:txEl>
                                              <p:pRg st="3" end="3"/>
                                            </p:txEl>
                                          </p:spTgt>
                                        </p:tgtEl>
                                        <p:attrNameLst>
                                          <p:attrName>style.visibility</p:attrName>
                                        </p:attrNameLst>
                                      </p:cBhvr>
                                      <p:to>
                                        <p:strVal val="visible"/>
                                      </p:to>
                                    </p:set>
                                    <p:animEffect filter="wipe(down)" transition="in">
                                      <p:cBhvr additive="repl">
                                        <p:cTn id="150"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3T20:34:39Z</dcterms:modified>
  <cp:revision>117</cp:revision>
  <dc:subject/>
  <dc:title>HISTORIA DEL PENSAMIENTO POLÍTICO</dc:title>
</cp:coreProperties>
</file>