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moog12.wav" ContentType="audio/x-wav"/>
  <Override PartName="/ppt/media/image9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shoesqueak.wav" ContentType="audio/x-wav"/>
  <Override PartName="/ppt/media/image11.jpeg" ContentType="image/jpeg"/>
  <Override PartName="/ppt/media/image13.png" ContentType="image/png"/>
  <Override PartName="/ppt/media/image12.jpeg" ContentType="image/jpeg"/>
  <Override PartName="/ppt/media/image6.png" ContentType="image/png"/>
  <Override PartName="/ppt/media/moog08.wav" ContentType="audio/x-wav"/>
  <Override PartName="/ppt/media/moog02.wav" ContentType="audio/x-wav"/>
  <Override PartName="/ppt/media/dumbek01.wav" ContentType="audio/x-wav"/>
  <Override PartName="/ppt/media/image3.png" ContentType="image/png"/>
  <Override PartName="/ppt/media/image10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moog1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A6B9-1A15-4C47-8489-DF3A2842106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BD7-C8FD-4E9C-A7D5-7BD59187E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9503-497B-45C3-9199-8932B04AD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3A59-21F5-431C-A798-C48215EC0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36BF-28B5-4199-BC31-22D7A707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7A0-EEA5-45D0-AC03-4E01CDB71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76AA-0A56-49CD-A09C-EE5D80C84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38A-5981-49ED-8ED6-0E55100E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4BC-29E5-4689-912B-66C979BD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540-FC43-40C8-BE4E-0AD08B92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3079-4828-4381-B83B-DEF77D1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4658-65C4-45B7-9EC9-85CB6E86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568-6488-466B-A553-AFE82004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1D70-22A2-4626-B047-4BABDC6C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2055-7668-4C56-A6B9-A32F9514A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22B6-7982-468D-9DF3-DD8EC0AE9001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uladeeconomia.com/microap-material2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moog08.wav"/><Relationship Id="rId2" Type="http://schemas.openxmlformats.org/officeDocument/2006/relationships/audio" Target="../media/moog11.wav"/><Relationship Id="rId3" Type="http://schemas.openxmlformats.org/officeDocument/2006/relationships/audio" Target="../media/moog12.wav"/><Relationship Id="rId4" Type="http://schemas.openxmlformats.org/officeDocument/2006/relationships/audio" Target="../media/moog11.wav"/><Relationship Id="rId5" Type="http://schemas.openxmlformats.org/officeDocument/2006/relationships/audio" Target="../media/moog12.wav"/><Relationship Id="rId6" Type="http://schemas.openxmlformats.org/officeDocument/2006/relationships/audio" Target="../media/shoesqueak.wav"/><Relationship Id="rId7" Type="http://schemas.openxmlformats.org/officeDocument/2006/relationships/audio" Target="../media/dumbek01.wav"/><Relationship Id="rId8" Type="http://schemas.openxmlformats.org/officeDocument/2006/relationships/audio" Target="../media/moog02.wav"/><Relationship Id="rId9" Type="http://schemas.openxmlformats.org/officeDocument/2006/relationships/audio" Target="../media/shoesqueak.wav"/><Relationship Id="rId10" Type="http://schemas.openxmlformats.org/officeDocument/2006/relationships/audio" Target="../media/dumbek01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2071440"/>
            <a:ext cx="77724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ff00"/>
                </a:solidFill>
                <a:uFillTx/>
                <a:latin typeface="Calibri"/>
              </a:rPr>
              <a:t>Microeconomía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357360"/>
            <a:ext cx="6400800" cy="157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QUILIBRIO DE MERCADOS , MOVIMIENTOS DE LAS CURVAS, FIJACIÓN DE PRECIOS Y  ELASTICID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285840" y="1428840"/>
            <a:ext cx="8429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Los factores que influyen en que la demanda de un bien sea más o menos elástica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Tipo de necesidades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2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xistencia de bienes sustitu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3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Importancia del bien en términos de coste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4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aso del tiemp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5) 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</a:rPr>
              <a:t>El precio</a:t>
            </a: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99680" y="357120"/>
            <a:ext cx="811548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LASTICIDAD CRUZ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cruzada de la demanda es una medida de sensibilidad de la demanda de un bien ante el cambio en el precio de un bien sustituto o un complemento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ta elasticidad cruzada va a ser positiva cuando se trata de un bien sustituto y va a ser negativa cuando se trata de un bien complementar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coeficiente de elasticidad es calculado como la variación porcentual en la cantidad del bien A con respecto a la variación en el precio del bien B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Cristian Blanc\Desktop\elasticidad7.jpg"/>
          <p:cNvPicPr/>
          <p:nvPr/>
        </p:nvPicPr>
        <p:blipFill>
          <a:blip r:embed="rId1"/>
          <a:stretch/>
        </p:blipFill>
        <p:spPr>
          <a:xfrm>
            <a:off x="2286000" y="5429160"/>
            <a:ext cx="392904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alibri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107172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complementarios - Elasticidad cruzada negativa: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aumento del precio de la gasolina de ¢290 por litro a ¢400 por litro ha ocasionado que la demanda por autos que emplean gasolina haya disminuido de 600 autos por mes a 500 autos por mes. Entonces la elasticidad cruzada 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648320" y="11426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Bienes sustitutos - Elasticidad cruzada positiv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precio de los discos compactos disminuye de ¢7000 a ¢5000 y en consecuencia la demanda de cassettes se reduce de 6000 unidades a 3000. La elasticidad cruzada es</a:t>
            </a: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28400" y="0"/>
            <a:ext cx="5143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La elasticidad de ingreso de la dema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s la medida de sensibilidad de la demanda de un bien ante el cambio del ingreso de los consumidores, ceteris parib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de ingreso es MAYOR que 1 =&gt; bien normal (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tá ENTRE CERO Y 1 =&gt; bien normal (inelástico al ingreso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Si la elasticidad es MENOR que cero =&gt; bien infer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C:\Users\Cristian Blanc\Desktop\elasticidad10.jpg"/>
          <p:cNvPicPr/>
          <p:nvPr/>
        </p:nvPicPr>
        <p:blipFill>
          <a:blip r:embed="rId1"/>
          <a:stretch/>
        </p:blipFill>
        <p:spPr>
          <a:xfrm>
            <a:off x="6000840" y="242892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CONCEP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es el </a:t>
            </a:r>
            <a:r>
              <a:rPr b="1" lang="es-MX" sz="3200" spc="-1" strike="noStrike">
                <a:solidFill>
                  <a:srgbClr val="ffffff"/>
                </a:solidFill>
                <a:latin typeface="Calibri"/>
              </a:rPr>
              <a:t>porcentaje en que varía la cantidad ofrecida cuando el precio  varía en un uno por ci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2762280" y="4138560"/>
            <a:ext cx="3419280" cy="223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1 Marcador de fecha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oll@uma.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4896000" y="354348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4896000" y="6058080"/>
            <a:ext cx="2819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 rot="16200000">
            <a:off x="4283640" y="380484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6946200" y="607536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4"/>
          <p:cNvSpPr/>
          <p:nvPr/>
        </p:nvSpPr>
        <p:spPr>
          <a:xfrm rot="5805600">
            <a:off x="5024160" y="4243320"/>
            <a:ext cx="2281320" cy="1109520"/>
          </a:xfrm>
          <a:custGeom>
            <a:avLst/>
            <a:gdLst>
              <a:gd name="textAreaLeft" fmla="*/ 0 w 2281320"/>
              <a:gd name="textAreaRight" fmla="*/ 2281680 w 228132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fill="none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</a:path>
              <a:path stroke="0" w="19746" h="21600">
                <a:moveTo>
                  <a:pt x="-1" y="0"/>
                </a:moveTo>
                <a:cubicBezTo>
                  <a:pt x="8542" y="0"/>
                  <a:pt x="16282" y="5034"/>
                  <a:pt x="19745" y="12844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5"/>
          <p:cNvSpPr/>
          <p:nvPr/>
        </p:nvSpPr>
        <p:spPr>
          <a:xfrm>
            <a:off x="4896000" y="4537080"/>
            <a:ext cx="17524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6"/>
          <p:cNvSpPr/>
          <p:nvPr/>
        </p:nvSpPr>
        <p:spPr>
          <a:xfrm flipH="1">
            <a:off x="4895640" y="5259240"/>
            <a:ext cx="152388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7"/>
          <p:cNvSpPr/>
          <p:nvPr/>
        </p:nvSpPr>
        <p:spPr>
          <a:xfrm>
            <a:off x="6419880" y="5238720"/>
            <a:ext cx="0" cy="8380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8"/>
          <p:cNvSpPr/>
          <p:nvPr/>
        </p:nvSpPr>
        <p:spPr>
          <a:xfrm>
            <a:off x="6680160" y="4629240"/>
            <a:ext cx="0" cy="14475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9"/>
          <p:cNvSpPr/>
          <p:nvPr/>
        </p:nvSpPr>
        <p:spPr>
          <a:xfrm>
            <a:off x="4470480" y="43434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0"/>
          <p:cNvSpPr/>
          <p:nvPr/>
        </p:nvSpPr>
        <p:spPr>
          <a:xfrm>
            <a:off x="4470480" y="504360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1"/>
          <p:cNvSpPr/>
          <p:nvPr/>
        </p:nvSpPr>
        <p:spPr>
          <a:xfrm>
            <a:off x="644832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2"/>
          <p:cNvSpPr/>
          <p:nvPr/>
        </p:nvSpPr>
        <p:spPr>
          <a:xfrm>
            <a:off x="6118200" y="601992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43"/>
          <p:cNvSpPr/>
          <p:nvPr/>
        </p:nvSpPr>
        <p:spPr>
          <a:xfrm>
            <a:off x="4886280" y="217440"/>
            <a:ext cx="0" cy="251460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44"/>
          <p:cNvSpPr/>
          <p:nvPr/>
        </p:nvSpPr>
        <p:spPr>
          <a:xfrm>
            <a:off x="4886280" y="2732040"/>
            <a:ext cx="281952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5"/>
          <p:cNvSpPr/>
          <p:nvPr/>
        </p:nvSpPr>
        <p:spPr>
          <a:xfrm rot="16200000">
            <a:off x="4299480" y="4075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6"/>
          <p:cNvSpPr/>
          <p:nvPr/>
        </p:nvSpPr>
        <p:spPr>
          <a:xfrm>
            <a:off x="6936840" y="2749680"/>
            <a:ext cx="1215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fre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47"/>
          <p:cNvSpPr/>
          <p:nvPr/>
        </p:nvSpPr>
        <p:spPr>
          <a:xfrm flipH="1" flipV="1" rot="15948000">
            <a:off x="5509080" y="687960"/>
            <a:ext cx="1143000" cy="194976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949760"/>
              <a:gd name="textAreaBottom" fmla="*/ 1950480 h 1949760"/>
            </a:gdLst>
            <a:ahLst/>
            <a:rect l="textAreaLeft" t="textAreaTop" r="textAreaRight" b="textAreaBottom"/>
            <a:pathLst>
              <a:path fill="none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</a:path>
              <a:path stroke="0" w="21600" h="21564">
                <a:moveTo>
                  <a:pt x="1246" y="-1"/>
                </a:moveTo>
                <a:cubicBezTo>
                  <a:pt x="12672" y="660"/>
                  <a:pt x="21600" y="10118"/>
                  <a:pt x="21600" y="21564"/>
                </a:cubicBezTo>
                <a:lnTo>
                  <a:pt x="0" y="21564"/>
                </a:lnTo>
                <a:close/>
              </a:path>
            </a:pathLst>
          </a:custGeom>
          <a:noFill/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48"/>
          <p:cNvSpPr/>
          <p:nvPr/>
        </p:nvSpPr>
        <p:spPr>
          <a:xfrm flipH="1">
            <a:off x="4876560" y="1981080"/>
            <a:ext cx="14475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49"/>
          <p:cNvSpPr/>
          <p:nvPr/>
        </p:nvSpPr>
        <p:spPr>
          <a:xfrm flipH="1">
            <a:off x="4876560" y="2238480"/>
            <a:ext cx="6858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50"/>
          <p:cNvSpPr/>
          <p:nvPr/>
        </p:nvSpPr>
        <p:spPr>
          <a:xfrm>
            <a:off x="5562720" y="2236680"/>
            <a:ext cx="0" cy="5335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51"/>
          <p:cNvSpPr/>
          <p:nvPr/>
        </p:nvSpPr>
        <p:spPr>
          <a:xfrm>
            <a:off x="6324480" y="198900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2"/>
          <p:cNvSpPr/>
          <p:nvPr/>
        </p:nvSpPr>
        <p:spPr>
          <a:xfrm>
            <a:off x="4500720" y="1714680"/>
            <a:ext cx="5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4498920" y="2021040"/>
            <a:ext cx="41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609912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5337360" y="268776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6063120" y="35388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6861240" y="4343400"/>
            <a:ext cx="97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Gráfico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fer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inelá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1071720" y="857160"/>
            <a:ext cx="3063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Cuando la elasticidad de la curva de oferta tiende a el infinito es una curva te tipo elás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alibri"/>
              </a:rPr>
              <a:t>Por su parte cuando la elasticidad de la curva es igual a cero es inelá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9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9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9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9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9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9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9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9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DE LA 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La elasticidad de la oferta depen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ecnológicas del proceso productivo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disponibilidad de factores productiv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tiemp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corto plazo la oferta es muy rígi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 largo plazo la oferta resulta muy elástic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Nos vemos la próxima semana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recuerden estudiar para el contr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898989"/>
                </a:solidFill>
                <a:latin typeface="Calibri"/>
              </a:rPr>
              <a:t>Buena semana!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426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EQUILIBRIO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: ocurre en donde cantidad demandada = cantidad ofrecida. En donde  todos los vendedores dispuestos a vender podrán vender y todos los compradores dispuestos a comprar podrán compr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975040" y="2919240"/>
            <a:ext cx="3120840" cy="666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QUILIBRIO DE MERCADRO Y MOVIMIENTOS DE  LAS CURV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85688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alibri"/>
              </a:rPr>
              <a:t>CAMBIOS EN EL EQUILIBRIO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: el precio de equilibrio y la cantidad de equilibrio  cambiarán siempre que las curvas de la oferta y demanda se desplacen</a:t>
            </a:r>
            <a:r>
              <a:rPr b="0" lang="es-ES_trad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3" descr="C:\Users\Cristian Blanc\Desktop\Image2202.gif"/>
          <p:cNvPicPr/>
          <p:nvPr/>
        </p:nvPicPr>
        <p:blipFill>
          <a:blip r:embed="rId1"/>
          <a:stretch/>
        </p:blipFill>
        <p:spPr>
          <a:xfrm>
            <a:off x="2548080" y="3255840"/>
            <a:ext cx="3833640" cy="648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39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ÁX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3280" y="1571400"/>
            <a:ext cx="4114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TARIFA ESCO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. Supongamos que el precio de un kilo de arroz en el mercado libre previo la cosecha es $700 y por un problema climático la cosecha se ve afectada y la oferta disminuye incrementando el precio de mercado Pe a $800 Y en este momento aparece nuestro eficiente funcionario del gobierno decretando que el precio máximo Pr $400 por kilo de arroz. ¿ qué pasa en el mercado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http://www.auladeeconomia.com/equilibrio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040" y="2214720"/>
            <a:ext cx="3857760" cy="3786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Fijaciones de precios</a:t>
            </a:r>
            <a:br>
              <a:rPr sz="4400"/>
            </a:b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Máximos y Mínim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Calibri"/>
              </a:rPr>
              <a:t>PRECI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UN EJEMPL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L SUELDO MÍNIM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alibri"/>
              </a:rPr>
              <a:t>Supongamos que el precio del quintal de trigo en el mercado libre Pe es de $6000 , pero debido a quejas de los productores al gobierno, nuestro eficiente funcionario gubernamental vuelve a aparecer para decretar que el mínimo va a ser de $8000. Al precio mínimo de $8000 la cantidad ofrecida va a ser de 8 sacos; mientras que, la cantidad demandada sólo van a ser 4 sac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www.auladeeconomia.com/equilibrio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071800"/>
            <a:ext cx="3929040" cy="40003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alibri"/>
              </a:rPr>
              <a:t>ELASTICIDAD DE LA DEMAND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- precio de la demanda  es una medida  de la respuesta relativa de cantidad demandada ante los cambios en los preci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 elasticidad de la demanda se mide calculand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1878120" y="3932280"/>
            <a:ext cx="5681520" cy="304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Calibri"/>
              </a:rPr>
              <a:t>ELASTICIDAD EN LA 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549360" y="3139920"/>
            <a:ext cx="2120760" cy="1670040"/>
          </a:xfrm>
          <a:prstGeom prst="rect">
            <a:avLst/>
          </a:prstGeom>
          <a:ln w="0">
            <a:noFill/>
          </a:ln>
        </p:spPr>
      </p:pic>
      <p:cxnSp>
        <p:nvCxnSpPr>
          <p:cNvPr id="71" name="5 Conector recto de flecha"/>
          <p:cNvCxnSpPr/>
          <p:nvPr/>
        </p:nvCxnSpPr>
        <p:spPr>
          <a:xfrm flipV="1">
            <a:off x="2642760" y="1918800"/>
            <a:ext cx="1358280" cy="163440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975120" y="1639800"/>
            <a:ext cx="2522520" cy="1133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3906720" y="3352680"/>
            <a:ext cx="4164120" cy="854280"/>
          </a:xfrm>
          <a:prstGeom prst="rect">
            <a:avLst/>
          </a:prstGeom>
          <a:ln w="0">
            <a:noFill/>
          </a:ln>
        </p:spPr>
      </p:pic>
      <p:cxnSp>
        <p:nvCxnSpPr>
          <p:cNvPr id="76" name="10 Conector recto de flecha"/>
          <p:cNvCxnSpPr/>
          <p:nvPr/>
        </p:nvCxnSpPr>
        <p:spPr>
          <a:xfrm>
            <a:off x="2643120" y="3552840"/>
            <a:ext cx="1286640" cy="10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cxnSp>
        <p:nvCxnSpPr>
          <p:cNvPr id="77" name="16 Conector recto de flecha"/>
          <p:cNvCxnSpPr/>
          <p:nvPr/>
        </p:nvCxnSpPr>
        <p:spPr>
          <a:xfrm>
            <a:off x="2642760" y="3552840"/>
            <a:ext cx="786600" cy="1224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arrow" w="med"/>
          </a:ln>
        </p:spPr>
      </p:cxnSp>
      <p:sp>
        <p:nvSpPr>
          <p:cNvPr id="7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3402000" y="4565520"/>
            <a:ext cx="4937040" cy="854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rc 10"/>
          <p:cNvSpPr/>
          <p:nvPr/>
        </p:nvSpPr>
        <p:spPr>
          <a:xfrm rot="10262400">
            <a:off x="1442520" y="662040"/>
            <a:ext cx="2186280" cy="1271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7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8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9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49"/>
          <p:cNvGrpSpPr/>
          <p:nvPr/>
        </p:nvGrpSpPr>
        <p:grpSpPr>
          <a:xfrm>
            <a:off x="571680" y="1571760"/>
            <a:ext cx="816840" cy="368280"/>
            <a:chOff x="571680" y="1571760"/>
            <a:chExt cx="816840" cy="368280"/>
          </a:xfrm>
        </p:grpSpPr>
        <p:sp>
          <p:nvSpPr>
            <p:cNvPr id="95" name="Rectangle 41"/>
            <p:cNvSpPr/>
            <p:nvPr/>
          </p:nvSpPr>
          <p:spPr>
            <a:xfrm>
              <a:off x="834480" y="15717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AutoShape 42"/>
            <p:cNvSpPr/>
            <p:nvPr/>
          </p:nvSpPr>
          <p:spPr>
            <a:xfrm>
              <a:off x="799920" y="1612800"/>
              <a:ext cx="75960" cy="304560"/>
            </a:xfrm>
            <a:custGeom>
              <a:avLst/>
              <a:gdLst>
                <a:gd name="textAreaLeft" fmla="*/ 0 w 75960"/>
                <a:gd name="textAreaRight" fmla="*/ 27360 w 75960"/>
                <a:gd name="textAreaTop" fmla="*/ 7920 h 304560"/>
                <a:gd name="textAreaBottom" fmla="*/ 29664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47"/>
            <p:cNvSpPr/>
            <p:nvPr/>
          </p:nvSpPr>
          <p:spPr>
            <a:xfrm>
              <a:off x="571680" y="1612800"/>
              <a:ext cx="0" cy="30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4"/>
          <p:cNvGrpSpPr/>
          <p:nvPr/>
        </p:nvGrpSpPr>
        <p:grpSpPr>
          <a:xfrm>
            <a:off x="1802520" y="2206800"/>
            <a:ext cx="1169280" cy="993600"/>
            <a:chOff x="1802520" y="2206800"/>
            <a:chExt cx="1169280" cy="993600"/>
          </a:xfrm>
        </p:grpSpPr>
        <p:sp>
          <p:nvSpPr>
            <p:cNvPr id="99" name="AutoShape 50"/>
            <p:cNvSpPr/>
            <p:nvPr/>
          </p:nvSpPr>
          <p:spPr>
            <a:xfrm rot="16226400">
              <a:off x="2221560" y="2095560"/>
              <a:ext cx="230040" cy="1067040"/>
            </a:xfrm>
            <a:custGeom>
              <a:avLst/>
              <a:gdLst>
                <a:gd name="textAreaLeft" fmla="*/ 0 w 230040"/>
                <a:gd name="textAreaRight" fmla="*/ 83160 w 230040"/>
                <a:gd name="textAreaTop" fmla="*/ 27720 h 1067040"/>
                <a:gd name="textAreaBottom" fmla="*/ 1039320 h 10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51"/>
            <p:cNvSpPr/>
            <p:nvPr/>
          </p:nvSpPr>
          <p:spPr>
            <a:xfrm>
              <a:off x="2045160" y="2206800"/>
              <a:ext cx="657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1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3"/>
            <p:cNvSpPr/>
            <p:nvPr/>
          </p:nvSpPr>
          <p:spPr>
            <a:xfrm>
              <a:off x="1828800" y="3200400"/>
              <a:ext cx="1143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5"/>
          <p:cNvSpPr/>
          <p:nvPr/>
        </p:nvSpPr>
        <p:spPr>
          <a:xfrm>
            <a:off x="4929120" y="357120"/>
            <a:ext cx="39290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La demanda resulta ser MUY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. Una PEQUEÑA DISMINUCIÓN DEL PRECIO, hasta P2, provocará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 Narrow"/>
              </a:rPr>
              <a:t>un GRAN AUMENTO DE LA CANTIDAD DEMANDADA, hasta 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982560" y="4551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 flipH="1">
            <a:off x="5483160" y="4824360"/>
            <a:ext cx="137160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 flipH="1">
            <a:off x="5482800" y="5597640"/>
            <a:ext cx="1676520" cy="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6854760" y="4824360"/>
            <a:ext cx="0" cy="15238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7159680" y="5597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5104800" y="4638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5081040" y="5411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55236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6933240" y="6294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"/>
          <p:cNvSpPr/>
          <p:nvPr/>
        </p:nvSpPr>
        <p:spPr>
          <a:xfrm flipV="1">
            <a:off x="5429160" y="6340320"/>
            <a:ext cx="2868840" cy="44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 rot="16200000">
            <a:off x="4881600" y="4163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7872840" y="637524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rc 17"/>
          <p:cNvSpPr/>
          <p:nvPr/>
        </p:nvSpPr>
        <p:spPr>
          <a:xfrm flipH="1" flipV="1">
            <a:off x="6778080" y="4149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0"/>
          <p:cNvGrpSpPr/>
          <p:nvPr/>
        </p:nvGrpSpPr>
        <p:grpSpPr>
          <a:xfrm>
            <a:off x="5369040" y="4464000"/>
            <a:ext cx="817560" cy="1139040"/>
            <a:chOff x="5369040" y="4464000"/>
            <a:chExt cx="817560" cy="1139040"/>
          </a:xfrm>
        </p:grpSpPr>
        <p:sp>
          <p:nvSpPr>
            <p:cNvPr id="117" name="Rectangle 41"/>
            <p:cNvSpPr/>
            <p:nvPr/>
          </p:nvSpPr>
          <p:spPr>
            <a:xfrm>
              <a:off x="5632560" y="44640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AutoShape 42"/>
            <p:cNvSpPr/>
            <p:nvPr/>
          </p:nvSpPr>
          <p:spPr>
            <a:xfrm>
              <a:off x="5597640" y="4840920"/>
              <a:ext cx="76320" cy="762120"/>
            </a:xfrm>
            <a:custGeom>
              <a:avLst/>
              <a:gdLst>
                <a:gd name="textAreaLeft" fmla="*/ 0 w 76320"/>
                <a:gd name="textAreaRight" fmla="*/ 27360 w 7632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3"/>
            <p:cNvSpPr/>
            <p:nvPr/>
          </p:nvSpPr>
          <p:spPr>
            <a:xfrm>
              <a:off x="5369040" y="4840920"/>
              <a:ext cx="0" cy="762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4"/>
          <p:cNvGrpSpPr/>
          <p:nvPr/>
        </p:nvGrpSpPr>
        <p:grpSpPr>
          <a:xfrm>
            <a:off x="6863760" y="5697360"/>
            <a:ext cx="700200" cy="998280"/>
            <a:chOff x="6863760" y="5697360"/>
            <a:chExt cx="700200" cy="998280"/>
          </a:xfrm>
        </p:grpSpPr>
        <p:sp>
          <p:nvSpPr>
            <p:cNvPr id="121" name="AutoShape 45"/>
            <p:cNvSpPr/>
            <p:nvPr/>
          </p:nvSpPr>
          <p:spPr>
            <a:xfrm rot="16226400">
              <a:off x="6894360" y="5970600"/>
              <a:ext cx="232920" cy="292680"/>
            </a:xfrm>
            <a:custGeom>
              <a:avLst/>
              <a:gdLst>
                <a:gd name="textAreaLeft" fmla="*/ 0 w 232920"/>
                <a:gd name="textAreaRight" fmla="*/ 84240 w 232920"/>
                <a:gd name="textAreaTop" fmla="*/ 7560 h 292680"/>
                <a:gd name="textAreaBottom" fmla="*/ 285120 h 29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6"/>
            <p:cNvSpPr/>
            <p:nvPr/>
          </p:nvSpPr>
          <p:spPr>
            <a:xfrm>
              <a:off x="7009920" y="5697360"/>
              <a:ext cx="55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 Narrow"/>
                </a:rPr>
                <a:t>22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7"/>
            <p:cNvSpPr/>
            <p:nvPr/>
          </p:nvSpPr>
          <p:spPr>
            <a:xfrm>
              <a:off x="6871320" y="6695640"/>
              <a:ext cx="313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Line 14"/>
          <p:cNvSpPr/>
          <p:nvPr/>
        </p:nvSpPr>
        <p:spPr>
          <a:xfrm flipH="1">
            <a:off x="5429160" y="3929040"/>
            <a:ext cx="46080" cy="2428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642960" y="3571920"/>
            <a:ext cx="3500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La demanda resulta ser muy POCO SENSIBLE a las variaciones en los pre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uando el precio es P1 la cantidad demandada es Q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Una GRAN DISMINUCIÓN DEL PRECIO, hasta P2, provocará u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PEQUEÑO AUMENTO DE LA CANTIDAD DEMANDADA, hasta Q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moog0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75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65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15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oog1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65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moog1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650"/>
                            </p:stCondLst>
                            <p:childTnLst>
                              <p:par>
                                <p:cTn id="13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150"/>
                            </p:stCondLst>
                            <p:childTnLst>
                              <p:par>
                                <p:cTn id="14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65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moog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shoesquea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umbek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6833160" y="1068480"/>
            <a:ext cx="10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in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o ríg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"/>
          <p:cNvSpPr/>
          <p:nvPr/>
        </p:nvSpPr>
        <p:spPr>
          <a:xfrm>
            <a:off x="838080" y="34308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4"/>
          <p:cNvSpPr/>
          <p:nvPr/>
        </p:nvSpPr>
        <p:spPr>
          <a:xfrm>
            <a:off x="838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 rot="16200000">
            <a:off x="238320" y="6854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32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7"/>
          <p:cNvSpPr/>
          <p:nvPr/>
        </p:nvSpPr>
        <p:spPr>
          <a:xfrm rot="10581600">
            <a:off x="1218960" y="7423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910520" y="1044720"/>
            <a:ext cx="10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 Narrow"/>
              </a:rPr>
              <a:t>elá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9"/>
          <p:cNvSpPr/>
          <p:nvPr/>
        </p:nvSpPr>
        <p:spPr>
          <a:xfrm flipH="1">
            <a:off x="837720" y="19051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0"/>
          <p:cNvSpPr/>
          <p:nvPr/>
        </p:nvSpPr>
        <p:spPr>
          <a:xfrm>
            <a:off x="1752480" y="1581120"/>
            <a:ext cx="0" cy="12952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2895480" y="1905120"/>
            <a:ext cx="0" cy="9903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83400" y="1309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383400" y="1673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1519920" y="281772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2669040" y="28162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 flipH="1">
            <a:off x="5334120" y="1352520"/>
            <a:ext cx="13716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 flipH="1">
            <a:off x="5334120" y="2114640"/>
            <a:ext cx="167616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6705720" y="13525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5"/>
          <p:cNvSpPr/>
          <p:nvPr/>
        </p:nvSpPr>
        <p:spPr>
          <a:xfrm>
            <a:off x="7010280" y="2114640"/>
            <a:ext cx="0" cy="7617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4955400" y="11556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4955400" y="1898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28"/>
          <p:cNvSpPr/>
          <p:nvPr/>
        </p:nvSpPr>
        <p:spPr>
          <a:xfrm>
            <a:off x="640296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9"/>
          <p:cNvSpPr/>
          <p:nvPr/>
        </p:nvSpPr>
        <p:spPr>
          <a:xfrm>
            <a:off x="6783840" y="281160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5357880" y="357120"/>
            <a:ext cx="0" cy="2514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329080" y="28576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 rot="16200000">
            <a:off x="4732560" y="68076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3"/>
          <p:cNvSpPr/>
          <p:nvPr/>
        </p:nvSpPr>
        <p:spPr>
          <a:xfrm>
            <a:off x="7723440" y="28926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rc 38"/>
          <p:cNvSpPr/>
          <p:nvPr/>
        </p:nvSpPr>
        <p:spPr>
          <a:xfrm flipH="1" flipV="1">
            <a:off x="6628680" y="6667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43"/>
          <p:cNvSpPr/>
          <p:nvPr/>
        </p:nvSpPr>
        <p:spPr>
          <a:xfrm>
            <a:off x="838080" y="157464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4"/>
          <p:cNvSpPr/>
          <p:nvPr/>
        </p:nvSpPr>
        <p:spPr>
          <a:xfrm>
            <a:off x="428760" y="350028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La elasticidad representada en un gráfico no depende sólo de su pendiente, sino de la proximidad a los ej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5"/>
          <p:cNvSpPr/>
          <p:nvPr/>
        </p:nvSpPr>
        <p:spPr>
          <a:xfrm>
            <a:off x="6705720" y="459576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6"/>
          <p:cNvSpPr/>
          <p:nvPr/>
        </p:nvSpPr>
        <p:spPr>
          <a:xfrm>
            <a:off x="838080" y="4495680"/>
            <a:ext cx="0" cy="169560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7"/>
          <p:cNvSpPr/>
          <p:nvPr/>
        </p:nvSpPr>
        <p:spPr>
          <a:xfrm>
            <a:off x="838080" y="619128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8"/>
          <p:cNvSpPr/>
          <p:nvPr/>
        </p:nvSpPr>
        <p:spPr>
          <a:xfrm rot="16200000">
            <a:off x="236880" y="461124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9"/>
          <p:cNvSpPr/>
          <p:nvPr/>
        </p:nvSpPr>
        <p:spPr>
          <a:xfrm>
            <a:off x="3227040" y="6226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50"/>
          <p:cNvSpPr/>
          <p:nvPr/>
        </p:nvSpPr>
        <p:spPr>
          <a:xfrm rot="10581600">
            <a:off x="1218960" y="4668120"/>
            <a:ext cx="2495520" cy="1236600"/>
          </a:xfrm>
          <a:custGeom>
            <a:avLst/>
            <a:gdLst>
              <a:gd name="textAreaLeft" fmla="*/ 0 w 2495520"/>
              <a:gd name="textAreaRight" fmla="*/ 2495880 w 2495520"/>
              <a:gd name="textAreaTop" fmla="*/ 0 h 1236600"/>
              <a:gd name="textAreaBottom" fmla="*/ 1236600 h 1236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1"/>
          <p:cNvSpPr/>
          <p:nvPr/>
        </p:nvSpPr>
        <p:spPr>
          <a:xfrm>
            <a:off x="1913400" y="497052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man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de elasticidad uni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52"/>
          <p:cNvSpPr/>
          <p:nvPr/>
        </p:nvSpPr>
        <p:spPr>
          <a:xfrm flipH="1">
            <a:off x="837720" y="5830920"/>
            <a:ext cx="2057400" cy="1260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53"/>
          <p:cNvSpPr/>
          <p:nvPr/>
        </p:nvSpPr>
        <p:spPr>
          <a:xfrm>
            <a:off x="1752480" y="5486400"/>
            <a:ext cx="0" cy="72396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4"/>
          <p:cNvSpPr/>
          <p:nvPr/>
        </p:nvSpPr>
        <p:spPr>
          <a:xfrm>
            <a:off x="2895480" y="5791320"/>
            <a:ext cx="0" cy="438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83400" y="5235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83400" y="5599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1519920" y="61516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9040" y="614988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59"/>
          <p:cNvSpPr/>
          <p:nvPr/>
        </p:nvSpPr>
        <p:spPr>
          <a:xfrm flipH="1">
            <a:off x="6095520" y="4915080"/>
            <a:ext cx="30492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0"/>
          <p:cNvSpPr/>
          <p:nvPr/>
        </p:nvSpPr>
        <p:spPr>
          <a:xfrm flipH="1">
            <a:off x="6095880" y="5676840"/>
            <a:ext cx="60984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61"/>
          <p:cNvSpPr/>
          <p:nvPr/>
        </p:nvSpPr>
        <p:spPr>
          <a:xfrm>
            <a:off x="6400800" y="4876920"/>
            <a:ext cx="0" cy="152388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2"/>
          <p:cNvSpPr/>
          <p:nvPr/>
        </p:nvSpPr>
        <p:spPr>
          <a:xfrm>
            <a:off x="6705720" y="5638680"/>
            <a:ext cx="0" cy="76212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5717520" y="46800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4"/>
          <p:cNvSpPr/>
          <p:nvPr/>
        </p:nvSpPr>
        <p:spPr>
          <a:xfrm>
            <a:off x="5717520" y="54230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5"/>
          <p:cNvSpPr/>
          <p:nvPr/>
        </p:nvSpPr>
        <p:spPr>
          <a:xfrm>
            <a:off x="609804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6479280" y="6335640"/>
            <a:ext cx="4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7"/>
          <p:cNvSpPr/>
          <p:nvPr/>
        </p:nvSpPr>
        <p:spPr>
          <a:xfrm flipH="1">
            <a:off x="6090840" y="4038480"/>
            <a:ext cx="4680" cy="234324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68"/>
          <p:cNvSpPr/>
          <p:nvPr/>
        </p:nvSpPr>
        <p:spPr>
          <a:xfrm>
            <a:off x="6091200" y="6381720"/>
            <a:ext cx="2819520" cy="0"/>
          </a:xfrm>
          <a:prstGeom prst="line">
            <a:avLst/>
          </a:prstGeom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9"/>
          <p:cNvSpPr/>
          <p:nvPr/>
        </p:nvSpPr>
        <p:spPr>
          <a:xfrm rot="16200000">
            <a:off x="5494680" y="4204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0"/>
          <p:cNvSpPr/>
          <p:nvPr/>
        </p:nvSpPr>
        <p:spPr>
          <a:xfrm>
            <a:off x="7570440" y="5902200"/>
            <a:ext cx="1259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ant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mand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71"/>
          <p:cNvSpPr/>
          <p:nvPr/>
        </p:nvSpPr>
        <p:spPr>
          <a:xfrm flipH="1" flipV="1">
            <a:off x="6323760" y="4191120"/>
            <a:ext cx="1143000" cy="18302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360 h 1830240"/>
              <a:gd name="textAreaBottom" fmla="*/ 1830960 h 1830240"/>
            </a:gdLst>
            <a:ahLst/>
            <a:rect l="textAreaLeft" t="textAreaTop" r="textAreaRight" b="textAreaBottom"/>
            <a:pathLst>
              <a:path fill="none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</a:path>
              <a:path stroke="0" w="21600" h="20248">
                <a:moveTo>
                  <a:pt x="7522" y="0"/>
                </a:moveTo>
                <a:cubicBezTo>
                  <a:pt x="15985" y="3144"/>
                  <a:pt x="21600" y="11220"/>
                  <a:pt x="21600" y="20248"/>
                </a:cubicBezTo>
                <a:lnTo>
                  <a:pt x="0" y="20248"/>
                </a:lnTo>
                <a:close/>
              </a:path>
            </a:pathLst>
          </a:custGeom>
          <a:noFill/>
          <a:ln w="5724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72"/>
          <p:cNvSpPr/>
          <p:nvPr/>
        </p:nvSpPr>
        <p:spPr>
          <a:xfrm>
            <a:off x="838080" y="5500800"/>
            <a:ext cx="914400" cy="0"/>
          </a:xfrm>
          <a:prstGeom prst="line">
            <a:avLst/>
          </a:prstGeom>
          <a:ln w="28440">
            <a:solidFill>
              <a:srgbClr val="eeec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500"/>
                            </p:stCondLst>
                            <p:childTnLst>
                              <p:par>
                                <p:cTn id="2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500"/>
                            </p:stCondLst>
                            <p:childTnLst>
                              <p:par>
                                <p:cTn id="2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" dur="75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650"/>
                            </p:stCondLst>
                            <p:childTnLst>
                              <p:par>
                                <p:cTn id="27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150"/>
                            </p:stCondLst>
                            <p:childTnLst>
                              <p:par>
                                <p:cTn id="28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650"/>
                            </p:stCondLst>
                            <p:childTnLst>
                              <p:par>
                                <p:cTn id="2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150"/>
                            </p:stCondLst>
                            <p:childTnLst>
                              <p:par>
                                <p:cTn id="29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50"/>
                            </p:stCondLst>
                            <p:childTnLst>
                              <p:par>
                                <p:cTn id="29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150"/>
                            </p:stCondLst>
                            <p:childTnLst>
                              <p:par>
                                <p:cTn id="2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7650"/>
                            </p:stCondLst>
                            <p:childTnLst>
                              <p:par>
                                <p:cTn id="3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8150"/>
                            </p:stCondLst>
                            <p:childTnLst>
                              <p:par>
                                <p:cTn id="3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650"/>
                            </p:stCondLst>
                            <p:childTnLst>
                              <p:par>
                                <p:cTn id="3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9150"/>
                            </p:stCondLst>
                            <p:childTnLst>
                              <p:par>
                                <p:cTn id="31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9650"/>
                            </p:stCondLst>
                            <p:childTnLst>
                              <p:par>
                                <p:cTn id="31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150"/>
                            </p:stCondLst>
                            <p:childTnLst>
                              <p:par>
                                <p:cTn id="3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650"/>
                            </p:stCondLst>
                            <p:childTnLst>
                              <p:par>
                                <p:cTn id="32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1150"/>
                            </p:stCondLst>
                            <p:childTnLst>
                              <p:par>
                                <p:cTn id="3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1650"/>
                            </p:stCondLst>
                            <p:childTnLst>
                              <p:par>
                                <p:cTn id="33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150"/>
                            </p:stCondLst>
                            <p:childTnLst>
                              <p:par>
                                <p:cTn id="3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2650"/>
                            </p:stCondLst>
                            <p:childTnLst>
                              <p:par>
                                <p:cTn id="3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3150"/>
                            </p:stCondLst>
                            <p:childTnLst>
                              <p:par>
                                <p:cTn id="3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650"/>
                            </p:stCondLst>
                            <p:childTnLst>
                              <p:par>
                                <p:cTn id="3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04:54Z</dcterms:created>
  <dc:creator>Cristian Blanc</dc:creator>
  <dc:description/>
  <dc:language>en-US</dc:language>
  <cp:lastModifiedBy>Taller</cp:lastModifiedBy>
  <dcterms:modified xsi:type="dcterms:W3CDTF">2010-04-12T20:06:34Z</dcterms:modified>
  <cp:revision>34</cp:revision>
  <dc:subject/>
  <dc:title>Microeconomía</dc:title>
</cp:coreProperties>
</file>