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moog12.wav" ContentType="audio/x-wav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shoesqueak.wav" ContentType="audio/x-wav"/>
  <Override PartName="/ppt/media/image11.jpeg" ContentType="image/jpeg"/>
  <Override PartName="/ppt/media/image13.png" ContentType="image/png"/>
  <Override PartName="/ppt/media/image12.jpeg" ContentType="image/jpeg"/>
  <Override PartName="/ppt/media/image6.png" ContentType="image/png"/>
  <Override PartName="/ppt/media/moog08.wav" ContentType="audio/x-wav"/>
  <Override PartName="/ppt/media/moog02.wav" ContentType="audio/x-wav"/>
  <Override PartName="/ppt/media/dumbek01.wav" ContentType="audio/x-wav"/>
  <Override PartName="/ppt/media/image3.png" ContentType="image/png"/>
  <Override PartName="/ppt/media/image10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moog1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6A17-663C-4E07-8E26-1485929A7D73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5A78-B153-407F-9F3C-5215C3635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0806-2BE5-47B8-ACF5-270AB9F0B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6FE-89BA-462A-A934-C1348F28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168-8F55-4C4D-A372-CBDFE192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9493-5274-4E9F-86DF-81E2F7C02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812D-2CD3-4C4C-BB10-D4BF2C1A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5F89-A924-4E94-8697-67EE893D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116-1D48-40F8-A198-1F74C939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744-26BF-467F-91A9-E0D4C3C1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8D92-5CE1-493A-9B43-7E3EC35B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F57B-53B8-4F20-BB82-35FCA878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2C32-6CDB-4D5A-B904-E632F2E0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7D8-D21F-4CBF-BE0C-D271E867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5C0-1460-4731-8A3A-60E45BA7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C869-8576-4621-8BBC-6A7D506A290D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microap-material2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microap-material2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moog08.wav"/><Relationship Id="rId2" Type="http://schemas.openxmlformats.org/officeDocument/2006/relationships/audio" Target="../media/moog11.wav"/><Relationship Id="rId3" Type="http://schemas.openxmlformats.org/officeDocument/2006/relationships/audio" Target="../media/moog12.wav"/><Relationship Id="rId4" Type="http://schemas.openxmlformats.org/officeDocument/2006/relationships/audio" Target="../media/moog11.wav"/><Relationship Id="rId5" Type="http://schemas.openxmlformats.org/officeDocument/2006/relationships/audio" Target="../media/moog12.wav"/><Relationship Id="rId6" Type="http://schemas.openxmlformats.org/officeDocument/2006/relationships/audio" Target="../media/shoesqueak.wav"/><Relationship Id="rId7" Type="http://schemas.openxmlformats.org/officeDocument/2006/relationships/audio" Target="../media/dumbek01.wav"/><Relationship Id="rId8" Type="http://schemas.openxmlformats.org/officeDocument/2006/relationships/audio" Target="../media/moog02.wav"/><Relationship Id="rId9" Type="http://schemas.openxmlformats.org/officeDocument/2006/relationships/audio" Target="../media/shoesqueak.wav"/><Relationship Id="rId10" Type="http://schemas.openxmlformats.org/officeDocument/2006/relationships/audio" Target="../media/dumbek01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07144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ff00"/>
                </a:solidFill>
                <a:uFillTx/>
                <a:latin typeface="Calibri"/>
              </a:rPr>
              <a:t>Microeconomía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QUILIBRIO DE MERCADOS , MOVIMIENTOS DE LAS CURVAS, FIJACIÓN DE PRECIOS Y  ELASTIC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285840" y="1428840"/>
            <a:ext cx="84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os factores que influyen en que la demanda de un bien sea más o menos elástic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Tipo de necesidades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2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xistencia de bienes sustitu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3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Importancia del bien en términos de coste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4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aso del tiemp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5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reci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99680" y="357120"/>
            <a:ext cx="81154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LASTICIDAD CRUZ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cruzada de la demanda es una medida de sensibilidad de la demanda de un bien ante el cambio en el precio de un bien sustituto o un complemento, ceteris parib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sta elasticidad cruzada va a ser positiva cuando se trata de un bien sustituto y va a ser negativa cuando se trata de un bien complement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coeficiente de elasticidad es calculado como la variación porcentual en la cantidad del bien A con respecto a la variación en el precio del bien 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Cristian Blanc\Desktop\elasticidad7.jpg"/>
          <p:cNvPicPr/>
          <p:nvPr/>
        </p:nvPicPr>
        <p:blipFill>
          <a:blip r:embed="rId1"/>
          <a:stretch/>
        </p:blipFill>
        <p:spPr>
          <a:xfrm>
            <a:off x="2286000" y="5429160"/>
            <a:ext cx="392904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0717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Bienes complementarios - Elasticidad cruzada negativa: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Un aumento del precio de la gasolina de ¢290 por litro a ¢400 por litro ha ocasionado que la demanda por autos que emplean gasolina haya disminuido de 600 autos por mes a 500 autos por mes. Entonces la elasticidad cruzada 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Bienes sustitutos - Elasticidad cruzada positiv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precio de los discos compactos disminuye de ¢7000 a ¢5000 y en consecuencia la demanda de cassettes se reduce de 6000 unidades a 3000. La elasticidad cruzada es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28400" y="0"/>
            <a:ext cx="514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La elasticidad de ingreso de la dema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s la medida de sensibilidad de la demanda de un bien ante el cambio del ingreso de los consumidores, ceteris parib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de ingreso es MAYOR que 1 =&gt; bien normal (elástico al ingres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está ENTRE CERO Y 1 =&gt; bien normal (inelástico al ingres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es MENOR que cero =&gt; bien infer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Cristian Blanc\Desktop\elasticidad10.jpg"/>
          <p:cNvPicPr/>
          <p:nvPr/>
        </p:nvPicPr>
        <p:blipFill>
          <a:blip r:embed="rId1"/>
          <a:stretch/>
        </p:blipFill>
        <p:spPr>
          <a:xfrm>
            <a:off x="6000840" y="242892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CONCEP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es el </a:t>
            </a: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orcentaje en que varía la cantidad ofrecida cuando el precio  varía en un uno por c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2762280" y="4138560"/>
            <a:ext cx="341928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oll@uma.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0"/>
          <p:cNvSpPr/>
          <p:nvPr/>
        </p:nvSpPr>
        <p:spPr>
          <a:xfrm>
            <a:off x="4896000" y="354348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4896000" y="6058080"/>
            <a:ext cx="281916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 rot="16200000">
            <a:off x="4283640" y="38048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3"/>
          <p:cNvSpPr/>
          <p:nvPr/>
        </p:nvSpPr>
        <p:spPr>
          <a:xfrm>
            <a:off x="6946200" y="607536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34"/>
          <p:cNvSpPr/>
          <p:nvPr/>
        </p:nvSpPr>
        <p:spPr>
          <a:xfrm rot="5805600">
            <a:off x="5024160" y="4243320"/>
            <a:ext cx="2281320" cy="110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fill="none" w="19746" h="21600">
                <a:moveTo>
                  <a:pt x="-1" y="0"/>
                </a:moveTo>
                <a:cubicBezTo>
                  <a:pt x="8542" y="0"/>
                  <a:pt x="16282" y="5034"/>
                  <a:pt x="19745" y="12844"/>
                </a:cubicBezTo>
              </a:path>
              <a:path stroke="0" w="19746" h="21600">
                <a:moveTo>
                  <a:pt x="-1" y="0"/>
                </a:moveTo>
                <a:cubicBezTo>
                  <a:pt x="8542" y="0"/>
                  <a:pt x="16282" y="5034"/>
                  <a:pt x="19745" y="12844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5"/>
          <p:cNvSpPr/>
          <p:nvPr/>
        </p:nvSpPr>
        <p:spPr>
          <a:xfrm>
            <a:off x="4896000" y="4537080"/>
            <a:ext cx="17524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6"/>
          <p:cNvSpPr/>
          <p:nvPr/>
        </p:nvSpPr>
        <p:spPr>
          <a:xfrm flipH="1">
            <a:off x="4895640" y="5259240"/>
            <a:ext cx="15238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7"/>
          <p:cNvSpPr/>
          <p:nvPr/>
        </p:nvSpPr>
        <p:spPr>
          <a:xfrm>
            <a:off x="6419880" y="5238720"/>
            <a:ext cx="0" cy="8380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8"/>
          <p:cNvSpPr/>
          <p:nvPr/>
        </p:nvSpPr>
        <p:spPr>
          <a:xfrm>
            <a:off x="6680160" y="4629240"/>
            <a:ext cx="0" cy="14475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4470480" y="43434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0"/>
          <p:cNvSpPr/>
          <p:nvPr/>
        </p:nvSpPr>
        <p:spPr>
          <a:xfrm>
            <a:off x="4470480" y="50436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1"/>
          <p:cNvSpPr/>
          <p:nvPr/>
        </p:nvSpPr>
        <p:spPr>
          <a:xfrm>
            <a:off x="644832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2"/>
          <p:cNvSpPr/>
          <p:nvPr/>
        </p:nvSpPr>
        <p:spPr>
          <a:xfrm>
            <a:off x="611820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3"/>
          <p:cNvSpPr/>
          <p:nvPr/>
        </p:nvSpPr>
        <p:spPr>
          <a:xfrm>
            <a:off x="4886280" y="21744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4886280" y="2732040"/>
            <a:ext cx="281952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 rot="16200000">
            <a:off x="4299480" y="4075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6"/>
          <p:cNvSpPr/>
          <p:nvPr/>
        </p:nvSpPr>
        <p:spPr>
          <a:xfrm>
            <a:off x="6936840" y="274968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47"/>
          <p:cNvSpPr/>
          <p:nvPr/>
        </p:nvSpPr>
        <p:spPr>
          <a:xfrm flipH="1" flipV="1" rot="15948000">
            <a:off x="5509080" y="687960"/>
            <a:ext cx="1143000" cy="194976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949760"/>
              <a:gd name="textAreaBottom" fmla="*/ 1950480 h 1949760"/>
            </a:gdLst>
            <a:ahLst/>
            <a:rect l="textAreaLeft" t="textAreaTop" r="textAreaRight" b="textAreaBottom"/>
            <a:pathLst>
              <a:path fill="none" w="21600" h="21564">
                <a:moveTo>
                  <a:pt x="1246" y="-1"/>
                </a:moveTo>
                <a:cubicBezTo>
                  <a:pt x="12672" y="660"/>
                  <a:pt x="21600" y="10118"/>
                  <a:pt x="21600" y="21564"/>
                </a:cubicBezTo>
              </a:path>
              <a:path stroke="0" w="21600" h="21564">
                <a:moveTo>
                  <a:pt x="1246" y="-1"/>
                </a:moveTo>
                <a:cubicBezTo>
                  <a:pt x="12672" y="660"/>
                  <a:pt x="21600" y="10118"/>
                  <a:pt x="21600" y="21564"/>
                </a:cubicBezTo>
                <a:lnTo>
                  <a:pt x="0" y="21564"/>
                </a:lnTo>
                <a:close/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8"/>
          <p:cNvSpPr/>
          <p:nvPr/>
        </p:nvSpPr>
        <p:spPr>
          <a:xfrm flipH="1">
            <a:off x="4876560" y="1981080"/>
            <a:ext cx="14475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9"/>
          <p:cNvSpPr/>
          <p:nvPr/>
        </p:nvSpPr>
        <p:spPr>
          <a:xfrm flipH="1">
            <a:off x="4876560" y="2238480"/>
            <a:ext cx="685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0"/>
          <p:cNvSpPr/>
          <p:nvPr/>
        </p:nvSpPr>
        <p:spPr>
          <a:xfrm>
            <a:off x="5562720" y="2236680"/>
            <a:ext cx="0" cy="5335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1"/>
          <p:cNvSpPr/>
          <p:nvPr/>
        </p:nvSpPr>
        <p:spPr>
          <a:xfrm>
            <a:off x="6324480" y="198900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2"/>
          <p:cNvSpPr/>
          <p:nvPr/>
        </p:nvSpPr>
        <p:spPr>
          <a:xfrm>
            <a:off x="4500720" y="1714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4498920" y="202104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609912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533736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6"/>
          <p:cNvSpPr/>
          <p:nvPr/>
        </p:nvSpPr>
        <p:spPr>
          <a:xfrm>
            <a:off x="6063120" y="35388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7"/>
          <p:cNvSpPr/>
          <p:nvPr/>
        </p:nvSpPr>
        <p:spPr>
          <a:xfrm>
            <a:off x="6861240" y="4343400"/>
            <a:ext cx="97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n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0"/>
          <p:cNvSpPr/>
          <p:nvPr/>
        </p:nvSpPr>
        <p:spPr>
          <a:xfrm>
            <a:off x="1071720" y="857160"/>
            <a:ext cx="306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uando la elasticidad de la curva de oferta tiende a el infinito es una curva te tipo e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Por su parte cuando la elasticidad de la curva es igual a cero es in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depe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ecnológicas del proceso productiv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isponibilidad de factores produc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iempo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corto plazo la oferta es muy ríg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largo plazo la oferta resulta muy elástic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Nos vemos la próxima semana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recuerden estudiar para el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Buena semana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QUILIBRI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: ocurre en donde cantidad demandada = cantidad ofrecida. En donde  todos los vendedores dispuestos a vender podrán vender y todos los compradores dispuestos a comprar podrán comp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975040" y="2919240"/>
            <a:ext cx="3120840" cy="666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56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alibri"/>
              </a:rPr>
              <a:t>CAMBIOS EN EL EQUILIBRIO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: el precio de equilibrio y la cantidad de equilibrio  cambiarán siempre que las curvas de la oferta y demanda se desplacen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Cristian Blanc\Desktop\Image2202.gif"/>
          <p:cNvPicPr/>
          <p:nvPr/>
        </p:nvPicPr>
        <p:blipFill>
          <a:blip r:embed="rId1"/>
          <a:stretch/>
        </p:blipFill>
        <p:spPr>
          <a:xfrm>
            <a:off x="2548080" y="3255840"/>
            <a:ext cx="3833640" cy="648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Fijaciones de precio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PRECIO MÁX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3280" y="1571400"/>
            <a:ext cx="4114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VEAMOS UN EJEMPL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TARIFA ESCO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. Supongamos que el precio de un kilo de arroz en el mercado libre previo la cosecha es $700 y por un problema climático la cosecha se ve afectada y la oferta disminuye incrementando el precio de mercado Pe a $800 Y en este momento aparece nuestro eficiente funcionario del gobierno decretando que el precio máximo Pr $400 por kilo de arroz. ¿ qué pasa en el merca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auladeeconomia.com/equilibrio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214720"/>
            <a:ext cx="385776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Fijaciones de precio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PREC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UN EJEMP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SUE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Supongamos que el precio del quintal de trigo en el mercado libre Pe es de $6000 , pero debido a quejas de los productores al gobierno, nuestro eficiente funcionario gubernamental vuelve a aparecer para decretar que el mínimo va a ser de $8000. Al precio mínimo de $8000 la cantidad ofrecida va a ser de 8 sacos; mientras que, la cantidad demandada sólo van a ser 4 sa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auladeeconomia.com/equilibrio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2071800"/>
            <a:ext cx="3929040" cy="400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LASTICIDAD DE LA DEMAN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- precio de la demanda  es una medida  de la respuesta relativa de cantidad demandada ante los cambios en los pre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de la demanda se mide calculan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878120" y="3932280"/>
            <a:ext cx="5681520" cy="304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549360" y="3139920"/>
            <a:ext cx="2120760" cy="1670040"/>
          </a:xfrm>
          <a:prstGeom prst="rect">
            <a:avLst/>
          </a:prstGeom>
          <a:ln w="0">
            <a:noFill/>
          </a:ln>
        </p:spPr>
      </p:pic>
      <p:cxnSp>
        <p:nvCxnSpPr>
          <p:cNvPr id="71" name="5 Conector recto de flecha"/>
          <p:cNvCxnSpPr/>
          <p:nvPr/>
        </p:nvCxnSpPr>
        <p:spPr>
          <a:xfrm flipV="1">
            <a:off x="2642760" y="1918800"/>
            <a:ext cx="1358280" cy="1634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3975120" y="1639800"/>
            <a:ext cx="2522520" cy="1133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3906720" y="3352680"/>
            <a:ext cx="4164120" cy="854280"/>
          </a:xfrm>
          <a:prstGeom prst="rect">
            <a:avLst/>
          </a:prstGeom>
          <a:ln w="0">
            <a:noFill/>
          </a:ln>
        </p:spPr>
      </p:pic>
      <p:cxnSp>
        <p:nvCxnSpPr>
          <p:cNvPr id="76" name="10 Conector recto de flecha"/>
          <p:cNvCxnSpPr/>
          <p:nvPr/>
        </p:nvCxnSpPr>
        <p:spPr>
          <a:xfrm>
            <a:off x="2643120" y="3552840"/>
            <a:ext cx="1286640" cy="10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7" name="16 Conector recto de flecha"/>
          <p:cNvCxnSpPr/>
          <p:nvPr/>
        </p:nvCxnSpPr>
        <p:spPr>
          <a:xfrm>
            <a:off x="2642760" y="3552840"/>
            <a:ext cx="786600" cy="1224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4"/>
          <a:stretch/>
        </p:blipFill>
        <p:spPr>
          <a:xfrm>
            <a:off x="3402000" y="4565520"/>
            <a:ext cx="4937040" cy="85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rc 10"/>
          <p:cNvSpPr/>
          <p:nvPr/>
        </p:nvSpPr>
        <p:spPr>
          <a:xfrm rot="10262400">
            <a:off x="1442520" y="662040"/>
            <a:ext cx="2186280" cy="1271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9"/>
          <p:cNvGrpSpPr/>
          <p:nvPr/>
        </p:nvGrpSpPr>
        <p:grpSpPr>
          <a:xfrm>
            <a:off x="571680" y="1571760"/>
            <a:ext cx="816840" cy="368280"/>
            <a:chOff x="571680" y="1571760"/>
            <a:chExt cx="816840" cy="368280"/>
          </a:xfrm>
        </p:grpSpPr>
        <p:sp>
          <p:nvSpPr>
            <p:cNvPr id="95" name="Rectangle 41"/>
            <p:cNvSpPr/>
            <p:nvPr/>
          </p:nvSpPr>
          <p:spPr>
            <a:xfrm>
              <a:off x="834480" y="15717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42"/>
            <p:cNvSpPr/>
            <p:nvPr/>
          </p:nvSpPr>
          <p:spPr>
            <a:xfrm>
              <a:off x="799920" y="1612800"/>
              <a:ext cx="75960" cy="3045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47"/>
            <p:cNvSpPr/>
            <p:nvPr/>
          </p:nvSpPr>
          <p:spPr>
            <a:xfrm>
              <a:off x="571680" y="16128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54"/>
          <p:cNvGrpSpPr/>
          <p:nvPr/>
        </p:nvGrpSpPr>
        <p:grpSpPr>
          <a:xfrm>
            <a:off x="1802520" y="2206800"/>
            <a:ext cx="1169280" cy="993600"/>
            <a:chOff x="1802520" y="2206800"/>
            <a:chExt cx="1169280" cy="993600"/>
          </a:xfrm>
        </p:grpSpPr>
        <p:sp>
          <p:nvSpPr>
            <p:cNvPr id="99" name="AutoShape 50"/>
            <p:cNvSpPr/>
            <p:nvPr/>
          </p:nvSpPr>
          <p:spPr>
            <a:xfrm rot="16226400">
              <a:off x="2221560" y="2095560"/>
              <a:ext cx="230040" cy="1067040"/>
            </a:xfrm>
            <a:custGeom>
              <a:avLst/>
              <a:gdLst>
                <a:gd name="textAreaLeft" fmla="*/ 0 w 230040"/>
                <a:gd name="textAreaRight" fmla="*/ 83160 w 2300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1"/>
            <p:cNvSpPr/>
            <p:nvPr/>
          </p:nvSpPr>
          <p:spPr>
            <a:xfrm>
              <a:off x="2045160" y="220680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1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3"/>
            <p:cNvSpPr/>
            <p:nvPr/>
          </p:nvSpPr>
          <p:spPr>
            <a:xfrm>
              <a:off x="1828800" y="32004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5"/>
          <p:cNvSpPr/>
          <p:nvPr/>
        </p:nvSpPr>
        <p:spPr>
          <a:xfrm>
            <a:off x="4929120" y="357120"/>
            <a:ext cx="3929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La demanda resulta ser MUY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. Una PEQUEÑA DISMINUCIÓN DEL PRECIO, hasta P2, provoca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un GRAN AUMENTO DE LA CANTIDAD DEMANDADA, hasta 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982560" y="4551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5483160" y="4824360"/>
            <a:ext cx="1371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 flipH="1">
            <a:off x="5482800" y="5597640"/>
            <a:ext cx="16765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6854760" y="4824360"/>
            <a:ext cx="0" cy="1523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7159680" y="5597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5104800" y="4638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5081040" y="541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55236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693324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 flipV="1">
            <a:off x="5429160" y="6340320"/>
            <a:ext cx="2868840" cy="44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 rot="16200000">
            <a:off x="4881600" y="4163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7872840" y="637524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7"/>
          <p:cNvSpPr/>
          <p:nvPr/>
        </p:nvSpPr>
        <p:spPr>
          <a:xfrm flipH="1" flipV="1">
            <a:off x="6778080" y="41497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0"/>
          <p:cNvGrpSpPr/>
          <p:nvPr/>
        </p:nvGrpSpPr>
        <p:grpSpPr>
          <a:xfrm>
            <a:off x="5369040" y="4464000"/>
            <a:ext cx="817560" cy="1139040"/>
            <a:chOff x="5369040" y="4464000"/>
            <a:chExt cx="817560" cy="1139040"/>
          </a:xfrm>
        </p:grpSpPr>
        <p:sp>
          <p:nvSpPr>
            <p:cNvPr id="117" name="Rectangle 41"/>
            <p:cNvSpPr/>
            <p:nvPr/>
          </p:nvSpPr>
          <p:spPr>
            <a:xfrm>
              <a:off x="5632560" y="44640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42"/>
            <p:cNvSpPr/>
            <p:nvPr/>
          </p:nvSpPr>
          <p:spPr>
            <a:xfrm>
              <a:off x="5597640" y="4840920"/>
              <a:ext cx="76320" cy="7621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3"/>
            <p:cNvSpPr/>
            <p:nvPr/>
          </p:nvSpPr>
          <p:spPr>
            <a:xfrm>
              <a:off x="5369040" y="484092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4"/>
          <p:cNvGrpSpPr/>
          <p:nvPr/>
        </p:nvGrpSpPr>
        <p:grpSpPr>
          <a:xfrm>
            <a:off x="6863760" y="5697360"/>
            <a:ext cx="700200" cy="998280"/>
            <a:chOff x="6863760" y="5697360"/>
            <a:chExt cx="700200" cy="998280"/>
          </a:xfrm>
        </p:grpSpPr>
        <p:sp>
          <p:nvSpPr>
            <p:cNvPr id="121" name="AutoShape 45"/>
            <p:cNvSpPr/>
            <p:nvPr/>
          </p:nvSpPr>
          <p:spPr>
            <a:xfrm rot="16226400">
              <a:off x="6894360" y="5970600"/>
              <a:ext cx="232920" cy="292680"/>
            </a:xfrm>
            <a:custGeom>
              <a:avLst/>
              <a:gdLst>
                <a:gd name="textAreaLeft" fmla="*/ 0 w 232920"/>
                <a:gd name="textAreaRight" fmla="*/ 84240 w 232920"/>
                <a:gd name="textAreaTop" fmla="*/ 7560 h 292680"/>
                <a:gd name="textAreaBottom" fmla="*/ 285120 h 29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6"/>
            <p:cNvSpPr/>
            <p:nvPr/>
          </p:nvSpPr>
          <p:spPr>
            <a:xfrm>
              <a:off x="7009920" y="56973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7"/>
            <p:cNvSpPr/>
            <p:nvPr/>
          </p:nvSpPr>
          <p:spPr>
            <a:xfrm>
              <a:off x="6871320" y="6695640"/>
              <a:ext cx="31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14"/>
          <p:cNvSpPr/>
          <p:nvPr/>
        </p:nvSpPr>
        <p:spPr>
          <a:xfrm flipH="1">
            <a:off x="5429160" y="3929040"/>
            <a:ext cx="46080" cy="2428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642960" y="3571920"/>
            <a:ext cx="3500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a demanda resulta ser muy POCO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a GRAN DISMINUCIÓN DEL PRECIO, hasta P2, provocará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EQUEÑO AUMENTO DE LA CANTIDAD DEMANDADA, hasta Q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oog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7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65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15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65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650"/>
                            </p:stCondLst>
                            <p:childTnLst>
                              <p:par>
                                <p:cTn id="1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150"/>
                            </p:stCondLst>
                            <p:childTnLst>
                              <p:par>
                                <p:cTn id="1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65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o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33160" y="1068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7"/>
          <p:cNvSpPr/>
          <p:nvPr/>
        </p:nvSpPr>
        <p:spPr>
          <a:xfrm rot="10581600">
            <a:off x="1218960" y="742320"/>
            <a:ext cx="2495520" cy="123660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H="1">
            <a:off x="5334120" y="1352520"/>
            <a:ext cx="13716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 flipH="1">
            <a:off x="5334120" y="2114640"/>
            <a:ext cx="16761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6705720" y="13525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>
            <a:off x="7010280" y="2114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4955400" y="1155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4955400" y="1898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640296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678384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5357880" y="35712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329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 rot="16200000">
            <a:off x="4732560" y="680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7723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38"/>
          <p:cNvSpPr/>
          <p:nvPr/>
        </p:nvSpPr>
        <p:spPr>
          <a:xfrm flipH="1" flipV="1">
            <a:off x="6628680" y="6667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3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428760" y="3500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a elasticidad representada en un gráfico no depende sólo de su pendiente, sino de la proximidad a los ej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6705720" y="459576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6"/>
          <p:cNvSpPr/>
          <p:nvPr/>
        </p:nvSpPr>
        <p:spPr>
          <a:xfrm>
            <a:off x="838080" y="4495680"/>
            <a:ext cx="0" cy="1695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7"/>
          <p:cNvSpPr/>
          <p:nvPr/>
        </p:nvSpPr>
        <p:spPr>
          <a:xfrm>
            <a:off x="838080" y="61912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8"/>
          <p:cNvSpPr/>
          <p:nvPr/>
        </p:nvSpPr>
        <p:spPr>
          <a:xfrm rot="16200000">
            <a:off x="236880" y="46112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3227040" y="6226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rc 50"/>
          <p:cNvSpPr/>
          <p:nvPr/>
        </p:nvSpPr>
        <p:spPr>
          <a:xfrm rot="10581600">
            <a:off x="1218960" y="4668120"/>
            <a:ext cx="2495520" cy="123660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1913400" y="49705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2"/>
          <p:cNvSpPr/>
          <p:nvPr/>
        </p:nvSpPr>
        <p:spPr>
          <a:xfrm flipH="1">
            <a:off x="837720" y="58309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752480" y="5486400"/>
            <a:ext cx="0" cy="7239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4"/>
          <p:cNvSpPr/>
          <p:nvPr/>
        </p:nvSpPr>
        <p:spPr>
          <a:xfrm>
            <a:off x="2895480" y="5791320"/>
            <a:ext cx="0" cy="438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383400" y="5235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383400" y="559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1519920" y="61516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2669040" y="61498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9"/>
          <p:cNvSpPr/>
          <p:nvPr/>
        </p:nvSpPr>
        <p:spPr>
          <a:xfrm flipH="1">
            <a:off x="6095520" y="4915080"/>
            <a:ext cx="30492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0"/>
          <p:cNvSpPr/>
          <p:nvPr/>
        </p:nvSpPr>
        <p:spPr>
          <a:xfrm flipH="1">
            <a:off x="6095880" y="5676840"/>
            <a:ext cx="60984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1"/>
          <p:cNvSpPr/>
          <p:nvPr/>
        </p:nvSpPr>
        <p:spPr>
          <a:xfrm>
            <a:off x="6400800" y="48769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2"/>
          <p:cNvSpPr/>
          <p:nvPr/>
        </p:nvSpPr>
        <p:spPr>
          <a:xfrm>
            <a:off x="6705720" y="563868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3"/>
          <p:cNvSpPr/>
          <p:nvPr/>
        </p:nvSpPr>
        <p:spPr>
          <a:xfrm>
            <a:off x="5717520" y="4680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4"/>
          <p:cNvSpPr/>
          <p:nvPr/>
        </p:nvSpPr>
        <p:spPr>
          <a:xfrm>
            <a:off x="5717520" y="5423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609804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6"/>
          <p:cNvSpPr/>
          <p:nvPr/>
        </p:nvSpPr>
        <p:spPr>
          <a:xfrm>
            <a:off x="647928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7"/>
          <p:cNvSpPr/>
          <p:nvPr/>
        </p:nvSpPr>
        <p:spPr>
          <a:xfrm flipH="1">
            <a:off x="6090840" y="4038480"/>
            <a:ext cx="4680" cy="23432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8"/>
          <p:cNvSpPr/>
          <p:nvPr/>
        </p:nvSpPr>
        <p:spPr>
          <a:xfrm>
            <a:off x="6091200" y="638172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9"/>
          <p:cNvSpPr/>
          <p:nvPr/>
        </p:nvSpPr>
        <p:spPr>
          <a:xfrm rot="16200000">
            <a:off x="5494680" y="4204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0"/>
          <p:cNvSpPr/>
          <p:nvPr/>
        </p:nvSpPr>
        <p:spPr>
          <a:xfrm>
            <a:off x="7570440" y="5902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71"/>
          <p:cNvSpPr/>
          <p:nvPr/>
        </p:nvSpPr>
        <p:spPr>
          <a:xfrm flipH="1" flipV="1">
            <a:off x="6323760" y="41911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2"/>
          <p:cNvSpPr/>
          <p:nvPr/>
        </p:nvSpPr>
        <p:spPr>
          <a:xfrm>
            <a:off x="838080" y="550080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650"/>
                            </p:stCondLst>
                            <p:childTnLst>
                              <p:par>
                                <p:cTn id="2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5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65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150"/>
                            </p:stCondLst>
                            <p:childTnLst>
                              <p:par>
                                <p:cTn id="2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650"/>
                            </p:stCondLst>
                            <p:childTnLst>
                              <p:par>
                                <p:cTn id="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150"/>
                            </p:stCondLst>
                            <p:childTnLst>
                              <p:par>
                                <p:cTn id="2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650"/>
                            </p:stCondLst>
                            <p:childTnLst>
                              <p:par>
                                <p:cTn id="3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150"/>
                            </p:stCondLst>
                            <p:childTnLst>
                              <p:par>
                                <p:cTn id="3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650"/>
                            </p:stCondLst>
                            <p:childTnLst>
                              <p:par>
                                <p:cTn id="3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150"/>
                            </p:stCondLst>
                            <p:childTnLst>
                              <p:par>
                                <p:cTn id="3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650"/>
                            </p:stCondLst>
                            <p:childTnLst>
                              <p:par>
                                <p:cTn id="3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15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65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150"/>
                            </p:stCondLst>
                            <p:childTnLst>
                              <p:par>
                                <p:cTn id="3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650"/>
                            </p:stCondLst>
                            <p:childTnLst>
                              <p:par>
                                <p:cTn id="3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150"/>
                            </p:stCondLst>
                            <p:childTnLst>
                              <p:par>
                                <p:cTn id="3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650"/>
                            </p:stCondLst>
                            <p:childTnLst>
                              <p:par>
                                <p:cTn id="3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150"/>
                            </p:stCondLst>
                            <p:childTnLst>
                              <p:par>
                                <p:cTn id="3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650"/>
                            </p:stCondLst>
                            <p:childTnLst>
                              <p:par>
                                <p:cTn id="3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2:04:54Z</dcterms:created>
  <dc:creator>Cristian Blanc</dc:creator>
  <dc:description/>
  <dc:language>en-US</dc:language>
  <cp:lastModifiedBy>Taller</cp:lastModifiedBy>
  <dcterms:modified xsi:type="dcterms:W3CDTF">2010-04-12T20:06:34Z</dcterms:modified>
  <cp:revision>34</cp:revision>
  <dc:subject/>
  <dc:title>Microeconomía</dc:title>
</cp:coreProperties>
</file>