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moog12.wav" ContentType="audio/x-wav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shoesqueak.wav" ContentType="audio/x-wav"/>
  <Override PartName="/ppt/media/image11.jpeg" ContentType="image/jpeg"/>
  <Override PartName="/ppt/media/image13.png" ContentType="image/png"/>
  <Override PartName="/ppt/media/image12.jpeg" ContentType="image/jpeg"/>
  <Override PartName="/ppt/media/image6.png" ContentType="image/png"/>
  <Override PartName="/ppt/media/moog08.wav" ContentType="audio/x-wav"/>
  <Override PartName="/ppt/media/moog02.wav" ContentType="audio/x-wav"/>
  <Override PartName="/ppt/media/dumbek01.wav" ContentType="audio/x-wav"/>
  <Override PartName="/ppt/media/image3.png" ContentType="image/png"/>
  <Override PartName="/ppt/media/image10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moog11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BEF5-1F3D-4072-81D6-1E5D015045E4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62DB-3B11-4368-BDA3-659D4E25D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11DA-7CF8-47B6-8BD4-FDD5F95DC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070-0C67-4AC4-B5C1-4D553683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FEC-2EC3-4D4F-99A9-63BD2F43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B3A8-02B3-4D8B-B6C8-DA2B5973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6D9-021F-4054-825E-F372206E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6303-A9FA-4AE8-B7BE-FFC55F21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9866-C62B-46E6-9773-594438B7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6901-F8AD-4BEB-B8F8-C391A2C6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C0FA-CF9C-4A81-98D9-FB6BF9FB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19E-51D4-4CAA-926F-21E13922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625D-A73C-4ECA-A24F-128E66C9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643-535F-4A80-9F4F-A15AFC02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6258-7757-4DAF-874B-6296D1E9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2E13-ADA7-4B0E-A1E2-90F74C4BAE35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uladeeconomia.com/microap-material2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uladeeconomia.com/microap-material2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moog08.wav"/><Relationship Id="rId2" Type="http://schemas.openxmlformats.org/officeDocument/2006/relationships/audio" Target="../media/moog11.wav"/><Relationship Id="rId3" Type="http://schemas.openxmlformats.org/officeDocument/2006/relationships/audio" Target="../media/moog12.wav"/><Relationship Id="rId4" Type="http://schemas.openxmlformats.org/officeDocument/2006/relationships/audio" Target="../media/moog11.wav"/><Relationship Id="rId5" Type="http://schemas.openxmlformats.org/officeDocument/2006/relationships/audio" Target="../media/moog12.wav"/><Relationship Id="rId6" Type="http://schemas.openxmlformats.org/officeDocument/2006/relationships/audio" Target="../media/shoesqueak.wav"/><Relationship Id="rId7" Type="http://schemas.openxmlformats.org/officeDocument/2006/relationships/audio" Target="../media/dumbek01.wav"/><Relationship Id="rId8" Type="http://schemas.openxmlformats.org/officeDocument/2006/relationships/audio" Target="../media/moog02.wav"/><Relationship Id="rId9" Type="http://schemas.openxmlformats.org/officeDocument/2006/relationships/audio" Target="../media/shoesqueak.wav"/><Relationship Id="rId10" Type="http://schemas.openxmlformats.org/officeDocument/2006/relationships/audio" Target="../media/dumbek01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07144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 u="sng">
                <a:solidFill>
                  <a:srgbClr val="ffff00"/>
                </a:solidFill>
                <a:uFillTx/>
                <a:latin typeface="Calibri"/>
              </a:rPr>
              <a:t>Microeconomía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QUILIBRIO DE MERCADOS , MOVIMIENTOS DE LAS CURVAS, FIJACIÓN DE PRECIOS Y  ELASTIC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EN LA 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285840" y="1428840"/>
            <a:ext cx="842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Los factores que influyen en que la demanda de un bien sea más o menos elástic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Tipo de necesidades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2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xistencia de bienes sustitu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3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Importancia del bien en términos de coste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4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l paso del tiempo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5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l precio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99680" y="357120"/>
            <a:ext cx="81154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ELASTICIDAD CRUZ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 cruzada de la demanda es una medida de sensibilidad de la demanda de un bien ante el cambio en el precio de un bien sustituto o un complemento, ceteris parib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sta elasticidad cruzada va a ser positiva cuando se trata de un bien sustituto y va a ser negativa cuando se trata de un bien complement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l coeficiente de elasticidad es calculado como la variación porcentual en la cantidad del bien A con respecto a la variación en el precio del bien B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C:\Users\Cristian Blanc\Desktop\elasticidad7.jpg"/>
          <p:cNvPicPr/>
          <p:nvPr/>
        </p:nvPicPr>
        <p:blipFill>
          <a:blip r:embed="rId1"/>
          <a:stretch/>
        </p:blipFill>
        <p:spPr>
          <a:xfrm>
            <a:off x="2286000" y="5429160"/>
            <a:ext cx="392904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10717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Bienes complementarios - Elasticidad cruzada negativa: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Un aumento del precio de la gasolina de ¢290 por litro a ¢400 por litro ha ocasionado que la demanda por autos que emplean gasolina haya disminuido de 600 autos por mes a 500 autos por mes. Entonces la elasticidad cruzada 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Bienes sustitutos - Elasticidad cruzada positiv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l precio de los discos compactos disminuye de ¢7000 a ¢5000 y en consecuencia la demanda de cassettes se reduce de 6000 unidades a 3000. La elasticidad cruzada es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28400" y="0"/>
            <a:ext cx="5143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La elasticidad de ingreso de la dema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s la medida de sensibilidad de la demanda de un bien ante el cambio del ingreso de los consumidores, ceteris parib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i la elasticidad de ingreso es MAYOR que 1 =&gt; bien normal (elástico al ingreso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i la elasticidad está ENTRE CERO Y 1 =&gt; bien normal (inelástico al ingreso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i la elasticidad es MENOR que cero =&gt; bien inferi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Users\Cristian Blanc\Desktop\elasticidad10.jpg"/>
          <p:cNvPicPr/>
          <p:nvPr/>
        </p:nvPicPr>
        <p:blipFill>
          <a:blip r:embed="rId1"/>
          <a:stretch/>
        </p:blipFill>
        <p:spPr>
          <a:xfrm>
            <a:off x="6000840" y="2428920"/>
            <a:ext cx="235728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DE LA 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CONCEP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a elasticidad de la oferta es el </a:t>
            </a: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porcentaje en que varía la cantidad ofrecida cuando el precio  varía en un uno por c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2762280" y="4138560"/>
            <a:ext cx="341928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1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oll@uma.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0"/>
          <p:cNvSpPr/>
          <p:nvPr/>
        </p:nvSpPr>
        <p:spPr>
          <a:xfrm>
            <a:off x="4896000" y="3543480"/>
            <a:ext cx="0" cy="2514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1"/>
          <p:cNvSpPr/>
          <p:nvPr/>
        </p:nvSpPr>
        <p:spPr>
          <a:xfrm>
            <a:off x="4896000" y="6058080"/>
            <a:ext cx="281916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 rot="16200000">
            <a:off x="4283640" y="380484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3"/>
          <p:cNvSpPr/>
          <p:nvPr/>
        </p:nvSpPr>
        <p:spPr>
          <a:xfrm>
            <a:off x="6946200" y="6075360"/>
            <a:ext cx="121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r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34"/>
          <p:cNvSpPr/>
          <p:nvPr/>
        </p:nvSpPr>
        <p:spPr>
          <a:xfrm rot="5805600">
            <a:off x="5024160" y="4243320"/>
            <a:ext cx="2281320" cy="110952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fill="none" w="19746" h="21600">
                <a:moveTo>
                  <a:pt x="-1" y="0"/>
                </a:moveTo>
                <a:cubicBezTo>
                  <a:pt x="8542" y="0"/>
                  <a:pt x="16282" y="5034"/>
                  <a:pt x="19745" y="12844"/>
                </a:cubicBezTo>
              </a:path>
              <a:path stroke="0" w="19746" h="21600">
                <a:moveTo>
                  <a:pt x="-1" y="0"/>
                </a:moveTo>
                <a:cubicBezTo>
                  <a:pt x="8542" y="0"/>
                  <a:pt x="16282" y="5034"/>
                  <a:pt x="19745" y="12844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5"/>
          <p:cNvSpPr/>
          <p:nvPr/>
        </p:nvSpPr>
        <p:spPr>
          <a:xfrm>
            <a:off x="4896000" y="4537080"/>
            <a:ext cx="175248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6"/>
          <p:cNvSpPr/>
          <p:nvPr/>
        </p:nvSpPr>
        <p:spPr>
          <a:xfrm flipH="1">
            <a:off x="4895640" y="5259240"/>
            <a:ext cx="152388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7"/>
          <p:cNvSpPr/>
          <p:nvPr/>
        </p:nvSpPr>
        <p:spPr>
          <a:xfrm>
            <a:off x="6419880" y="5238720"/>
            <a:ext cx="0" cy="8380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8"/>
          <p:cNvSpPr/>
          <p:nvPr/>
        </p:nvSpPr>
        <p:spPr>
          <a:xfrm>
            <a:off x="6680160" y="4629240"/>
            <a:ext cx="0" cy="14475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9"/>
          <p:cNvSpPr/>
          <p:nvPr/>
        </p:nvSpPr>
        <p:spPr>
          <a:xfrm>
            <a:off x="4470480" y="43434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0"/>
          <p:cNvSpPr/>
          <p:nvPr/>
        </p:nvSpPr>
        <p:spPr>
          <a:xfrm>
            <a:off x="4470480" y="50436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1"/>
          <p:cNvSpPr/>
          <p:nvPr/>
        </p:nvSpPr>
        <p:spPr>
          <a:xfrm>
            <a:off x="6448320" y="6019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2"/>
          <p:cNvSpPr/>
          <p:nvPr/>
        </p:nvSpPr>
        <p:spPr>
          <a:xfrm>
            <a:off x="6118200" y="6019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3"/>
          <p:cNvSpPr/>
          <p:nvPr/>
        </p:nvSpPr>
        <p:spPr>
          <a:xfrm>
            <a:off x="4886280" y="217440"/>
            <a:ext cx="0" cy="2514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4"/>
          <p:cNvSpPr/>
          <p:nvPr/>
        </p:nvSpPr>
        <p:spPr>
          <a:xfrm>
            <a:off x="4886280" y="2732040"/>
            <a:ext cx="281952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 rot="16200000">
            <a:off x="4299480" y="4075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6"/>
          <p:cNvSpPr/>
          <p:nvPr/>
        </p:nvSpPr>
        <p:spPr>
          <a:xfrm>
            <a:off x="6936840" y="2749680"/>
            <a:ext cx="121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r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rc 47"/>
          <p:cNvSpPr/>
          <p:nvPr/>
        </p:nvSpPr>
        <p:spPr>
          <a:xfrm flipH="1" flipV="1" rot="15948000">
            <a:off x="5509080" y="687960"/>
            <a:ext cx="1143000" cy="194976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949760"/>
              <a:gd name="textAreaBottom" fmla="*/ 1950480 h 1949760"/>
            </a:gdLst>
            <a:ahLst/>
            <a:rect l="textAreaLeft" t="textAreaTop" r="textAreaRight" b="textAreaBottom"/>
            <a:pathLst>
              <a:path fill="none" w="21600" h="21564">
                <a:moveTo>
                  <a:pt x="1246" y="-1"/>
                </a:moveTo>
                <a:cubicBezTo>
                  <a:pt x="12672" y="660"/>
                  <a:pt x="21600" y="10118"/>
                  <a:pt x="21600" y="21564"/>
                </a:cubicBezTo>
              </a:path>
              <a:path stroke="0" w="21600" h="21564">
                <a:moveTo>
                  <a:pt x="1246" y="-1"/>
                </a:moveTo>
                <a:cubicBezTo>
                  <a:pt x="12672" y="660"/>
                  <a:pt x="21600" y="10118"/>
                  <a:pt x="21600" y="21564"/>
                </a:cubicBezTo>
                <a:lnTo>
                  <a:pt x="0" y="21564"/>
                </a:lnTo>
                <a:close/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8"/>
          <p:cNvSpPr/>
          <p:nvPr/>
        </p:nvSpPr>
        <p:spPr>
          <a:xfrm flipH="1">
            <a:off x="4876560" y="1981080"/>
            <a:ext cx="144756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9"/>
          <p:cNvSpPr/>
          <p:nvPr/>
        </p:nvSpPr>
        <p:spPr>
          <a:xfrm flipH="1">
            <a:off x="4876560" y="2238480"/>
            <a:ext cx="6858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0"/>
          <p:cNvSpPr/>
          <p:nvPr/>
        </p:nvSpPr>
        <p:spPr>
          <a:xfrm>
            <a:off x="5562720" y="2236680"/>
            <a:ext cx="0" cy="5335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1"/>
          <p:cNvSpPr/>
          <p:nvPr/>
        </p:nvSpPr>
        <p:spPr>
          <a:xfrm>
            <a:off x="6324480" y="1989000"/>
            <a:ext cx="0" cy="762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2"/>
          <p:cNvSpPr/>
          <p:nvPr/>
        </p:nvSpPr>
        <p:spPr>
          <a:xfrm>
            <a:off x="4500720" y="1714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3"/>
          <p:cNvSpPr/>
          <p:nvPr/>
        </p:nvSpPr>
        <p:spPr>
          <a:xfrm>
            <a:off x="4498920" y="202104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4"/>
          <p:cNvSpPr/>
          <p:nvPr/>
        </p:nvSpPr>
        <p:spPr>
          <a:xfrm>
            <a:off x="6099120" y="26877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5"/>
          <p:cNvSpPr/>
          <p:nvPr/>
        </p:nvSpPr>
        <p:spPr>
          <a:xfrm>
            <a:off x="5337360" y="26877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6"/>
          <p:cNvSpPr/>
          <p:nvPr/>
        </p:nvSpPr>
        <p:spPr>
          <a:xfrm>
            <a:off x="6063120" y="35388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áfic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ferta 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7"/>
          <p:cNvSpPr/>
          <p:nvPr/>
        </p:nvSpPr>
        <p:spPr>
          <a:xfrm>
            <a:off x="6861240" y="4343400"/>
            <a:ext cx="97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áfic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fer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n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0"/>
          <p:cNvSpPr/>
          <p:nvPr/>
        </p:nvSpPr>
        <p:spPr>
          <a:xfrm>
            <a:off x="1071720" y="857160"/>
            <a:ext cx="306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Cuando la elasticidad de la curva de oferta tiende a el infinito es una curva te tipo elá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Por su parte cuando la elasticidad de la curva es igual a cero es inel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DE LA 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a elasticidad de la oferta depe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ecnológicas del proceso productiv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disponibilidad de factores produc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iempo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 corto plazo la oferta es muy ríg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 largo plazo la oferta resulta muy elástic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9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7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Nos vemos la próxima semana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recuerden estudiar para el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Buena semana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QUILIBRIO DE MERCADRO Y MOVIMIENTOS DE  LAS CU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EQUILIBRIO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: ocurre en donde cantidad demandada = cantidad ofrecida. En donde  todos los vendedores dispuestos a vender podrán vender y todos los compradores dispuestos a comprar podrán comp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975040" y="2919240"/>
            <a:ext cx="3120840" cy="666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QUILIBRIO DE MERCADRO Y MOVIMIENTOS DE  LAS CU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856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alibri"/>
              </a:rPr>
              <a:t>CAMBIOS EN EL EQUILIBRIO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: el precio de equilibrio y la cantidad de equilibrio  cambiarán siempre que las curvas de la oferta y demanda se desplacen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Users\Cristian Blanc\Desktop\Image2202.gif"/>
          <p:cNvPicPr/>
          <p:nvPr/>
        </p:nvPicPr>
        <p:blipFill>
          <a:blip r:embed="rId1"/>
          <a:stretch/>
        </p:blipFill>
        <p:spPr>
          <a:xfrm>
            <a:off x="2548080" y="3255840"/>
            <a:ext cx="3833640" cy="648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Fijaciones de precios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Máximos y Mínim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39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PRECIO MÁX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3280" y="1571400"/>
            <a:ext cx="4114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VEAMOS UN EJEMPL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TARIFA ESCO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. Supongamos que el precio de un kilo de arroz en el mercado libre previo la cosecha es $700 y por un problema climático la cosecha se ve afectada y la oferta disminuye incrementando el precio de mercado Pe a $800 Y en este momento aparece nuestro eficiente funcionario del gobierno decretando que el precio máximo Pr $400 por kilo de arroz. ¿ qué pasa en el merca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auladeeconomia.com/equilibrio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214720"/>
            <a:ext cx="3857760" cy="3786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Fijaciones de precios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Máximos y Mínim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PRECI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UN EJEMP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L SUELD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Supongamos que el precio del quintal de trigo en el mercado libre Pe es de $6000 , pero debido a quejas de los productores al gobierno, nuestro eficiente funcionario gubernamental vuelve a aparecer para decretar que el mínimo va a ser de $8000. Al precio mínimo de $8000 la cantidad ofrecida va a ser de 8 sacos; mientras que, la cantidad demandada sólo van a ser 4 sa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auladeeconomia.com/equilibrio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2071800"/>
            <a:ext cx="3929040" cy="400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LASTICIDAD DE LA DEMAN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- precio de la demanda  es una medida  de la respuesta relativa de cantidad demandada ante los cambios en los pre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 de la demanda se mide calculan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878120" y="3932280"/>
            <a:ext cx="5681520" cy="304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EN LA 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1"/>
          <a:stretch/>
        </p:blipFill>
        <p:spPr>
          <a:xfrm>
            <a:off x="549360" y="3139920"/>
            <a:ext cx="2120760" cy="1670040"/>
          </a:xfrm>
          <a:prstGeom prst="rect">
            <a:avLst/>
          </a:prstGeom>
          <a:ln w="0">
            <a:noFill/>
          </a:ln>
        </p:spPr>
      </p:pic>
      <p:cxnSp>
        <p:nvCxnSpPr>
          <p:cNvPr id="71" name="5 Conector recto de flecha"/>
          <p:cNvCxnSpPr/>
          <p:nvPr/>
        </p:nvCxnSpPr>
        <p:spPr>
          <a:xfrm flipV="1">
            <a:off x="2642760" y="1918800"/>
            <a:ext cx="1358280" cy="16344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3975120" y="1639800"/>
            <a:ext cx="2522520" cy="1133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3906720" y="3352680"/>
            <a:ext cx="4164120" cy="854280"/>
          </a:xfrm>
          <a:prstGeom prst="rect">
            <a:avLst/>
          </a:prstGeom>
          <a:ln w="0">
            <a:noFill/>
          </a:ln>
        </p:spPr>
      </p:pic>
      <p:cxnSp>
        <p:nvCxnSpPr>
          <p:cNvPr id="76" name="10 Conector recto de flecha"/>
          <p:cNvCxnSpPr/>
          <p:nvPr/>
        </p:nvCxnSpPr>
        <p:spPr>
          <a:xfrm>
            <a:off x="2643120" y="3552840"/>
            <a:ext cx="1286640" cy="10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7" name="16 Conector recto de flecha"/>
          <p:cNvCxnSpPr/>
          <p:nvPr/>
        </p:nvCxnSpPr>
        <p:spPr>
          <a:xfrm>
            <a:off x="2642760" y="3552840"/>
            <a:ext cx="786600" cy="1224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4"/>
          <a:stretch/>
        </p:blipFill>
        <p:spPr>
          <a:xfrm>
            <a:off x="3402000" y="4565520"/>
            <a:ext cx="4937040" cy="85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838080" y="343080"/>
            <a:ext cx="0" cy="25146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838080" y="2857680"/>
            <a:ext cx="28195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 rot="16200000">
            <a:off x="238320" y="6854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232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rc 10"/>
          <p:cNvSpPr/>
          <p:nvPr/>
        </p:nvSpPr>
        <p:spPr>
          <a:xfrm rot="10262400">
            <a:off x="1442520" y="662040"/>
            <a:ext cx="2186280" cy="1271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910520" y="1044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838080" y="157464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 flipH="1">
            <a:off x="837720" y="19051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1752480" y="1581120"/>
            <a:ext cx="0" cy="12952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1"/>
          <p:cNvSpPr/>
          <p:nvPr/>
        </p:nvSpPr>
        <p:spPr>
          <a:xfrm>
            <a:off x="2895480" y="1905120"/>
            <a:ext cx="0" cy="990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383400" y="1309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383400" y="167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1519920" y="2817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9"/>
          <p:cNvSpPr/>
          <p:nvPr/>
        </p:nvSpPr>
        <p:spPr>
          <a:xfrm>
            <a:off x="2669040" y="2816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9"/>
          <p:cNvGrpSpPr/>
          <p:nvPr/>
        </p:nvGrpSpPr>
        <p:grpSpPr>
          <a:xfrm>
            <a:off x="571680" y="1571760"/>
            <a:ext cx="816840" cy="368280"/>
            <a:chOff x="571680" y="1571760"/>
            <a:chExt cx="816840" cy="368280"/>
          </a:xfrm>
        </p:grpSpPr>
        <p:sp>
          <p:nvSpPr>
            <p:cNvPr id="95" name="Rectangle 41"/>
            <p:cNvSpPr/>
            <p:nvPr/>
          </p:nvSpPr>
          <p:spPr>
            <a:xfrm>
              <a:off x="834480" y="157176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42"/>
            <p:cNvSpPr/>
            <p:nvPr/>
          </p:nvSpPr>
          <p:spPr>
            <a:xfrm>
              <a:off x="799920" y="1612800"/>
              <a:ext cx="75960" cy="3045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47"/>
            <p:cNvSpPr/>
            <p:nvPr/>
          </p:nvSpPr>
          <p:spPr>
            <a:xfrm>
              <a:off x="571680" y="161280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54"/>
          <p:cNvGrpSpPr/>
          <p:nvPr/>
        </p:nvGrpSpPr>
        <p:grpSpPr>
          <a:xfrm>
            <a:off x="1802520" y="2206800"/>
            <a:ext cx="1169280" cy="993600"/>
            <a:chOff x="1802520" y="2206800"/>
            <a:chExt cx="1169280" cy="993600"/>
          </a:xfrm>
        </p:grpSpPr>
        <p:sp>
          <p:nvSpPr>
            <p:cNvPr id="99" name="AutoShape 50"/>
            <p:cNvSpPr/>
            <p:nvPr/>
          </p:nvSpPr>
          <p:spPr>
            <a:xfrm rot="16226400">
              <a:off x="2221560" y="2095560"/>
              <a:ext cx="230040" cy="1067040"/>
            </a:xfrm>
            <a:custGeom>
              <a:avLst/>
              <a:gdLst>
                <a:gd name="textAreaLeft" fmla="*/ 0 w 230040"/>
                <a:gd name="textAreaRight" fmla="*/ 83160 w 23004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51"/>
            <p:cNvSpPr/>
            <p:nvPr/>
          </p:nvSpPr>
          <p:spPr>
            <a:xfrm>
              <a:off x="2045160" y="220680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12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3"/>
            <p:cNvSpPr/>
            <p:nvPr/>
          </p:nvSpPr>
          <p:spPr>
            <a:xfrm>
              <a:off x="1828800" y="320040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55"/>
          <p:cNvSpPr/>
          <p:nvPr/>
        </p:nvSpPr>
        <p:spPr>
          <a:xfrm>
            <a:off x="4929120" y="357120"/>
            <a:ext cx="3929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La demanda resulta ser MUY SENSIBLE a las variaciones en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Cuando el precio es P1 la cantidad demandada es Q1. Una PEQUEÑA DISMINUCIÓN DEL PRECIO, hasta P2, provocar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un GRAN AUMENTO DE LA CANTIDAD DEMANDADA, hasta 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982560" y="4551480"/>
            <a:ext cx="10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rí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 flipH="1">
            <a:off x="5483160" y="4824360"/>
            <a:ext cx="1371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 flipH="1">
            <a:off x="5482800" y="5597640"/>
            <a:ext cx="167652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6854760" y="4824360"/>
            <a:ext cx="0" cy="1523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7159680" y="5597640"/>
            <a:ext cx="0" cy="7617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5104800" y="4638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5081040" y="541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552360" y="6294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6933240" y="6294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 flipV="1">
            <a:off x="5429160" y="6340320"/>
            <a:ext cx="2868840" cy="44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 rot="16200000">
            <a:off x="4881600" y="41637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7872840" y="637524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rc 17"/>
          <p:cNvSpPr/>
          <p:nvPr/>
        </p:nvSpPr>
        <p:spPr>
          <a:xfrm flipH="1" flipV="1">
            <a:off x="6778080" y="4149720"/>
            <a:ext cx="1143000" cy="1830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</a:path>
              <a:path stroke="0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  <a:lnTo>
                  <a:pt x="0" y="20248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0"/>
          <p:cNvGrpSpPr/>
          <p:nvPr/>
        </p:nvGrpSpPr>
        <p:grpSpPr>
          <a:xfrm>
            <a:off x="5369040" y="4464000"/>
            <a:ext cx="817560" cy="1139040"/>
            <a:chOff x="5369040" y="4464000"/>
            <a:chExt cx="817560" cy="1139040"/>
          </a:xfrm>
        </p:grpSpPr>
        <p:sp>
          <p:nvSpPr>
            <p:cNvPr id="117" name="Rectangle 41"/>
            <p:cNvSpPr/>
            <p:nvPr/>
          </p:nvSpPr>
          <p:spPr>
            <a:xfrm>
              <a:off x="5632560" y="44640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42"/>
            <p:cNvSpPr/>
            <p:nvPr/>
          </p:nvSpPr>
          <p:spPr>
            <a:xfrm>
              <a:off x="5597640" y="4840920"/>
              <a:ext cx="76320" cy="76212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3"/>
            <p:cNvSpPr/>
            <p:nvPr/>
          </p:nvSpPr>
          <p:spPr>
            <a:xfrm>
              <a:off x="5369040" y="484092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4"/>
          <p:cNvGrpSpPr/>
          <p:nvPr/>
        </p:nvGrpSpPr>
        <p:grpSpPr>
          <a:xfrm>
            <a:off x="6863760" y="5697360"/>
            <a:ext cx="700200" cy="998280"/>
            <a:chOff x="6863760" y="5697360"/>
            <a:chExt cx="700200" cy="998280"/>
          </a:xfrm>
        </p:grpSpPr>
        <p:sp>
          <p:nvSpPr>
            <p:cNvPr id="121" name="AutoShape 45"/>
            <p:cNvSpPr/>
            <p:nvPr/>
          </p:nvSpPr>
          <p:spPr>
            <a:xfrm rot="16226400">
              <a:off x="6894360" y="5970600"/>
              <a:ext cx="232920" cy="292680"/>
            </a:xfrm>
            <a:custGeom>
              <a:avLst/>
              <a:gdLst>
                <a:gd name="textAreaLeft" fmla="*/ 0 w 232920"/>
                <a:gd name="textAreaRight" fmla="*/ 84240 w 232920"/>
                <a:gd name="textAreaTop" fmla="*/ 7560 h 292680"/>
                <a:gd name="textAreaBottom" fmla="*/ 285120 h 29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6"/>
            <p:cNvSpPr/>
            <p:nvPr/>
          </p:nvSpPr>
          <p:spPr>
            <a:xfrm>
              <a:off x="7009920" y="569736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2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7"/>
            <p:cNvSpPr/>
            <p:nvPr/>
          </p:nvSpPr>
          <p:spPr>
            <a:xfrm>
              <a:off x="6871320" y="6695640"/>
              <a:ext cx="313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14"/>
          <p:cNvSpPr/>
          <p:nvPr/>
        </p:nvSpPr>
        <p:spPr>
          <a:xfrm flipH="1">
            <a:off x="5429160" y="3929040"/>
            <a:ext cx="46080" cy="2428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642960" y="3571920"/>
            <a:ext cx="3500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a demanda resulta ser muy POCO SENSIBLE a las variaciones en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uando el precio es P1 la cantidad demandada es 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na GRAN DISMINUCIÓN DEL PRECIO, hasta P2, provocará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EQUEÑO AUMENTO DE LA CANTIDAD DEMANDADA, hasta Q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oog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o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oog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7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65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15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o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65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oog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15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650"/>
                            </p:stCondLst>
                            <p:childTnLst>
                              <p:par>
                                <p:cTn id="1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hoesquea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150"/>
                            </p:stCondLst>
                            <p:childTnLst>
                              <p:par>
                                <p:cTn id="14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umbek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65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oog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hoesquea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umbek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833160" y="1068480"/>
            <a:ext cx="10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rí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838080" y="343080"/>
            <a:ext cx="0" cy="2514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838080" y="28576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 rot="16200000">
            <a:off x="238320" y="6854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232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rc 7"/>
          <p:cNvSpPr/>
          <p:nvPr/>
        </p:nvSpPr>
        <p:spPr>
          <a:xfrm rot="10581600">
            <a:off x="1218960" y="742320"/>
            <a:ext cx="2495520" cy="123660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1236600"/>
              <a:gd name="textAreaBottom" fmla="*/ 1236600 h 1236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910520" y="1044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 flipH="1">
            <a:off x="837720" y="19051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1752480" y="1581120"/>
            <a:ext cx="0" cy="12952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2895480" y="1905120"/>
            <a:ext cx="0" cy="990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383400" y="1309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383400" y="167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1519920" y="2817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2669040" y="2816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 flipH="1">
            <a:off x="5334120" y="1352520"/>
            <a:ext cx="13716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 flipH="1">
            <a:off x="5334120" y="2114640"/>
            <a:ext cx="167616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6705720" y="1352520"/>
            <a:ext cx="0" cy="15238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>
            <a:off x="7010280" y="2114640"/>
            <a:ext cx="0" cy="7617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4955400" y="1155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4955400" y="1898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6402960" y="2811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6783840" y="2811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5357880" y="357120"/>
            <a:ext cx="0" cy="2514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329080" y="28576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 rot="16200000">
            <a:off x="4732560" y="6807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7723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rc 38"/>
          <p:cNvSpPr/>
          <p:nvPr/>
        </p:nvSpPr>
        <p:spPr>
          <a:xfrm flipH="1" flipV="1">
            <a:off x="6628680" y="666720"/>
            <a:ext cx="1143000" cy="1830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</a:path>
              <a:path stroke="0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  <a:lnTo>
                  <a:pt x="0" y="20248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3"/>
          <p:cNvSpPr/>
          <p:nvPr/>
        </p:nvSpPr>
        <p:spPr>
          <a:xfrm>
            <a:off x="838080" y="157464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4"/>
          <p:cNvSpPr/>
          <p:nvPr/>
        </p:nvSpPr>
        <p:spPr>
          <a:xfrm>
            <a:off x="428760" y="3500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a elasticidad representada en un gráfico no depende sólo de su pendiente, sino de la proximidad a los ej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6705720" y="459576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 elasticidad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6"/>
          <p:cNvSpPr/>
          <p:nvPr/>
        </p:nvSpPr>
        <p:spPr>
          <a:xfrm>
            <a:off x="838080" y="4495680"/>
            <a:ext cx="0" cy="1695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7"/>
          <p:cNvSpPr/>
          <p:nvPr/>
        </p:nvSpPr>
        <p:spPr>
          <a:xfrm>
            <a:off x="838080" y="61912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8"/>
          <p:cNvSpPr/>
          <p:nvPr/>
        </p:nvSpPr>
        <p:spPr>
          <a:xfrm rot="16200000">
            <a:off x="236880" y="46112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9"/>
          <p:cNvSpPr/>
          <p:nvPr/>
        </p:nvSpPr>
        <p:spPr>
          <a:xfrm>
            <a:off x="3227040" y="62262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rc 50"/>
          <p:cNvSpPr/>
          <p:nvPr/>
        </p:nvSpPr>
        <p:spPr>
          <a:xfrm rot="10581600">
            <a:off x="1218960" y="4668120"/>
            <a:ext cx="2495520" cy="123660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1236600"/>
              <a:gd name="textAreaBottom" fmla="*/ 1236600 h 1236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1"/>
          <p:cNvSpPr/>
          <p:nvPr/>
        </p:nvSpPr>
        <p:spPr>
          <a:xfrm>
            <a:off x="1913400" y="49705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 elasticidad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2"/>
          <p:cNvSpPr/>
          <p:nvPr/>
        </p:nvSpPr>
        <p:spPr>
          <a:xfrm flipH="1">
            <a:off x="837720" y="58309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3"/>
          <p:cNvSpPr/>
          <p:nvPr/>
        </p:nvSpPr>
        <p:spPr>
          <a:xfrm>
            <a:off x="1752480" y="5486400"/>
            <a:ext cx="0" cy="7239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4"/>
          <p:cNvSpPr/>
          <p:nvPr/>
        </p:nvSpPr>
        <p:spPr>
          <a:xfrm>
            <a:off x="2895480" y="5791320"/>
            <a:ext cx="0" cy="438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383400" y="5235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383400" y="5599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1519920" y="61516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2669040" y="61498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9"/>
          <p:cNvSpPr/>
          <p:nvPr/>
        </p:nvSpPr>
        <p:spPr>
          <a:xfrm flipH="1">
            <a:off x="6095520" y="4915080"/>
            <a:ext cx="30492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0"/>
          <p:cNvSpPr/>
          <p:nvPr/>
        </p:nvSpPr>
        <p:spPr>
          <a:xfrm flipH="1">
            <a:off x="6095880" y="5676840"/>
            <a:ext cx="60984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1"/>
          <p:cNvSpPr/>
          <p:nvPr/>
        </p:nvSpPr>
        <p:spPr>
          <a:xfrm>
            <a:off x="6400800" y="4876920"/>
            <a:ext cx="0" cy="15238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2"/>
          <p:cNvSpPr/>
          <p:nvPr/>
        </p:nvSpPr>
        <p:spPr>
          <a:xfrm>
            <a:off x="6705720" y="5638680"/>
            <a:ext cx="0" cy="762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3"/>
          <p:cNvSpPr/>
          <p:nvPr/>
        </p:nvSpPr>
        <p:spPr>
          <a:xfrm>
            <a:off x="5717520" y="4680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4"/>
          <p:cNvSpPr/>
          <p:nvPr/>
        </p:nvSpPr>
        <p:spPr>
          <a:xfrm>
            <a:off x="5717520" y="5423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5"/>
          <p:cNvSpPr/>
          <p:nvPr/>
        </p:nvSpPr>
        <p:spPr>
          <a:xfrm>
            <a:off x="6098040" y="63356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6"/>
          <p:cNvSpPr/>
          <p:nvPr/>
        </p:nvSpPr>
        <p:spPr>
          <a:xfrm>
            <a:off x="6479280" y="63356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7"/>
          <p:cNvSpPr/>
          <p:nvPr/>
        </p:nvSpPr>
        <p:spPr>
          <a:xfrm flipH="1">
            <a:off x="6090840" y="4038480"/>
            <a:ext cx="4680" cy="23432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8"/>
          <p:cNvSpPr/>
          <p:nvPr/>
        </p:nvSpPr>
        <p:spPr>
          <a:xfrm>
            <a:off x="6091200" y="638172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9"/>
          <p:cNvSpPr/>
          <p:nvPr/>
        </p:nvSpPr>
        <p:spPr>
          <a:xfrm rot="16200000">
            <a:off x="5494680" y="4204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0"/>
          <p:cNvSpPr/>
          <p:nvPr/>
        </p:nvSpPr>
        <p:spPr>
          <a:xfrm>
            <a:off x="7570440" y="59022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71"/>
          <p:cNvSpPr/>
          <p:nvPr/>
        </p:nvSpPr>
        <p:spPr>
          <a:xfrm flipH="1" flipV="1">
            <a:off x="6323760" y="4191120"/>
            <a:ext cx="1143000" cy="1830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</a:path>
              <a:path stroke="0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  <a:lnTo>
                  <a:pt x="0" y="20248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2"/>
          <p:cNvSpPr/>
          <p:nvPr/>
        </p:nvSpPr>
        <p:spPr>
          <a:xfrm>
            <a:off x="838080" y="550080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500"/>
                            </p:stCondLst>
                            <p:childTnLst>
                              <p:par>
                                <p:cTn id="2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75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650"/>
                            </p:stCondLst>
                            <p:childTnLst>
                              <p:par>
                                <p:cTn id="2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50"/>
                            </p:stCondLst>
                            <p:childTnLst>
                              <p:par>
                                <p:cTn id="2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650"/>
                            </p:stCondLst>
                            <p:childTnLst>
                              <p:par>
                                <p:cTn id="2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150"/>
                            </p:stCondLst>
                            <p:childTnLst>
                              <p:par>
                                <p:cTn id="2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650"/>
                            </p:stCondLst>
                            <p:childTnLst>
                              <p:par>
                                <p:cTn id="2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150"/>
                            </p:stCondLst>
                            <p:childTnLst>
                              <p:par>
                                <p:cTn id="2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650"/>
                            </p:stCondLst>
                            <p:childTnLst>
                              <p:par>
                                <p:cTn id="3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150"/>
                            </p:stCondLst>
                            <p:childTnLst>
                              <p:par>
                                <p:cTn id="3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650"/>
                            </p:stCondLst>
                            <p:childTnLst>
                              <p:par>
                                <p:cTn id="3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150"/>
                            </p:stCondLst>
                            <p:childTnLst>
                              <p:par>
                                <p:cTn id="3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650"/>
                            </p:stCondLst>
                            <p:childTnLst>
                              <p:par>
                                <p:cTn id="3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150"/>
                            </p:stCondLst>
                            <p:childTnLst>
                              <p:par>
                                <p:cTn id="3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650"/>
                            </p:stCondLst>
                            <p:childTnLst>
                              <p:par>
                                <p:cTn id="3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150"/>
                            </p:stCondLst>
                            <p:childTnLst>
                              <p:par>
                                <p:cTn id="3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650"/>
                            </p:stCondLst>
                            <p:childTnLst>
                              <p:par>
                                <p:cTn id="3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150"/>
                            </p:stCondLst>
                            <p:childTnLst>
                              <p:par>
                                <p:cTn id="3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650"/>
                            </p:stCondLst>
                            <p:childTnLst>
                              <p:par>
                                <p:cTn id="3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150"/>
                            </p:stCondLst>
                            <p:childTnLst>
                              <p:par>
                                <p:cTn id="3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650"/>
                            </p:stCondLst>
                            <p:childTnLst>
                              <p:par>
                                <p:cTn id="3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2:04:54Z</dcterms:created>
  <dc:creator>Cristian Blanc</dc:creator>
  <dc:description/>
  <dc:language>en-US</dc:language>
  <cp:lastModifiedBy>Taller</cp:lastModifiedBy>
  <dcterms:modified xsi:type="dcterms:W3CDTF">2010-04-12T20:06:34Z</dcterms:modified>
  <cp:revision>34</cp:revision>
  <dc:subject/>
  <dc:title>Microeconomía</dc:title>
</cp:coreProperties>
</file>