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8640-8144-4B66-8C67-0AD652CE993D}"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El desenvolvimiento económico esta determinado por el concepto de la soceidad industrial del s. XX. Implica la formulación de políticas públicas en el campo de la producción que mantienen entre sí una coherencia lógica que permite habalr de modelos de desarrollo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2. cuando un grupo, se vuelve actor político, es cuando “orientan su acción en términos de consecución del poder, ya sea concibiendo a éste como n medio o como un fin”</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80AB-518C-46F3-85B1-755520967ACE}"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335E3-FDF2-4317-B949-6EF23127A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50ED8-9FFB-42DB-84EC-B1AEA5840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B1E89-3079-4F58-A972-1241E1821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B4049-27B2-4830-967F-209DE4339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CE099-7619-456F-8849-18A611BC2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03711-E929-4ABE-8D05-630D15AFA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BD481-E57F-46B2-8982-AACB63B05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F60E6-A0D6-4635-884E-2D1F45444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656F8-DE6C-4729-A558-2B90C852D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85F30-17E4-4124-AC03-1C49F863E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FC8A8-1A32-41A3-9640-BF2A8C331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E8066-C57C-4B93-BAE0-05B5637AB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57D46-3F9F-4290-A9A0-E995F9FCB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3EFFE-8221-4322-9F66-B3C15089E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BCBF3-00F2-4124-8DF4-ED8E37880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99A5B-C2DC-4C25-ADD7-62C0DFD31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A5A36-DCEB-442E-9CE8-DB6EEA153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6620DD-7F1A-4C0E-9C1E-3E4BF065EE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EFE6FA-BA2D-4786-9C0B-9A064CDF44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343FE6-16D9-4CFC-B11B-A8EAC4374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6095E7-9C45-4C47-B0C3-F294B6B0B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B6215-180A-440A-B8FD-D3AC8E9AC3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CF8B5-E913-4171-B347-EC657C52F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BCEA13-84D4-415F-A8BD-7BF91E533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6AEB5-BA1A-440E-93E1-11FFD94C1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AD1FB-EFBA-4AB7-8512-FB13183CA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9BE13-F7AD-4A56-BCD6-B1C7724E3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572EA-9B6D-4854-B525-2E5E36C3D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54FDDE-A1F5-4E23-B7E8-2423FA4ED5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5A8EEB-F8A4-4476-9C0E-0A8D28D5FD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C584A1-9B14-4143-BA2A-340E10134E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4445A-C777-43A7-A18A-543F00B00A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E9B1F3-0462-481A-AFEF-7CD5FA5A4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08E1D-42A9-4071-AB73-770C7D61F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D7887-7781-4CCE-BD62-CAEF30891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6245F0-84CA-4785-9D28-89C87C6AF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03748B-2150-453C-9747-5A8659728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B13491-53D6-4C18-B643-4C26E2056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3D272-E701-4F5A-B31F-C5BE2D7D0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07F6F-7A4E-42AD-A5E1-7EDC887C84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F265B3-EB5F-420E-88D8-EFFD260D03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55A7B3-F577-42C4-BC49-74AD1604AD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13FC8A-9CFE-491E-8A25-81CA023D00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91E139-715B-49BF-A57A-63A57E4DB9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0E231-9BC1-4277-A84B-AC41F629B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0A9A30-1FBE-4731-88E9-637D3FCC45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26738A-C587-48D0-A0AF-EBCBC7D7D9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9B7A5C-9200-4177-814A-918C2D1AB6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6EBBB7-8D70-4A2C-A798-F1FCFDD631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60F8A5-81F4-4152-BC22-A7D35C2A43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F1794-63B5-404A-AF8F-B8B686316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76FDA7-AFE9-49CE-AE86-C44AF7B56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56F6B-7C06-46B3-BFF7-BE9B9E06D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2DEB66-B03B-49BE-B665-032B20D339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7EC348-D82B-407E-A2AB-1E8381F21D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36FE5-7AA7-46E0-A7F3-D1C85F4BE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9C3E48-F266-42C3-9025-9047100162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0280CF-B684-42F8-B8B5-7C3B57AA26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B9FBFE-482A-474E-88F5-E786BE4C25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632155-8B0E-4650-8BBC-718D41D5EB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4C3A85-D124-495A-AD60-B83020AB38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5DEA37-91A9-422C-95F7-665A1062A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F02483-D70C-4678-A7A9-8ED67BE8CD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4D018-A387-42C5-A93E-5CC27AB1E4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72936-3E72-44AD-BED5-058219BECF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13A456-CDF5-4A6F-9A30-74EEFE9C6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DB29C-D47C-4910-A6F8-385A19DFC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481B28-11B4-4CFE-93BD-AC1A2317A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8BA168-AD78-41F7-B634-0163660B37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CE1802-EFE4-4C2F-822F-F3609984A5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26351A-9462-4E61-A621-BBF83DC48B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2A967C-BF32-4171-9A18-2692B66083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C562C7-A747-4E38-A6E2-283694A2A8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491CE1-7BE8-4D27-9AED-9C13D4A660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C2B2B4-76BC-4916-AE42-BB7D352C1C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9AA20E-629C-4A76-B220-97CA7A73D8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3420E-2CDF-4D75-A27B-94888F6A92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EF0DB-980E-4E93-B4D2-5C760961E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ACD24A-EB5E-4D8B-9409-20C4DFBE0B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93B86B-8DF9-4DE8-843D-437ACDFDE4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528AD9-2BAA-41EC-B2A2-8043C56543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90BC5D-3F60-468C-889E-36725CD58B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238C6B-2075-45AE-BE16-E1FFE56DB8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7A595-7F64-47C0-9D87-54DB3FA63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76B5-9E51-46E2-9236-0BD32307835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7061-551F-48EF-B6CF-D0E5750F89CF}"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6B5C-60D2-43EA-AB9E-54736360B430}"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EA39-63E2-4728-8D3C-5171BA6E9F7B}"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83AD-C48C-4C1E-93EF-D3370FC7F4E4}"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57C6-05E8-434D-B59D-185B95C8D9D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1839-BEF7-4390-A05F-D57669CAD9E3}"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3757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Bases sociales del Desarrollo Político Chileno. Matías Tagle.</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Content Placeholder 3" descr=""/>
          <p:cNvPicPr/>
          <p:nvPr/>
        </p:nvPicPr>
        <p:blipFill>
          <a:blip r:embed="rId2"/>
          <a:stretch/>
        </p:blipFill>
        <p:spPr>
          <a:xfrm>
            <a:off x="360360" y="1768320"/>
            <a:ext cx="8369280" cy="4638960"/>
          </a:xfrm>
          <a:prstGeom prst="rect">
            <a:avLst/>
          </a:prstGeom>
          <a:ln w="0">
            <a:noFill/>
          </a:ln>
        </p:spPr>
      </p:pic>
      <p:sp>
        <p:nvSpPr>
          <p:cNvPr id="356" name="TextBox 4"/>
          <p:cNvSpPr/>
          <p:nvPr/>
        </p:nvSpPr>
        <p:spPr>
          <a:xfrm>
            <a:off x="7072200" y="2857680"/>
            <a:ext cx="16430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Reforma constitucional sobre limitación de la iniciativa parlamentaria en materia de gastos fiscales.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189000" y="152280"/>
            <a:ext cx="8504280" cy="1262160"/>
          </a:xfrm>
          <a:prstGeom prst="rect">
            <a:avLst/>
          </a:prstGeom>
          <a:ln w="0">
            <a:noFill/>
          </a:ln>
        </p:spPr>
      </p:pic>
      <p:pic>
        <p:nvPicPr>
          <p:cNvPr id="358" name="Content Placeholder 3" descr=""/>
          <p:cNvPicPr/>
          <p:nvPr/>
        </p:nvPicPr>
        <p:blipFill>
          <a:blip r:embed="rId2"/>
          <a:stretch/>
        </p:blipFill>
        <p:spPr>
          <a:xfrm>
            <a:off x="341280" y="1768320"/>
            <a:ext cx="8442360" cy="463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Área de pugna política</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tendemos por área de pugna política a una agrupación de problemas de naturaleza semejante y que mantiene entre sí algún tipo de relación (…) puede ser un </a:t>
            </a:r>
            <a:r>
              <a:rPr b="0" i="1" lang="es-CL" sz="3200" spc="-1" strike="noStrike">
                <a:solidFill>
                  <a:srgbClr val="ffffff"/>
                </a:solidFill>
                <a:latin typeface="Corbel"/>
              </a:rPr>
              <a:t>problema social</a:t>
            </a:r>
            <a:r>
              <a:rPr b="0" lang="es-CL" sz="3200" spc="-1" strike="noStrike">
                <a:solidFill>
                  <a:srgbClr val="ffffff"/>
                </a:solidFill>
                <a:latin typeface="Corbel"/>
              </a:rPr>
              <a:t> que aparece y reaparece bajo la misma o en distintas formas durante el periodo en estudio.</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19240" y="-6480"/>
            <a:ext cx="8474040" cy="1427400"/>
          </a:xfrm>
          <a:prstGeom prst="rect">
            <a:avLst/>
          </a:prstGeom>
          <a:ln w="0">
            <a:noFill/>
          </a:ln>
        </p:spPr>
      </p:pic>
      <p:pic>
        <p:nvPicPr>
          <p:cNvPr id="315" name="Content Placeholder 5" descr=""/>
          <p:cNvPicPr/>
          <p:nvPr/>
        </p:nvPicPr>
        <p:blipFill>
          <a:blip r:embed="rId2"/>
          <a:stretch/>
        </p:blipFill>
        <p:spPr>
          <a:xfrm>
            <a:off x="371520" y="281160"/>
            <a:ext cx="8339040" cy="4870440"/>
          </a:xfrm>
          <a:prstGeom prst="rect">
            <a:avLst/>
          </a:prstGeom>
          <a:ln w="0">
            <a:noFill/>
          </a:ln>
        </p:spPr>
      </p:pic>
      <p:sp>
        <p:nvSpPr>
          <p:cNvPr id="316" name="TextBox 6"/>
          <p:cNvSpPr/>
          <p:nvPr/>
        </p:nvSpPr>
        <p:spPr>
          <a:xfrm>
            <a:off x="285840" y="3857760"/>
            <a:ext cx="2357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Hay momentos en que el debate político se centra en torno a los postulados ideológicos de los contendores.</a:t>
            </a:r>
            <a:endParaRPr b="0" lang="en-US" sz="1800" spc="-1" strike="noStrike">
              <a:solidFill>
                <a:srgbClr val="ffffff"/>
              </a:solidFill>
              <a:latin typeface="Corbel"/>
            </a:endParaRPr>
          </a:p>
        </p:txBody>
      </p:sp>
      <p:grpSp>
        <p:nvGrpSpPr>
          <p:cNvPr id="317" name="TextBox 7"/>
          <p:cNvGrpSpPr/>
          <p:nvPr/>
        </p:nvGrpSpPr>
        <p:grpSpPr>
          <a:xfrm>
            <a:off x="-103320" y="5321160"/>
            <a:ext cx="2791080" cy="1798920"/>
            <a:chOff x="-103320" y="5321160"/>
            <a:chExt cx="2791080" cy="1798920"/>
          </a:xfrm>
        </p:grpSpPr>
        <p:pic>
          <p:nvPicPr>
            <p:cNvPr id="318" name="TextBox 7" descr=""/>
            <p:cNvPicPr/>
            <p:nvPr/>
          </p:nvPicPr>
          <p:blipFill>
            <a:blip r:embed="rId3"/>
            <a:stretch/>
          </p:blipFill>
          <p:spPr>
            <a:xfrm>
              <a:off x="-103320" y="5321160"/>
              <a:ext cx="2791080" cy="1616040"/>
            </a:xfrm>
            <a:prstGeom prst="rect">
              <a:avLst/>
            </a:prstGeom>
            <a:ln w="0">
              <a:noFill/>
            </a:ln>
          </p:spPr>
        </p:pic>
        <p:sp>
          <p:nvSpPr>
            <p:cNvPr id="319" name=""/>
            <p:cNvSpPr/>
            <p:nvPr/>
          </p:nvSpPr>
          <p:spPr>
            <a:xfrm>
              <a:off x="0" y="5380200"/>
              <a:ext cx="2571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on definiciones de quienes participan  en el sistema político, y el cómo se explica su participación en él.</a:t>
              </a:r>
              <a:endParaRPr b="0" lang="en-US" sz="1800" spc="-1" strike="noStrike">
                <a:solidFill>
                  <a:srgbClr val="ffffff"/>
                </a:solidFill>
                <a:latin typeface="Corbel"/>
              </a:endParaRPr>
            </a:p>
          </p:txBody>
        </p:sp>
      </p:grpSp>
      <p:sp>
        <p:nvSpPr>
          <p:cNvPr id="320" name="TextBox 8"/>
          <p:cNvSpPr/>
          <p:nvPr/>
        </p:nvSpPr>
        <p:spPr>
          <a:xfrm>
            <a:off x="26431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No hay necesariamente, coherencia lógica dentro de la situación chilena.</a:t>
            </a:r>
            <a:endParaRPr b="0" lang="en-US" sz="1800" spc="-1" strike="noStrike">
              <a:solidFill>
                <a:srgbClr val="ffffff"/>
              </a:solidFill>
              <a:latin typeface="Corbel"/>
            </a:endParaRPr>
          </a:p>
        </p:txBody>
      </p:sp>
      <p:grpSp>
        <p:nvGrpSpPr>
          <p:cNvPr id="321" name="TextBox 9"/>
          <p:cNvGrpSpPr/>
          <p:nvPr/>
        </p:nvGrpSpPr>
        <p:grpSpPr>
          <a:xfrm>
            <a:off x="1962000" y="5321160"/>
            <a:ext cx="2878200" cy="1798920"/>
            <a:chOff x="1962000" y="5321160"/>
            <a:chExt cx="2878200" cy="1798920"/>
          </a:xfrm>
        </p:grpSpPr>
        <p:pic>
          <p:nvPicPr>
            <p:cNvPr id="322" name="TextBox 9" descr=""/>
            <p:cNvPicPr/>
            <p:nvPr/>
          </p:nvPicPr>
          <p:blipFill>
            <a:blip r:embed="rId4"/>
            <a:stretch/>
          </p:blipFill>
          <p:spPr>
            <a:xfrm>
              <a:off x="1962000" y="5321160"/>
              <a:ext cx="2878200" cy="1616040"/>
            </a:xfrm>
            <a:prstGeom prst="rect">
              <a:avLst/>
            </a:prstGeom>
            <a:ln w="0">
              <a:noFill/>
            </a:ln>
          </p:spPr>
        </p:pic>
        <p:sp>
          <p:nvSpPr>
            <p:cNvPr id="323" name=""/>
            <p:cNvSpPr/>
            <p:nvPr/>
          </p:nvSpPr>
          <p:spPr>
            <a:xfrm>
              <a:off x="2071800" y="538020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asta el sXX imperaba el espíritu librecambista, por lo cual no es posible de hablar de pol. Pub. social</a:t>
              </a:r>
              <a:endParaRPr b="0" lang="en-US" sz="1800" spc="-1" strike="noStrike">
                <a:solidFill>
                  <a:srgbClr val="ffffff"/>
                </a:solidFill>
                <a:latin typeface="Corbel"/>
              </a:endParaRPr>
            </a:p>
          </p:txBody>
        </p:sp>
      </p:grpSp>
      <p:sp>
        <p:nvSpPr>
          <p:cNvPr id="324" name="TextBox 10"/>
          <p:cNvSpPr/>
          <p:nvPr/>
        </p:nvSpPr>
        <p:spPr>
          <a:xfrm>
            <a:off x="45007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esarrollo democrático social e ingreso de nuevos grupos al sistema.</a:t>
            </a:r>
            <a:endParaRPr b="0" lang="en-US" sz="1800" spc="-1" strike="noStrike">
              <a:solidFill>
                <a:srgbClr val="ffffff"/>
              </a:solidFill>
              <a:latin typeface="Corbel"/>
            </a:endParaRPr>
          </a:p>
        </p:txBody>
      </p:sp>
      <p:sp>
        <p:nvSpPr>
          <p:cNvPr id="325" name="TextBox 11"/>
          <p:cNvSpPr/>
          <p:nvPr/>
        </p:nvSpPr>
        <p:spPr>
          <a:xfrm>
            <a:off x="6429240" y="3929040"/>
            <a:ext cx="2000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lo referente a la constitución jurídica del Estado</a:t>
            </a:r>
            <a:endParaRPr b="0" lang="en-US" sz="1800" spc="-1" strike="noStrike">
              <a:solidFill>
                <a:srgbClr val="ffffff"/>
              </a:solidFill>
              <a:latin typeface="Corbel"/>
            </a:endParaRPr>
          </a:p>
        </p:txBody>
      </p:sp>
      <p:grpSp>
        <p:nvGrpSpPr>
          <p:cNvPr id="326" name="TextBox 12"/>
          <p:cNvGrpSpPr/>
          <p:nvPr/>
        </p:nvGrpSpPr>
        <p:grpSpPr>
          <a:xfrm>
            <a:off x="4108320" y="5321160"/>
            <a:ext cx="2846520" cy="2073240"/>
            <a:chOff x="4108320" y="5321160"/>
            <a:chExt cx="2846520" cy="2073240"/>
          </a:xfrm>
        </p:grpSpPr>
        <p:pic>
          <p:nvPicPr>
            <p:cNvPr id="327" name="TextBox 12" descr=""/>
            <p:cNvPicPr/>
            <p:nvPr/>
          </p:nvPicPr>
          <p:blipFill>
            <a:blip r:embed="rId5"/>
            <a:stretch/>
          </p:blipFill>
          <p:spPr>
            <a:xfrm>
              <a:off x="4108320" y="5321160"/>
              <a:ext cx="2846520" cy="1616040"/>
            </a:xfrm>
            <a:prstGeom prst="rect">
              <a:avLst/>
            </a:prstGeom>
            <a:ln w="0">
              <a:noFill/>
            </a:ln>
          </p:spPr>
        </p:pic>
        <p:sp>
          <p:nvSpPr>
            <p:cNvPr id="328" name=""/>
            <p:cNvSpPr/>
            <p:nvPr/>
          </p:nvSpPr>
          <p:spPr>
            <a:xfrm>
              <a:off x="4214880" y="538020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mandas de inclusión al sist. Y posteriormente en el reclamo de la participación. No necesariamente políticos</a:t>
              </a:r>
              <a:endParaRPr b="0" lang="en-US" sz="1800" spc="-1" strike="noStrike">
                <a:solidFill>
                  <a:srgbClr val="ffffff"/>
                </a:solidFill>
                <a:latin typeface="Corbel"/>
              </a:endParaRPr>
            </a:p>
          </p:txBody>
        </p:sp>
      </p:grpSp>
      <p:grpSp>
        <p:nvGrpSpPr>
          <p:cNvPr id="329" name="TextBox 13"/>
          <p:cNvGrpSpPr/>
          <p:nvPr/>
        </p:nvGrpSpPr>
        <p:grpSpPr>
          <a:xfrm>
            <a:off x="6394320" y="5321160"/>
            <a:ext cx="2882880" cy="2347560"/>
            <a:chOff x="6394320" y="5321160"/>
            <a:chExt cx="2882880" cy="2347560"/>
          </a:xfrm>
        </p:grpSpPr>
        <p:pic>
          <p:nvPicPr>
            <p:cNvPr id="330" name="TextBox 13" descr=""/>
            <p:cNvPicPr/>
            <p:nvPr/>
          </p:nvPicPr>
          <p:blipFill>
            <a:blip r:embed="rId6"/>
            <a:stretch/>
          </p:blipFill>
          <p:spPr>
            <a:xfrm>
              <a:off x="6394320" y="5321160"/>
              <a:ext cx="2882880" cy="1616040"/>
            </a:xfrm>
            <a:prstGeom prst="rect">
              <a:avLst/>
            </a:prstGeom>
            <a:ln w="0">
              <a:noFill/>
            </a:ln>
          </p:spPr>
        </p:pic>
        <p:sp>
          <p:nvSpPr>
            <p:cNvPr id="331" name=""/>
            <p:cNvSpPr/>
            <p:nvPr/>
          </p:nvSpPr>
          <p:spPr>
            <a:xfrm>
              <a:off x="6500880" y="5380200"/>
              <a:ext cx="2643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iscusión de la redacción de la conformación de textos constitucionales, como discusión política</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Effect filter="fade" transition="in">
                                      <p:cBhvr additive="repl">
                                        <p:cTn id="7" dur="2000"/>
                                        <p:tgtEl>
                                          <p:spTgt spid="3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 dur="2000"/>
                                        <p:tgtEl>
                                          <p:spTgt spid="32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7" dur="2000"/>
                                        <p:tgtEl>
                                          <p:spTgt spid="32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25">
                                            <p:txEl>
                                              <p:pRg st="0" end="0"/>
                                            </p:txEl>
                                          </p:spTgt>
                                        </p:tgtEl>
                                        <p:attrNameLst>
                                          <p:attrName>style.visibility</p:attrName>
                                        </p:attrNameLst>
                                      </p:cBhvr>
                                      <p:to>
                                        <p:strVal val="visible"/>
                                      </p:to>
                                    </p:set>
                                    <p:animEffect filter="fade" transition="in">
                                      <p:cBhvr additive="repl">
                                        <p:cTn id="22" dur="20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pic>
        <p:nvPicPr>
          <p:cNvPr id="333" name="Content Placeholder 3" descr=""/>
          <p:cNvPicPr/>
          <p:nvPr/>
        </p:nvPicPr>
        <p:blipFill>
          <a:blip r:embed="rId2"/>
          <a:stretch/>
        </p:blipFill>
        <p:spPr>
          <a:xfrm>
            <a:off x="1706400" y="1536840"/>
            <a:ext cx="5516640" cy="4041720"/>
          </a:xfrm>
          <a:prstGeom prst="rect">
            <a:avLst/>
          </a:prstGeom>
          <a:ln w="0">
            <a:noFill/>
          </a:ln>
        </p:spPr>
      </p:pic>
      <p:sp>
        <p:nvSpPr>
          <p:cNvPr id="334" name="TextBox 4"/>
          <p:cNvSpPr/>
          <p:nvPr/>
        </p:nvSpPr>
        <p:spPr>
          <a:xfrm>
            <a:off x="285840" y="3857760"/>
            <a:ext cx="228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1.- en lo referente a encuentros bélicos con actores internacionales y 2.- seguridad y desarrollo del Estado</a:t>
            </a:r>
            <a:endParaRPr b="0" lang="en-US" sz="1800" spc="-1" strike="noStrike">
              <a:solidFill>
                <a:srgbClr val="ffffff"/>
              </a:solidFill>
              <a:latin typeface="Corbel"/>
            </a:endParaRPr>
          </a:p>
        </p:txBody>
      </p:sp>
      <p:grpSp>
        <p:nvGrpSpPr>
          <p:cNvPr id="335" name="TextBox 5"/>
          <p:cNvGrpSpPr/>
          <p:nvPr/>
        </p:nvGrpSpPr>
        <p:grpSpPr>
          <a:xfrm>
            <a:off x="6394320" y="3870360"/>
            <a:ext cx="2799000" cy="2170080"/>
            <a:chOff x="6394320" y="3870360"/>
            <a:chExt cx="2799000" cy="2170080"/>
          </a:xfrm>
        </p:grpSpPr>
        <p:pic>
          <p:nvPicPr>
            <p:cNvPr id="336" name="TextBox 5" descr=""/>
            <p:cNvPicPr/>
            <p:nvPr/>
          </p:nvPicPr>
          <p:blipFill>
            <a:blip r:embed="rId3"/>
            <a:stretch/>
          </p:blipFill>
          <p:spPr>
            <a:xfrm>
              <a:off x="6394320" y="3870360"/>
              <a:ext cx="2799000" cy="2170080"/>
            </a:xfrm>
            <a:prstGeom prst="rect">
              <a:avLst/>
            </a:prstGeom>
            <a:ln w="0">
              <a:noFill/>
            </a:ln>
          </p:spPr>
        </p:pic>
        <p:sp>
          <p:nvSpPr>
            <p:cNvPr id="337" name=""/>
            <p:cNvSpPr/>
            <p:nvPr/>
          </p:nvSpPr>
          <p:spPr>
            <a:xfrm>
              <a:off x="6500880" y="392904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estado se desenvuelve en una sociedad de Estados, y necesita por tanto, afirmar internacionalmente su fisionomía.</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219240" y="-6480"/>
            <a:ext cx="8474040" cy="1427400"/>
          </a:xfrm>
          <a:prstGeom prst="rect">
            <a:avLst/>
          </a:prstGeom>
          <a:ln w="0">
            <a:noFill/>
          </a:ln>
        </p:spPr>
      </p:pic>
      <p:sp>
        <p:nvSpPr>
          <p:cNvPr id="33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nte que todo, se trata de dicotomías</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40" name="Diagram 3" descr=""/>
          <p:cNvPicPr/>
          <p:nvPr/>
        </p:nvPicPr>
        <p:blipFill>
          <a:blip r:embed="rId2"/>
          <a:stretch/>
        </p:blipFill>
        <p:spPr>
          <a:xfrm>
            <a:off x="1279440" y="2206800"/>
            <a:ext cx="6085080" cy="43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general, los distintos problemas planteados por parte de estos esquemas de la pugna política, se presentan de manera simultánea y se entremezclan, siendo esta diferenciación, sólo para aspectos analíticos.</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o importante es tener claro cuando los actores políticos toman posturas, y bajo qué lógicas, dichas posturas son tomada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19240" y="152280"/>
            <a:ext cx="847404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pugna se ve articulada a partir de los indicios del conflicto ideológico</a:t>
            </a:r>
            <a:endParaRPr b="0" lang="en-US" sz="3200" spc="-1" strike="noStrike">
              <a:solidFill>
                <a:srgbClr val="ffffff"/>
              </a:solidFill>
              <a:latin typeface="Corbel"/>
            </a:endParaRPr>
          </a:p>
        </p:txBody>
      </p:sp>
      <p:pic>
        <p:nvPicPr>
          <p:cNvPr id="345" name="Diagram 3" descr=""/>
          <p:cNvPicPr/>
          <p:nvPr/>
        </p:nvPicPr>
        <p:blipFill>
          <a:blip r:embed="rId2"/>
          <a:stretch/>
        </p:blipFill>
        <p:spPr>
          <a:xfrm>
            <a:off x="-85680" y="1785960"/>
            <a:ext cx="9272520" cy="5078520"/>
          </a:xfrm>
          <a:prstGeom prst="rect">
            <a:avLst/>
          </a:prstGeom>
          <a:ln w="0">
            <a:noFill/>
          </a:ln>
        </p:spPr>
      </p:pic>
      <p:sp>
        <p:nvSpPr>
          <p:cNvPr id="346" name="TextBox 4"/>
          <p:cNvSpPr/>
          <p:nvPr/>
        </p:nvSpPr>
        <p:spPr>
          <a:xfrm>
            <a:off x="5786280" y="2857680"/>
            <a:ext cx="1571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Aparece la “cuestión social”</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Posturas con referente a la constitución de 1925</a:t>
            </a:r>
            <a:endParaRPr b="0" lang="en-US" sz="1800" spc="-1" strike="noStrike">
              <a:solidFill>
                <a:srgbClr val="ffffff"/>
              </a:solidFill>
              <a:latin typeface="Corbel"/>
            </a:endParaRPr>
          </a:p>
        </p:txBody>
      </p:sp>
      <p:sp>
        <p:nvSpPr>
          <p:cNvPr id="347" name="TextBox 5"/>
          <p:cNvSpPr/>
          <p:nvPr/>
        </p:nvSpPr>
        <p:spPr>
          <a:xfrm>
            <a:off x="7643880" y="2928960"/>
            <a:ext cx="1500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onstitución de 1925</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Ley de defensa permanente de la democracia</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pic>
        <p:nvPicPr>
          <p:cNvPr id="349" name="Content Placeholder 3" descr=""/>
          <p:cNvPicPr/>
          <p:nvPr/>
        </p:nvPicPr>
        <p:blipFill>
          <a:blip r:embed="rId2"/>
          <a:stretch/>
        </p:blipFill>
        <p:spPr>
          <a:xfrm>
            <a:off x="360360" y="1768320"/>
            <a:ext cx="8369280" cy="4638960"/>
          </a:xfrm>
          <a:prstGeom prst="rect">
            <a:avLst/>
          </a:prstGeom>
          <a:ln w="0">
            <a:noFill/>
          </a:ln>
        </p:spPr>
      </p:pic>
      <p:sp>
        <p:nvSpPr>
          <p:cNvPr id="350" name="TextBox 5"/>
          <p:cNvSpPr/>
          <p:nvPr/>
        </p:nvSpPr>
        <p:spPr>
          <a:xfrm>
            <a:off x="7072200" y="3000240"/>
            <a:ext cx="1571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reación de la Corporación de Fomento de la Producción.</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219240" y="-6480"/>
            <a:ext cx="8474040" cy="1427400"/>
          </a:xfrm>
          <a:prstGeom prst="rect">
            <a:avLst/>
          </a:prstGeom>
          <a:ln w="0">
            <a:noFill/>
          </a:ln>
        </p:spPr>
      </p:pic>
      <p:pic>
        <p:nvPicPr>
          <p:cNvPr id="352" name="Content Placeholder 3" descr=""/>
          <p:cNvPicPr/>
          <p:nvPr/>
        </p:nvPicPr>
        <p:blipFill>
          <a:blip r:embed="rId2"/>
          <a:stretch/>
        </p:blipFill>
        <p:spPr>
          <a:xfrm>
            <a:off x="360360" y="208080"/>
            <a:ext cx="8826480" cy="6656400"/>
          </a:xfrm>
          <a:prstGeom prst="rect">
            <a:avLst/>
          </a:prstGeom>
          <a:ln w="0">
            <a:noFill/>
          </a:ln>
        </p:spPr>
      </p:pic>
      <p:sp>
        <p:nvSpPr>
          <p:cNvPr id="353" name="TextBox 4"/>
          <p:cNvSpPr/>
          <p:nvPr/>
        </p:nvSpPr>
        <p:spPr>
          <a:xfrm>
            <a:off x="7429680" y="2214720"/>
            <a:ext cx="1714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Incremento de la sindicalización.</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Grupos industriales, fiscales y semifiscal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2:40:30Z</dcterms:created>
  <dc:creator>Tava</dc:creator>
  <dc:description/>
  <dc:language>en-US</dc:language>
  <cp:lastModifiedBy>Tava</cp:lastModifiedBy>
  <dcterms:modified xsi:type="dcterms:W3CDTF">2009-06-11T00:18:45Z</dcterms:modified>
  <cp:revision>11</cp:revision>
  <dc:subject/>
  <dc:title>Estado y Política en Chile</dc:title>
</cp:coreProperties>
</file>