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4A1-B18D-4E0F-9088-36C99286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BBC-4B92-4FEF-B3B4-24A0406B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01D-A095-40C6-807F-FAF4CFE6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B85-01B0-4814-A382-A9EEE909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D1C9-D54A-4FCD-A9D2-D3B39BBB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A8EC-39D5-4A73-A49B-29D03A49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D448-6BC0-43D3-98D3-8687E067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EBEF-C3BB-42C0-BCDC-43E1BAE6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A7B4-98D7-4B22-9FCE-E0AE44B2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BD95-306B-4C8C-86FF-5899D8FB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B200-57DE-4605-8CAB-AD4AF583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0E6-8AD0-4A70-B0B4-25EAAD58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1B35-8A42-47DA-B6A7-E0FCF66E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BFEC-DF33-4C9B-938C-FF179515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DC61-BB76-4C16-8250-9AE7DC46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E5F8-E806-46B5-BDD4-9B4B21CC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C7D0-4DE5-469E-9B02-4E41BC62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01B-A518-40E8-891E-864DE07D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8E9-EBC2-460E-A1DD-DF1B0415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674-4562-4DCE-A63F-CC8DF330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CD5-DA03-47F2-A374-3C33BE99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16B-44B2-4B9E-B2B7-50B855C4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784-ACBB-4779-8152-D9156C17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3B0-6074-4115-B8C2-C87C826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FE64-1EDE-4F75-A93C-ADFD8FCE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0DAA-77C5-40F9-8CA8-8E8A63D41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o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El modo de ser aristocr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..Cúmulo de creencias, de valores, de categorías, de conocimiento, en suma de significados construidos por esta clase a partir de su experiencia histórica y que, una vez cristalizados en la consecuencia de sus miembros, identifica su comportamiento”. (Barros y Vergara, 1978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Sui especifico “modo de ser” operó en dos direccion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) hacia dentro dio a los miembros de los grupos oligárquicos una base conjunta de significados compartidos que les permitió identificarse como igual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i) hacia fuera condicionó las formas como interpretaron la realidad de su época, y sobre todo, se enfrentaron con e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rría la primera década del siglo XX cuando el entonces Presidente Pedro Montt saludó en un telegrama a su colega argentino Roque Sáenz Peñ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a nombre del Gobierno, la sociedad y pueblo chileno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La respuesta recibida era, sin embargo, solo “… a nombre del Gobierno y pueblo argentino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358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oblación chilena del siglo XIX y comienzos del XX se encontraba irreconociliablemente divid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s grupos oligárquicos habían logrado desarrollar un sentido de conjunto, autoidentifiándose como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resto de la población, dispersa en los campos y en los suburbios de las ciudades, era difuminada en categorías como “pueblo”, “muchedumbr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resto de la población no se le tendrá significativamente en cuenta en el quehacer de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ueblo” no era mucho más que el nombre genérico dado a una de las formas que asumía lo exterior, al interior del propio territo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respecto a ese exterior se actuará por exclusión: social, en un nivel; política, administrativa y legal en o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buen tono” como forma de vida y la interpretación de las relaciones con el exterior provoco la desvinculación de la oligarquía de los demás sectores soci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interpretación de las relaciones con el exterior genero una comprensión de las relaciones laborales en términos de vinculo mo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 anterior tenia su origen en la forma como era concebido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ueblo era valorado por su condición de servidor y las características que esa condición suponía: sumisión, lealtad, disponibilidad al trabajo y honrade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ero a la vez era visto como alguien que en cualquier momento podía sucumbir a su naturaleza inferior y ahí era entonces sanguinario, brutal, borracho, supersticioso,  deprav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exclusión social, cimentada sobre situaciones históricas de larga data de privilegio económico, caracterizo la forma de relaciones entre la “sociedad” y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la se manifestaba toda la indiferencia que los aristócratas sentían por los “rotos”; al punto que los llego a ignorar y, por lo mismo, a ser indolente ante su sit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modo de ser” aristocrático será el mecanismo de bloqu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24T13:05:57Z</dcterms:modified>
  <cp:revision>24</cp:revision>
  <dc:subject/>
  <dc:title>La compleja herencia del siglo XIX</dc:title>
</cp:coreProperties>
</file>