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E0A-AA7F-4840-A2F2-D624560F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69F-1309-4EF6-9029-687475AC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2E2-3A66-4569-984B-6D08DF85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62A-51A3-4D59-92F9-0726B917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AF70-1A6E-4FCF-B81D-D25BC9BB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4C7E-BAA5-4099-BC06-8602B63E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677B-0380-4DB5-A03F-DCE68158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BAEA-A209-45DE-931C-91F77BC0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4743-3562-4049-BF32-BB855DE7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BA0D-84DF-4960-8DB0-027BFD2A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CF04-C877-4460-99D2-7D3DAC4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759-0A88-4494-BE33-CD4C9B00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1251-2ED3-472B-9737-381A70A2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7A82-17D1-4E8C-9973-AFDCC9F8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6543-87E0-4019-A83F-48A578A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3291-9AF0-484B-AA68-41D1228B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E555-A8F8-4021-A16F-76896E76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E1D-CAF6-4C85-B089-EEFB4C67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EDC-5DE5-44B8-8DA1-6314F98A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444-DB7B-4CE1-89C8-FF1FEF83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92A-0354-43C3-B255-A5C15FDD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0FC-74D8-4A58-B43C-79EF04F7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A8C-9852-4B93-80BB-2B58FF91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816-3B93-4F52-AFBE-C322BDAB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80A5-A3D1-4589-92B8-70959DC6E6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31B2-EAA5-442F-818B-CB58B193D4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8984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Desobediencia organizada y caída del Estado excluyen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 fines del siglo XIX y en las primeras décadas del XX, quienes padecían la exclusión comenzaron, de distintas maneras, a alterar el orden creado por las oligarquí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“rotos” tenias razones: la exclusión ya no solo significaba dejarlos al margen de una realidad de privilegios, sino perjudicarlos y, a través del monopolio del Estado, darles sanción institucional, en todo el territorio, a las situaciones de miseria y explot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n la misma medida en que los “rotos”, a través de sus organizaciones y huelgas, cuando no por su simple presencia, comenzaron a hacerse cada vez más visibles y molestos en el orden que las oligarquías habían creado y querían preservar, fueron siendo brutalmente reprim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La ilusión de la legitim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1885 voto un 3,2 % de la población total; un 3,6 en 1888; un 8,6 en 1912 y un 4,4 en 192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te numero de votantes bastaba a las oligarquías de la época para suponer que su monopolio estatal era legiti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b) Miseria, desobediencia y repres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l Chile del cambio de siglo, la realidad social conocida y aceptada por las oligarquías se modificara significativament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la década del 1920, la masividad de la organización obrera dejo en evidencia no solo que la represión era ya un mecanismo ineficaz, sino que también que la institucionalidad era insuficiente, y sobre todo, que el Estado ya no podía seguir operando sobre una matriz excluy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Clases</cp:lastModifiedBy>
  <dcterms:modified xsi:type="dcterms:W3CDTF">2010-05-31T14:27:23Z</dcterms:modified>
  <cp:revision>35</cp:revision>
  <dc:subject/>
  <dc:title>La compleja herencia del siglo XIX</dc:title>
</cp:coreProperties>
</file>