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9FA-BA06-4B08-8F83-8B1D5C8D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FF9-DEE9-4272-A564-863E738A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D7E-267D-4CDA-8080-A5C4BEBE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7D3-5C1E-40B2-9BDA-41F3DC92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F657-2C09-4646-A61C-A6811238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2E7E-B686-41A1-BC71-90ACBA60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8FDA-0808-4051-BDA8-15702F15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681D-17BD-45D9-A255-097DB8F7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6D2F-771C-40C2-AC61-75C44F57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CB13-1EB3-4775-AFC0-420B398B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40EB-05A3-4CD1-B13D-1DB42EA3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F1B-C08E-4F13-98A8-6679C0B6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C82D-482C-4A1B-A6BF-29901B2F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250E-F93C-4A64-8AAA-AFF91BA3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A046-F73A-4319-8868-96CA1D04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9DCA-0998-43AA-8C30-CDE6AA36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E776-16BC-401F-ABC3-F209D8AF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7F5-0702-4703-A23F-99C71FAE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DE5-94EA-474A-809F-72829403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C73-E6C2-4B4F-A5CD-ABDBA935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9A1-C4B4-464C-AC6C-F5BFC0E7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61E2-C213-4DD0-9AFA-4539BE9E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5B2-0425-41D8-AD17-8031BB6A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D54-9F80-4D1C-9DB2-C9D27565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4CF0-A6FF-4ED0-8083-EE2C8E528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FCA4-03DA-4BF4-B37B-D7CC9242C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) Producción de legalidad (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suntos de que se trataba más largamente en el Parlamento solían ser aquellos que tocaban el campo económico, y que por lo tanto afectaban en uno u otro sentido a diversos sectores de la economía nacional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problemas doctrinarios de índole religiosa o educacional tenían a veces lugar, virulentamente, pero más generalmente eran esquivados como inoportunos. En cambio, la legislación aduanera, la conversión metálica y el papel moneda, los debates sobre el salitre, sobre las obras públicas, etc., daban más lugar a intervenciones personales, ya que en ellos no regía la exigencia de afiliación a una posición de partido” (Góngora, 198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Verdana"/>
              </a:rPr>
              <a:t>a) Producción de legalidad (3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8001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producción de legalidad constituía un mecanismo a través del cual se atendían los diversos intereses de los grupos oligárquicos: bancarios, terratenientes, industri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sta permitía definir los marcos dentro de los cuales se desarrollarían las actividades económicas con el fin de articularlas de mejor manera, cuando no establecían apoyos directos a algunas de ell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i producir una ley podía tener una serie de ventajas para alguno de los grupos oligárquicos, no producirlas las tenía, para otr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e formaban mayorías circunstanciales para aprobar como para obstruir sistemáticamente algunos proyectos de le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jemplos: impuestos directos a la población, rechazo a aumentar las incompatibilidad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producción como la no producción de legalidad se transformaron en importantes mecanismos, a través de los cuales los distintos grupos oligárquicos defendieron sus interes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ubo además toda otra producción de legalidad referida a la administración pública, ejercito, policía, etc.;pero que no revestía igual importancia para sus actividades económicas  y que, por lo mismo, no desataba mucha controvers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b) La no producción de legalidad (3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3500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roceso de producción y no producción: dos ópt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989000"/>
            <a:ext cx="718920" cy="4032360"/>
          </a:xfrm>
          <a:custGeom>
            <a:avLst/>
            <a:gdLst>
              <a:gd name="textAreaLeft" fmla="*/ 459360 w 718920"/>
              <a:gd name="textAreaRight" fmla="*/ 719280 w 71892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8"/>
                </a:lnTo>
                <a:cubicBezTo>
                  <a:pt x="10800" y="9908"/>
                  <a:pt x="5400" y="10808"/>
                  <a:pt x="0" y="10808"/>
                </a:cubicBezTo>
                <a:cubicBezTo>
                  <a:pt x="5400" y="10808"/>
                  <a:pt x="10800" y="11708"/>
                  <a:pt x="10800" y="126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234936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Referida a la generación de marcos legales que institucionalizarían, ya fuera para mantener o potenciar, situaciones de hecho favorables para algunos de los miembros de ell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4005360"/>
            <a:ext cx="439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omo no generación de marcos legales, a pesar de que en ciertos círculos, aparecían ya como necesarios , que redujeran las oportunidades que el monopolio del Estado ofrecí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I. La Exclusión Polí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77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Se expreso en el monopolio que tuvo la oligarquía del aparato estat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se extiende por todo el territor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“…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naturaleza de la dominación hacia el novecientos permite que la oligarquía no solo controle el Estado, sino que sea el Estado mismo” (Barros y Vergara, 197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Mecanismos de exclusión políti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99680" y="19285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áctica política: “el deporte de la oligarquí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cceso a la polític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oto censitar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Gratuidad trabajo parlamentario (existía la obligación de poseer renta para ser candidato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íntesis exclusión polí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un sistema de voto restringido, donde ser parlamentario implicaba disponer de los medios personales suficientes para subsistir y en donde el acceso a una candidatura y los votantes pasaba por la voluntad de uno o varios latifundistas, solo era posible llegar a alguna de las cámaras, y por su puesto de la administración pública  en sus altas jerarquías, si se era miembro de alguno de los grupos oligárquicos.  No cualquiera podía  tomar parte en su “depor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III. Exclusión administrativ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928880"/>
            <a:ext cx="80010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expresa en dos prácticas recurrent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) la provisión de cargos y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ii) el establecimiento de lazos comerciales con el exter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an cuenta de la forma como las oligarquías concebían su vinculo con el Estado y como esa forma de concebirlo también actuara como exclus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Manifestaciones de la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ronteras difusas entre lo público y privado. (contratos con el Estado, provisión de cargo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lientelism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Negocios con el exteri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IV. La exclusión leg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producción de legalidad era el mecanismo que cerraba el circulo de la exclus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e las situaciones de privilegio económico y social se saltaba a la práctica política, de ahí a la administrativa y de ella a la producción de la le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sta a su vez sancionaba las prácticas anteriores dándoles una base institucional y generando las condiciones de su propia reproduc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xclusión de legal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3429000"/>
            <a:ext cx="2449440" cy="1079640"/>
          </a:xfrm>
          <a:prstGeom prst="rect">
            <a:avLst/>
          </a:prstGeom>
          <a:solidFill>
            <a:srgbClr val="003366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Exclusión 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565360"/>
            <a:ext cx="792000" cy="2664000"/>
          </a:xfrm>
          <a:custGeom>
            <a:avLst/>
            <a:gdLst>
              <a:gd name="textAreaLeft" fmla="*/ 506160 w 792000"/>
              <a:gd name="textAreaRight" fmla="*/ 792360 w 792000"/>
              <a:gd name="textAreaTop" fmla="*/ 69480 h 2664000"/>
              <a:gd name="textAreaBottom" fmla="*/ 259452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2997360"/>
            <a:ext cx="352764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Producción de 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no producción de leg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Producción de legalidad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mecanismos a través del cual se producía una ley fue donde más se encarnaron los intereses de los distintos grupos oligárqu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producción de legalidad tenía una importante relación con la forma en que las oligarquías concebían el Est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Otro de los campos predilectos de la producción de legalidad estuvo relacionado con el problema monet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6-01T23:51:58Z</dcterms:modified>
  <cp:revision>33</cp:revision>
  <dc:subject/>
  <dc:title>La compleja herencia del siglo XIX</dc:title>
</cp:coreProperties>
</file>