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5B3-8945-41A7-8DEB-C824907D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34F6-4B2E-4734-A526-19E37E4C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1CD-4ED9-4FD6-AD81-345853C1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6D1-2397-40DB-88C9-9DDBBD6C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22E2-4DE5-4210-8A9A-166AACD9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5E7D-E1B3-4E78-BB12-D0BD23BD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33A0-0F26-4677-8011-A4361DD8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6D2F-B8B5-4E43-8B14-A6546F55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F2F5-EC70-4F8B-B05E-CACEDFEF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766D-F7E8-495D-AA3B-A6BB5C72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5638-381E-42FE-8384-BE92B179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782-E221-4C7B-97F9-AD2C2F86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6979-71CA-43C5-BE9A-CF1E8086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4B97-0487-4779-8E70-FF0F974A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36AF-A39C-4156-830B-E5C25939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F210-5407-4CC6-8C9C-C2F94813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0361-A671-4354-A936-D31EFDE0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71C-7919-40BB-944C-E04F9C52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2C5-7CDE-4B50-A4B9-CEDF1FF9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117-3DA5-4483-8731-2906CE2D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2F5-A24E-46DB-8F09-BC9B0C6A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002-F327-45E6-B930-559B413A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3ABB-D14D-4AA2-8085-CCF228A3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19B-AD07-48E8-B585-6AF10984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A0D4-E5C6-4DA6-8B67-493C74BE2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7B61-3ED1-46C2-8D00-5BD32079F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Hacia un Estado Moderno: ejes del proce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ideal Modernizad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expectativas de la sociedad apuntaban hacia la integración a un mundo que prometía crecientes progresos de orden material y cultu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fiaba en la difusión de nuevas ideas modernizantes y el despliegue de grandes obras públ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stado marcara la pauta en este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ctores clave actuaban a sabiendas que la creación y expansión de instituciones, oficinas y obras públicas a lo largo de todo el país, acentuaría y consolidaría su rol y protagonismo en dicho proceso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recimiento económico derivado de la explotación salitr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xpansión de las comunicaciones y los transpor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7640" y="1916280"/>
            <a:ext cx="41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os procesos verificados en el último tercio del siglo XIX, representaron diferentes aspectos del acelerado proceso de modernización en march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junto con constituirse en evidencia empírica del progreso, se instalo en el imaginario colectivo como una aspiración, especialmente intensa en el caso de la elite, que condiciono anhelos, demandas y a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je de la educ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asentamiento del proceso de modernización en la sociedad debía ir acompañado de cambio culturales que permitieran expandir y arraigar el nuevo idear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educación fue concebida como un agente cl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n las últimas décadas del siglo XIX, se produjo  un acalorado debate en torno al sentido y carácter más apropiado al proceso de enseñanza, a titulo del cual se realizaron numerosas innovaciones en el ámbito educ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Figuras clave en la formulación de la nueva propuesta educativa fueron: Valentín Letelier, José Abelardo Nuñez y Claudio Mat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05T14:04:48Z</dcterms:modified>
  <cp:revision>12</cp:revision>
  <dc:subject/>
  <dc:title>La compleja herencia del siglo XIX</dc:title>
</cp:coreProperties>
</file>