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2C1-98FC-4047-AEBF-0F63DBF8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FC0-CEB4-418B-B8F9-5C1F6085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B89-00F5-43AD-A208-6F1F6394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999-4631-4E1D-BFCF-174EB314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9C0A-BDD0-4B02-BA2B-1434ECCC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4D77-10E8-4E1D-8850-E2AAE0AD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ABCC-65B0-4A10-B6DD-EDD00ECD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324D-0204-45D1-B71D-87930480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6716-7239-4FF5-9382-B17006A1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7CDA-E5C6-4480-9C84-E5DC472D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CDC9-18D9-4752-8006-C73D92BA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E56-C3A4-4E9B-A2B6-F252F46D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94F3-44C8-4677-9806-A344F1C0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B8D6-0AF2-4347-BAB8-195380ED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A5FF-327F-4317-BF1B-AE212240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FBDE-CD71-406F-9625-9AC1F4C3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8D04-1209-482D-B641-11CE46A1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74A-DC6F-4F0D-8308-EF6E112D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F0C-2CB3-48FE-9D8D-797A10AB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A4E-273C-4445-9356-F5511F7D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C95-C52F-4572-888C-528FD30B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676-2381-419E-8693-BAF1EC0D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C50-BBDD-45BA-A94C-9D1BEA57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7663-34D5-410D-8632-50D0E955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4B43-A94C-4DC1-A415-EC03FFEDE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05FF-7E76-4E63-9A70-55FD3F288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soci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El modo de ser aristocr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..Cúmulo de creencias, de valores, de categorías, de conocimiento, en suma de significados construidos por esta clase a partir de su experiencia histórica y que, una vez cristalizados en la consecuencia de sus miembros, identifica su comportamiento”. (Barros y Vergara, 1978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Sui especifico “modo de ser” operó en dos direccione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) hacia dentro dio a los miembros de los grupos oligárquicos una base conjunta de significados compartidos que les permitió identificarse como iguale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ii) hacia fuera condicionó las formas como interpretaron la realidad de su época, y sobre todo, se enfrentaron con ell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rría la primera década del siglo XX cuando el entonces Presidente Pedro Montt saludó en un telegrama a su colega argentino Roque Sáenz Peñ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“… 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a nombre del Gobierno, la sociedad y pueblo chileno”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CL" sz="3000" spc="-1" strike="noStrike">
                <a:solidFill>
                  <a:srgbClr val="000000"/>
                </a:solidFill>
                <a:latin typeface="Verdana"/>
              </a:rPr>
              <a:t>La respuesta recibida era, sin embargo, solo “… a nombre del Gobierno y pueblo argentino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83581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población chilena del siglo XIX y comienzos del XX se encontraba irreconociliablemente divid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s grupos oligárquicos habían logrado desarrollar un sentido de conjunto, autoidentifiándose como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resto de la población, dispersa en los campos y en los suburbios de las ciudades, era difuminada en categorías como “pueblo”, “muchedumbr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b) Gobierno, “sociedad”, pueblo </a:t>
            </a: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l resto de la población no se le tendrá significativamente en cuenta en el quehacer de “la sociedad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ueblo” no era mucho más que el nombre genérico dado a una de las formas que asumía lo exterior, al interior del propio territor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respecto a ese exterior se actuará por exclusión: social, en un nivel; política, administrativa y legal en ot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1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buen tono” como forma de vida y la interpretación de las relaciones con el exterior provoco la desvinculación de la oligarquía de los demás sectores soci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interpretación de las relaciones con el exterior genero una comprensión de las relaciones laborales en términos de vinculo mo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o anterior tenia su origen en la forma como era concebido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) Característica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pueblo era valorado por su condición de servidor y las características que esa condición suponía: sumisión, lealtad, disponibilidad al trabajo y honradez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ero a la vez era visto como alguien que en cualquier momento podía sucumbir a su naturaleza inferior y ahí era entonces sanguinario, brutal, borracho, supersticioso,  deprav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Síntesi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La exclusión social, cimentada sobre situaciones históricas de larga data de privilegio económico, caracterizo la forma de relaciones entre la “sociedad” y el “pueblo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n ella se manifestaba toda la indiferencia que los aristócratas sentían por los “rotos”; al punto que los llego a ignorar y, por lo mismo, a ser indolente ante su sit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“modo de ser” aristocrático será el mecanismo de bloque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24T13:05:57Z</dcterms:modified>
  <cp:revision>24</cp:revision>
  <dc:subject/>
  <dc:title>La compleja herencia del siglo XIX</dc:title>
</cp:coreProperties>
</file>