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A27-7586-4F06-B952-F3623B12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144-85AB-4487-B69B-B85A07B3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9BE-0CDE-40B6-B0A2-2049CDEB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5F7-06A3-400C-9B99-6A2F2E79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390C-BA58-428E-94FC-1D7445C9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A596-67EE-4505-AA61-E3DD9D23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E8D2-8EE9-4665-96AD-6A71F882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04C2-2454-40E2-B002-3DE0B37A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E68F-DEC4-4D39-9C0F-F07273D2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156F-211E-4F71-A2F4-0ABCE48C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09D5-8B6B-4203-AB6D-58344457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DBB-E03A-4D05-BD0B-AFFB62EB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86A5-0FAB-4851-96A9-FE5CA78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46CC-A279-4F8F-AAEA-C84AAAC1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FA03-D874-4959-9A63-8E62970B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6FB4-D800-4C71-B99A-CD4110CA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B9B0-F979-47CB-B38D-1155B420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2B4-0E7C-4070-9487-6F9173F0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C9E-09F0-4F38-9EA8-B225A147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8DA-DB02-4459-94C4-3F731FEB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389-6DE8-4ED4-87D6-8E63A545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563-79C9-4A2D-B998-EC50489E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7D8-E267-46D3-A232-BA5ACF51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1E8-C074-464A-8B05-39660F7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3ED5-9558-4500-9935-7F9A8109D0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B21A-604A-4BB3-9A96-3900783804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8984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Desobediencia organizada y caída del Estado excluyen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 fines del siglo XIX y en las primeras décadas del XX, quienes padecían la exclusión comenzaron, de distintas maneras, a alterar el orden creado por las oligarquí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“rotos” tenias razones: la exclusión ya no solo significaba dejarlos al margen de una realidad de privilegios, sino perjudicarlos y, a través del monopolio del Estado, darles sanción institucional, en todo el territorio, a las situaciones de miseria y explot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n la misma medida en que los “rotos”, a través de sus organizaciones y huelgas, cuando no por su simple presencia, comenzaron a hacerse cada vez más visibles y molestos en el orden que las oligarquías habían creado y querían preservar, fueron siendo brutalmente reprim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La ilusión de la legitim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1885 voto un 3,2 % de la población total; un 3,6 en 1888; un 8,6 en 1912 y un 4,4 en 192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te numero de votantes bastaba a las oligarquías de la época para suponer que su monopolio estatal era legiti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b) Miseria, desobediencia y repres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l Chile del cambio de siglo, la realidad social conocida y aceptada por las oligarquías se modificara significativament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la década del 1920, la masividad de la organización obrera dejo en evidencia no solo que la represión era ya un mecanismo ineficaz, sino que también que la institucionalidad era insuficiente, y sobre todo, que el Estado ya no podía seguir operando sobre una matriz excluy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Clases</cp:lastModifiedBy>
  <dcterms:modified xsi:type="dcterms:W3CDTF">2010-05-31T14:27:23Z</dcterms:modified>
  <cp:revision>35</cp:revision>
  <dc:subject/>
  <dc:title>La compleja herencia del siglo XIX</dc:title>
</cp:coreProperties>
</file>