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818-DC8C-4659-B1C9-57886327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C20-778A-4F86-9900-672749DA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B1FE-DA4C-446A-A138-21848DBE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33F-7952-4142-91A4-2B4D066D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A6CD-BDFC-4A56-9560-8A0DDA66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DA6A-243D-4B43-97A4-F9DD64BE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5C78-2976-4F8A-A02C-A3612DB5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AC64-180A-4C4C-B932-09A816C5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87A8-E585-4F56-90B0-526F60EC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D88D-908C-4AF1-8835-9019BE1F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DD7C-9485-4A6C-A680-DD695125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EBE-48E4-404D-8C9D-3D243722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9DD8-AAEF-4B9D-B47B-56039EB3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D832-722F-400C-B9D1-8C638C7F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9082-1784-4227-BDF6-56BC22D6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373F-5A5D-45F0-BE07-7130BC5D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3379-DF66-4741-BC3D-83885F9F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DA9-9CF9-49E8-8216-7B01D8C3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333-F1D4-4172-8222-BD202077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208-869C-413F-806A-C091BFF1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478-906A-4073-BA19-0A47CF9E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42F-E2E8-4386-AA61-EA9653E1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2E3-5B0B-45FA-810D-D44F871D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A18-E357-45FB-B8A1-411A33C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5D26-9C28-4323-ABCE-7235D0D804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D59A-EDDE-4E94-9883-3505174F6F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8984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Desobediencia organizada y caída del Estado excluyen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 fines del siglo XIX y en las primeras décadas del XX, quienes padecían la exclusión comenzaron, de distintas maneras, a alterar el orden creado por las oligarquí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“rotos” tenias razones: la exclusión ya no solo significaba dejarlos al margen de una realidad de privilegios, sino perjudicarlos y, a través del monopolio del Estado, darles sanción institucional, en todo el territorio, a las situaciones de miseria y explot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rgu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3.</a:t>
            </a:r>
            <a:r>
              <a:rPr b="0" lang="es-MX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n la misma medida en que los “rotos”, a través de sus organizaciones y huelgas, cuando no por su simple presencia, comenzaron a hacerse cada vez más visibles y molestos en el orden que las oligarquías habían creado y querían preservar, fueron siendo brutalmente reprimid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) La ilusión de la legitimid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1885 voto un 3,2 % de la población total; un 3,6 en 1888; un 8,6 en 1912 y un 4,4 en 1920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te numero de votantes bastaba a las oligarquías de la época para suponer que su monopolio estatal era legiti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b) Miseria, desobediencia y repres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8001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l Chile del cambio de siglo, la realidad social conocida y aceptada por las oligarquías se modificara significativament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la década del 1920, la masividad de la organización obrera dejo en evidencia no solo que la represión era ya un mecanismo ineficaz, sino que también que la institucionalidad era insuficiente, y sobre todo, que el Estado ya no podía seguir operando sobre una matriz excluy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Clases</cp:lastModifiedBy>
  <dcterms:modified xsi:type="dcterms:W3CDTF">2010-05-31T14:27:23Z</dcterms:modified>
  <cp:revision>35</cp:revision>
  <dc:subject/>
  <dc:title>La compleja herencia del siglo XIX</dc:title>
</cp:coreProperties>
</file>