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362-3DDF-4426-8843-0E0E6E99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2F4-D11C-4A26-AA8D-60403A2D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CD12-0F6A-438E-96CB-0DC02D53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D01-8241-4651-8DB2-418A8BDC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8C2F-3A02-44D0-9391-507C0E38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5CCC-90B3-4268-87A7-688502EE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CDD9-A02A-4BF7-8D84-CCC0CB1E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92F4-90F7-4F34-BD5B-BF077B76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3B99-17B7-49BB-9301-BFA7FBDC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A4ED-FF31-4967-8ED9-43EDC31C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9907-4826-4F19-976F-C746B22E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A71B-088B-4F6D-83FC-726731F9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F776-C227-4CAE-B2A5-78BF9606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1C31-6B8F-47BE-824E-1FFD6FCE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D011-BE95-47EE-BE46-2AD3CF82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D8F1-0F2C-461E-8449-56384201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E93F-5054-402B-9001-A8B3CD94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B33-B0D7-43E1-8995-E4C86C75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EAC-7D23-4915-B66B-5FDB5C40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025B-B903-445C-9220-AB363ACB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5F0-5038-4053-9B0C-44C65FF3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D48-ADC8-412E-A141-865C62BF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A94-89FD-492D-92D2-B2501178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7AB-A200-4529-A0FC-D2D25997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F91A-4FB1-456D-90FA-B6C4923D9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9E4E-8FB3-4DB2-8A9A-011A95B04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Hacia un Estado Moderno: ejes del proces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ideal Modernizad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s expectativas de la sociedad apuntaban hacia la integración a un mundo que prometía crecientes progresos de orden material y cultur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fiaba en la difusión de nuevas ideas modernizantes y el despliegue de grandes obras públ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Estado marcara la pauta en este proce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actores clave actuaban a sabiendas que la creación y expansión de instituciones, oficinas y obras públicas a lo largo de todo el país, acentuaría y consolidaría su rol y protagonismo en dicho proceso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s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recimiento económico derivado de la explotación salitre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expansión de las comunicaciones y los transpor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7640" y="1916280"/>
            <a:ext cx="414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os procesos verificados en el último tercio del siglo XIX, representaron diferentes aspectos del acelerado proceso de modernización en march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junto con constituirse en evidencia empírica del progreso, se instalo en el imaginario colectivo como una aspiración, especialmente intensa en el caso de la elite, que condiciono anhelos, demandas y accio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je de la educ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asentamiento del proceso de modernización en la sociedad debía ir acompañado de cambio culturales que permitieran expandir y arraigar el nuevo ideari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educación fue concebida como un agente cla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n las últimas décadas del siglo XIX, se produjo  un acalorado debate en torno al sentido y carácter más apropiado al proceso de enseñanza, a titulo del cual se realizaron numerosas innovaciones en el ámbito educac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Figuras clave en la formulación de la nueva propuesta educativa fueron: Valentín Letelier, José Abelardo Nuñez y Claudio Mat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05T14:04:48Z</dcterms:modified>
  <cp:revision>12</cp:revision>
  <dc:subject/>
  <dc:title>La compleja herencia del siglo XIX</dc:title>
</cp:coreProperties>
</file>