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DB7-8577-4B8B-8336-893BEFF7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FB7-E37F-40A4-85D9-39354C92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B01-EBB7-41F0-B195-42BFB71C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B9F-C5DC-4175-ABD9-12BA1742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7EF-2144-4DA3-A78B-F91C8C11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6D0-0FC1-4268-A6AF-F589AB15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75B-8D26-4F07-B006-762628F1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79E-9367-469C-91E8-BFDD2A0A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1DC-FA2F-48AC-AC45-E269F789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6A9-F486-40A8-9DFB-733AACF0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D6B-E4F7-46BD-B803-FA7D9562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B44-E36C-443A-A138-85E6B0B1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7149-8F8A-4407-81E1-5F88C1E8E0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ORES E INSTITUCIONES: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 ENFOQUE ANALÍTIC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un conjunto de reglas formales e informales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orth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patrones estables de comportamiento organizacional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arch y Olse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convenciones sociales, como símbolos, ritos, costumbres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owell y DiMagg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0"/>
          <p:cNvSpPr/>
          <p:nvPr/>
        </p:nvSpPr>
        <p:spPr>
          <a:xfrm>
            <a:off x="762120" y="5105520"/>
            <a:ext cx="7848360" cy="703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db2b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</a:rPr>
              <a:t>Se trata de enfoques complementarios, de dimensiones a tener en cuenta al momento de reformar y/o gestionar lo púb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31"/>
          <p:cNvSpPr/>
          <p:nvPr/>
        </p:nvSpPr>
        <p:spPr>
          <a:xfrm>
            <a:off x="748800" y="19414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 Narrow"/>
              </a:rPr>
              <a:t>¿QUÉ SE ENTIENDE POR INSTITU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1522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...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tienen un origen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patrimonio compartido por una sociedad o comunidad relev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persisten en el tiempo, no son efímeras o momentán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establecen restricciones y abren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60948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Algunos elementos comunes a los diversos enfoques institu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institucionalidad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est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constituida por un conjunto de reglas de juego formales e informales, rutinas organizacionales, normas y costumbres que enmarcan el contenido y din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ca de la pol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í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tica social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ara todos los involucrados, la institucionalidad social representa un entramado que estructura sus l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í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tes y oportunidades de negociaci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n y acci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n, lo cual sin embargo no clausura las posibilidades para que se avance en transformaciones m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 o menos amplias de dicha institucionalidad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CIA UNA CARACTERIZACIÓN DE LA INSTITUCIONALIDAD 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28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0:34:20Z</dcterms:created>
  <dc:creator>Annabella Gaggero</dc:creator>
  <dc:description/>
  <dc:language>en-US</dc:language>
  <cp:lastModifiedBy>user</cp:lastModifiedBy>
  <cp:lastPrinted>2002-08-12T18:08:10Z</cp:lastPrinted>
  <dcterms:modified xsi:type="dcterms:W3CDTF">2010-03-31T01:34:55Z</dcterms:modified>
  <cp:revision>236</cp:revision>
  <dc:subject/>
  <dc:title>No Slide Title</dc:title>
</cp:coreProperties>
</file>