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7D8A-47B9-462A-A10D-90ABC697937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601B8-A493-480B-9477-603C8636858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A4835-0217-4117-9B9E-0E72AB06D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8AE69-E306-404E-BE8C-482548485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A94CC-46CA-403A-8EA7-59C074EC4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BC2B5-58E1-4F8A-92EC-666CEF6B6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9FA3F-4A21-4461-8BF0-76765F3A8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5414F-DD95-43CE-98E3-B2B3140E1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BFFB9-6094-4E59-B481-63D9FDDEF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D1DE7-9C44-4A47-80D7-D2ED72393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0DB54-B4A3-4D88-A2DC-3C3D5D6F6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52E6D-D12D-47B2-AF57-69545DD22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4F991-1DD2-4228-A48F-C627429EC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30791-31EA-4D09-B71A-04B5BA8E8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822BE-45B7-4D4E-977C-32AD190F91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Estado Chileno siglo XIX</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476360" y="386028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898989"/>
                </a:solidFill>
                <a:latin typeface="Calibri"/>
              </a:rPr>
              <a:t>Prof. Marco More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ntecedentes</a:t>
            </a:r>
            <a:endParaRPr b="0" lang="en-US" sz="4400" spc="-1" strike="noStrike">
              <a:solidFill>
                <a:srgbClr val="000000"/>
              </a:solidFill>
              <a:latin typeface="Calibri"/>
            </a:endParaRPr>
          </a:p>
        </p:txBody>
      </p:sp>
      <p:sp>
        <p:nvSpPr>
          <p:cNvPr id="51" name=""/>
          <p:cNvSpPr txBox="1"/>
          <p:nvPr/>
        </p:nvSpPr>
        <p:spPr>
          <a:xfrm>
            <a:off x="394920" y="1773000"/>
            <a:ext cx="8280360" cy="4392360"/>
          </a:xfrm>
          <a:prstGeom prst="rect">
            <a:avLst/>
          </a:prstGeom>
          <a:noFill/>
          <a:ln w="0">
            <a:noFill/>
          </a:ln>
        </p:spPr>
        <p:txBody>
          <a:bodyPr anchor="t">
            <a:normAutofit fontScale="86000"/>
          </a:bodyPr>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La nacionalidad chilena ha sido formada por une Estado que la  ha antecedido.</a:t>
            </a: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La imprevisible crisis dinástica de 1808, la invasión napoleónica , la formación de juntas en  España y luego la ofensiva del Virreinato del Perú en 1813 darán como resultado la formación de un Estado independiente en 1818.</a:t>
            </a: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A partir de las guerras de independencia, y luego de las sucesivas guerras victoriosas, se constituye un sentimiento y una conciencia propiamente nacionales: la chilenidad.</a:t>
            </a: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Chile  fue primero un Estado que sucede, por unos acontecimientos azarosos, a la unidad administrativa española, la Gobernación y ha provocado, a lo largo del siglo XIX, el salto cualitativo del regionalismo a la conciencia nacional.</a:t>
            </a:r>
            <a:endParaRPr b="0" lang="en-US" sz="2200" spc="-1" strike="noStrike">
              <a:solidFill>
                <a:srgbClr val="000000"/>
              </a:solidFill>
              <a:latin typeface="Calibri"/>
            </a:endParaRPr>
          </a:p>
          <a:p>
            <a:pPr marL="294840" indent="-29484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94840" indent="-29484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94840" indent="-29484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94840" indent="-294840">
              <a:lnSpc>
                <a:spcPct val="6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94840" indent="-294840">
              <a:lnSpc>
                <a:spcPct val="6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94840" indent="-29484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l “Estado portaliano”</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rtales con criterio realista, organizó un gobierno fuerte y centralizador.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jo formas republicanas se mantuvo la herencia de un gobierno fuerte de la vieja monarquía español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obediencia al Rey será reemplazada por la obediencia a la nueva/vieja autoridad republicana.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 gobierno fuerte, cuya base de legitimidad será la constitución de 1833, posibilitara hacer frente al democratismo utópico como de un caudillismo arbitrari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risis del Estado en Forma</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Estado Portaliano perduró, cerca de 60 años con ciertas modificaciones, hasta 189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891 coloca fin no solo al llamado “Estado en forma” sino que también al periodo del Chile guerrero.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aso del siglo XIX al XX muestra otro Chile, con nuevos núcleos sociales (ascenso de las clases medias), con nuevas riquezas (salitre), con nuevos problemas (la llamada “cuestión social”, con una nueva mentalidad (paso de la herencia ideológica liberal a las nuevas idea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alance de la Republica</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aís que había iniciado su vida autónoma en 1810, completo una etapa clave de su existencia hacia fines del siglo XIX.</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nto desde el punto de vista moral como material se observa “progreso”.</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ha había vivido la construcción de un cuadro institucional eficaz en el comienzo evolutivo en las últimas décadas, que era resultado de un entendimiento sobre las grandes cuestiones de la vida pública.</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í estaban el orden constitucional, la estabilidad gubernativa, los cambios regulares de gobierno y la confianza en los causes del acontecer público.</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alance de la República</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úsqueda de la libertad y de un sentido más democrático corrieron parejas con los cambios institucion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s últimos se adecuaron para disminuir la influencia del ejecutivo y acrecentar la del legislativ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prueba de fuego para el sistema político institucional fue la guerra del pacific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racterística  general en la “cosa pública” fue el sentido superior que llevo a centrar la preocupación en los grandes asuntos nacion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alance de la República</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reas nacionales de fuerte interés, que ocuparon el esfuerzo y la preocupación colectiva, contribuyeron a dar solidez al cuerpo entero del paí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Guerra contra la Confederación Perú-boliviana, la librada con España y por sobre todo la del Pacífico, atrajeron la fuerza y el nervio de la socied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corporación de la Araucanía y las tareas de colonización demandaron  voluntad colectiva e igualmente la exploración de los desiertos y los trabajos de la minerí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bién demandaron dedicación la construcción de ferrocarriles y cientos de obras materi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23:41:02Z</dcterms:created>
  <dc:creator>user</dc:creator>
  <dc:description/>
  <dc:language>en-US</dc:language>
  <cp:lastModifiedBy>mmorenop</cp:lastModifiedBy>
  <dcterms:modified xsi:type="dcterms:W3CDTF">2010-04-19T13:52:19Z</dcterms:modified>
  <cp:revision>30</cp:revision>
  <dc:subject/>
  <dc:title>Diapositiva 1</dc:title>
</cp:coreProperties>
</file>