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7BE6-C28D-464C-9AB4-68D8C0824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5093-6E6F-4928-A35D-D5564B855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2180-558B-41B8-A031-96011003F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33F8-23ED-4CEC-8CB5-A548771A5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CCC7-8F0E-458B-BAD5-D1E38D33E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2356-CFC1-4F47-A453-451FC8B8F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6AF8-52E3-404C-8DF4-5CB3E9A86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256B-FE06-4B6B-9493-C2754E360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70E3-97BE-4E5B-81F2-DC956DB9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6D40-7340-40C9-8807-7C1B6D80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F18F-5E30-489B-9890-536049BF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2950-4481-4994-A84C-58D312C4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48DDF-2A54-4738-806A-9FD07B0F7D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Calibri"/>
              </a:rPr>
              <a:t>La Construcción de la República: el imaginario de orden y legalida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898989"/>
                </a:solidFill>
                <a:latin typeface="Calibri"/>
              </a:rPr>
              <a:t>Prof. Marco More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El escenario Republican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94920" y="1341360"/>
            <a:ext cx="82803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Los comienzos de la República no fueron fáci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stará marcado por conflictos (que van desde resolver situaciones heredadas del período colonial hasta lograr la cohesión de los grupos dirigentes para configurar un nuevo orden político y social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sta  tarea, empezó a tomar forma en las guerras de Independencia, pero en especial durante los gobiernos de conservadores (Prieto, Bulnes y Montt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e basa en la puesta en marcha de una nueva institucionalidad republica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El escenario Republican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En estricto rigor y más allá de las intenciones discursivas el bajo pueblo urbano y rural había permanecido indiferente a los acontecimientos surgidos después de 1810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Esto se dio en gran medida porque la discusión teórica y conceptual sobre la materialización de un Estado republicano era ajena a su realidad inmediat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El escenario Republican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95280" y="11966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La clase dirigente del período 1810-1840, buscó institucionalizar un Estado republicano con separación de poderes, régimen representativo y reconocimiento del concepto de soberanía popul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Esta situación dio como resultado que la definición del orden político y social del nuevo Estado republicano estuviera en manos de unos pocos, de una elite que había adoptado un lenguaje revolucionario e igualitario en teoría, pero que una vez en el poder no buscó precisamente extender privilegios o crear instancias de diálogo social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En busca de un nuevo Or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 nuevo orden institucional republicano debía apoyarse sobre un orden soci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ste orden requería de una cuidadosa elaboración que abarcara toda la organización política, económica y social del paí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 aceptación de un nuevo orden frente al pasado colonial fue un proceso lento que debió poner énfasis en la noción de un cambio gradual que evitase toda forma de descontro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En busca de un nuevo Or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 palabra “orden” se volvió recurrente a partir de la consolidación institucional que siguió a la batalla de Lircay en 1830, e incluso pudo establecerse una relación con el término “confianza”, que se convertiría en el pilar sobre el que descansaría el consenso social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í como el orden se oponía a la anarquía, la confianza se oponía la insegurida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Imaginario de Orden y Legalid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 sensación de que la sociedad se encontraba bajo control y de que el cambio no alteraba los pilares sobre los cuales se apoyaba el poder de la clase dirigente estaba estrechamente vinculada a la noción de orde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 oposición entre este concepto y el de “anarquía” había guiado gran parte de la construcción institucional del período, además de constituir una de las bases sobre las que se programaba el aprendizaje político de la Nació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Imaginario de Orden y Legalid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95280" y="1341360"/>
            <a:ext cx="83534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l orden debía ser institucionalizado y expresado a través de una normativa, con el fin de intentar superar los planteamientos utópicos y tener así una existencia concre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 ahí que la institucionalidad republicana debía reflejar este concepto con una mezcla de autoritarismo y libertad, aunque parecieran términos antagónico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a tal propósito la confianza en la ley y en el derecho era el nexo entre la autoridad necesaria y la “república posible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Resulta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 caracterización de una República dirigida por una elite que basaba su cohesión en un consenso poco a poco comenzó a sufrir presiones por parte de los grupos que intentaban abrir el espectro político e imponer un sistema más democrático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1T23:41:02Z</dcterms:created>
  <dc:creator>user</dc:creator>
  <dc:description/>
  <dc:language>en-US</dc:language>
  <cp:lastModifiedBy>mmorenop</cp:lastModifiedBy>
  <dcterms:modified xsi:type="dcterms:W3CDTF">2010-04-12T13:52:46Z</dcterms:modified>
  <cp:revision>17</cp:revision>
  <dc:subject/>
  <dc:title>Diapositiva 1</dc:title>
</cp:coreProperties>
</file>