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92A8-65A1-4FBF-B798-FC97EBDD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379B-6302-4018-A32D-8192EE7D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0844-BE35-4CE4-BB9B-6E30AF48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6580-B8A3-49B8-80D0-1A485653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198B-73F2-41D9-AAA9-FB6279EC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51BD-99D3-4CAE-B5B1-3CF8682F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2EEE-E9F6-4AEE-800A-B9995881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FDB6-ABC6-4A0A-9443-990E97CA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52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DCBC-E6B7-4472-B35F-7721C052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70C9-52FD-48E5-B963-A63C2F8C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2B67-81F4-424F-9FD8-D24BA2A5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2592-DB13-40C8-A2BE-0CFD584B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9AD1-FE01-41AB-BB9C-B704EB4DBBF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TORES E INSTITUCIONES: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N ENFOQUE ANALÍTIC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son un conjunto de reglas formales e informales (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North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son patrones estables de comportamiento organizacional (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March y Olse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son convenciones sociales, como símbolos, ritos, costumbres (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owell y DiMagg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28"/>
          <p:cNvSpPr/>
          <p:nvPr/>
        </p:nvSpPr>
        <p:spPr>
          <a:xfrm>
            <a:off x="0" y="1752480"/>
            <a:ext cx="9144000" cy="7632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029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0"/>
          <p:cNvSpPr/>
          <p:nvPr/>
        </p:nvSpPr>
        <p:spPr>
          <a:xfrm>
            <a:off x="762120" y="5105520"/>
            <a:ext cx="7848360" cy="703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db2b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 Narrow"/>
              </a:rPr>
              <a:t>Se trata de enfoques complementarios, de dimensiones a tener en cuenta al momento de reformar y/o gestionar lo públ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31"/>
          <p:cNvSpPr/>
          <p:nvPr/>
        </p:nvSpPr>
        <p:spPr>
          <a:xfrm>
            <a:off x="748800" y="1941480"/>
            <a:ext cx="40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 Narrow"/>
              </a:rPr>
              <a:t>¿QUÉ SE ENTIENDE POR INSTITUCION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160" y="152280"/>
            <a:ext cx="7924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...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tienen un origen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son patrimonio compartido por una sociedad o comunidad relev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persisten en el tiempo, no son efímeras o momentán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establecen restricciones y abren oportun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5800" y="609480"/>
            <a:ext cx="733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Algunos elementos comunes a los diversos enfoques institucion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9480" y="1904760"/>
            <a:ext cx="78487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institucionalidad social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 est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á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 constituida por un conjunto de reglas de juego formales e informales, rutinas organizacionales, normas y costumbres que enmarcan el contenido y din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á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mica de la pol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í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tica social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Para todos los involucrados, la institucionalidad social representa un entramado que estructura sus l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í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mites y oportunidades de negociaci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ó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n y acci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ó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n, lo cual sin embargo no clausura las posibilidades para que se avance en transformaciones m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á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s o menos amplias de dicha institucionalidad.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ACIA UNA CARACTERIZACIÓN DE LA INSTITUCIONALIDAD SOC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28"/>
          <p:cNvSpPr/>
          <p:nvPr/>
        </p:nvSpPr>
        <p:spPr>
          <a:xfrm>
            <a:off x="0" y="1752480"/>
            <a:ext cx="9144000" cy="7632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29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20:34:20Z</dcterms:created>
  <dc:creator>Annabella Gaggero</dc:creator>
  <dc:description/>
  <dc:language>en-US</dc:language>
  <cp:lastModifiedBy>user</cp:lastModifiedBy>
  <cp:lastPrinted>2002-08-12T18:08:10Z</cp:lastPrinted>
  <dcterms:modified xsi:type="dcterms:W3CDTF">2010-03-31T01:34:55Z</dcterms:modified>
  <cp:revision>236</cp:revision>
  <dc:subject/>
  <dc:title>No Slide Title</dc:title>
</cp:coreProperties>
</file>