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88DE-B83C-4FC0-BC0D-7CA29AFF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19B8-D887-4239-A808-A5D462611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2F14-63B2-4BB6-8430-88BF8CD2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493-C067-4CBE-9DC7-D0107DCC0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8B6D-6403-4230-BE91-385B6F255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337AA-163D-4608-A8F5-CE6A22A8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32E3-B9EA-454B-A7BE-0E797A4FD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E1FB-2089-40DC-B3E3-266F279C6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03648-BD87-4511-B7CB-4F47B28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02E2-F48B-49F2-B6AD-82F7D8FB7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6E80C-6210-4A62-B886-A624117D0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17E7-FDA2-4327-8907-9B9BCE64E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89A78-8073-4A60-B977-C2181F94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14714-AD04-41E2-8BBC-B3A23B8C2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4196-D4E8-4DE5-B9A9-A25B36328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EB450-54CD-40DB-8631-791C9993C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85583-D6A3-4531-893C-267A2703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F3CB-99A7-44EB-BE7A-2105D8F4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A542-56D0-4546-BA4B-0244A5629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A4E-BE49-41A1-83F2-950E437AD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0164-CFC5-41A2-8CFA-C38AE7EA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682D-C8AB-431F-8CED-47F0404B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366D-39CA-4186-A562-73DFB9D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1766-1C76-4D99-AEF6-3308022F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9395C-7E68-487B-8868-25E6C1EED4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EDB0-8D75-4C3D-B7A3-3343BD6C86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Verdana"/>
              </a:rPr>
              <a:t>Hacia un Estado Moderno: ejes del proces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ideal Modernizad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62864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s expectativas de la sociedad apuntaban hacia la integración a un mundo que prometía crecientes progresos de orden material y cultur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Se confiaba en la difusión de nuevas ideas modernizantes y el despliegue de grandes obras pública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Estado marcara la pauta en este proces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os actores clave actuaban a sabiendas que la creación y expansión de instituciones, oficinas y obras públicas a lo largo de todo el país, acentuaría y consolidaría su rol y protagonismo en dicho proceso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jes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El crecimiento económico derivado de la explotación salitrer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La expansión de las comunicaciones y los transpor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427640" y="1916280"/>
            <a:ext cx="41400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os procesos verificados en el último tercio del siglo XIX, representaron diferentes aspectos del acelerado proceso de modernización en marcha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junto con constituirse en evidencia empírica del progreso, se instalo en el imaginario colectivo como una aspiración, especialmente intensa en el caso de la elite, que condiciono anhelos, demandas y accion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je de la educ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l asentamiento del proceso de modernización en la sociedad debía ir acompañado de cambio culturales que permitieran expandir y arraigar el nuevo ideari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educación fue concebida como un agente clav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n las últimas décadas del siglo XIX, se produjo  un acalorado debate en torno al sentido y carácter más apropiado al proceso de enseñanza, a titulo del cual se realizaron numerosas innovaciones en el ámbito educacional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Figuras clave en la formulación de la nueva propuesta educativa fueron: Valentín Letelier, José Abelardo Nuñez y Claudio Mat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05T14:04:48Z</dcterms:modified>
  <cp:revision>12</cp:revision>
  <dc:subject/>
  <dc:title>La compleja herencia del siglo XIX</dc:title>
</cp:coreProperties>
</file>