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3204-D831-4C90-BB20-D63FB4FF3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A915-EA93-4C5C-B059-EC7BEAB7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22B-26C7-47EF-A09D-73DE6CB6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E8E9-F693-4050-B619-09F3B74DB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C17-9C46-46DC-A489-100A85515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3D5A-3426-4A0F-A0DA-BE20735BC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25C8-F13F-4809-8E8B-2591429C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DE7-1E43-497E-B7BD-5AD7E8773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B794-DD23-47E9-8E0F-07F41066A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41B7-D1CF-46E1-BB02-9372D57B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E191-ABD1-4B95-BED0-99887D211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0DCF-9189-4640-AC91-7A75F3BC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F208-24FF-43C6-BADD-F7D0DEF449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Calibri"/>
              </a:rPr>
              <a:t>La Construcción de la República: el imaginario de orden y legali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98989"/>
                </a:solidFill>
                <a:latin typeface="Calibri"/>
              </a:rPr>
              <a:t>Prof. Marco More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94920" y="134136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Los comienzos de la República no fueron fácil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rá marcado por conflictos (que van desde resolver situaciones heredadas del período colonial hasta lograr la cohesión de los grupos dirigentes para configurar un nuevo orden político y social)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Esta  tarea, empezó a tomar forma en las guerras de Independencia, pero en especial durante los gobiernos de conservadores (Prieto, Bulnes y Mont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Se basa en la puesta en marcha de una nueva institucionalidad republican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n estricto rigor y más allá de las intenciones discursivas el bajo pueblo urbano y rural había permanecido indiferente a los acontecimientos surgidos después de 1810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o se dio en gran medida porque la discusión teórica y conceptual sobre la materialización de un Estado republicano era ajena a su realidad inmediat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l escenario Republic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95280" y="11966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La clase dirigente del período 1810-1840, buscó institucionalizar un Estado republicano con separación de poderes, régimen representativo y reconocimiento del concepto de soberanía popula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Esta situación dio como resultado que la definición del orden político y social del nuevo Estado republicano estuviera en manos de unos pocos, de una elite que había adoptado un lenguaje revolucionario e igualitario en teoría, pero que una vez en el poder no buscó precisamente extender privilegios o crear instancias de diálogo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 busca de un nuev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 nuevo orden institucional republicano debía apoyarse sobre un orden socia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te orden requería de una cuidadosa elaboración que abarcara toda la organización política, económica y social del paí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aceptación de un nuevo orden frente al pasado colonial fue un proceso lento que debió poner énfasis en la noción de un cambio gradual que evitase toda forma de descontro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En busca de un nuevo Orde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palabra “orden” se volvió recurrente a partir de la consolidación institucional que siguió a la batalla de Lircay en 1830, e incluso pudo establecerse una relación con el término “confianza”, que se convertiría en el pilar sobre el que descansaría el consenso soci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sí como el orden se oponía a la anarquía, la confianza se oponía la insegurida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maginario de Orden y Leg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sensación de que la sociedad se encontraba bajo control y de que el cambio no alteraba los pilares sobre los cuales se apoyaba el poder de la clase dirigente estaba estrechamente vinculada a la noción de ord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 oposición entre este concepto y el de “anarquía” había guiado gran parte de la construcción institucional del período, además de constituir una de las bases sobre las que se programaba el aprendizaje político de la Nació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Imaginario de Orden y Legalida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341360"/>
            <a:ext cx="835344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al orden debía ser institucionalizado y expresado a través de una normativa, con el fin de intentar superar los planteamientos utópicos y tener así una existencia concret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 ahí que la institucionalidad republicana debía reflejar este concepto con una mezcla de autoritarismo y libertad, aunque parecieran términos antagónic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a tal propósito la confianza en la ley y en el derecho era el nexo entre la autoridad necesaria y la “república posible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Calibri"/>
              </a:rPr>
              <a:t>Resultad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 caracterización de una República dirigida por una elite que basaba su cohesión en un consenso poco a poco comenzó a sufrir presiones por parte de los grupos que intentaban abrir el espectro político e imponer un sistema más democrático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1T23:41:02Z</dcterms:created>
  <dc:creator>user</dc:creator>
  <dc:description/>
  <dc:language>en-US</dc:language>
  <cp:lastModifiedBy>mmorenop</cp:lastModifiedBy>
  <dcterms:modified xsi:type="dcterms:W3CDTF">2010-04-12T13:52:46Z</dcterms:modified>
  <cp:revision>17</cp:revision>
  <dc:subject/>
  <dc:title>Diapositiva 1</dc:title>
</cp:coreProperties>
</file>