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12F3-3FEC-4150-BFD9-4836D9E3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71CB-AA96-461F-B57D-ED2B9C801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4B5B-1B9B-4063-AD0B-D0753CC10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CC6D-3D22-4475-AF48-5FDCEB5A7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6FE89-7792-4660-B54A-AEA9DC9FD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9A74D-F525-4B31-BFB1-D3CF3D93F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DAAF-EA78-4917-9918-42789FBC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FDB2-8AD4-459D-B00F-6F3FA2ED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01E1-9E6B-4088-AF90-F1C9A4A0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589A2-09E4-4CEC-8B32-15DF0A452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6F1A-9037-4F94-833F-A427B025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BF3-0678-4F55-B3DB-585E8202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0F2C-5CD2-4721-A883-39E8FBF2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7224A-8CB6-4BEA-B0BB-B195BAD9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FDA94-5FB5-4E9A-91CE-58444C05C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BE082-C047-4F3A-99D6-77A781CC5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11FF-525C-43DC-8F2E-9CA12FFF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232-CF43-4BB1-88D3-53BACEAE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515-FC57-45B9-83C8-AE95387B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5D97-4D9D-4F3E-962E-C339193C6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8CFF-C57B-49E8-8AF5-FB24FE5A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668-5608-4C4C-9D28-1A8471E3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8001-D5B9-4B74-BC60-250A55BC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F66-95F9-46FB-ADB9-6C718CAB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71D95-3B85-4AD8-82E4-8EFFFEF524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07B1F-E681-40C8-8CF0-F3AFB164B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000000"/>
                </a:solidFill>
                <a:latin typeface="Verdana"/>
              </a:rPr>
              <a:t>Estado y sociedad en Chile, 1891-193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Verdana"/>
              </a:rPr>
              <a:t>Prof. Marco More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El Estado del Centenar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uales eran las principales características del Estado chile antes de 1925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¿Cómo se relaciono el Estado con la població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La ruptura de los consen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La ruptura de los tres consensos que sostenían la unidad nacional -el doctrinario a fines del siglo XIX, producto del embate laico; el político al llegar al 1900, debido a la inoperancia del parlamentarismo; y el social una década más tarde, ahogado por las conmociones obreras es a juicio de Gonzalo Vial “el factor básico para explicarse nuestra historia durante este siglo”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24544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Cómo se concebía el consenso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Tenia más que ver con algunos acuerdos grupales y la generación de mecanismos que igualaban las oportunidades al interior de las prácticas política, administrativa y legal, que con la instrumentación de ellas con fines de dominación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El consenso solo se da al interior de lo que tradicionalmente ha sido llamada “aristocracia” u “oligarquía”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Desde ahí fueron proyectados hacia otros sectores sociales, como una prolongación nacional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0000"/>
                </a:solidFill>
                <a:latin typeface="Verdana"/>
              </a:rPr>
              <a:t>Ni siquiera fueron impuestos ya que suponían como obvios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¿ Un Estado excluyente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000" y="1483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46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Hacia finales del siglo XIX los grupos oligárquicos lograron hacerse del Estad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Este proceso no fue un acto definido por la intencionalidad especifica de garantizar su dominación. Esta estaba asegurada desde mucho ante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La oligarquía poseía los medios de producción, en especial la gran propiedad agrícola; el monopolio de la violencia (el ejercito les seguía siendo fiel), y estaba asociados a los principales inversionistas extranjeros en Chi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Verdana"/>
              </a:rPr>
              <a:t>No eran grupos oligárquicos organizados en torno a la subordinación permanente del resto de la población, sino más bien organizados para salvaguardar y coordinar ciertos privilegios grupales, fundamentalmente económicos, que desde antes ya le daban una posición dominant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uatro formas de exclus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polític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administrativ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723960" indent="-72396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Verdana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La exclusión leg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7T22:22:02Z</dcterms:created>
  <dc:creator>mmorenop</dc:creator>
  <dc:description/>
  <dc:language>en-US</dc:language>
  <cp:lastModifiedBy>mmorenop</cp:lastModifiedBy>
  <dcterms:modified xsi:type="dcterms:W3CDTF">2010-05-17T14:01:25Z</dcterms:modified>
  <cp:revision>16</cp:revision>
  <dc:subject/>
  <dc:title>La compleja herencia del siglo XIX</dc:title>
</cp:coreProperties>
</file>