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6E70F-FC6E-4555-B14C-8CBA76AA0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9534B-F45E-48E5-8C63-5326A4B46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0BED5-D008-461E-9816-A819B3DB7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F930C-027D-4A09-82AE-4F72DF7EA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CDF5A-38CE-4946-B1B7-731075668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CC5FA-AA2F-4023-A1CF-72953984D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C401A-4BF5-43E5-B4E2-76A217512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43966-6961-414F-83FE-C04DEBC57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F3B36-BF62-4E97-803C-1DECDE5A8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C6D42-D435-4107-ADC3-3DA42AB8C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3D9CF-50D0-4B87-9E71-59CD94A42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F76D0-C8A4-493E-BE7D-2C67B8487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E445A-2EB4-4CDB-BDE8-12DB26291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22C15-0C9B-47F2-BFB4-A604680A3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7F7B3-DB6D-4B20-9326-300432CC4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45F6DB-799E-4123-9BAC-53CE8316E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A413CF-0C83-4A67-9859-6CD46DF1E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23722-DB2A-4D04-961A-85C7631D6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E1A03-92E9-4E75-B1DF-B85BA3F02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E02FF-B180-4665-8804-63601871E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A3FC9-2E20-46F4-ACA0-5E7561A61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0766C-F87B-4A6E-9A98-4F174B591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956F3-17E5-4C26-94E1-F992A5AA3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022AA-1C5D-4608-90CC-6ADE89646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7A4B-6968-40CD-8596-15A4961A5D4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004C2-4616-4B49-A8F7-C41EB6AE5F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Verdana"/>
              </a:rPr>
              <a:t>La compleja herencia del siglo XIX</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Prof. Marco Moren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observan progresos en el ámbito polít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autocracia había sido eliminada después de varias décadas de maduración oligárqu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había superado la compleja relación Estado/Iglesia Catól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n partidos que introducirán un clima político cultural de creciente pluralismo que posibilitara la representación de los intereses de sectores  medios y populares.</a:t>
            </a:r>
            <a:endParaRPr b="0" lang="en-US" sz="20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2" dur="500"/>
                                        <p:tgtEl>
                                          <p:spTgt spid="8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 dur="500"/>
                                        <p:tgtEl>
                                          <p:spTgt spid="8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8">
                                            <p:txEl>
                                              <p:pRg st="7" end="7"/>
                                            </p:txEl>
                                          </p:spTgt>
                                        </p:tgtEl>
                                        <p:attrNameLst>
                                          <p:attrName>style.visibility</p:attrName>
                                        </p:attrNameLst>
                                      </p:cBhvr>
                                      <p:to>
                                        <p:strVal val="visible"/>
                                      </p:to>
                                    </p:set>
                                    <p:animEffect filter="blinds(horizontal)" transition="in">
                                      <p:cBhvr additive="repl">
                                        <p:cTn id="22"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90" name="PlaceHolder 2"/>
          <p:cNvSpPr>
            <a:spLocks noGrp="1"/>
          </p:cNvSpPr>
          <p:nvPr>
            <p:ph/>
          </p:nvPr>
        </p:nvSpPr>
        <p:spPr>
          <a:xfrm>
            <a:off x="571320" y="1428480"/>
            <a:ext cx="8001000" cy="450036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En el ámbito económico-social Chile gozaba de un nivel de ingreso muy superior al de la época de la independencia lo cual se expresaba en el gran desarrollo de la urbanización, de la infraestructura, de las obras públicas y ferrocarriles y del sistema educativo.</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A fines del siglo XIX, el país presenta desigualdades, injusticias y opresiones sociales significativas que incidirán en el agudo empeoramiento de la inequidad social.</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La expoliación de la Araucanía dejaba una profunda herida abierta e integraba a los indígenas a la sociedad nacional de la peor manera. </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29" dur="500"/>
                                        <p:tgtEl>
                                          <p:spTgt spid="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34" dur="500"/>
                                        <p:tgtEl>
                                          <p:spTgt spid="90">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0">
                                            <p:txEl>
                                              <p:pRg st="5" end="5"/>
                                            </p:txEl>
                                          </p:spTgt>
                                        </p:tgtEl>
                                        <p:attrNameLst>
                                          <p:attrName>style.visibility</p:attrName>
                                        </p:attrNameLst>
                                      </p:cBhvr>
                                      <p:to>
                                        <p:strVal val="visible"/>
                                      </p:to>
                                    </p:set>
                                    <p:animEffect filter="blinds(horizontal)" transition="in">
                                      <p:cBhvr additive="repl">
                                        <p:cTn id="39"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Aspectos negativos</a:t>
            </a:r>
            <a:endParaRPr b="0" lang="en-US" sz="38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os progresos políticos se dieron en el seno de la misma matriz autoritaria originaria de la sociedad chile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 la desigualdad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refuerzan los estereotipos y discriminaciones racistas y clasista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antiautoritaria” de los liberales de llevó a cabo bajo el tremendo autoritarismo de Errázuriz, Santa María y Balmaced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contra la intolerancia y prepotencia clericales devino en una intolerancia y prepotencia anticleric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 fin de la “República en Forma” se dio en los marcos de una cruenta guerra civi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6" dur="500"/>
                                        <p:tgtEl>
                                          <p:spTgt spid="9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51" dur="500"/>
                                        <p:tgtEl>
                                          <p:spTgt spid="9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56" dur="500"/>
                                        <p:tgtEl>
                                          <p:spTgt spid="92">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61" dur="500"/>
                                        <p:tgtEl>
                                          <p:spTgt spid="92">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66" dur="500"/>
                                        <p:tgtEl>
                                          <p:spTgt spid="9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71"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a Oligarquía</a:t>
            </a:r>
            <a:endParaRPr b="0" lang="en-US" sz="38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levo a la sociedad a un abismo entre riqueza, el lujo y opulencia desenfrenada; y por otro miseria, ignorancia y mortalidad.</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 solido en la elite una visión profundamente despectiva de los sectores medios (“siúticos”) y populares (“rotos”) y, por cierto de los mapuches (“indios”) que pasaran a constituirse en la personificación de todos los vicios y lacras soci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aboraron y socializaron exitosamente el mito de la república democrática, cuyo principal constructor habría sido Portales, y el de la “pacificación de la Araucan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83" dur="500"/>
                                        <p:tgtEl>
                                          <p:spTgt spid="94">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88"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Relaciones vecinales tensas</a:t>
            </a:r>
            <a:endParaRPr b="0" lang="en-US" sz="38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ifíciles relaciones con sus tres países vecinos (Perú, Bolivia y Argenti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hile entra al siglo XX como un “país asediado”.</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ste factor no solo condiciona fuertemente sus relaciones exteriores, sino también la evolución del sistema político y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stituye a las Fuerzas Armadas en protagonista con creciente peso e influencia en dicho sistem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forzara la mentalidad autoritaria-bélica-atávica, presente desde la Conquist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5" dur="500"/>
                                        <p:tgtEl>
                                          <p:spTgt spid="9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30">
                                  <p:stCondLst>
                                    <p:cond delay="0"/>
                                  </p:stCondLst>
                                  <p:childTnLst>
                                    <p:animClr clrSpc="hsl" dir="cw">
                                      <p:cBhvr>
                                        <p:cTn id="99" dur="500" fill="hold"/>
                                        <p:tgtEl>
                                          <p:spTgt spid="96">
                                            <p:txEl>
                                              <p:pRg st="0" end="0"/>
                                            </p:txEl>
                                          </p:spTgt>
                                        </p:tgtEl>
                                        <p:attrNameLst>
                                          <p:attrName>style.color</p:attrName>
                                        </p:attrNameLst>
                                      </p:cBhvr>
                                      <p:by>
                                        <p:hsl h="0" s="12549.0196078431" l="25098.0392156863"/>
                                      </p:by>
                                    </p:animClr>
                                    <p:animClr clrSpc="hsl" dir="cw">
                                      <p:cBhvr>
                                        <p:cTn id="100" dur="500" fill="hold"/>
                                        <p:tgtEl>
                                          <p:spTgt spid="96">
                                            <p:txEl>
                                              <p:pRg st="0" end="0"/>
                                            </p:txEl>
                                          </p:spTgt>
                                        </p:tgtEl>
                                        <p:attrNameLst>
                                          <p:attrName>fillcolor</p:attrName>
                                        </p:attrNameLst>
                                      </p:cBhvr>
                                      <p:by>
                                        <p:hsl h="0" s="12549.0196078431" l="25098.0392156863"/>
                                      </p:by>
                                    </p:animClr>
                                    <p:animClr clrSpc="hsl" dir="cw">
                                      <p:cBhvr>
                                        <p:cTn id="101" dur="500" fill="hold"/>
                                        <p:tgtEl>
                                          <p:spTgt spid="96">
                                            <p:txEl>
                                              <p:pRg st="0" end="0"/>
                                            </p:txEl>
                                          </p:spTgt>
                                        </p:tgtEl>
                                        <p:attrNameLst>
                                          <p:attrName>stroke.color</p:attrName>
                                        </p:attrNameLst>
                                      </p:cBhvr>
                                      <p:by>
                                        <p:hsl h="0" s="12549.0196078431" l="25098.0392156863"/>
                                      </p:by>
                                    </p:animClr>
                                    <p:set>
                                      <p:cBhvr>
                                        <p:cTn id="102" dur="500" fill="hold"/>
                                        <p:tgtEl>
                                          <p:spTgt spid="96">
                                            <p:txEl>
                                              <p:pRg st="0" end="0"/>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07" dur="500"/>
                                        <p:tgtEl>
                                          <p:spTgt spid="9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30">
                                  <p:stCondLst>
                                    <p:cond delay="0"/>
                                  </p:stCondLst>
                                  <p:childTnLst>
                                    <p:animClr clrSpc="hsl" dir="cw">
                                      <p:cBhvr>
                                        <p:cTn id="111" dur="500" fill="hold"/>
                                        <p:tgtEl>
                                          <p:spTgt spid="96">
                                            <p:txEl>
                                              <p:pRg st="1" end="1"/>
                                            </p:txEl>
                                          </p:spTgt>
                                        </p:tgtEl>
                                        <p:attrNameLst>
                                          <p:attrName>style.color</p:attrName>
                                        </p:attrNameLst>
                                      </p:cBhvr>
                                      <p:by>
                                        <p:hsl h="0" s="12549.0196078431" l="25098.0392156863"/>
                                      </p:by>
                                    </p:animClr>
                                    <p:animClr clrSpc="hsl" dir="cw">
                                      <p:cBhvr>
                                        <p:cTn id="112" dur="500" fill="hold"/>
                                        <p:tgtEl>
                                          <p:spTgt spid="96">
                                            <p:txEl>
                                              <p:pRg st="1" end="1"/>
                                            </p:txEl>
                                          </p:spTgt>
                                        </p:tgtEl>
                                        <p:attrNameLst>
                                          <p:attrName>fillcolor</p:attrName>
                                        </p:attrNameLst>
                                      </p:cBhvr>
                                      <p:by>
                                        <p:hsl h="0" s="12549.0196078431" l="25098.0392156863"/>
                                      </p:by>
                                    </p:animClr>
                                    <p:animClr clrSpc="hsl" dir="cw">
                                      <p:cBhvr>
                                        <p:cTn id="113" dur="500" fill="hold"/>
                                        <p:tgtEl>
                                          <p:spTgt spid="96">
                                            <p:txEl>
                                              <p:pRg st="1" end="1"/>
                                            </p:txEl>
                                          </p:spTgt>
                                        </p:tgtEl>
                                        <p:attrNameLst>
                                          <p:attrName>stroke.color</p:attrName>
                                        </p:attrNameLst>
                                      </p:cBhvr>
                                      <p:by>
                                        <p:hsl h="0" s="12549.0196078431" l="25098.0392156863"/>
                                      </p:by>
                                    </p:animClr>
                                    <p:set>
                                      <p:cBhvr>
                                        <p:cTn id="114" dur="500" fill="hold"/>
                                        <p:tgtEl>
                                          <p:spTgt spid="96">
                                            <p:txEl>
                                              <p:pRg st="1" end="1"/>
                                            </p:txEl>
                                          </p:spTgt>
                                        </p:tgtEl>
                                        <p:attrNameLst>
                                          <p:attrName>fill.type</p:attrName>
                                        </p:attrNameLst>
                                      </p:cBhvr>
                                      <p:to>
                                        <p:strVal val="solid"/>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19" dur="500"/>
                                        <p:tgtEl>
                                          <p:spTgt spid="9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30">
                                  <p:stCondLst>
                                    <p:cond delay="0"/>
                                  </p:stCondLst>
                                  <p:childTnLst>
                                    <p:animClr clrSpc="hsl" dir="cw">
                                      <p:cBhvr>
                                        <p:cTn id="123" dur="500" fill="hold"/>
                                        <p:tgtEl>
                                          <p:spTgt spid="96">
                                            <p:txEl>
                                              <p:pRg st="2" end="2"/>
                                            </p:txEl>
                                          </p:spTgt>
                                        </p:tgtEl>
                                        <p:attrNameLst>
                                          <p:attrName>style.color</p:attrName>
                                        </p:attrNameLst>
                                      </p:cBhvr>
                                      <p:by>
                                        <p:hsl h="0" s="12549.0196078431" l="25098.0392156863"/>
                                      </p:by>
                                    </p:animClr>
                                    <p:animClr clrSpc="hsl" dir="cw">
                                      <p:cBhvr>
                                        <p:cTn id="124" dur="500" fill="hold"/>
                                        <p:tgtEl>
                                          <p:spTgt spid="96">
                                            <p:txEl>
                                              <p:pRg st="2" end="2"/>
                                            </p:txEl>
                                          </p:spTgt>
                                        </p:tgtEl>
                                        <p:attrNameLst>
                                          <p:attrName>fillcolor</p:attrName>
                                        </p:attrNameLst>
                                      </p:cBhvr>
                                      <p:by>
                                        <p:hsl h="0" s="12549.0196078431" l="25098.0392156863"/>
                                      </p:by>
                                    </p:animClr>
                                    <p:animClr clrSpc="hsl" dir="cw">
                                      <p:cBhvr>
                                        <p:cTn id="125" dur="500" fill="hold"/>
                                        <p:tgtEl>
                                          <p:spTgt spid="96">
                                            <p:txEl>
                                              <p:pRg st="2" end="2"/>
                                            </p:txEl>
                                          </p:spTgt>
                                        </p:tgtEl>
                                        <p:attrNameLst>
                                          <p:attrName>stroke.color</p:attrName>
                                        </p:attrNameLst>
                                      </p:cBhvr>
                                      <p:by>
                                        <p:hsl h="0" s="12549.0196078431" l="25098.0392156863"/>
                                      </p:by>
                                    </p:animClr>
                                    <p:set>
                                      <p:cBhvr>
                                        <p:cTn id="126" dur="500" fill="hold"/>
                                        <p:tgtEl>
                                          <p:spTgt spid="96">
                                            <p:txEl>
                                              <p:pRg st="2" end="2"/>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131" dur="500"/>
                                        <p:tgtEl>
                                          <p:spTgt spid="96">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30">
                                  <p:stCondLst>
                                    <p:cond delay="0"/>
                                  </p:stCondLst>
                                  <p:childTnLst>
                                    <p:animClr clrSpc="hsl" dir="cw">
                                      <p:cBhvr>
                                        <p:cTn id="135" dur="500" fill="hold"/>
                                        <p:tgtEl>
                                          <p:spTgt spid="96">
                                            <p:txEl>
                                              <p:pRg st="3" end="3"/>
                                            </p:txEl>
                                          </p:spTgt>
                                        </p:tgtEl>
                                        <p:attrNameLst>
                                          <p:attrName>style.color</p:attrName>
                                        </p:attrNameLst>
                                      </p:cBhvr>
                                      <p:by>
                                        <p:hsl h="0" s="12549.0196078431" l="25098.0392156863"/>
                                      </p:by>
                                    </p:animClr>
                                    <p:animClr clrSpc="hsl" dir="cw">
                                      <p:cBhvr>
                                        <p:cTn id="136" dur="500" fill="hold"/>
                                        <p:tgtEl>
                                          <p:spTgt spid="96">
                                            <p:txEl>
                                              <p:pRg st="3" end="3"/>
                                            </p:txEl>
                                          </p:spTgt>
                                        </p:tgtEl>
                                        <p:attrNameLst>
                                          <p:attrName>fillcolor</p:attrName>
                                        </p:attrNameLst>
                                      </p:cBhvr>
                                      <p:by>
                                        <p:hsl h="0" s="12549.0196078431" l="25098.0392156863"/>
                                      </p:by>
                                    </p:animClr>
                                    <p:animClr clrSpc="hsl" dir="cw">
                                      <p:cBhvr>
                                        <p:cTn id="137" dur="500" fill="hold"/>
                                        <p:tgtEl>
                                          <p:spTgt spid="96">
                                            <p:txEl>
                                              <p:pRg st="3" end="3"/>
                                            </p:txEl>
                                          </p:spTgt>
                                        </p:tgtEl>
                                        <p:attrNameLst>
                                          <p:attrName>stroke.color</p:attrName>
                                        </p:attrNameLst>
                                      </p:cBhvr>
                                      <p:by>
                                        <p:hsl h="0" s="12549.0196078431" l="25098.0392156863"/>
                                      </p:by>
                                    </p:animClr>
                                    <p:set>
                                      <p:cBhvr>
                                        <p:cTn id="138" dur="500" fill="hold"/>
                                        <p:tgtEl>
                                          <p:spTgt spid="96">
                                            <p:txEl>
                                              <p:pRg st="3" end="3"/>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43" dur="500"/>
                                        <p:tgtEl>
                                          <p:spTgt spid="96">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mph" presetID="30">
                                  <p:stCondLst>
                                    <p:cond delay="0"/>
                                  </p:stCondLst>
                                  <p:childTnLst>
                                    <p:animClr clrSpc="hsl" dir="cw">
                                      <p:cBhvr>
                                        <p:cTn id="147" dur="500" fill="hold"/>
                                        <p:tgtEl>
                                          <p:spTgt spid="96">
                                            <p:txEl>
                                              <p:pRg st="4" end="4"/>
                                            </p:txEl>
                                          </p:spTgt>
                                        </p:tgtEl>
                                        <p:attrNameLst>
                                          <p:attrName>style.color</p:attrName>
                                        </p:attrNameLst>
                                      </p:cBhvr>
                                      <p:by>
                                        <p:hsl h="0" s="12549.0196078431" l="25098.0392156863"/>
                                      </p:by>
                                    </p:animClr>
                                    <p:animClr clrSpc="hsl" dir="cw">
                                      <p:cBhvr>
                                        <p:cTn id="148" dur="500" fill="hold"/>
                                        <p:tgtEl>
                                          <p:spTgt spid="96">
                                            <p:txEl>
                                              <p:pRg st="4" end="4"/>
                                            </p:txEl>
                                          </p:spTgt>
                                        </p:tgtEl>
                                        <p:attrNameLst>
                                          <p:attrName>fillcolor</p:attrName>
                                        </p:attrNameLst>
                                      </p:cBhvr>
                                      <p:by>
                                        <p:hsl h="0" s="12549.0196078431" l="25098.0392156863"/>
                                      </p:by>
                                    </p:animClr>
                                    <p:animClr clrSpc="hsl" dir="cw">
                                      <p:cBhvr>
                                        <p:cTn id="149" dur="500" fill="hold"/>
                                        <p:tgtEl>
                                          <p:spTgt spid="96">
                                            <p:txEl>
                                              <p:pRg st="4" end="4"/>
                                            </p:txEl>
                                          </p:spTgt>
                                        </p:tgtEl>
                                        <p:attrNameLst>
                                          <p:attrName>stroke.color</p:attrName>
                                        </p:attrNameLst>
                                      </p:cBhvr>
                                      <p:by>
                                        <p:hsl h="0" s="12549.0196078431" l="25098.0392156863"/>
                                      </p:by>
                                    </p:animClr>
                                    <p:set>
                                      <p:cBhvr>
                                        <p:cTn id="150" dur="500" fill="hold"/>
                                        <p:tgtEl>
                                          <p:spTgt spid="9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22:22:02Z</dcterms:created>
  <dc:creator>mmorenop</dc:creator>
  <dc:description/>
  <dc:language>en-US</dc:language>
  <cp:lastModifiedBy>Marco</cp:lastModifiedBy>
  <dcterms:modified xsi:type="dcterms:W3CDTF">2010-05-03T00:28:41Z</dcterms:modified>
  <cp:revision>10</cp:revision>
  <dc:subject/>
  <dc:title>La compleja herencia del siglo XIX</dc:title>
</cp:coreProperties>
</file>