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15A-01FE-49F8-B02D-A40FE62E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644-E19F-4A90-A944-59027844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7F6-C6A1-40F9-B41B-C7D42E7B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7D3-A197-4D4E-98AD-B504AD12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7D69-6C24-428F-AA78-C73646F5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48F7-B556-40E7-98D8-EECC79E6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1D5B-1272-41BD-A162-2BC01B55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C76C-4C1D-4868-99BC-BF34AED7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E5EA-8D46-4DD6-9240-8C06FE26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4E75-8A24-42BD-81B2-0BCBA8C9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F383-F2EA-4B8C-B258-6226BA88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7E4-4F77-4F39-9D82-A734143D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7881-B439-482A-884C-6B06C049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A69E-8638-4EC1-AE66-B36BABDB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63B7-8FF5-436D-972F-C3167C86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44C6-0867-4F33-BA01-776C068C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9946-ABFC-46B0-8441-F3A59615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67A-3EDB-45CF-BA8D-480AF315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78A-156D-4D27-BA9B-88982E7E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BB6-2C6C-4E5A-B0C2-FB7F2388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AEE-5B77-468E-9918-CF931FEA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CC5-28F5-4377-8D0A-8E3F4EBD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EB8-231F-411D-94C0-92C63F2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4CA-CA3B-4DEF-8565-AF3DD43B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E91F-7645-4E17-8989-1294E232F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41C3-62EC-4DA4-AF21-AA2E58E8B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stado del Cente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uales eran las principales características del Estado chile antes de 19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se relaciono el Estado con la pobla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ruptura de los conse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ruptura de los tres consensos que sostenían la unidad nacional -el doctrinario a fines del siglo XIX, producto del embate laico; el político al llegar al 1900, debido a la inoperancia del parlamentarismo; y el social una década más tarde, ahogado por las conmociones obreras es a juicio de Gonzalo Vial “el factor básico para explicarse nuestra historia durante este siglo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Cómo se concebía el consens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enia más que ver con algunos acuerdos grupales y la generación de mecanismos que igualaban las oportunidades al interior de las prácticas política, administrativa y legal, que con la instrumentación de ellas con fines de domin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El consenso solo se da al interior de lo que tradicionalmente ha sido llamada “aristocracia” u “oligarquí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de ahí fueron proyectados hacia otros sectores sociales, como una prolongación na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Ni siquiera fueron impuestos ya que suponían como obvi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 Un Estado excluye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acia finales del siglo XIX los grupos oligárquicos lograron hacerse del Es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proceso no fue un acto definido por la intencionalidad especifica de garantizar su dominación. Esta estaba asegurada desde mucho 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oligarquía poseía los medios de producción, en especial la gran propiedad agrícola; el monopolio de la violencia (el ejercito les seguía siendo fiel), y estaba asociados a los principales inversionistas extranjeros en Ch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eran grupos oligárquicos organizados en torno a la subordinación permanente del resto de la población, sino más bien organizados para salvaguardar y coordinar ciertos privilegios grupales, fundamentalmente económicos, que desde antes ya le daban una posición domin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17T14:01:25Z</dcterms:modified>
  <cp:revision>16</cp:revision>
  <dc:subject/>
  <dc:title>La compleja herencia del siglo XIX</dc:title>
</cp:coreProperties>
</file>