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C55C-7813-42C5-AF39-4CCD75856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9716-B872-412F-B7A1-C55F02C5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F59A-C1DF-4B40-AA61-3B8ACC91E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42E6-C118-4F79-A5FD-C28F0454C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3A6C-855C-4BBD-95EF-906884B9E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4FEE7-24CF-434F-9D2E-F68B6A37B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B144-0908-487F-A756-023691F6F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3F26-7C32-4276-BCE1-174400BB8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52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2295-8A99-4542-B059-014A75B4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3B93-C98A-4A30-9FC9-38DCE27D4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795A-6CC8-41F9-89F2-2FE2B0926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6FB7-E9CD-4FD6-8B4B-376DB870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F81E6-E40A-4ABB-9D2E-7B7C9F397F4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ACTORES E INSTITUCIONES: </a:t>
            </a:r>
            <a:br>
              <a:rPr sz="3200"/>
            </a:b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UN ENFOQUE ANALÍTICO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instituciones son un conjunto de reglas formales e informales (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North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instituciones son patrones estables de comportamiento organizacional (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March y Olsen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instituciones son convenciones sociales, como símbolos, ritos, costumbres (</a:t>
            </a:r>
            <a:r>
              <a:rPr b="0" i="1" lang="es-ES" sz="2000" spc="-1" strike="noStrike">
                <a:solidFill>
                  <a:srgbClr val="000000"/>
                </a:solidFill>
                <a:latin typeface="Arial"/>
              </a:rPr>
              <a:t>Powell y DiMaggi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440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..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28"/>
          <p:cNvSpPr/>
          <p:nvPr/>
        </p:nvSpPr>
        <p:spPr>
          <a:xfrm>
            <a:off x="0" y="1752480"/>
            <a:ext cx="9144000" cy="7632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0099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1029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0099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0"/>
          <p:cNvSpPr/>
          <p:nvPr/>
        </p:nvSpPr>
        <p:spPr>
          <a:xfrm>
            <a:off x="762120" y="5105520"/>
            <a:ext cx="7848360" cy="7038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8db2bf"/>
              </a:gs>
            </a:gsLst>
            <a:lin ang="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Arial Narrow"/>
              </a:rPr>
              <a:t>Se trata de enfoques complementarios, de dimensiones a tener en cuenta al momento de reformar y/o gestionar lo públ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031"/>
          <p:cNvSpPr/>
          <p:nvPr/>
        </p:nvSpPr>
        <p:spPr>
          <a:xfrm>
            <a:off x="748800" y="1941480"/>
            <a:ext cx="40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 Narrow"/>
              </a:rPr>
              <a:t>¿QUÉ SE ENTIENDE POR INSTITUCIONE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533160" y="152280"/>
            <a:ext cx="79246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...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instituciones tienen un origen so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instituciones son patrimonio compartido por una sociedad o comunidad releva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instituciones persisten en el tiempo, no son efímeras o momentán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Las instituciones establecen restricciones y abren oportunidad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0099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685800" y="609480"/>
            <a:ext cx="7331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 Narrow"/>
              </a:rPr>
              <a:t>Algunos elementos comunes a los diversos enfoques institucion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09480" y="1904760"/>
            <a:ext cx="78487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La </a:t>
            </a:r>
            <a:r>
              <a:rPr b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institucionalidad social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 est</a:t>
            </a:r>
            <a:r>
              <a:rPr b="0" lang="es-ES_tradnl" sz="2200" spc="-1" strike="noStrike">
                <a:solidFill>
                  <a:srgbClr val="000000"/>
                </a:solidFill>
                <a:latin typeface="Arial Narrow"/>
                <a:ea typeface="Arial"/>
              </a:rPr>
              <a:t>á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 constituida por un conjunto de reglas de juego formales e informales, rutinas organizacionales, normas y costumbres que enmarcan el contenido y din</a:t>
            </a:r>
            <a:r>
              <a:rPr b="0" lang="es-ES_tradnl" sz="2200" spc="-1" strike="noStrike">
                <a:solidFill>
                  <a:srgbClr val="000000"/>
                </a:solidFill>
                <a:latin typeface="Arial Narrow"/>
                <a:ea typeface="Arial"/>
              </a:rPr>
              <a:t>á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mica de la pol</a:t>
            </a:r>
            <a:r>
              <a:rPr b="0" lang="es-ES_tradnl" sz="2200" spc="-1" strike="noStrike">
                <a:solidFill>
                  <a:srgbClr val="000000"/>
                </a:solidFill>
                <a:latin typeface="Arial Narrow"/>
                <a:ea typeface="Arial"/>
              </a:rPr>
              <a:t>í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tica social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Para todos los involucrados, la institucionalidad social representa un entramado que estructura sus l</a:t>
            </a:r>
            <a:r>
              <a:rPr b="0" lang="es-ES_tradnl" sz="2200" spc="-1" strike="noStrike">
                <a:solidFill>
                  <a:srgbClr val="000000"/>
                </a:solidFill>
                <a:latin typeface="Arial Narrow"/>
                <a:ea typeface="Arial"/>
              </a:rPr>
              <a:t>í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mites y oportunidades de negociaci</a:t>
            </a:r>
            <a:r>
              <a:rPr b="0" lang="es-ES_tradnl" sz="2200" spc="-1" strike="noStrike">
                <a:solidFill>
                  <a:srgbClr val="000000"/>
                </a:solidFill>
                <a:latin typeface="Arial Narrow"/>
                <a:ea typeface="Arial"/>
              </a:rPr>
              <a:t>ó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n y acci</a:t>
            </a:r>
            <a:r>
              <a:rPr b="0" lang="es-ES_tradnl" sz="2200" spc="-1" strike="noStrike">
                <a:solidFill>
                  <a:srgbClr val="000000"/>
                </a:solidFill>
                <a:latin typeface="Arial Narrow"/>
                <a:ea typeface="Arial"/>
              </a:rPr>
              <a:t>ó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n, lo cual sin embargo no clausura las posibilidades para que se avance en transformaciones m</a:t>
            </a:r>
            <a:r>
              <a:rPr b="0" lang="es-ES_tradnl" sz="2200" spc="-1" strike="noStrike">
                <a:solidFill>
                  <a:srgbClr val="000000"/>
                </a:solidFill>
                <a:latin typeface="Arial Narrow"/>
                <a:ea typeface="Arial"/>
              </a:rPr>
              <a:t>á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s o menos amplias de dicha institucionalidad.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title"/>
          </p:nvPr>
        </p:nvSpPr>
        <p:spPr>
          <a:xfrm>
            <a:off x="12952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HACIA UNA CARACTERIZACIÓN DE LA INSTITUCIONALIDAD SOCI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28"/>
          <p:cNvSpPr/>
          <p:nvPr/>
        </p:nvSpPr>
        <p:spPr>
          <a:xfrm>
            <a:off x="0" y="1752480"/>
            <a:ext cx="9144000" cy="7632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0099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029"/>
          <p:cNvSpPr/>
          <p:nvPr/>
        </p:nvSpPr>
        <p:spPr>
          <a:xfrm>
            <a:off x="0" y="6553080"/>
            <a:ext cx="9144000" cy="30492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00999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r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8T20:34:20Z</dcterms:created>
  <dc:creator>Annabella Gaggero</dc:creator>
  <dc:description/>
  <dc:language>en-US</dc:language>
  <cp:lastModifiedBy>user</cp:lastModifiedBy>
  <cp:lastPrinted>2002-08-12T18:08:10Z</cp:lastPrinted>
  <dcterms:modified xsi:type="dcterms:W3CDTF">2010-03-31T01:34:55Z</dcterms:modified>
  <cp:revision>236</cp:revision>
  <dc:subject/>
  <dc:title>No Slide Title</dc:title>
</cp:coreProperties>
</file>