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8EE-FBDE-459D-B054-E7BEA290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8EB-6599-4F7A-9662-DCBE06A5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A52-2D6F-41F8-8E69-CE2B9AB6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F02-173B-41FF-BD49-E11620B7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07F-00CA-4742-8984-1B1BF1DD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D70-28C7-4DE3-AD60-6FCA283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A62-740C-4E22-90D1-2F0FFE5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6FF-D6C9-4254-8F05-0FD2E7D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A2D-AA0A-43C6-B373-A74DDCD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B6E-2D89-46BE-8519-0339C191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C55-AE99-4F2B-8690-D92A54C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87C-2287-4821-8B8F-FAC1041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F0A-AB15-4B72-96E4-56D84E32F0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ORES E INSTITUCIONES: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 ENFOQUE ANALÍTIC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un conjunto de reglas formales e informal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orth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ones estables de comportamiento organizacional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arch y Ols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convenciones sociales, como símbolos, ritos, costumbr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well y DiMagg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2120" y="5105520"/>
            <a:ext cx="784836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b2b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</a:rPr>
              <a:t>Se trata de enfoques complementarios, de dimensiones a tener en cuenta al momento de reformar y/o gestionar l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748800" y="1941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 Narrow"/>
              </a:rPr>
              <a:t>¿QUÉ SE ENTIENDE POR INSTITU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tienen un orig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imonio compartido por una sociedad o comunidad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persisten en el tiempo, no son efímeras o moment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establecen restricciones y abr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60948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Algunos elementos comunes a los diversos enfoques institu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nstitucionalidad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est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constituida por un conjunto de reglas de juego formales e informales, rutinas organizacionales, normas y costumbres que enmarcan el contenido y din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ca de la po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ica socia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ara todos los involucrados, la institucionalidad social representa un entramado que estructura sus 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tes y oportunidades de negocia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 y ac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, lo cual sin embargo no clausura las posibilidades para que se avance en transformaciones m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 o menos amplias de dicha institucionalidad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IA UNA CARACTERIZACIÓN DE LA INSTITUCIONALIDAD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0:34:20Z</dcterms:created>
  <dc:creator>Annabella Gaggero</dc:creator>
  <dc:description/>
  <dc:language>en-US</dc:language>
  <cp:lastModifiedBy>user</cp:lastModifiedBy>
  <cp:lastPrinted>2002-08-12T18:08:10Z</cp:lastPrinted>
  <dcterms:modified xsi:type="dcterms:W3CDTF">2010-03-31T01:34:55Z</dcterms:modified>
  <cp:revision>236</cp:revision>
  <dc:subject/>
  <dc:title>No Slide Title</dc:title>
</cp:coreProperties>
</file>