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EEF-0908-42F6-9545-56131DCF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7C6-D491-4C7D-8EFF-6F28DDA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9AF-8D90-4DDE-A106-5F6444CA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3A5-CA6A-47E2-AE94-A9F86ACF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F6B1-4064-4E30-9DD0-D5D26BE4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4E0D-BC06-4404-BF9E-65D1F071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4EB8-BFC2-4C39-A889-92813B4C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B63-0BD4-45C6-9E5E-682A5BD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90C-1DF7-457D-AA33-93D18132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E71-ECF6-4E92-9D6D-B17675F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B37B-DBFF-4654-975D-A639A03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547-D708-47F4-823E-875D170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CB38-DD8D-4807-950C-F8BA501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8039-DA12-4251-94F1-0D8DB2F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85B9-8CE8-4968-AC95-0E8A8C8F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63B-D320-43B6-B539-48AE709A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A3D-454B-4999-B3D6-DC9FEDE7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7A8-11A8-40CB-B627-ACDB4192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593-B8FD-4001-B757-8582E45E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1A5-CFF3-45B0-9BE3-5D5B0B0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92A-A8E5-4CB2-B231-5379BE3A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BD8-2356-47C3-9413-2867919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AC7-45BC-4FF4-AF88-D9CACC1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EC2-94A2-45CE-AE65-A3148C2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36A8-BB36-430F-A9C7-A5D17F72CE7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C32B-8AC1-4E26-95F3-31744C4CB43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ABC-7C1A-4894-9951-0927CA56795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6D3B-7824-494F-9D9F-51C0EA628A9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ume que las funciones públicas no son perfectamente predecibles, sino que son producto de la interacción entre funcionarios y usuarios / destinatarios / cli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punta a generar alteraciones en las funciones y roles que asume el estado, y en la forma como se distribuye el poder entre las instituciones y entre estas y la ciudadaní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del Estado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6627-9B07-4AA5-A19D-B4CAB3C67AB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tienen dos momento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olíticas destinadas a enfrentar la crisis económica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políticas macroeconómicas y de ajuste de balanza de pag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o enfocan aspecto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cluyen política de privatizaciones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de las instituciones públicas para enfrentar desafíos políticos actu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rvicios son reformados, reconstruidos o se crean nue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F843-5D4F-46D7-BC27-E406EB64C6B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sinónimo de reducción de intromisión no deseada en los mercados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incremento de eficiencia burocrática, privatizaciones, reducción de regulac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ircunscri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para “expansión” selectiva de la acción pública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mejorar provisión de infraestructura, de servicios de salud y educación, enfrentar pobreza y desemple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on nueva capacidad regulado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21F-4001-432D-9C8E-C807B44E96E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transformación de las relaciones de poder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fortalecer poder legislativo, mejorar justicia, fortalecer gobiernos regionales y locales, responsabilidad pública y participación. Es enfoque más polí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más democrá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7333-FBE1-4C1E-9D8C-5CF2DDED9DA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presidencialista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grado de conflicto o cooperación entre presidente y legislatura y poderes presidenci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coherencia de reformas es producto de mayor sintonía entre ambos pode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 de partidos político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fragmentación de partidos vrs partidos o coaliciones cohesion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o menor posibilidad de apoyo a procesos de reform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88B-4351-49CD-894C-8C22314FD0E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elegación de facultade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desde parlamento a ejecutivo y desde presidente a agencias o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Falacia tecnocrática: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 suponer que es posible solucionar difíciles problemas políticos removiendo de toma de decisiones a políticos y grupo de presión y reemplazarlos por tecnócra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E15E-02C7-4B4C-893C-E81A0AD5B4F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Reformas al servicio civil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como recorte del tamaño del servicio civil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ciertos países se acompañó de mejoras en la eficiencia organizaci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Introducción de incentivos al desempeño y al esfuerzo de funcionari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Incentivos positivos vía descomprimir escalas salariales, sistemas de promoción más competitivos, sistemas de evaluación más discriminadores, sanciones a la corrupción y a abu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 Reforma y modernización del Estado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D10-4642-4164-BCE3-9904F243B9C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Gestión de los recursos human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A mayor descentralización de gestión de personal, se requiere mayor capacidad administrativ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 constata sobrecentralización en gestión de personal, de decisiones sobre gastos, asignación de vacantes, aprobaciones de reclutamiento, despidos, promociones, ajustes salariales, sistemas de calificación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rgos de confianza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Designaciones políticas en cargos superiores de las administraciones.  Esto cumple tres objetivos: garantizar beneficios a partidarios; asegurar apoyo de legisladores; garantizar orientaciones político - programá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C41D-7042-4866-8656-17D1022D517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Diseño de servicios administrativos y reguladores</a:t>
            </a:r>
            <a:r>
              <a:rPr b="1" i="1" lang="es-ES_tradnl" sz="23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Cambio de rol del Estado de productor de bienes y servicios a rol normativo, regulador y fiscalizador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stado interviene menos directamente en los mercados y asume función reguladora; privatizaciones separa empresas del Estado, que deben ser fiscalizadas de forma nueva; crecen demandas por regular nuevos sectores (salud, medio ambiente, seguridad laboral, etc.)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en entidades administrativas y reguladoras requiere delegación de la autoridad política a autoridade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la autoridad monetaria en Banco Centr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programas de pobreza en Fondos Soci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7F96-949C-4F74-A180-0C12FCDEACD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bate sobre cuan centralizado o cuan descentralizado debe ser un gobierno tiene que ver con quién y dónde se toman decis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ferencia de responsabilidades en planificación, gerencia y asignación de recursos desde el gobierno central a servicios nacionales, corporaciones públicas autónomas, autoridades regionales o locales, tercer sector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sconcentra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areas y autoridad son delegadas hacia abajo dentro de un servicio, para obtener mayor efici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01C5-4151-43BD-97D8-4D9951DC6F1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A76E-959F-4A17-9D75-DA4B1832E5F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volu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ransferencia de capacidad de decisión desde nivel central a gobiernos regionales y locales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ederalismo (Venezuela, Brasil, Argentin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gionalismo (Chile, Colombi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ocesos de descentralización están afectados por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Qué se transfiere primero: funciones o recur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construye capacidad gerencial en niveles regionales y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ejerce control desde el centro sobre entes descentraliz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resuelve la descentralización fiscal: federalismo o centralismo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2D9-3161-43AA-9198-25B7AEE25FF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Gestión pública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omo tener una gest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egunta tiene que ver con como gestionar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os principales tópicos se refieren 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723-B955-4A60-87A5-ECBDA6347E0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1. Marco conceptual.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Se refiere a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uncionamiento del sistema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rocesos de toma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2.Requie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tructura que permita transparencia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bjetivos claros y transpar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sponsabilidades, procedimientos y reg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y control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CB39-8CAA-4002-80E4-D0DA171412E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3. Supone participación y rendición de cuentas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Transparencia está ligada a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ceso a la inform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ndición de cuentas o account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istencia de controles internos, separación de poderes y controles externos a la administ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5F78-3E6E-4AEA-AEE2-D74C55DAFD9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B447-6E00-4508-BBAF-3C88F75B51E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Un objetivo esencial del proceso de reformas ha sido 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lograr que el Estado desarrolle la capacidad de diseñar y ejecutar eficazmente las políticas públicas apropi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5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42F8-7275-402C-B1B5-C66DE547489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Se han caracterizado por ser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 procesos </a:t>
            </a: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que han apuntado a: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fortalecer los procesos polít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haber abarcado ámbitos institucionales y normativ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star enfocados tanto a políticas de mayor equidad como de mayor desarrollo económico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ser procesos altamente dependientes de factores polític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mostrar la necesidad de tener esfuerzos de largo plazo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xistir algunas áreas críticas a modernizar como condición para avanzar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409-825B-4AA5-B824-7C6C553F98B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Estos procesos se han expresado en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royectos específ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muchas veces han generado visiones fragmentaria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on altamente dependientes de las capacidades institucionales, de las disponibilidades de recursos humanos y financier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ufren del cambio continuo de interlocutores en los gobiern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están diseñados en formatos rígidos y poco flexibles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E611-C994-42CE-BED8-1AA503BFDF8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La Agenda sobre Reforma y Modernización del Estado se ha ido ampliando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desde un inicio en que estuvo concentrada en mejoras administrativa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a un temario más comprehensivo, que cubre el sistema de gobierno en su conjunto, la participación de la ciudadanía, las mejoras en la gestión y la transparencia y probidad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D6B2-4136-4AE2-84A1-16E4E7CA98B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5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rtalecimiento del sistema democrát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judici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legislativ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elector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contro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BF7-BD68-4B31-A606-95DD7F157F5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ambio continuo y discontinuo en el esta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continuos son transformaciones que no cuestionan la lógica dominante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ni la identidad del estado en sus formas y actu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on cambios por adaptación, espontáneos, periféric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discontinuos alteran el modo de razonamiento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, el carácter del estado, aportando nuevos valores y nuevos principios que obligan a cambios en el comportamiento de los actor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s se caracterizan por ser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cambios discontinu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69DC-17FF-4124-AA5E-569FD03A735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6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nsolidar el estado de derech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Administración de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fensa de los derechos de los ciudadan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juríd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olución de controversias y conflict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gualdad de acceso a la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trol de ilícitos, delitos financieros y lavado de diner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A555-486B-4E5D-A29A-CA90EA9736F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7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5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a administración pública 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rvicio civil y gerencia públ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A245-9954-4D97-B9F9-7157BF85302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(8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8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3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estado que apoye el desarrollo económico, la equidad y el funcionamiento de los mercados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rtalecimiento de autoridades macroeconóm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alación y ajuste en sistemas regulator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Reglas del juego mercantiles, financieras y de inform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pens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estión de empresas estat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rocedimientos administrativos facilitador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líticas fiscales y tributarias adecu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mento productivo y de la competitividad y el emprendimien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5307-D119-47A9-9BBA-4B484BA19C6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l Informe sobre el desarrollo mundial 1997 se dedica al papel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as principales directrices son las siguiente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Reconsiderar el papel del estado: “qué produce” y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“cómo lo produce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estado debería ser facilitador del merc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Hacer coincidir el papel del estado con su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apacidad; usar los recursos del mercado y de la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8A2F-A3C7-4396-A598-001B7123F5A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2088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Los estados débiles se deberían concentrar en lo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sencial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rechos de propi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abilidad macroeconóm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ntrol de enfermedad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ua pota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ami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tección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 a los más necesi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0F1D-4A95-4A8E-84B6-FDD8C55CD94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542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Construir un mejor sector públ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una capacidad central para formular y coordinar polític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ción de sistemas eficientes y efectivos de provisión de servicios a través de una variedad de medios: valorar el desempeño, meritocracias, mejores sistem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ucha contra la corrupción, vía un ataque múltiple que contemple menor regulación, mayor transparencia, mayor uso de mercados y mejor supervis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personal motivado y capacitado vía políticas de retribución adecuadas y formación de equip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CE8-5B02-40BD-B398-A8CB6B2F67A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Pensar la secuencia de las reforma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segurar que reglas anunciadas sean reales, especialmente el control macroeconóm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Introducir con cautela nuevas técnicas de administración. Mayor flexibilidad en la medida que exista control efectivo de insumos y resul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Mejorar formulación y coordinación de políticas, al mismo tiempo de implementar un servicio público profesionalizado y de utilizar mecanismos de mercado.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2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81E-F80A-435E-B045-4DC5B16F0E7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viene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eparar la toma de decisione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pertenece al mundo de las políticas públicas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e la ejecución y prestación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l servicio, pues cuando ambas esferas se mezclan se generan toda clase de vic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s mejo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arle facultades a las organizaciones ciudadanas que servirlas directam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pues la experiencia demuestra que las pequeñas unidades autogestionadas por sus “dueños” suelen ser más eficaces que las pesadas maquinaria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inyectar competitividad e innovación en la prestación de servicios públicos, haciéndol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competir entre si y con tercer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EE4E-DB39-4728-BFE9-8FAAD5827B0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buscar la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transformación de las organizaciones regidas por regla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n última instancia tienen como propósito fundamental su autopreservación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en organizaciones orientadas a resultados,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que es lo que le interesa a la ciudadaní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bem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financiar el producto final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s lo que le interesa a la ciudadanía, en lugar de los datos e indicadores intermedios, que es lo que le interesa a la burocra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Las organizaciones públicas deben procura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ganar en lugar de gastar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introduciendo criterios emprendedores en su gest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atisfacer las necesidades del cli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be ser un principio ordenador fundament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C23D-264D-47FF-9D0C-DB9D365CE2F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ás vale gastar un kilogramo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even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que una tonelada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u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iseñemos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gobierno verdaderamente descentraliz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en su toma de decisiones, y por tanto cercano a los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voquemos el cambio a través del mercado cada vez que se pueda,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mo por ejemplo en el caso de los permisos de emisión transables, que buscan controlar la contaminación mediante ese tipo de regl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77A5-040E-4038-BED4-54BC528A8A8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La amplitud del objeto de la reform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afectan el diseño y funcionamiento de las institucion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es decir, la manera como se organizan y articulan los poderes del Estado para elaborar y ejecutar políticas públicas.  Se centran en los proces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institucional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La reforma liberal.  Separa poderes, asegura libertades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transforman el contenido de la acción pública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redefiniendo finalidad, objetivo y alcanc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sustantiva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El estado de bienestar, cambia contenido de acción pública y pone énfasis en redistribución, solidaridad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56F9-6F42-473F-90D0-4B126942EC9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érmino surge en el 1989 propuesto por Hood en Inglaterra y se implementa en diversos países desarroll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lementos constitutivos de esta propuesta so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)  Énfasis en 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ivilegiar economía, eficiencia y eficaci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la gestión de los gobier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dimensionamiento de la estructura administrativ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buscando aligerar organización enfocándola a lograr fines específicos y metas precis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de decisiones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hacia mandos subalternos, con el necesario empoderamiento y responsabilización por result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5071-7F3E-4AAD-B379-8CBD107B674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agencias públic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independientes y estructuradas de manera no burocrá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istinción entre formular políticas e implementar polític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; distinción entre “timonera” y “remar”. Insistir en carácter estratégico de alta dirección del gobierno y en la posibilidad de externalizar provisión de insumos y realizaión de contratos. Distinguir entre proveer financiamiento público y realizar acciones con dichos recurs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so de mecanismos de mercado tanto como incentiv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para la mejor gestión como para ofrecer mayor posibilidades de elección a usuar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365-DB49-4B91-B082-03A66BDB205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g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Orienta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tanto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polític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definen objetivos) y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de usuari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aceptan la utilidad del servicio), incorporando expectativas, intereses y calidad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fasis en los resultados y el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más que sólo en observar procedimientos y norm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i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Implantación de sistemas de medición y evaluación de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lo que obliga a definir actividades, productos y resultados y crear estándares e  indicadores de desempeñ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624-91ED-407E-A08D-35FEEDF7718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a surgido un nuevo paradigma de la gestión pública, que se centra en la promoción de una cultura orientada a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un sector público menos centralizado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ructuras administrativas y patrones directivos tradicionales son ineficaces; esto obliga a un cambio radical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vise el ámbito y el modo de la intervención gubernamental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mejore la calidad analítica de las decisiones de políticas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haga la relación costo/beneficio – efectividad de las acciones públicas y que renueve normas e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9E3-DCD6-4437-8F4B-F6A7B87A556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calización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 la acc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los resultad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nforme a criterios de eficiencia, eficacia y calidad del servic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Sustitución de estructuras organizativas jerárquicas y centralizadas por estructur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para acercar la toma de decisiones a la prestación de servicios y se posibilite la retroalimentación de los clientes y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lexibilizar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ones de prestación directa de servicios públicos y de la regulación, a fin de bajar costos de las prest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4362-1D1A-433C-8C62-43A9147577C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Priorizar la eficienci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los servicios proveídos por el sector público, para lo cual se deben definir metas y crear entornos competitivos intra e inter servici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Reforzar las capacidades estratégicas de la alta dirección del gobiern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para poder conducir la evolución del estado y responder con rapidez, flexibilidad y a bajo costo  a cambios externos y a nuevas deman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EBB5-992E-48FA-ADA0-C5BF9244154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os medios para lograr esta agenda son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ejorar la dirección estratégic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financiera y de calidad de los servicios prestad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regulación o re-regulación apropiad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normas aplicadas a diversos sect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ntroducción de 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incentivos de mercad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en la operación administrativa de los servic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987-99BA-4AA7-A4C5-9DEB618F9B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(5)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Visión de la OCDE sobre la futura administración públic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“ 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en las décadas por venir, el sector público será radicalmente diferente en apariencia y actuación: se involucrará cada vez menos en la prestación directa de los servicios; se concentrará más en establecer un marco flexible que favorezca las actividades económicas; regulará mejor al disponer de una información más completa sobre los impactos de la regulación; evaluará de manera permanente la eficacia de las políticas; desarrollará funciones de planeación y liderazgo estratégico para dar respuestas a los desafíos económicos y sociales; y tendrá un enfoque más participativo de la gobernabilidad. 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D2AD-5D2A-4009-B5B7-BCF5874B49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2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Hechas las distinciones del caso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política vs. gest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sustancial vs. reforma institucional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política vs. administrativa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y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vs. modernizac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es sano volver a la vaga e inclusiva definición de Pollit y Bouckaert: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“Son cambios deliberados a las estructuras y procesos del sector público, con el objeto de hacer que funcione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mejor en algún sentido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n definitiva, de eso se trata, de que funcionen mejor para los ciudadanos, y también para los trabajadore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Reforma y modernización del Estado: Perspectiva histórica y Conceptos General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5B06-805E-48A8-B1A2-C29EB4B02F0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D56C-896D-4986-9C03-B76F22F414A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distinguen reformas políticas y reformas administra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política consiste en cambio discontinuo en lo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so de dictadura a democrac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ambio de estado unitario a estado feder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tegración supranacional en un nuevo est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versión de régimen presidencial a parlamentar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7C5-02F4-4CB9-AE36-96968DF57A6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dministrativa consiste en cambios en la administración pública, en la forma como el poder ejecutivo realiza sus tare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rganización de estructuras gubernament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égimen y gestión del funcionari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ón financiera y presupues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la gest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B591-53C8-4060-9A1B-088EE67FB25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plicación de principios organizacionales a la administr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mite mejoras en procesos rutinarios, sencillos, predecib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sconoce especificidad de gest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 interpretación simplificada de la complejidad del sector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8FF-44DF-41D6-8D37-DE24D2A3C05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366640" indent="-21924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caracteriza por rejuvenecimiento físico, organizativo, introducción de nuevas tecnologí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o supone un cambio de la institucionalidad, ni de las funciones ni de los roles de la administr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 veces permite hacer eficientemente lo incorrect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gerencial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asocia con “modernización de la gestión pública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D7A-D793-4B48-A2F2-27A2A2C34AE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naliza relación de la administración con el resto del Estado y su legitimidad democrática.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ntiende que lo administrativo y lo político están íntimamente lig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conoce que la acción gubernamental se caracteriza por la interconexión entre servicios e instancias públicas y priv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5-28T15:42:55Z</dcterms:modified>
  <cp:revision>940</cp:revision>
  <dc:subject/>
  <dc:title>GESTION PUBLICA Y MODERNIZACION DEL ESTADO</dc:title>
</cp:coreProperties>
</file>