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C5B-94CB-4945-B4BB-03B7BBC8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32A-FBF9-41D9-B11A-22DDC053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EF6-9A7B-483B-B37F-061C9BE6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056-192F-46CF-9A4C-308E5AC6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0ADA-248D-4E7F-BDA1-520E0593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153F-E243-4674-90ED-8BE3C6EF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E927-4C4F-4F16-B164-503B15F9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3D35-935C-4EF4-9E78-7BB175E1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643A-22CB-4467-81C1-9445B1F5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F01B-9837-4786-A92D-D683C59C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7E50-9C4E-4050-91EF-0D2204CD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E8B-4F7B-498F-ADC6-12FC8E08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0D82-54F0-4CA2-9B61-B56855C4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1427-9A74-49C1-A786-BC654E65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BCE9-B879-4428-A69A-1B167B86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4F50-656E-438F-912A-B78BBFD2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AB83-49AC-4549-B755-3706747B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4DD-EFA7-4DFA-9CCF-EF30F2A5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640-A3EC-4082-B851-EB32AA84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17C-0222-4DCF-A092-24E20BF7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DB7-E4FD-49C5-BC5E-A5B9F726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0D4-55FC-4AC8-ACBE-9D676838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910-73F2-4F03-83CA-0FB1D1D5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FFD-293E-41B3-8D2D-755E6FA4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BFCD-2847-4EB7-95A7-32A7D636120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BBE6-87AC-4F49-8032-2195531D0DDA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E72A-BEEC-4E73-BCE5-9269713C8BD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164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1. Agenda para la reforma del estado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55640" y="4581360"/>
            <a:ext cx="7655040" cy="139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0DD4-E198-4FA7-9084-7CFCD2D7C3A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9840" indent="-3398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discontinuo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317320" indent="0" algn="just">
              <a:lnSpc>
                <a:spcPct val="6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mplia y profun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sume que las funciones públicas no son perfectamente predecibles, sino que son producto de la interacción entre funcionarios y usuarios / destinatarios / clie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punta a generar alteraciones en las funciones y roles que asume el estado, y en la forma como se distribuye el poder entre las instituciones y entre estas y la ciudadaní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le denomina “reforma del Estado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1E63-3A1C-4A81-8497-6C6AC08CF53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Reformas tienen dos momento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olíticas destinadas a enfrentar la crisis económica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políticas macroeconómicas y de ajuste de balanza de pag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No enfocan aspectos institucion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ncluyen política de privatizaciones de empres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 de las instituciones públicas para enfrentar desafíos políticos actu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ervicios son reformados, reconstruidos o se crean nue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BB26-BD9C-430A-BFFE-AFE334BB0F5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790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tienen diversas concepciones: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como sinónimo de reducción de intromisión no deseada en los mercados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incremento de eficiencia burocrática, privatizaciones, reducción de regulacion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circunscrit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para “expansión” selectiva de la acción pública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mejorar provisión de infraestructura, de servicios de salud y educación, enfrentar pobreza y desemple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con nueva capacidad regulado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8000-7C06-4C30-B8BD-7E7CB558A32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790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tienen diversas concepciones: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como transformación de las relaciones de poder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fortalecer poder legislativo, mejorar justicia, fortalecer gobiernos regionales y locales, responsabilidad pública y participación. Es enfoque más polít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más democrát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B2B8-A787-42C7-A7AF-FA24C49EE10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y el sistema polític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istemas presidencialista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grado de conflicto o cooperación entre presidente y legislatura y poderes presidenci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Efecto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: mayor coherencia de reformas es producto de mayor sintonía entre ambos pode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istema de partidos político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fragmentación de partidos vrs partidos o coaliciones cohesiona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Efecto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: mayor o menor posibilidad de apoyo a procesos de reform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83A8-458F-4E4D-B6BE-89A77489C25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y el sistema polític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Delegación de facultade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desde parlamento a ejecutivo y desde presidente a agencias o servicio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Falacia tecnocrática: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 suponer que es posible solucionar difíciles problemas políticos removiendo de toma de decisiones a políticos y grupo de presión y reemplazarlos por tecnócrat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8B2A-68C9-4115-8ACE-B86BFF0E132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Reformas al servicio civil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 como recorte del tamaño del servicio civil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En ciertos países se acompañó de mejoras en la eficiencia organizacion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Introducción de incentivos al desempeño y al esfuerzo de funcionarios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Incentivos positivos vía descomprimir escalas salariales, sistemas de promoción más competitivos, sistemas de evaluación más discriminadores, sanciones a la corrupción y a abu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 Reforma y modernización del Estado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0C68-DC1D-4982-830A-52B5D9BD047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Gestión de los recursos humanos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A mayor descentralización de gestión de personal, se requiere mayor capacidad administrativ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e constata sobrecentralización en gestión de personal, de decisiones sobre gastos, asignación de vacantes, aprobaciones de reclutamiento, despidos, promociones, ajustes salariales, sistemas de calificación de desempeñ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rgos de confianza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Designaciones políticas en cargos superiores de las administraciones.  Esto cumple tres objetivos: garantizar beneficios a partidarios; asegurar apoyo de legisladores; garantizar orientaciones político - programát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2469-BF08-4B39-9A96-F2A2FC34B48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5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Diseño de servicios administrativos y reguladores</a:t>
            </a:r>
            <a:r>
              <a:rPr b="1" i="1" lang="es-ES_tradnl" sz="23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3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Cambio de rol del Estado de productor de bienes y servicios a rol normativo, regulador y fiscalizador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stado interviene menos directamente en los mercados y asume función reguladora; privatizaciones separa empresas del Estado, que deben ser fiscalizadas de forma nueva; crecen demandas por regular nuevos sectores (salud, medio ambiente, seguridad laboral, etc.)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en entidades administrativas y reguladoras requiere delegación de la autoridad política a autoridades burocrát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legación de la autoridad monetaria en Banco Centr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legación de programas de pobreza en Fondos Soci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EF55-BD0E-48A4-94A2-525F1BBB451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Descentralización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Debate sobre cuan centralizado o cuan descentralizado debe ser un gobierno tiene que ver con quién y dónde se toman decis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ransferencia de responsabilidades en planificación, gerencia y asignación de recursos desde el gobierno central a servicios nacionales, corporaciones públicas autónomas, autoridades regionales o locales, tercer sector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entendida como Desconcentración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tareas y autoridad son delegadas hacia abajo dentro de un servicio, para obtener mayor eficienci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42CF-9198-4561-B830-C8B2C164FEF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Oval 2"/>
          <p:cNvSpPr/>
          <p:nvPr/>
        </p:nvSpPr>
        <p:spPr>
          <a:xfrm>
            <a:off x="2411280" y="1484280"/>
            <a:ext cx="2089440" cy="1295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Oval 3"/>
          <p:cNvSpPr/>
          <p:nvPr/>
        </p:nvSpPr>
        <p:spPr>
          <a:xfrm>
            <a:off x="6084720" y="1484280"/>
            <a:ext cx="2087640" cy="1224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stan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Oval 4"/>
          <p:cNvSpPr/>
          <p:nvPr/>
        </p:nvSpPr>
        <p:spPr>
          <a:xfrm>
            <a:off x="1547640" y="3141720"/>
            <a:ext cx="158436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4427640" y="3284640"/>
            <a:ext cx="1728720" cy="107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ministra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3924360" y="189000"/>
            <a:ext cx="2087640" cy="8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d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2987640" y="5013360"/>
            <a:ext cx="187344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forma restringid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dernizac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la gest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5796000" y="5013360"/>
            <a:ext cx="1944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ampli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del estado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3850920" y="981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5724360" y="90792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 flipH="1">
            <a:off x="2627280" y="27082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4140360" y="263700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H="1">
            <a:off x="4427640" y="4365720"/>
            <a:ext cx="576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5651640" y="429264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593F-2833-48BB-BE53-B89A635BECE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886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entendida como Devolución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transferencia de capacidad de decisión desde nivel central a gobiernos regionales y locales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Federalismo (Venezuela, Brasil, Argentina)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Regionalismo (Chile, Colombia)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rocesos de descentralización están afectados por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Qué se transfiere primero: funciones o recur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construye capacidad gerencial en niveles regionales y loc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ejerce control desde el centro sobre entes descentraliz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resuelve la descentralización fiscal: federalismo o centralismo fisc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241C-477D-4366-A883-449417DE65B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Gestión pública. 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omo tener una gestión públic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moderna, profesional, eficiente y sosten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egunta tiene que ver con como gestionar el estad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Los principales tópicos se refieren a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laboración y ejecución de políticas públ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jorar la capacidad fiscal.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odernizar gestión de servicios públic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valuación y control de políticas y program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erfeccionamiento de la gestión financie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ordinación intragobiern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obierno electrón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6D20-D763-4611-A439-85F4E4FCFF7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1. Marco conceptual.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 Se refiere a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Funcionamiento del sistema polí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rocesos de toma de decision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2.Requie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tructura que permita transparencia;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Objetivos claros y transpare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sponsabilidades, procedimientos y regl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rticipación y control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1F50-7C40-4D7F-A310-4BF5E141B1D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3. Supone participación y rendición de cuentas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Transparencia está ligada a 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cceso a la informa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ndición de cuentas o accountability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xistencia de controles internos, separación de poderes y controles externos a la administrac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8150-3B3A-4DAF-96C0-6085EAE2E4B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Oval 2"/>
          <p:cNvSpPr/>
          <p:nvPr/>
        </p:nvSpPr>
        <p:spPr>
          <a:xfrm>
            <a:off x="2411280" y="1484280"/>
            <a:ext cx="2089440" cy="1295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6084720" y="1484280"/>
            <a:ext cx="2087640" cy="1224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stan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1547640" y="3141720"/>
            <a:ext cx="158436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4427640" y="3284640"/>
            <a:ext cx="1728720" cy="107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ministra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3924360" y="189000"/>
            <a:ext cx="2087640" cy="8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d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2987640" y="5013360"/>
            <a:ext cx="187344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forma restringid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dernizac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la gest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5796000" y="5013360"/>
            <a:ext cx="1944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ampli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del estado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850920" y="981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5724360" y="90792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>
            <a:off x="2627280" y="27082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4140360" y="263700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 flipH="1">
            <a:off x="4427640" y="4365720"/>
            <a:ext cx="576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5651640" y="429264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35AB-6686-47ED-926A-9C9E1A28584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           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Un objetivo esencial del proceso de reformas ha sido 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lograr que el Estado desarrolle la capacidad de diseñar y ejecutar eficazmente las políticas públicas apropiad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30000"/>
              </a:lnSpc>
              <a:spcBef>
                <a:spcPts val="5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1E82-3F9D-4086-B520-551A884DEFA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           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30000"/>
              </a:lnSpc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Se han caracterizado por ser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 procesos </a:t>
            </a: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que han apuntado a: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fortalecer los procesos polític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haber abarcado ámbitos institucionales y normativos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estar enfocados tanto a políticas de mayor equidad como de mayor desarrollo económico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ser procesos altamente dependientes de factores políticos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mostrar la necesidad de tener esfuerzos de largo plazo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existir algunas áreas críticas a modernizar como condición para avanzar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286E-F011-4A49-A78E-BAF3C22C2FF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Estos procesos se han expresado en: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royectos específic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muchas veces han generado visiones fragmentaria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son altamente dependientes de las capacidades institucionales, de las disponibilidades de recursos humanos y financier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sufren del cambio continuo de interlocutores en los gobiern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están diseñados en formatos rígidos y poco flexibles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D8E5-7E50-463F-8D16-91F85948204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4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La Agenda sobre Reforma y Modernización del Estado se ha ido ampliando: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desde un inicio en que estuvo concentrada en mejoras administrativas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a un temario más comprehensivo, que cubre el sistema de gobierno en su conjunto, la participación de la ciudadanía, las mejoras en la gestión y la transparencia y probidad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5DCC-A48C-434E-938E-6F2D56EA2D0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5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ortalecimiento del sistema democrát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der judici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der legislativ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elector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scentraliz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de contro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3366-0BF0-40E7-8D07-33E83EC6EA3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Cambio continuo y discontinuo en el esta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mbios continuos son transformaciones que no cuestionan la lógica dominante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ni la identidad del estado en sus formas y actu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on cambios por adaptación, espontáneos, periféric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mbios discontinuos alteran el modo de razonamiento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, el carácter del estado, aportando nuevos valores y nuevos principios que obligan a cambios en el comportamiento de los actor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s se caracterizan por ser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cambios discontinu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.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4178-90D6-41DB-8427-C0EB3D0178D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6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nsolidar el estado de derech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Administración de justi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fensa de los derechos de los ciudadan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guridad jurídic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olución de controversias y conflict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gualdad de acceso a la justi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ntrol de ilícitos, delitos financieros y lavado de diner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guridad ciudadan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B14F-D7B5-470D-BE30-0BC12B5E7B1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7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578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a administración pública moderna, profesional, eficiente y sosten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laboración y ejecución de políticas públ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jorar la capacidad fiscal.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rvicio civil y gerencia públic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odernizar gestión de servicios públic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valuación y control de políticas y program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erfeccionamiento de la gestión financie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ordinación intragobiern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obierno electrón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78CF-40D7-4C1C-B765-FDBD6A790BB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9840" indent="-339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(8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98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317320" indent="0" algn="just">
              <a:lnSpc>
                <a:spcPct val="3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4132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 estado que apoye el desarrollo económico, la equidad y el funcionamiento de los mercados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Fortalecimiento de autoridades macroeconóm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nstalación y ajuste en sistemas regulatori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Reglas del juego mercantiles, financieras y de inform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de pension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estión de empresas estat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rocedimientos administrativos facilitador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líticas fiscales y tributarias adecuad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Fomento productivo y de la competitividad y el emprendimient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FE26-5999-412F-88FF-10CA89F3FE3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l Informe sobre el desarrollo mundial 1997 se dedica al papel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as principales directrices son las siguiente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Reconsiderar el papel del estado: “qué produce” y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“cómo lo produce”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l estado debería ser facilitador del merc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ctr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Hacer coincidir el papel del estado con su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apacidad; usar los recursos del mercado y de la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sociedad civi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58AD-5C11-4F7D-85B3-6320DA8E343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2088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Los estados débiles se deberían concentrar en lo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sencial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ctr"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erechos de propie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stabilidad macroeconóm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ontrol de enfermedad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gua pota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ami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tección</a:t>
            </a: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 a los más necesitados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D3F2-4C2A-4356-8165-A2DA83C1AA4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4240" indent="-3542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542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Construir un mejor sector públic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ver una capacidad central para formular y coordinar polític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ción de sistemas eficientes y efectivos de provisión de servicios a través de una variedad de medios: valorar el desempeño, meritocracias, mejores sistemas de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ucha contra la corrupción, vía un ataque múltiple que contemple menor regulación, mayor transparencia, mayor uso de mercados y mejor supervis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ver personal motivado y capacitado vía políticas de retribución adecuadas y formación de equip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3531-CFA6-4A20-AB84-8FA8576111E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4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Pensar la secuencia de las reforma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segurar que reglas anunciadas sean reales, especialmente el control macroeconóm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Introducir con cautela nuevas técnicas de administración. Mayor flexibilidad en la medida que exista control efectivo de insumos y resultados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Mejorar formulación y coordinación de políticas, al mismo tiempo de implementar un servicio público profesionalizado y de utilizar mecanismos de mercado.</a:t>
            </a: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s-CL" sz="23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2)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C141-1D42-435A-974D-AC928631BFE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2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nviene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separar la toma de decisiones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pertenece al mundo de las políticas públicas,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de la ejecución y prestación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del servicio, pues cuando ambas esferas se mezclan se generan toda clase de vici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s mejor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darle facultades a las organizaciones ciudadanas que servirlas directamente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pues la experiencia demuestra que las pequeñas unidades autogestionadas por sus “dueños” suelen ser más eficaces que las pesadas maquinarias burocrát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Hay que inyectar competitividad e innovación en la prestación de servicios públicos, haciéndolos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competir entre si y con tercer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FD39-6CD3-40C8-80EA-5C2B8AE9A16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0640" indent="-3506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Hay que buscar la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transformación de las organizaciones regidas por reglas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en última instancia tienen como propósito fundamental su autopreservación,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en organizaciones orientadas a resultados,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que es lo que le interesa a la ciudadaní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bemos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financiar el producto final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es lo que le interesa a la ciudadanía, en lugar de los datos e indicadores intermedios, que es lo que le interesa a la burocra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Las organizaciones públicas deben procurar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ganar en lugar de gastar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introduciendo criterios emprendedores en su gest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Satisfacer las necesidades del cliente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debe ser un principio ordenador fundament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F6F5-E919-4790-A892-98909D60F6F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Más vale gastar un kilogramo en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evención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que una tonelada en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ur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iseñemos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 gobierno verdaderamente descentralizad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en su toma de decisiones, y por tanto cercano a los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ovoquemos el cambio a través del mercado cada vez que se pueda,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como por ejemplo en el caso de los permisos de emisión transables, que buscan controlar la contaminación mediante ese tipo de regl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4908-DFA8-490E-AFBE-33D3FAB75B6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4240" indent="-3542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La amplitud del objeto de la reform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lnSpc>
                <a:spcPct val="90000"/>
              </a:lnSpc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que afectan el diseño y funcionamiento de las institucione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, es decir, la manera como se organizan y articulan los poderes del Estado para elaborar y ejecutar políticas públicas.  Se centran en los proces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Se conocen como “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institucionale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”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j. La reforma liberal.  Separa poderes, asegura libertades, etc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que transforman el contenido de la acción pública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, redefiniendo finalidad, objetivo y alcance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Se conocen como “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sustantiva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”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j. El estado de bienestar, cambia contenido de acción pública y pone énfasis en redistribución, solidaridad, etc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EAB7-9280-4A59-BE30-C7CEED03560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érmino surge en el 1989 propuesto por Hood en Inglaterra y se implementa en diversos países desarroll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Elementos constitutivos de esta propuesta son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a)  Énfasis en 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rivilegiar economía, eficiencia y eficacia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en la gestión de los gobier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dimensionamiento de la estructura administrativa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buscando aligerar organización enfocándola a lograr fines específicos y metas precis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de decisiones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hacia mandos subalternos, con el necesario empoderamiento y responsabilización por result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356B-BD3D-4594-975C-AB7CD541BF7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41472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reación de agencias públicas descentralizad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independientes y estructuradas de manera no burocrát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istinción entre formular políticas e implementar polític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; distinción entre “timonera” y “remar”. Insistir en carácter estratégico de alta dirección del gobierno y en la posibilidad de externalizar provisión de insumos y realizaión de contratos. Distinguir entre proveer financiamiento público y realizar acciones con dichos recurs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so de mecanismos de mercado tanto como incentiv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para la mejor gestión como para ofrecer mayor posibilidades de elección a usuari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C4B8-B83E-4A84-A216-B4A779781DB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g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Orientación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tanto hacia l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munidad política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quienes definen objetivos) y hacia l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munidad de usuari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quienes aceptan la utilidad del servicio), incorporando expectativas, intereses y calidad en la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h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fasis en los resultados y el 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más que sólo en observar procedimientos y norm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i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Implantación de sistemas de medición y evaluación de 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lo que obliga a definir actividades, productos y resultados y crear estándares e  indicadores de desempeñ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814C-A94D-44A1-8EEB-3206570C173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41472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-414720" algn="just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Ha surgido un nuevo paradigma de la gestión pública, que se centra en la promoción de una cultura orientada al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 un sector público menos centralizado”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-414720" algn="just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structuras administrativas y patrones directivos tradicionales son ineficaces; esto obliga a un cambio radical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revise el ámbito y el modo de la intervención gubernamental,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mejore la calidad analítica de las decisiones de políticas,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rehaga la relación costo/beneficio – efectividad de las acciones públicas y que renueve normas e incenti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DCCB-3E26-41EE-AF20-BAACFCBB654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4064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6440" indent="-4064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La agenda de reformas propuesta por la OCDE es la ss.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ocalización 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e la acción públic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 los resultad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conforme a criterios de eficiencia, eficacia y calidad del servici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Sustitución de estructuras organizativas jerárquicas y centralizadas por estructuras descentralizad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para acercar la toma de decisiones a la prestación de servicios y se posibilite la retroalimentación de los clientes y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lexibilizar 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opciones de prestación directa de servicios públicos y de la regulación, a fin de bajar costos de las prest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68A4-BAA5-48E3-8045-52E664CB79C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La agenda de reformas propuesta por la OCDE es la ss.: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Priorizar la eficienci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los servicios proveídos por el sector público, para lo cual se deben definir metas y crear entornos competitivos intra e inter servici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Reforzar las capacidades estratégicas de la alta dirección del gobierno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, para poder conducir la evolución del estado y responder con rapidez, flexibilidad y a bajo costo  a cambios externos y a nuevas deman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D52D-023D-4A8A-875B-5E4F7BC9B08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4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os medios para lograr esta agenda son: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Descentralización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decision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ejorar la dirección estratégic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, financiera y de calidad de los servicios prestad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Desregulación o re-regulación apropiad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normas aplicadas a diversos secto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Introducción de 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incentivos de mercado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en la operación administrativa de los servici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FB4A-66D9-4745-A971-B6DB35B725B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(5)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Visión de la OCDE sobre la futura administración pública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“ 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en las décadas por venir, el sector público será radicalmente diferente en apariencia y actuación: se involucrará cada vez menos en la prestación directa de los servicios; se concentrará más en establecer un marco flexible que favorezca las actividades económicas; regulará mejor al disponer de una información más completa sobre los impactos de la regulación; evaluará de manera permanente la eficacia de las políticas; desarrollará funciones de planeación y liderazgo estratégico para dar respuestas a los desafíos económicos y sociales; y tendrá un enfoque más participativo de la gobernabilidad. “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693D-AB7D-4AC2-9733-B1AA6C0A4C8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2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Hechas las distinciones del caso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política vs. gestió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sustancial vs. reforma institucional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política vs. administrativa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y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vs. modernizació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es sano volver a la vaga e inclusiva definición de Pollit y Bouckaert: </a:t>
            </a:r>
            <a:r>
              <a:rPr b="1" i="1" lang="es-CL" sz="2200" spc="-1" strike="noStrike">
                <a:solidFill>
                  <a:srgbClr val="ff9900"/>
                </a:solidFill>
                <a:latin typeface="Arial"/>
              </a:rPr>
              <a:t>“Son cambios deliberados a las estructuras y procesos del sector público, con el objeto de hacer que funcione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es-CL" sz="2200" spc="-1" strike="noStrike">
                <a:solidFill>
                  <a:srgbClr val="ff9900"/>
                </a:solidFill>
                <a:latin typeface="Arial"/>
              </a:rPr>
              <a:t>mejor en algún sentido”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2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n definitiva, de eso se trata, de que funcionen mejor para los ciudadanos, y también para los trabajadores públic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Reforma y modernización del Estado: Perspectiva histórica y Conceptos General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68B5-1B3A-490A-8971-BBD2662F04E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164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1. Agenda para la reforma del estado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55640" y="4581360"/>
            <a:ext cx="7655040" cy="139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54C5-F600-41A5-9801-8C54CB57573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Al interior de las reformas institucionales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e distinguen reformas políticas y reformas administrativ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política consiste en cambio discontinuo en lo polí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so de dictadura a democraci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ambio de estado unitario a estado federa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Integración supranacional en un nuevo estad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versión de régimen presidencial a parlamentari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C413-7EFC-427D-9134-B2A3E7D51BD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Al interior de las reformas institucionales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dministrativa consiste en cambios en la administración pública, en la forma como el poder ejecutivo realiza sus tare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Organización de estructuras gubernament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égimen y gestión del funcionariad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Gestión financiera y presupuestari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trol de la gest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02BE-8BDD-401E-A302-5A4F0427A83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continuo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lnSpc>
                <a:spcPct val="60000"/>
              </a:lnSpc>
              <a:spcBef>
                <a:spcPts val="201"/>
              </a:spcBef>
              <a:buClr>
                <a:srgbClr val="003399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restringi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aplicación de principios organizacionales a la administra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ermite mejoras en procesos rutinarios, sencillos, predecib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Desconoce especificidad de gest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 interpretación simplificada de la complejidad del sector públ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5B52-7B55-4FCE-A95E-A5FE6C9E029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7040" indent="-34704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continuo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4" marL="2366640" indent="-219240" algn="just">
              <a:lnSpc>
                <a:spcPct val="60000"/>
              </a:lnSpc>
              <a:spcBef>
                <a:spcPts val="201"/>
              </a:spcBef>
              <a:buClr>
                <a:srgbClr val="003399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restringida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e caracteriza por rejuvenecimiento físico, organizativo, introducción de nuevas tecnologí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No supone un cambio de la institucionalidad, ni de las funciones ni de los roles de la administració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 veces permite hacer eficientemente lo incorrect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le denomina “reforma gerencial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asocia con “modernización de la gestión pública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0E20-0221-44EC-B3EB-D6F1FF29199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discontinuo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6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mplia y profun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analiza relación de la administración con el resto del Estado y su legitimidad democrática.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ntiende que lo administrativo y lo político están íntimamente ligad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conoce que la acción gubernamental se caracteriza por la interconexión entre servicios e instancias públicas y priva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21:03:08Z</dcterms:created>
  <dc:creator>Rodrigo Egaña</dc:creator>
  <dc:description/>
  <dc:language>en-US</dc:language>
  <cp:lastModifiedBy>..</cp:lastModifiedBy>
  <cp:lastPrinted>2003-02-05T21:45:17Z</cp:lastPrinted>
  <dcterms:modified xsi:type="dcterms:W3CDTF">2010-05-28T15:42:55Z</dcterms:modified>
  <cp:revision>940</cp:revision>
  <dc:subject/>
  <dc:title>GESTION PUBLICA Y MODERNIZACION DEL ESTADO</dc:title>
</cp:coreProperties>
</file>