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C751-2714-4CA6-9DE7-72C60907566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1E5D-1C06-4311-BED9-4A25FFCD818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EF6B-46AD-407A-8CE3-5D83D122E85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169D-E122-4D84-8C1E-0129A0E2C43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51AE-8CBC-4428-B427-7CF3872CAC1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A402-1AF4-41BF-B524-1A32C551169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615E-4DB8-4BB2-82BA-8ECC19C5B39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E989-8B14-4DCD-87EE-AAB8D81880E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4CB7-EA1C-4BB9-9C4F-04AEDF3F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F7E1-FE7B-4B78-8214-0F103C8B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945A-4823-4476-ADD3-60512176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016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4068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016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4068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9FC4-B7B2-4A3D-8C69-6B4E7AB2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3E13-BCBD-4B0A-A4F5-C796F535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4E25-44DD-4842-A8F7-1805C671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B09C-0F7F-452A-B8A0-94DF38A9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AEBD-95A5-4F15-AC7B-0D372F83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23C6-092D-4560-920E-877AD482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920" y="188640"/>
            <a:ext cx="790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996E-5E33-422A-88A9-92FD5F4F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294F-E046-40C4-9331-2CF505FD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8D66-BBCE-4468-8C1D-ADB07738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7E1D-172E-4E2A-B272-9086CB49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AC82-E983-4A99-A584-67F3E4C0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C5F9-9773-44A7-9C45-C9C70579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9473-FC59-4C23-BDB8-6BA09206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016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4068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9964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016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4068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6D05-E096-4C87-B82E-0ED170EB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B58A-9308-4BBF-8BE2-68F25061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4DF8-ED55-4B6C-B12F-025DB8A4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9D40-B8CD-438B-B2CA-F7A3C3DC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920" y="188640"/>
            <a:ext cx="790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B0F0-B72D-4827-8A41-F27E2751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9BE2-510F-4452-82A1-755ACCF1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425D-390E-4EAA-846A-C74BF6CD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E532-2CAB-46FC-A32D-32800336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981080" indent="-36180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-228600" algn="just">
              <a:spcBef>
                <a:spcPts val="550"/>
              </a:spcBef>
              <a:buClr>
                <a:srgbClr val="00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5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6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4F40-377C-47FE-B4E6-F7779B6C8E3D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981080" indent="-36180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-228600" algn="just">
              <a:spcBef>
                <a:spcPts val="550"/>
              </a:spcBef>
              <a:buClr>
                <a:srgbClr val="00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5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6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8708-D6AF-4EBA-83F4-441C7A33A8E9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tramitefacil.gov.cl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9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D8D5-7707-4FE0-BD72-21AC48A02F26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136000" cy="172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2. La experiencia chilena en los últimos 20 años. </a:t>
            </a: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El estado de la Reforma del Estado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33320" y="4581360"/>
            <a:ext cx="7655040" cy="136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</a:rPr>
              <a:t>2010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360B-B8B9-4CC6-A18C-0B24F55AFC0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Reformas de la institucionalidad públ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Nueva institucionalidad de salud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Ministerio de Salud como órgano rector con Subsecretaría de Redes y Subsecretaría de Salu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uperintendencia de Salu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Autoridades regionales de salu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Hospitales públicos autogestiona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Nueva institucionalidad de la cultur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onsejo Nacional de la Cultura presidido por Ministr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onsejos Regionales de la Cultura y las Art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Comité Consultivo Nacional y diversos Fon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6CEE-6F3F-4BD3-8B77-97D6A3F25B4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Reformas descentralizadoras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Inversión pública de decisión regional del 57%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FNDR aumenta en 140% y Fondo Común Municipal en 68%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Proyecto de Reforma Constitucional para democratizar Cores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Proyecto de creación de nuevas regiones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Ley de casinos de beneficio municipal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Municipios se incorporan a Chilecompras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Programas de inversión regional: sanitaria, convenios de programación, electrificación rural, PMU, PMB, Profir, Profim, Cideze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6766-7F76-475A-9E4E-A1340215020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Recurso humanos y Dirección Pública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3399"/>
                </a:solidFill>
                <a:latin typeface="Arial"/>
              </a:rPr>
              <a:t>Creación de la Dirección Nacional del Servicio Civil.</a:t>
            </a:r>
            <a:endParaRPr b="1" i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3399"/>
                </a:solidFill>
                <a:latin typeface="Arial"/>
              </a:rPr>
              <a:t>Creación del Sistema de Alta Dirección Pública.</a:t>
            </a:r>
            <a:endParaRPr b="1" i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Consejo de Alta Dirección Pública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Sistema de concursos y selección de directivos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Puesta en marcha del proceso de concursos y selección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Formación de altos directivos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3399"/>
                </a:solidFill>
                <a:latin typeface="Arial"/>
              </a:rPr>
              <a:t>Carrera funcionaria.</a:t>
            </a:r>
            <a:endParaRPr b="1" i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Concurso de cargos de tercer nivel directivo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3399"/>
                </a:solidFill>
                <a:latin typeface="Arial"/>
              </a:rPr>
              <a:t>Política de remuneraciones.</a:t>
            </a:r>
            <a:endParaRPr b="1" i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Incentivos al desempeño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Asignación para funciones críticas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Bonificación al retiro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3CAC-0675-4742-A94D-E1385AEF19C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Modernización en finanzas públic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Control de gestión y presupuesto por resultad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ceso presupuestario e indicadores de desempeñ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valuación de programas e instituc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Balances Integrales de gestión BGI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gramas de mejoramiento de gest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Transparencia fisca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Regulación de gastos reserva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Comisión Mixta Permanente de Presupuest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ntrega de información por parte del ejecutiv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Implantación del SIGFE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78D6-3259-406E-AF63-4567831A88C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Modernización en gestión públ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ey de Bases de los Procedimientos Administrativ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Sistema de compras públic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Marco normativo y plataforma electrónica para compr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Tribunal de Contratación Públic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Gobierno electrónico y nuevas tecnologí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genda de gobierno electrónic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tención a ciudadanos: Portal TrámiteFácil y trámites en líne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cceso a la inform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4B56-2FE9-4E77-B089-C6AFD89E22E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6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Transparencia y derechos ciudadan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Declaración de patrimonio de autoridades públic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Regulación del financiamiento de la polít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oyecto de lobby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Regulación de relación entre función pública a actividades privad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Convenciones internacionales contra la corrupc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E349-07F0-4587-82B6-6A7195E59BE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7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Participación ciudadan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Consejo Ciudadano para el fortalecimiento de la sociedad civi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lan de fortalecimiento de la sociedad civi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Fondo de iniciativas de la sociedad civi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Fondo de capacitación de dirigentes soci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Instructivo Presidencial sobre participación ciudadan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oyecto de ley de asociaciones y participación en la gestión públ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MG de atención a usuarios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7B35-14F4-4AA0-9712-E82998000C0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CD58-BE96-4438-A632-27247EF0444D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1.</a:t>
            </a: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i="1" lang="es-MX" sz="2200" spc="-1" strike="noStrike">
                <a:solidFill>
                  <a:srgbClr val="ff9900"/>
                </a:solidFill>
                <a:latin typeface="Trebuchet MS"/>
              </a:rPr>
              <a:t>Nueva institucionalidad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Consejo para la Competitividad y la Innovac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Ministerio de Energí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Régimen de gobierno corporativo para empresas privadas y nuevo estatuto de Codelc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Nueva ley de concesiones de OOPP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Ministerio de Medio Ambiente, transformación de Conama y Coremas, Servicio de Evaluación Ambiental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Red de Protección Socia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Nueva institucionalidad para reforma previsiona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1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F88E-A96D-431B-80B6-DAA0BEAF093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6179-17C7-487D-8789-DB4D8D4D977B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1.</a:t>
            </a: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i="1" lang="es-MX" sz="2200" spc="-1" strike="noStrike">
                <a:solidFill>
                  <a:srgbClr val="ff9900"/>
                </a:solidFill>
                <a:latin typeface="Trebuchet MS"/>
              </a:rPr>
              <a:t>Nueva institucionalidad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Nueva institucionalidad del sector turismo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Nuevo diseño del Ministerio de Defensa, con creación de nuevas subsecretarí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Reforma a la institucionalidad de la discapacidad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0" algn="just">
              <a:lnSpc>
                <a:spcPct val="10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2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481F-9C37-4AED-A0AB-E592041216C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9224-5AFC-41CA-8646-FACDD291E311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2. </a:t>
            </a:r>
            <a:r>
              <a:rPr b="1" i="1" lang="es-MX" sz="2400" spc="-1" strike="noStrike">
                <a:solidFill>
                  <a:srgbClr val="ff9900"/>
                </a:solidFill>
                <a:latin typeface="Trebuchet MS"/>
              </a:rPr>
              <a:t>Descentralización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Creación de fondos especiales de decisión regional ( Inversión para competitividad FIC; Inversión local FRIL)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Transferencia de competencias; creación de División de Planificación y Desarrollo Regional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Agencias Regionales de Desarrollo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Elección directa de Consejeros regionales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Nuevas Regiones : Arica y Parinacota y Los Rios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Territorios especiales de Isla de Pascua y Juan Fernández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3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D6A4-6342-4E38-8454-2CA54DCF47A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1. Gobierno del Presidente P.Aylwin (1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485720"/>
            <a:ext cx="8064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esidente Aylwin (1990-1994): transición a la democracia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3399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Énfasis del period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reación de instituciones básicas para el desarrollo de políticas públicas prioritarias.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 Ejemplo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inisterio Secretaría General de la Presidenci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Institucionalidad social: Mujer y Familia, Indígenas, Solidaridad e Inversión Social, Juventud, Discapacitad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Institucionalidad para la Cooperación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edio Ambiente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B25C-2043-4C97-AF6B-AA0A9919F94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FA1C-6344-421E-AEE7-9F45D5B75ACE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3. </a:t>
            </a:r>
            <a:r>
              <a:rPr b="1" i="1" lang="es-MX" sz="2400" spc="-1" strike="noStrike">
                <a:solidFill>
                  <a:srgbClr val="ff9900"/>
                </a:solidFill>
                <a:latin typeface="Trebuchet MS"/>
              </a:rPr>
              <a:t>Sector Educación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Nueva ley general de educación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Consejo Nacional de Educación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Agencia de Calidad de la educación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Superintendencia de Educación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Sistema nacional de competencias laborales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4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18F9-419B-444B-B578-8F358F7D23B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9957-8770-40E3-B42D-02F9A3B2658A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4. </a:t>
            </a:r>
            <a:r>
              <a:rPr b="1" i="1" lang="es-MX" sz="2400" spc="-1" strike="noStrike">
                <a:solidFill>
                  <a:srgbClr val="ff9900"/>
                </a:solidFill>
                <a:latin typeface="Trebuchet MS"/>
              </a:rPr>
              <a:t>Transparencia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Ley de transparencia y acceso a la Información Pública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Consejo para la Trasparencia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Introducción del principio de la “Transparencia activa”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5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13E6-7806-4047-AD36-3C89660ED92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3DC9-97D9-4F0B-A7AD-C2F36954BBF6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5. </a:t>
            </a:r>
            <a:r>
              <a:rPr b="1" i="1" lang="es-MX" sz="2200" spc="-1" strike="noStrike">
                <a:solidFill>
                  <a:srgbClr val="ff9900"/>
                </a:solidFill>
                <a:latin typeface="Trebuchet MS"/>
              </a:rPr>
              <a:t>Derechos Humanos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Creación del Instituto de los Derechos Human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6. </a:t>
            </a:r>
            <a:r>
              <a:rPr b="1" i="1" lang="es-MX" sz="2200" spc="-1" strike="noStrike">
                <a:solidFill>
                  <a:srgbClr val="ff9900"/>
                </a:solidFill>
                <a:latin typeface="Trebuchet MS"/>
              </a:rPr>
              <a:t>Modernización de gestión pública y recursos human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Evaluación de programas públic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Fondo de modernización de la gestión públ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Gobierno electrónic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1375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Trebuchet MS"/>
              </a:rPr>
              <a:t>Portal de Trámites del estado. Chilecli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Código de Buenas Prácticas Laborale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Traspaso de personal de honorarios a contrat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6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D81A-2441-40CC-BFCF-DF2DFC859B2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A30F-F5BD-40C6-A6BE-9156E1CB6B59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Trebuchet MS"/>
              </a:rPr>
              <a:t>7. </a:t>
            </a:r>
            <a:r>
              <a:rPr b="1" i="1" lang="es-MX" sz="2000" spc="-1" strike="noStrike">
                <a:solidFill>
                  <a:srgbClr val="ff9900"/>
                </a:solidFill>
                <a:latin typeface="Trebuchet MS"/>
              </a:rPr>
              <a:t>Participación ciudadana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80000"/>
              </a:lnSpc>
              <a:spcBef>
                <a:spcPts val="12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Trebuchet MS"/>
              </a:rPr>
              <a:t>Sistema integral de Atención a Ciudadanos SIAC (ex OIRS)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80000"/>
              </a:lnSpc>
              <a:spcBef>
                <a:spcPts val="12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Trebuchet MS"/>
              </a:rPr>
              <a:t>Agenda de participación ciudadanas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48520" indent="-452520" algn="just">
              <a:lnSpc>
                <a:spcPct val="8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Trebuchet MS"/>
              </a:rPr>
              <a:t>170 Compromisos de particip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48520" indent="-452520" algn="just">
              <a:lnSpc>
                <a:spcPct val="8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Trebuchet MS"/>
              </a:rPr>
              <a:t>700 iniciativas de particip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80000"/>
              </a:lnSpc>
              <a:spcBef>
                <a:spcPts val="12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Trebuchet MS"/>
              </a:rPr>
              <a:t>Instructivo sobre participación ciudadana en la gestión pública.  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80000"/>
              </a:lnSpc>
              <a:spcBef>
                <a:spcPts val="12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Trebuchet MS"/>
              </a:rPr>
              <a:t>Nuevas formas de consulta ciudadana: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48520" indent="-452520" algn="just">
              <a:lnSpc>
                <a:spcPct val="8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Trebuchet MS"/>
              </a:rPr>
              <a:t>Consejo asesor para la reforma prevision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48520" indent="-452520" algn="just">
              <a:lnSpc>
                <a:spcPct val="8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Trebuchet MS"/>
              </a:rPr>
              <a:t>Consejo asesor presidencial sobre la calidad en la educ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48520" indent="-452520" algn="just">
              <a:lnSpc>
                <a:spcPct val="8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Trebuchet MS"/>
              </a:rPr>
              <a:t>Consejo asesor para la educación superior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48520" indent="-452520" algn="just">
              <a:lnSpc>
                <a:spcPct val="8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Trebuchet MS"/>
              </a:rPr>
              <a:t>Consejo asesor sobre el trabajo y la equidad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7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5772-70C1-40FA-98D9-35A7267F219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1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80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1. Adecuación de la institucionalidad a las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necesidades de un Estado Modern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514600" indent="0" algn="just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0099cc"/>
                </a:solidFill>
                <a:uFillTx/>
                <a:latin typeface="Arial"/>
              </a:rPr>
              <a:t>Institucionalidad central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Creación de instituciones básicas para el desarrollo de políticas públicas prioritari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Fortalecimiento institucional políticas extrema pobrez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rreglos institucionales en sistema de control de calidad en la gestión públic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Reorganización Sistema de Empresas Públ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Modernización judicial: procesal penal, trabajo, familia, competenci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Rediseño del sector salu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5539-A965-4020-BC40-B080CA96803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i="1" lang="es-CL" sz="2200" spc="-1" strike="noStrike">
                <a:solidFill>
                  <a:srgbClr val="0033cc"/>
                </a:solidFill>
                <a:latin typeface="Arial"/>
              </a:rPr>
              <a:t>Un Gobierno más cerca de las personas. La Descentralizac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Énfasis mayor en desconcentr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Rediseño de mecanismo de redistribución de recursos municip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Fortalecimiento y modernización Gobiernos Region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Descentralización ejecución programas soci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Modernización financiamiento municipa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Modernización normas gestión administrativa y de recursos humanos en gobiernos loc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Nuevas Reg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2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D768-F56D-4FA3-9A1D-E70B652B949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3. Facilitar la relación de las personas con 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514600" indent="0" algn="just">
              <a:spcBef>
                <a:spcPts val="201"/>
              </a:spcBef>
              <a:buNone/>
              <a:tabLst>
                <a:tab algn="l" pos="0"/>
                <a:tab algn="l" pos="361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Lo central son los “trámites”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514600" indent="0" algn="just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361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implificación de procedimientos administrativos establecida por ley.  Silencio administrativ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Rediseño de proces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Portal </a:t>
            </a:r>
            <a:r>
              <a:rPr b="0" lang="es-ES_tradnl" sz="2200" spc="-1" strike="noStrike" u="sng">
                <a:solidFill>
                  <a:srgbClr val="d88100"/>
                </a:solidFill>
                <a:uFillTx/>
                <a:latin typeface="Arial"/>
                <a:hlinkClick r:id="rId1"/>
              </a:rPr>
              <a:t>www.tramitefacil.gov.cl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s-ES_tradnl" sz="2200" spc="-1" strike="noStrike">
                <a:solidFill>
                  <a:srgbClr val="f4b144"/>
                </a:solidFill>
                <a:latin typeface="Arial"/>
              </a:rPr>
              <a:t>Chilecli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514600" indent="0" algn="just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361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2" marL="1085760" indent="-37296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1.600 trámites en el Port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Número de trámites en línea: </a:t>
            </a:r>
            <a:r>
              <a:rPr b="1" lang="es-ES_tradnl" sz="2000" spc="-1" strike="noStrike">
                <a:solidFill>
                  <a:srgbClr val="003399"/>
                </a:solidFill>
                <a:latin typeface="Arial"/>
              </a:rPr>
              <a:t>360 y 400 formulari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Implementación de documento, firma electrónicos y factura electrón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3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DE59-96B5-4B49-9A41-B67B70C6E67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900000" y="1485720"/>
            <a:ext cx="80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1" i="1" lang="es-CL" sz="22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1" i="1" lang="es-ES_tradnl" sz="2200" spc="-1" strike="noStrike">
                <a:solidFill>
                  <a:srgbClr val="0033cc"/>
                </a:solidFill>
                <a:latin typeface="Arial"/>
              </a:rPr>
              <a:t>n servicio público más eficiente y eficaz: mejoras en la gest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514600" indent="0" algn="just">
              <a:spcBef>
                <a:spcPts val="99"/>
              </a:spcBef>
              <a:buNone/>
              <a:tabLst>
                <a:tab algn="l" pos="0"/>
                <a:tab algn="l" pos="361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Importantes avances en implantación de cultura orientada a resultados y al servicio de usuari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Instrumentos de gestión de amplio uso: PMG, Balances de Gestión, Sigf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istema de evaluación de control de gestión financier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istema de Compras públicas vía Internet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Transparencia fisca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Gobierno electrónico en desarroll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0" algn="just">
              <a:spcBef>
                <a:spcPts val="550"/>
              </a:spcBef>
              <a:buNone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4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BD5B-782F-4074-B39C-F84852DDA5F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1" i="1" lang="es-CL" sz="2200" spc="-1" strike="noStrike">
                <a:solidFill>
                  <a:srgbClr val="0033cc"/>
                </a:solidFill>
                <a:latin typeface="Arial"/>
              </a:rPr>
              <a:t>El desarrollo de las personas en </a:t>
            </a:r>
            <a:r>
              <a:rPr b="1" i="1" lang="es-ES_tradnl" sz="2200" spc="-1" strike="noStrike">
                <a:solidFill>
                  <a:srgbClr val="0033cc"/>
                </a:solidFill>
                <a:latin typeface="Arial"/>
              </a:rPr>
              <a:t>el sector públic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514600" indent="0" algn="just">
              <a:spcBef>
                <a:spcPts val="99"/>
              </a:spcBef>
              <a:buNone/>
              <a:tabLst>
                <a:tab algn="l" pos="0"/>
                <a:tab algn="l" pos="361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Profesionalización servicio público: concursos, mérito v/s antigüeda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reación del Sistema Alta Dirección públic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reación Dirección Nacional del Servicio Civi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onsolidación legal normativa presupuestaria sobre gestión de persona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istema descentralizado de formación de recursos human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ódigo de Buenas Prácticas Labor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5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5E6C-4F5B-4AFF-951D-7C43DF7723D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6. </a:t>
            </a:r>
            <a:r>
              <a:rPr b="1" i="1" lang="es-CL" sz="2600" spc="-1" strike="noStrike">
                <a:solidFill>
                  <a:srgbClr val="0033cc"/>
                </a:solidFill>
                <a:latin typeface="Arial"/>
              </a:rPr>
              <a:t>Avances en </a:t>
            </a:r>
            <a:r>
              <a:rPr b="1" i="1" lang="es-ES_tradnl" sz="2600" spc="-1" strike="noStrike">
                <a:solidFill>
                  <a:srgbClr val="0033cc"/>
                </a:solidFill>
                <a:latin typeface="Arial"/>
              </a:rPr>
              <a:t>rol regulador del Estado. 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3399"/>
                </a:solidFill>
                <a:latin typeface="Arial"/>
              </a:rPr>
              <a:t>Se ha reducido el rol del estado de  productor directo de bienes y servici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3399"/>
                </a:solidFill>
                <a:latin typeface="Arial"/>
              </a:rPr>
              <a:t>Se han perfeccionado los marcos regulatorios de los servicios de utilidad pública, en normativa, fiscalización y sancione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3399"/>
                </a:solidFill>
                <a:latin typeface="Arial"/>
              </a:rPr>
              <a:t>Se ha definido sistemas regulatorios para las relaciones público – privados en áreas de interés público abiertas a la inversión privad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3399"/>
                </a:solidFill>
                <a:latin typeface="Arial"/>
              </a:rPr>
              <a:t>Se ha avanzado en modernizar el rol regulador del estado no sólo en la esfera productiva sino también en la socia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6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F232-5EB5-4469-99BF-EEF988CEF55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1. Gobierno del Presidente P.Aylwin (2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0000" y="1486080"/>
            <a:ext cx="806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Presidente Aylwin (1990-1994): transición a la democracia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99cc"/>
                </a:solidFill>
                <a:latin typeface="Arial"/>
              </a:rPr>
              <a:t>Énfasis del periodo: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3399"/>
                </a:solidFill>
                <a:latin typeface="Arial"/>
              </a:rPr>
              <a:t>Inicio de procesos de modernización de gestión pública en grandes servicios</a:t>
            </a: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: Impuestos Internos, Tesorería, Fondo de Salud, Registro Civil, etc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3399"/>
                </a:solidFill>
                <a:latin typeface="Arial"/>
              </a:rPr>
              <a:t>Mejoramiento de condiciones de trabajo en el sector público</a:t>
            </a: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. Ejemplos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99"/>
              </a:solidFill>
              <a:latin typeface="Verdana"/>
            </a:endParaRPr>
          </a:p>
          <a:p>
            <a:pPr lvl="2" marL="1428840" indent="-354240" algn="just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Incrementos salariales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Reconocimiento y formalización de asociaciones de funcionarios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3399"/>
                </a:solidFill>
                <a:latin typeface="Arial"/>
              </a:rPr>
              <a:t>Democratización de los Gobiernos locales y regionale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90E3-C23E-4C3F-821C-EEB2C047F8D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900000" y="1484280"/>
            <a:ext cx="80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7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Cuánto se está escuchando a las person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Establecimiento del Defensor Ciudadano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Comisión Asesora Presidencial para la Protección de los Derechos de las Persona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Reforma Constitucional: </a:t>
            </a:r>
            <a:r>
              <a:rPr b="1" lang="es-ES_tradnl" sz="2000" spc="-1" strike="noStrike">
                <a:solidFill>
                  <a:srgbClr val="003399"/>
                </a:solidFill>
                <a:latin typeface="Arial"/>
              </a:rPr>
              <a:t>en tramitación en el Congres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Participación Ciudadana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Fortalecimiento Sociedad Civil y Participación ciudadana en la gestión: </a:t>
            </a:r>
            <a:r>
              <a:rPr b="1" lang="es-ES_tradnl" sz="2000" spc="-1" strike="noStrike">
                <a:solidFill>
                  <a:srgbClr val="003399"/>
                </a:solidFill>
                <a:latin typeface="Arial"/>
              </a:rPr>
              <a:t>proyecto de ley en el Parlamento; instructivo presidencial sobre particip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istemas de Información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1500 Oficinas de Información y Reclamos en todos los servicios públic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400 Sitios web gubernamentale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7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D096-94CA-4227-8F2C-6B8A6DBF1B7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900000" y="1484280"/>
            <a:ext cx="80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8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Un estado más probo y transparente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Financiamiento de la política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Transparencia en el financiamiento de la polític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Regulación de publicidad y difusión programas público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Regulación del lobby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Ley Transparenci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Institucionalidad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Proyecto de Modernización Contralorí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Perfeccionamiento fiscalización municip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Fortalecimiento derecho ciudadano a la información: Declaración de patrimoni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Fortalecimiento ética funcionaria: </a:t>
            </a:r>
            <a:r>
              <a:rPr b="1" lang="es-ES_tradnl" sz="2000" spc="-1" strike="noStrike">
                <a:solidFill>
                  <a:srgbClr val="003399"/>
                </a:solidFill>
                <a:latin typeface="Arial"/>
              </a:rPr>
              <a:t>Código de Ét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Ley de Transparencia y Acceso a la Inform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8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4666-AD10-4DCD-837F-BBC57EED4B7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 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500" spc="-1" strike="noStrike">
                <a:solidFill>
                  <a:srgbClr val="0033cc"/>
                </a:solidFill>
                <a:latin typeface="Arial"/>
              </a:rPr>
              <a:t>1</a:t>
            </a:r>
            <a:endParaRPr b="1" lang="en-US" sz="2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3399"/>
                </a:solidFill>
                <a:latin typeface="Arial"/>
              </a:rPr>
              <a:t>1.  Autoridad política.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99"/>
                </a:solidFill>
                <a:latin typeface="Arial"/>
              </a:rPr>
              <a:t>Avanzar en la reforma del estado tiene como requisito fundamental que exista una autoridad política encargada de esta tarea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99"/>
                </a:solidFill>
                <a:latin typeface="Arial"/>
              </a:rPr>
              <a:t>Esta autoridad debe tener rango ministerial (Subsecretario) y debe tener autoridad sobre todas las instituciones transversales responsables de procesos de modernización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1C39-002F-4A08-A01F-A6E5C8E5EDC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2. Ordenar la agenda de modernizaciones de la institucionalidad 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- Las transformaciones institucionales deben priorizarse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Se debe concordar cuales serán posibles de aprobar en este mandato presidencial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Modernización de la Cancillería. Subsecretario de Comercio Exterior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Ministerio de la Agricultura y la Aliment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Subsecretaría de Seguridad Públ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Autoridad Metropolitana Central de Transporte Público de Pasajer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La institución del Defensor Ciudadan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B321-FA24-4EFA-B939-6DD90CD8C3B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2.  Ordenar la agenda de modernizaciones de la institucionalidad.  (2)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Agencia para la Calidad de las Políticas Pública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Instituto del Patrimoni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Dirección de fiscalización electoral especializada en fiscalización y supervigilanci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Ministerio de asuntos Indígenas y Consejo Nacional de Pueblos Indígena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0633-0D6C-489B-8DC7-FB0D766F443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3. Avanzar en el nuevo trato laboral: Las personas que trabajan para el estado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Definir política clara sobre vinculación laboral: plantas y contratas. Crear estatuto para contratas similar al Código del Trabaj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Facilitar la jubilación de personal en edad de jubilar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Recrear sistema de evaluaciones y de calificaciones y hacerlo operar eficazment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Superar rigidez de diversos estatutos especiales : docente, municipa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Incentivos a la formación y perfeccionamiento (pasantías, e-learning)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1F15-1E5F-42A9-9790-2BB73C5DA4C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5490a8"/>
                </a:solidFill>
                <a:latin typeface="Arial"/>
              </a:rPr>
              <a:t>4. </a:t>
            </a:r>
            <a:r>
              <a:rPr b="1" i="1" lang="es-MX" sz="2800" spc="-1" strike="noStrike">
                <a:solidFill>
                  <a:srgbClr val="003399"/>
                </a:solidFill>
                <a:latin typeface="Arial"/>
              </a:rPr>
              <a:t>Fortalecer la capacidad </a:t>
            </a:r>
            <a:r>
              <a:rPr b="1" i="1" lang="es-ES_tradnl" sz="2800" spc="-1" strike="noStrike">
                <a:solidFill>
                  <a:srgbClr val="003399"/>
                </a:solidFill>
                <a:latin typeface="Arial"/>
              </a:rPr>
              <a:t>institucional para dirigir mejor: fortalecimiento del poder ejecutivo.</a:t>
            </a:r>
            <a:r>
              <a:rPr b="1" i="1" lang="es-ES_tradnl" sz="28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1332000" y="2924280"/>
            <a:ext cx="7488000" cy="36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Mejorar la coordinación central de gobierno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Completar donde falte la diferenciación institucional: formulación de políticas, ejecución, regulación y fiscalizació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Actualización marco jurídico ministerial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Mejorar la coordinación en temas transversale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7B11-FCD2-4320-A9FC-A7AEF2617F5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5. Definir una interpretación clara sobre la descentralización</a:t>
            </a:r>
            <a:r>
              <a:rPr b="0" i="1" lang="es-MX" sz="2400" spc="-1" strike="noStrike">
                <a:solidFill>
                  <a:srgbClr val="0033cc"/>
                </a:solidFill>
                <a:latin typeface="Arial"/>
              </a:rPr>
              <a:t>. 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48040" indent="0" algn="just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99"/>
              </a:solidFill>
              <a:latin typeface="Verdana"/>
            </a:endParaRPr>
          </a:p>
          <a:p>
            <a:pPr lvl="1" marL="804240" indent="-365400" algn="just">
              <a:lnSpc>
                <a:spcPct val="8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Fortalecimiento y modernización de gobiernos regional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04240" indent="-36540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Definir política sobre creación de Servicios regional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207080" indent="-32904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Desarrollo soci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07080" indent="-32904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Infraestructura y transporte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07080" indent="-32904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Desarrollo productiv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07080" indent="-32904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Planificación regional y ordenamiento territori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04240" indent="-365400" algn="just">
              <a:lnSpc>
                <a:spcPct val="8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Modernización municipal. Evaluar el modelo actual, proponer ajustes y definir plan de acción de mediano plaz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04240" indent="-365400" algn="just">
              <a:lnSpc>
                <a:spcPct val="8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Definir cambios en modelo político de la descentralización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2D83-7897-451B-B482-5FBF142E66B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6. Completar la reforma a la justicia</a:t>
            </a:r>
            <a:r>
              <a:rPr b="0" i="1" lang="es-MX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Creación tribunales de lo contencioso administrativ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Modernización Judicatura Civil.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Gestionar adecuadamente reformas en implementación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Procesal pen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Famili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Trabaj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Competenci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Tributari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4A28-31AF-47B7-A079-D4245CEB222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7. Perfeccionar la institucionalidad y las capacidades regulatorias. 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13372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Verdana"/>
            </a:endParaRPr>
          </a:p>
          <a:p>
            <a:pPr lvl="1" marL="838080" indent="-38088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Fortalecimiento entes reguladores actualmente establecid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erfeccionar el modelo de autonomía de entes regulador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4B4E-F2FB-40BD-840A-941A70892F6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2. Gobierno del Presidente E.Frei R-T (1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80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-35784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esidente Frei (1994-2000): modernización de la gest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99"/>
              </a:solidFill>
              <a:latin typeface="Verdana"/>
            </a:endParaRPr>
          </a:p>
          <a:p>
            <a:pPr marL="35784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Énfasis del period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reación de Comité Interministerial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(1994)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Recursos humano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Incentivos vinculados a calidad de gest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ropuesta de sistema de gerencia públ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Mejoras en capacit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alidad de servicio y participación ciudadana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Simplificación de trámite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Cartas de derechos ciudadan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remio nacional a la calidad de servicios públic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remio a la innovación en gestión públ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C9AE-1479-4789-9FCF-B0B8DB8152E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8. Mantener y perfeccionar avances logrados en la gestión pública.</a:t>
            </a:r>
            <a:r>
              <a:rPr b="1" i="1" lang="es-MX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Nuevas tecnologías: permanente ajuste y actualización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. 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vanzar en la interoperabilidad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Sistema decisional: ley de procedimientos hecha proces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Control de gestión. Evaluar herramientas actuales, simplificarlas y hacerlas más relevant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Buenas prácticas en gestión: recopilación y aprendizajes a partir de ell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4E93-6B5A-4203-8E34-BD947ABB260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10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9. Instalar en forma real la 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participación ciudadana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13372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Verdana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Incorporación legal de los ciudadanos en procesos decisiona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ctualizar instructivo sobre participación ciudadan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erfeccionar los sistema de información sobre la acción estatal: nuevo impulso a las OIR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Reinstalar las cartas de derechos ciudadanos en los servicios públic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F7FA-B7DD-48A6-BF19-8E723D75ECE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11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10.  Completar la agenda de probidad y transparencia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La ética como sustento de la participación en el servicio públic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Rediseño de los sistemas de control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Resolver los conflictos de interés de altos funcionarios de gobiern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E3B7-BA65-44A2-8439-03CA1F6D9FA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 El Consorcio para la Reforma del Estado.  1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La meta: un Estado de clase mundial al servicio de las person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ntecedentes a considerar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Sociedad chilena tiene nuevos desafíos y mayores aspirac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Ciudadanos le exigen al estado calidad y diversidad de servici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Empresas requieren relacionarse de nuevas formas con el estad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País debe adaptarse a la globaliz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Si bien hay avances en el tipo de estado, es insuficiente para enfrentar el futur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231C-E3BE-4157-A398-3C632F26C04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2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ntecedentes a considerar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Estado presenta estructuras anticuadas; la gestión de políticas públicas es ineficiente; crecimiento ha sido inorgánico; hay malas práct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Para avanzar al desarrollo se requiere reformas institucionales que mejoren eficiencia y eficacia en la gestión; diseño de políticas públicas que respondan a necesidades de personas; transformaciones que ejecuten de forma coherente; se debe asegurar flexibilidad al aparato estata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Reformas como las planteadas permitirían aumentar el ingreso por habitante, mejorar la equidad y la protección social, y ofrecer mejores oportunidades a todos los chilen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E6AD-7392-4889-B8F4-A07C07822A5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3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genda de reformas propuesta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550"/>
              </a:spcBef>
              <a:buClr>
                <a:srgbClr val="00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Liderazgo integrador y eficaz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que ayude a superar la fragmentación del estado chileno; que facilite el ejercicio de las facultades presidenciales; que separe las tareas de estado de las de un gobiern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550"/>
              </a:spcBef>
              <a:buClr>
                <a:srgbClr val="00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Ejecución efectiva de la estrategia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para producir los impactos esperados la ejecución debe estar coordinadas y orientadas a los resultados; debe existir buena coordinación intersectorial; se debe contar con mayor flexibilidad organizacional; mejorar proceso de diseño, presupuesto, ejecución y evaluación de polít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F66E-F152-40C5-81E4-DCD8855B64C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4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genda de reformas propuesta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Personas - profesionalizar el estado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desarrollar carrera profesional de servicio público que privilegie el mérito; instaurar la movilidad horizontal entre servicios; expandir la selección de directivos a nuevas áreas institucion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Los ciudadanos como protagonistas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deben ser el centro de la acción estatal; crear espacios de opinión, elección y participación; profundizar transparencia en gestión pública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Fortalecer la primera línea del estado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desarrollar a nivel municipal entrega de servicios públicos; fortalecer capacidades municipales y flexibilizar estructur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E150-DC22-421E-83EA-B08CE164316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5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Liderazgo integrador y eficaz. 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Separar la definición de políticas de su ejecución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Evitar conflictos de interés cuando en una institución se ejercen simultáneamente roles de juez, fiscalizador y evaluador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Definición de políticas corresponde al Presidente y su Gabinete; ejecución debe recaer en unidades permanentes del estado. *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Se deben profesionalizar entidades ejecutoras, se debe revisar dependencias institucionales, descentralización ayuda en este proceso, mejorar instrumentos de gest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Mejorar herramientas al servicio del Presidente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: El centro de gobierno presta servicio directo al Presidente; proponen crear “Oficina de la Presidencia” fusionando Segpres y Segegob; coordinar políticas intersectoriales vía Consejos de Ministr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47DF-77E0-4951-857C-1160F45AC82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6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Ejecución efectiva de la estrategia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Estrategias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 deben expresarse en metas con indicadores para medir impactos. Estrategias requieren mantener integralidad de las políticas (diversas instituciones deben operar con mismas directrices); funciones de diseño, ejecución, fiscalización y evaluación deben evitar conflictos de interese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Contratos de ejecución de políticas transversales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. Ministros son responsables políticos de políticas transversales, deben contratar ejecución de productos asociados a metas estratégicas con agencias públicas o empresas privadas, esto introduce incentivos para mejorar calidad y eficiencia. Potenciales descoordinaciones deben resolverse por Oficina del Presidente. Esto evita crear nuevas instituciones por nuevos problema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EEC7-5B62-4274-A9DC-46C6E081351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7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Ejecución efectiva de la estrategi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Convenios de desempeño de los servicios públicos: 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Para alinear gestión de servicios públicos con estrategia gubernamental se deben firmar convenios de desempeño, para evaluar resultados y definir incentiv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Función de las Subsecretarías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Separar equipo político de Ministros ( Jefe de Gabinete y asesores) de Subsecretario que debe administrar ministerio y programas no adscritos a servicios; no debe subrogar a Ministr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Proceso presupuestario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Sistema presupuestario debe contemplar gestión anual y planificación plurianual. Debe valorar servicios prestados, imputar activos y facilitar transparencia y eficiencia públic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5AE9-37DC-4221-BA8A-263F1953E896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2. Gobierno del Presidente E.Frei R-T (2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80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-35784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esidente Frei (1994-2000): modernización de la gest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marL="35784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Énfasis del period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Transparencia y Probidad.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royecto de compras públicas vía electrón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Ley de probidad administrativ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Consejo de Auditoría Interna de Gobiern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Oficinas de información y reclam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ortal del Estad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Gestión estratégic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rogramas de mejoramiento de gest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rograma de evaluación de proyectos de gobiern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lanes pilotos de mejoramiento de gest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5B4D-23EA-4012-93F6-497F3A859F7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8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Ejecución efectiva de la estrategi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Evaluación de la acción del estado: 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Al alero de una planificación estratégica del estado, se debe integrar los sistemas de evaluación y gestión existentes. Promover información integrada que permita el control y evaluación de resultados. Esto debe complementarse con una Agencia de Calidad de las Políticas Públicas, independiente, que mida el impacto de políticas, velando por su calida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Control de legalidad y auditoria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Pasar del control exante al control expost, que Contraloría defina y aplique sanciones. Crear sistema judicial administrativo, mecanismos de resolución de contenciosos administrativos. Fortalecer la auditoria intern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C14E-CB8C-4819-AE29-831B9B6AEFE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.2.  El Consorcio para la Reforma del Estado.  9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Personas: profesionalizar el Estado. 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Una carrera funcionaria de excelencia: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 Mejorar procesos de selección, evaluación y movilidad; establecer movilidad horizontal entre diversas instituciones del estado de todo nivel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 Nuevo contrato de carácter indefinido y que accede al seguro de desempleo como sistema de ingreso; no habrá nuevas incorporaciones a actuales plantas; honorarios sólo para labores temporale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4BB2-E9FE-4560-B8AF-A82A93951A4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9i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Personas: profesionalizar el Estado. 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Una carrera funcionaria de excelencia: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* 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Simplificar sistema de grados y crear bandas de remuneraciones; mejorar sistemas de evaluaciones individuales y grupales; comités de calificaciones con supervisión externa; incentivos de remuneraciones en función de indicadores de calidad de atención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  Mejorar formación y capacitación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 Instaurar relaciones laborales modernas, con mecanismo descentralizado de negociación reglada y con arbitraje forzoso.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41C1-D414-4FC5-A8FA-321FAEAEB22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10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Personas: profesionalizar el Estado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Profundizar el Sistema de Alta Dirección Pública: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* 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Expandir el sistema a los servicios nacionales no incorporados, a los gobiernos regionales (directivos de Gores y jefes de servicios regionales) y municipales (administradores municipales y jefes de programas)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* Seleccionar a Subsecretarios por el SADP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* Descentralizar gestión del personal entregando a directivos mayor capacidad de decisiones autónom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Fortalecer Servicio Civil y crear Consejo de Personal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Darle autonomía al Consejo y transformar el Servicio Civil en servicio autónom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99A2-40B0-4112-8F1C-28A0DC15084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11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Los ciudadanos como protagonistas. 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Profundizar la transparencia: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*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Evitar costos y riesgos de intervención y captura del estado por intereses particulares, facilitando el control ciudadano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Implementar adecuadamente Ley de Acceso a la Información y Consejo para la Transparencia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Definir claramente funciones y atribuciones de instituciones y hacerlas conocidas por la ciudadaní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Mecanismos de participación efectivos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Participación ciudadana en diseño de políticas, en control de la acción pública y en empoderamiento frente a resultados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Establecer documentos de consulta de políticas y permitir que ciudadanos exijan mejores servici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8D3B-841A-49DF-89B0-4DC882AF969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12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Reforzar y empoderar a la primera línea del Estado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6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Servicios públicos en torno al ciudadano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: Rediseñar servicios públicos en torno al ciudadano, agrupando la prestación de servicios en una sola entidad. Estado debe procesar en línea e internamente los requerimientos de ciudadano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6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Descentralización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: Permite mayor cercanía del estado a las personas, para facilitar el escrutinio público, el recoger necesidades y preferencia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6EDE-0B77-414C-A03B-9CD4B8090C8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13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3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Reforzar y empoderar a la primera línea del Estado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0320" indent="-335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Fortalecer el gobierno local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: el liderazgo local es requisito para un gobierno que responda a ciudadano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0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Se debe dotar a municipios de capacidad de decisión y de gestión en provisión de servicios e inversión local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0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Se debe lograr correspondencia entre responsabilidades y atribuciones y capacidades y recurso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0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Dar mayor autonomía en organización interna y contratacione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0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B2EF-9994-439E-A64D-64F2EEFFF20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14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Reforzar y empoderar a la primera línea del Estado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Fortalecer el gobierno local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Perfeccionar mecanismos de rendición de cuentas. Instituciones nacionales deberán contratar ejecución de servicios a municipios bajo estándares predefinidos y exigible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Traspasar la responsabilidad en temas urbanos a municipios. Entregar recursos en forma directa a municipios sin pasar por el FNDR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Darle a municipios mayor autonomía en determinación de ingresos. * Perfeccionar política de aportes financieros a municipi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B95D-C10C-4F6F-92A7-ABFBEE536D6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15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Reforzar y empoderar a la primera línea del Estado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El rol de las regiones: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*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Gores tiene rol relevante en coordinación y financiamiento de inversiones y en movilizar recursos privados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Nombramiento de directivos regiones por el SADP. *Instaurar mecanismos de presupuestos plurianuales y con flexibilidad para reasignaciones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Mejorar evaluación de rentabilidad social de proyectos regionales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Revisar convenios de programación para hacerlos coherentes con estrategias regionales de desarrollo. *Eliminar las actuales provincias y posibilitar la instalación de territorios con un coordinador territorial. Mantener nombramiento de intendentes por Presidente, previa consulta a la reg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38E2-CE0E-421D-AC84-95DB82BB702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1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Una nueva forma de gobernar.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Presidente todo terreno 24/7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Fin al cuoteo político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Servicio público al servicio de los ciudadanos y no de los partidos políticos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Se impondrá el sentido de urgencia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Rol del Estado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proveedor de bienes públicos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gente promotor de la innovación y el emprendimiento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facilitador de la igualdad de oportunidades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regulador del mercado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factor de protección de los más desmejorados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B8F1-4DA4-4CC8-82B5-823508B3ADA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2. Gobierno del Presidente E.Frei R-T (3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esidente Frei (1994-2000): modernización de la gest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Énfasis del period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Descentralización e institucionalida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Compromisos de desconcentr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Institucionalidad reguladora de servicios de utilidad pública.</a:t>
            </a: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Nuevas tecnologías de inform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4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lan de acción en NTI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Documento electrónico y firma digital en sector públic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Intranet gubernament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8A3F-A9AD-40F5-9B79-AC5D10AC01A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2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Reformas planteadas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just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Un Estado moderno al servicio de la gente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Concertación no ha modernizado el estado para adecuarlo a los requerimientos del siglo XXI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Meta es tener mejor estado, fuerte, eficiente y con sentido de urgencia. Rol de funcionarios públicos es fundamental, son ejemplo de servici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5 ejes para la modernización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ABF6-5E81-4957-8ED1-D143BA78587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3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Reformas planteadas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76920" indent="-37692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Un Estado moderno al servicio de la gente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Mejorar la gestión de la administración superior del estado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Creación del Ministerio de Desarrollo Social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Reestructuración de Segegob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Fortalecer rol coordinador de Segpr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Ministros coordinadores para abordar prioridades del gobiern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Superintendentes designados por Sistema de Alta Dirección Públic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Creación de Agencia de Auditoría dependiente del PdlR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919A-70BB-4064-805E-6C745FCBA37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4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Reformas planteadas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Un Estado moderno al servicio de la gente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Contar con mejores servidores públic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Creación de Academia para formar a funcionarios públic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Extensión de selección de Alta Dirección a niveles regionales y municipa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Mayor movilidad horizontal y el mérito para el ascens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Incentivos de remuneración variable para funcionarios destacad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Avanzar en transparencia y rendición de cuent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59D8-4C02-4945-8D3B-78B1015F28C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5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Reformas planteadas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Un Estado moderno al servicio de la gente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3. Mejorar la calidad de los servicios público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Perfeccionar el sistema de evaluación de proyectos público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- Crear la Agencia Autónoma de Evaluación de Políticas Públicas para evaluación expost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4. Potenciar la Contraloría General de la República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Mejorar control de legalidad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- Supervisar buen uso de recursos y probidad.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C785-D79F-4C2D-A4DE-A250EFC64AD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6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Reformas planteadas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just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Un Estado moderno al servicio de la gente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5. Modernización de las empresas pública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Regirse por normas de sociedades anónimas abierta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- Transformación del SEP en holding autónomo, con directorio representativo de todos los sectores del paí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- Cambios en gobiernos corporativos de empresas para asegurar autonomía del gobierno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70AD-5F84-4EEC-A946-93E76291CB5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7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98720" y="1499760"/>
            <a:ext cx="8045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Agenda de Modernización. Junio 2010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Agenda corta : 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Fortalecimiento del centro de gobiern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Coordinación estratégica (Comités de Ministros y estructuración de estrategias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Calidad de políticas públicas  (Coherencia de mérito, jurídico, programática y presupuestaria; coordinación sectores, Segpres, Dipres; análisis y gestión integrada de evaluación de políticas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Cumplimiento de políticas públicas ( metas, acciones, plazos y responsables; gestión de cumplimiento de ejes  prioritarios –delivery unit-; seguimiento de cumplimiento ministeri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9151-2A8A-4F82-8047-7F5B12AA237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8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98720" y="1499760"/>
            <a:ext cx="8045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-357840" algn="just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Agenda de Modernización. Junio 2010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Perfeccionamiento de la institucionalidad del estad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Desarrollo social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Seguridad Públic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Infancia y adolecentes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Dirección del Trabaj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Adulto mayor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Áreas silvestres protegid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Infraestructura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Política indígen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Innovación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Descentralizació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57840" indent="-357840" algn="just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Agenda larga :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Perfeccionamiento Alta Dirección Públ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Perfeccionamiento incentiv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Agencia de calidad de políticas pública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Gobiernos corporativos de empresas pública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Nueva institucionalidad del Estad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9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F0B6-CD4E-483B-BDC8-4958DA214F3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136000" cy="172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2. La experiencia chilena en los últimos 20 años. </a:t>
            </a: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El estado de la Reforma del Estado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733320" y="4581360"/>
            <a:ext cx="7655040" cy="136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</a:rPr>
              <a:t>2010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4DDB-CBB2-4BBF-B78D-F946F3CDD92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3. Gobierno del Presidente R.Lagos  (1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esidente Lagos (2000-2006): reforma instituciona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Énfasis del period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l año 2000 se puso en marcha el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Proyecto de Reforma y Modernización del Estado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, con un enfoque global sobre transformaciones institucionales y de modernización de la gest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cuerdos de enero de 2003: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Agenda de Modernización consensuada con la oposición revitalizó el proceso de reforma, permitiendo abordar cuestiones fundamentales del orden institucional del Gobiern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132D-8715-4C8C-AE3E-0F3CEA48A0C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3. Gobierno del Presidente R.Lagos  (2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Contexto político y posibilidades de éxit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mplitud de la agenda y dificultades de implementación simultáne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Situación económica del paí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Liderazgo del proyecto de reform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Reforma institucional y limitaciones de sistema político presidencial – parlamentari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Opción por obtener logros menores pero tangib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Conclusión: a los dos años se baja el perfil al PRYME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Se opta por desagregar implement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Se  opta por avanzar en lo posibl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1166-082A-4268-8DB3-C39DAF395E5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3. Gobierno del Presidente R.Lagos  (3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Mediados 2002 : acusaciones de corrupción en Ministerio de Transportes y Ministerio de Obras Públic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Gobierno opta por clarificar acusacione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Se desata crisis política grave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En centro de explicación de crisis está : </a:t>
            </a:r>
            <a:r>
              <a:rPr b="1" i="1" lang="es-MX" sz="2200" spc="-1" strike="noStrike" u="sng">
                <a:solidFill>
                  <a:srgbClr val="003399"/>
                </a:solidFill>
                <a:uFillTx/>
                <a:latin typeface="Arial"/>
              </a:rPr>
              <a:t>el mal funcionamiento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parece como necesidad el mejorar gestión e institucionalidad pública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parece como oportunidad el avanzar en la reforma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21:03:08Z</dcterms:created>
  <dc:creator>Rodrigo Egaña</dc:creator>
  <dc:description/>
  <dc:language>en-US</dc:language>
  <cp:lastModifiedBy>..</cp:lastModifiedBy>
  <cp:lastPrinted>2003-02-05T21:45:17Z</cp:lastPrinted>
  <dcterms:modified xsi:type="dcterms:W3CDTF">2010-06-23T20:25:42Z</dcterms:modified>
  <cp:revision>1281</cp:revision>
  <dc:subject/>
  <dc:title>GESTION PUBLICA Y MODERNIZACION DEL ESTADO</dc:title>
</cp:coreProperties>
</file>