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B2EE-3554-4995-9D73-86BB83EDC6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D19-2497-49F1-897F-2CDCF4277C5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CA2-2676-466E-8D30-EE258F0E7B1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479F-CE7A-4E01-A65F-BEA036E502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338C-C87B-4B03-97AA-C70047A73B2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A478-3933-4B86-821F-DFA704325E8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F27-850E-446F-94F8-6398F079607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204-7980-4275-9956-309453F348F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C20-8FC1-4A7B-B449-982572A6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319-3B2A-4320-B480-43C11CBF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A16-B9F6-4A3A-B7E6-610254B4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D33-2EE7-4AF2-8A88-0944F054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D8DB-ED0E-492D-BB64-79647925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B209-4153-4321-B22B-8131638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CB7D-333B-4C39-BDB8-A67B55BE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CA4A-EB56-4E05-BB9B-9AD045EA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57D2-46D5-43B3-965C-4B47063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C590-7FB8-4900-8ABA-AE577A9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B3D8-A7B0-4E28-9D73-CBB48BA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195-2D98-4BE2-95FC-500EF92F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CDB5-45C9-4808-B37B-CAD207B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417-BCDF-435A-AD3B-118870E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E1A6-59ED-475D-8F2A-D85D4C93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043E-4941-4683-8BE9-C23B716B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B350-0DCC-4EF3-BD56-7B8D7C74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2C8-9443-4E00-9B8E-91F11659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2A1-4FA6-4522-B40B-83BF08D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C69-8046-4F7C-A6E4-58AF4EA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BD2-D507-4EBD-956E-9C6CF3FD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8E9-5D7E-4DE7-9BC4-819F212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FC3-0677-4C54-BA40-759DA093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D28-BA62-4F13-8E82-10D67F3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ABBC-6DA4-4D87-A255-686BA46498E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7AED-72E8-44AA-8DA9-C7ABC1E7EB2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ramitefacil.gov.cl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6E5B-AA11-401F-A424-855BADB0585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DE3A-744D-4C37-BB57-AE973C237B9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de la institucionalidad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salu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inisterio de Salud como órgano rector con Subsecretaría de Redes y Subsecretarí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uperintendenci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utoridades regionales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Hospitales públicos autogestion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la cultur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 Nacional de la Cultura presidido por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s Regionales de la Cultura y las Art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té Consultivo Nacional y diversos Fon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075C-ED7C-45A6-BCAA-38ED88C9CEB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descentralizadora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Inversión pública de decisión regional del 57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FNDR aumenta en 140% y Fondo Común Municipal en 68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Reforma Constitucional para democratizar Cor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creación de nuevas region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ey de casinos de beneficio municipal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Municipios se incorporan a Chilecompr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gramas de inversión regional: sanitaria, convenios de programación, electrificación rural, PMU, PMB, Profir, Profim, Cideze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9B76-3C46-4AB3-B4F0-F430A1BA439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Recurso humanos y Dirección Públic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 la Dirección Nacional del Servicio Civil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l Sistema de Alta Dirección Públic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sejo de Alta Dirección Pública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Sistema de concursos y selección de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Puesta en marcha del proceso de concursos y selección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Formación de altos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arrera funcionari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curso de cargos de tercer nivel directiv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Política de remuneraciones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entivos al desempeñ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Asignación para funciones crítica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Bonificación al retir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F79D-85CC-4820-B55F-B5A23B08D10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finanz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rol de gestión y presupuesto por resultad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ceso presupuestario e indicadores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valuación de programas e institu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Balances Integrales de gestión BGI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gulación de gastos reserv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sión Mixta Permanente de Presupuest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ntrega de información por parte del ejecu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mplantación del SIGF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AD60-BAF8-4743-B5AF-464D9E0BBAC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ey de Bases de los Procedimientos Administrativ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istema de comp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arco normativo y plataforma electrónica para comp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Tribunal de Contrata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Gobierno electrónico y nuevas tecnolog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enda de gobierno electrón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tención a ciudadanos: Portal TrámiteFácil y trámites en lí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B0E-925C-4B95-B84B-8C4F587B80D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Transparencia y derechos ciudad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Declaración de patrimonio de autoridade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l financiamiento de la polí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obby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 relación entre función pública a actividades privad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venciones internacionales contra la corrup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5159-F95B-428D-9042-06667808B16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sejo Ciudadano para el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lan de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iniciativas de la sociedad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capacitación de dirigente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nstructivo Presidencial sobre 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ey de asociaciones y participación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MG de atención a usuari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13FB-8A29-441F-9AA0-ABF3E519BD9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B5EA-008B-4116-8DB0-CA93EA46109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onsejo para la Competitividad y la Innov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Energí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égimen de gobierno corporativo para empresas privadas y nuevo estatuto de Codel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ley de concesiones de OOPP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Medio Ambiente, transformación de Conama y Coremas, Servicio de Evaluación Ambient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d de Protección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para reforma previs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2BB9-72EE-423B-B620-91B8CB6B5A9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EA28-3F5D-41C5-8314-AB4FAB6B0FA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del sector turism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o diseño del Ministerio de Defensa, con creación de nuevas subsecretar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forma a la institucionalidad de la discapacidad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DFCE-ED96-47D8-8A7E-0BA9B3A56FD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402-BCD0-48EA-84A3-88A1EF90B7A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Descentraliz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reación de fondos especiales de decisión regional ( Inversión para competitividad FIC; Inversión local FRIL)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ransferencia de competencias; creación de División de Planificación y Desarrollo Region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s Regionales de Desarroll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Elección directa de Consejeros region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s Regiones : Arica y Parinacota y Los Rio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erritorios especiales de Isla de Pascua y Juan Fernández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8421-4FF1-46CF-9306-2F67703CDAD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485720"/>
            <a:ext cx="80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Ejemplo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inisterio Secretaría General de la Presiden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social: Mujer y Familia, Indígenas, Solidaridad e Inversión Social, Juventud, Discapacitad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para la Cooper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dio Ambient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3B1-FE8C-415E-BA1B-4F9F3ED931D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74E-06D5-4E4E-A4C8-32B79577C7A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Sector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 ley gener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Nacion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 de Calidad de la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uperintendencia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istema nacional de competencias labor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BE0-B2E1-4FEF-8EC4-5EFCCE266C6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48E-A9C3-4DEB-A022-DFA9945B108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4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Ley de transparencia y acceso a la Información Públic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para la Tra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Introducción del principio de la “Transparencia activa”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2F3-729F-4BAD-A16E-7BDC7E23980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D137-D12E-4236-A2BB-90A7189E651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5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Derechos Human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reación del Instituto de los Derech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6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Modernización de gestión pública y recurs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Evaluación de programa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Fondo de modernización de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Gobierno electrón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1375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Trebuchet MS"/>
              </a:rPr>
              <a:t>Portal de Trámites del estado. 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ódigo de Buenas Prácticas Laboral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Traspaso de personal de honorarios a contrat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0AF3-2AA8-4311-95F3-25177673B0E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323C-A028-4EE9-8A0D-1C31988A757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7. </a:t>
            </a:r>
            <a:r>
              <a:rPr b="1" i="1" lang="es-MX" sz="2000" spc="-1" strike="noStrike">
                <a:solidFill>
                  <a:srgbClr val="ff9900"/>
                </a:solidFill>
                <a:latin typeface="Trebuchet MS"/>
              </a:rPr>
              <a:t>Participación ciudadan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Sistema integral de Atención a Ciudadanos SIAC (ex OIRS)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Agenda de participación ciudadan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170 Compromiso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700 iniciativa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Instructivo sobre participación ciudadana en la gestión pública. 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Nuevas formas de consulta ciudadan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reforma previsio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residencial sobre la calidad en la educ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educación sup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sobre el trabajo y la equida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1D7C-D84E-425A-9F5A-2F104C7C7BA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1. Adecuación de la institucionalidad a las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necesidades de un Estado Modern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0099cc"/>
                </a:solidFill>
                <a:uFillTx/>
                <a:latin typeface="Arial"/>
              </a:rPr>
              <a:t>Institucionalidad centr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rtalecimiento institucional políticas extrema pobrez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rreglos institucionales en sistema de control de calidad en la gest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organización Sistema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odernización judicial: procesal penal, trabajo, familia, compet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diseño del sector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04DC-C18E-43DB-B1E6-4DDF83AF2F7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n Gobierno más cerca de las personas. La Descentraliz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Énfasis mayor en desconcent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mecanismo de redistribución de recursos municip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ortalecimiento y modernización Gobiernos Reg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scentralización ejecución programa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financiamiento municip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normas gestión administrativa y de recursos humanos en gobiernos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uevas Reg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C918-1DE8-4A2A-9B64-E39A818B6DA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3. Facilitar la relación de las personas con 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201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o central son los “trámites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mplificación de procedimientos administrativos establecida por ley.  Silencio administra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proce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ortal </a:t>
            </a:r>
            <a:r>
              <a:rPr b="0" lang="es-ES_tradnl" sz="2200" spc="-1" strike="noStrike" u="sng">
                <a:solidFill>
                  <a:srgbClr val="d88100"/>
                </a:solidFill>
                <a:uFillTx/>
                <a:latin typeface="Arial"/>
                <a:hlinkClick r:id="rId1"/>
              </a:rPr>
              <a:t>www.tramitefacil.gov.cl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_tradnl" sz="2200" spc="-1" strike="noStrike">
                <a:solidFill>
                  <a:srgbClr val="f4b144"/>
                </a:solidFill>
                <a:latin typeface="Arial"/>
              </a:rPr>
              <a:t>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.600 trámites en el Por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Número de trámites en líne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360 y 400 formular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mplementación de documento, firma electrónicos y factur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AFD9-64DB-4F8D-A468-A3CA1E84F32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00000" y="1485720"/>
            <a:ext cx="80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n servicio público más eficiente y eficaz: mejoras en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mportantes avances en implantación de cultura orientada a resultados y al servicio de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rumentos de gestión de amplio uso: PMG, Balances de Gestión, Sigf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evaluación de control de gestión financier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Compras públicas vía Internet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Gobierno electrónico en desarroll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4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7F12-1A98-4C65-B532-FCD156FFA21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El desarrollo de las personas en 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el sector públi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rofesionalización servicio público: concursos, mérito v/s antigü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el Sistema Alta Direc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irección Nacional del Servicio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olidación legal normativa presupuestaria sobre gestión de pers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scentralizado de formación de recursos huma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digo de Buenas Prácticas Labor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5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72A-E615-42C7-9055-829BB906245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 </a:t>
            </a:r>
            <a:r>
              <a:rPr b="1" i="1" lang="es-CL" sz="2600" spc="-1" strike="noStrike">
                <a:solidFill>
                  <a:srgbClr val="0033cc"/>
                </a:solidFill>
                <a:latin typeface="Arial"/>
              </a:rPr>
              <a:t>Avances en </a:t>
            </a:r>
            <a:r>
              <a:rPr b="1" i="1" lang="es-ES_tradnl" sz="2600" spc="-1" strike="noStrike">
                <a:solidFill>
                  <a:srgbClr val="0033cc"/>
                </a:solidFill>
                <a:latin typeface="Arial"/>
              </a:rPr>
              <a:t>rol regulador del Estado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reducido el rol del estado de  productor directo de bienes y servic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n perfeccionado los marcos regulatorios de los servicios de utilidad pública, en normativa, fiscalización y san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definido sistemas regulatorios para las relaciones público – privados en áreas de interés público abiertas a la inversión privad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avanzado en modernizar el rol regulador del estado no sólo en la esfera productiva sino también en la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6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042-A5E8-4476-82C5-69679C4CDF8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6080"/>
            <a:ext cx="80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Inicio de procesos de modernización de gestión pública en grandes servicios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: Impuestos Internos, Tesorería, Fondo de Salud, Registro Civil, etc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Mejoramiento de condiciones de trabajo en el sector público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. Ejemplos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rementos salariale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Reconocimiento y formalización de asociaciones de funcionari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Democratización de los Gobiernos locales y region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C0EC-6769-47F7-A54B-4BAE0C88FC8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uánto se está escuchando a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stablecimiento del Defensor Ciudadano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isión Asesora Presidencial para la Protección de los Derechos de las Perso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forma Constitucional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en tramitación en el Congres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articipación Ciudadan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Sociedad Civil y Participación ciudadana en la gestión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proyecto de ley en el Parlamento; instructivo presidencial sobr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s de Informació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500 Oficinas de Información y Reclamos en todos los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400 Sitios web gubernament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7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390-B59D-43CF-841A-9582B82E58E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8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Un estado más probo y transparente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inanciamiento de la polític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nsparencia en el financiamiento de la polític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 publicidad y difusión programas públic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l lobby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Ley Transpar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itucionalidad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yecto de Modernización Contralor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erfeccionamiento fiscalización municip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derecho ciudadano a la información: Declaración de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ética funcionari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Código de Ét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ey de Transparencia y 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8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60A0-9026-4577-9157-D6234B329DC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 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500" spc="-1" strike="noStrike">
                <a:solidFill>
                  <a:srgbClr val="0033cc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1.  Autoridad política.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Avanzar en la reforma del estado tiene como requisito fundamental que exista una autoridad política encargada de esta tare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Esta autoridad debe tener rango ministerial (Subsecretario) y debe tener autoridad sobre todas las instituciones transversales responsables de procesos de modernizació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4C92-3D8A-4F0F-9FEB-FA30C74A1BD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Ordenar la agenda de modernizaciones de la institucionalidad 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 Las transformaciones institucionales deben priorizars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Se debe concordar cuales serán posibles de aprobar en este mandato presidenci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odernización de la Cancillería. Subsecretario de Comercio Ext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inisterio de la Agricultura y la Alimen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Subsecretaría de Seguridad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utoridad Metropolitana Central de Transporte Público de Pasaje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La institución del Defensor Ciudada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1112-4B00-4CD4-A42D-81D0E7407CD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 Ordenar la agenda de modernizaciones de la institucionalidad.  (2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gencia para la Calidad de las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Instituto del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irección de fiscalización electoral especializada en fiscalización y supervigila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inisterio de asuntos Indígenas y Consejo Nacional de Pueblos Indíge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F355-40BE-41D6-B7D3-BACA5203F4B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 Avanzar en el nuevo trato laboral: Las personas que trabajan para 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Definir política clara sobre vinculación laboral: plantas y contratas. Crear estatuto para contratas similar al Código del Trabaj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acilitar la jubilación de personal en edad de jubila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crear sistema de evaluaciones y de calificaciones y hacerlo operar eficazmen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ar rigidez de diversos estatutos especiales : docente,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a la formación y perfeccionamiento (pasantías, e-learning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1B9-335E-4628-9401-1BC897CAD0A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5490a8"/>
                </a:solidFill>
                <a:latin typeface="Arial"/>
              </a:rPr>
              <a:t>4. 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Fortalecer la capacidad </a:t>
            </a:r>
            <a:r>
              <a:rPr b="1" i="1" lang="es-ES_tradnl" sz="2800" spc="-1" strike="noStrike">
                <a:solidFill>
                  <a:srgbClr val="003399"/>
                </a:solidFill>
                <a:latin typeface="Arial"/>
              </a:rPr>
              <a:t>institucional para dirigir mejor: fortalecimiento del poder ejecutivo.</a:t>
            </a:r>
            <a:r>
              <a:rPr b="1" i="1" lang="es-ES_tradnl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332000" y="2924280"/>
            <a:ext cx="748800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central de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Completar donde falte la diferenciación institucional: formulación de políticas, ejecución, regulación y fiscalizació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Actualización marco jurídico ministerial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en temas transversal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5504-94F4-47C8-8FCC-DCF30620643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 Definir una interpretación clara sobre la descentralización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4804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Fortalecimiento y modernización de gobiern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política sobre creación de Servici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soc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nfraestructura y transporte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productiv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lanificación regional y ordenamiento territo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Modernización municipal. Evaluar el modelo actual, proponer ajustes y definir plan de acción de mediano plaz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cambios en modelo político de la 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2B8-02C1-482C-94E0-CAF8766544D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6. Completar la reforma a la justicia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reación tribunales de lo contencioso administrativ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Modernización Judicatura Civil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onar adecuadamente reformas en implementación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cesal pe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amil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baj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pet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ibutar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330-BA1D-49CA-A2E6-0D066EF0BF4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7. Perfeccionar la institucionalidad y las capacidades regulatorias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ortalecimiento entes reguladores actualmente estableci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el modelo de autonomía de entes regulad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942-075E-495C-AC96-A11D5A63A3D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Comité Interministerial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1994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Recursos human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centivos vinculados a calidad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puesta de sistema de gerencia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ejoras en capaci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alidad de servicio y participación ciudadan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Simplificación de trámit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artas de derechos ciudadan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nacional a la calidad de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a la innovación en gest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C09D-F756-49B9-8BC9-FDEB6E6D1B6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8. Mantener y perfeccionar avances logrados en la gestión pública.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uevas tecnologías: permanente ajuste y actualización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vanzar en la interoperabilida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istema decisional: ley de procedimientos hecha proces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gestión. Evaluar herramientas actuales, simplificarlas y hacerlas más releva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Buenas prácticas en gestión: recopilación y aprendizajes a partir de el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B10-D309-44DB-81C0-28ED4A2BACE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9. Instalar en forma real la 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corporación legal de los ciudadanos en procesos decision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tualizar instructivo sobre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los sistema de información sobre la acción estatal: nuevo impulso a las OIR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instalar las cartas de derechos ciudadanos en los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4152-6554-4885-A7A2-35F8B1E1217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10.  Completar la agenda de probidad y 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La ética como sustento de la participación en el servicio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diseño de los sistemas de contro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solver los conflictos de interés de altos funcionarios de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2DD1-5E5D-446E-9EE7-885C692C8EF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 El Consorcio para la Reforma del Estado.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La meta: un Estado de clase mundial al servicio de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ociedad chilena tiene nuevos desafíos y mayores aspir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Ciudadanos le exigen al estado calidad y diversidad de servic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mpresas requieren relacionarse de nuevas formas con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ís debe adaptarse a la globaliz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i bien hay avances en el tipo de estado, es insuficiente para enfrentar el futu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9526-C96F-4505-A94C-62319F02E62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stado presenta estructuras anticuadas; la gestión de políticas públicas es ineficiente; crecimiento ha sido inorgánico; hay malas prác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vanzar al desarrollo se requiere reformas institucionales que mejoren eficiencia y eficacia en la gestión; diseño de políticas públicas que respondan a necesidades de personas; transformaciones que ejecuten de forma coherente; se debe asegurar flexibilidad al aparato estat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Reformas como las planteadas permitirían aumentar el ingreso por habitante, mejorar la equidad y la protección social, y ofrecer mejores oportunidades a todos los chile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C8C2-A2BC-41EA-ACB0-B9C02658E56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iderazgo integrador y eficaz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que ayude a superar la fragmentación del estado chileno; que facilite el ejercicio de las facultades presidenciales; que separe las tareas de estado de las de un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ra producir los impactos esperados la ejecución debe estar coordinadas y orientadas a los resultados; debe existir buena coordinación intersectorial; se debe contar con mayor flexibilidad organizacional; mejorar proceso de diseño, presupuesto, ejecución y evaluación de polí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B67D-F02E-4BBE-8B26-3E09518A0F8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ersonas - profesionalizar 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carrera profesional de servicio público que privilegie el mérito; instaurar la movilidad horizontal entre servicios; expandir la selección de directivos a nuevas área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os ciudadanos como protagonist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ben ser el centro de la acción estatal; crear espacios de opinión, elección y participación; profundizar transparencia en gestión pública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la primera línea d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a nivel municipal entrega de servicios públicos; fortalecer capacidades municipales y flexibilizar estructu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9E92-0C89-4AB5-AE5D-25A61E55927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iderazgo integrador y eficaz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Separar la definición de políticas de su ejecución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vitar conflictos de interés cuando en una institución se ejercen simultáneamente roles de juez, fiscalizador y evaluador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ción de políticas corresponde al Presidente y su Gabinete; ejecución debe recaer en unidades permanentes del estado. *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Se deben profesionalizar entidades ejecutoras, se debe revisar dependencias institucionales, descentralización ayuda en este proceso, mejorar instrumentos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jorar herramientas al servicio del Presidente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El centro de gobierno presta servicio directo al Presidente; proponen crear “Oficina de la Presidencia” fusionando Segpres y Segegob; coordinar políticas intersectoriales vía Consejos de Minist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5975-FE90-4ED5-9D89-8358D9547FB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strategia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 deben expresarse en metas con indicadores para medir impactos. Estrategias requieren mantener integralidad de las políticas (diversas instituciones deben operar con mismas directrices); funciones de diseño, ejecución, fiscalización y evaluación deben evitar conflictos de interes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Contratos de ejecución de políticas transversale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. Ministros son responsables políticos de políticas transversales, deben contratar ejecución de productos asociados a metas estratégicas con agencias públicas o empresas privadas, esto introduce incentivos para mejorar calidad y eficiencia. Potenciales descoordinaciones deben resolverse por Oficina del Presidente. Esto evita crear nuevas instituciones por nuevos problem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F75-917F-4DDA-AC61-5E4948B65FF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venios de desempeño de los servicios públicos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linear gestión de servicios públicos con estrategia gubernamental se deben firmar convenios de desempeño, para evaluar resultados y definir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unción de las Subsecretarí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eparar equipo político de Ministros ( Jefe de Gabinete y asesores) de Subsecretario que debe administrar ministerio y programas no adscritos a servicios; no debe subrogar a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ceso presupuestari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istema presupuestario debe contemplar gestión anual y planificación plurianual. Debe valorar servicios prestados, imputar activos y facilitar transparencia y eficiencia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ECF6-20E5-42AB-9D4C-02DEE03DCFB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yecto de compras públicas ví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Ley de probidad administrativ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nsejo de Auditoría Interna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Oficinas de información y reclam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ortal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Gestión estratég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 de evaluación de proyectos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es piloto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CEA1-23FF-4084-ADA4-F8B2481CFF7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valuación de la acción del estado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Al alero de una planificación estratégica del estado, se debe integrar los sistemas de evaluación y gestión existentes. Promover información integrada que permita el control y evaluación de resultados. Esto debe complementarse con una Agencia de Calidad de las Políticas Públicas, independiente, que mida el impacto de políticas, velando por su c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trol de legalidad y auditor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sar del control exante al control expost, que Contraloría defina y aplique sanciones. Crear sistema judicial administrativo, mecanismos de resolución de contenciosos administrativos. Fortalecer la auditoria intern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2F3D-889B-48CB-89EE-B9179FB5308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.2.  El Consorcio para la Reforma del Estado.  9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Mejorar procesos de selección, evaluación y movilidad; establecer movilidad horizontal entre diversas instituciones del estado de todo nive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Nuevo contrato de carácter indefinido y que accede al seguro de desempleo como sistema de ingreso; no habrá nuevas incorporaciones a actuales plantas; honorarios sólo para labores tempora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FFD-EDDD-48F7-9FA8-8ACAA3781EC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9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implificar sistema de grados y crear bandas de remuneraciones; mejorar sistemas de evaluaciones individuales y grupales; comités de calificaciones con supervisión externa; incentivos de remuneraciones en función de indicadores de calidad de aten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 Mejorar formación y capacit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Instaurar relaciones laborales modernas, con mecanismo descentralizado de negociación reglada y con arbitraje forzoso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4CAB-9BAE-426B-B2F5-D0AC8A3BFD0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0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fundizar el Sistema de Alta Dirección Pública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xpandir el sistema a los servicios nacionales no incorporados, a los gobiernos regionales (directivos de Gores y jefes de servicios regionales) y municipales (administradores municipales y jefes de programas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Seleccionar a Subsecretarios por el SADP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Descentralizar gestión del personal entregando a directivos mayor capacidad de decisiones autónom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Servicio Civil y crear Consejo de Personal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arle autonomía al Consejo y transformar el Servicio Civil en servicio autónom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23E8-5231-48BF-85AE-A37E427C23E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os ciudadanos como protagonistas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rofundizar la transparencia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Evitar costos y riesgos de intervención y captura del estado por intereses particulares, facilitando el control ciudadano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Implementar adecuadamente Ley de Acceso a la Información y Consejo para la Transparencia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r claramente funciones y atribuciones de instituciones y hacerlas conocidas por la ciudadan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canismos de participación efectivo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Participación ciudadana en diseño de políticas, en control de la acción pública y en empoderamiento frente a result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stablecer documentos de consulta de políticas y permitir que ciudadanos exijan mejores servic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C877-C05A-4B8D-9A3B-CEEB85C633B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Servicios públicos en torno al ciudadano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Rediseñar servicios públicos en torno al ciudadano, agrupando la prestación de servicios en una sola entidad. Estado debe procesar en línea e internamente los requerimientos de ciudadan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Permite mayor cercanía del estado a las personas, para facilitar el escrutinio público, el recoger necesidades y preferenci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CCC-24A5-442B-8F38-026854CC83E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3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-335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el liderazgo local es requisito para un gobierno que responda a ciudadan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dotar a municipios de capacidad de decisión y de gestión en provisión de servicios e inversión loca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lograr correspondencia entre responsabilidades y atribuciones y capacidades y recurs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 mayor autonomía en organización interna y contratacion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E8B-A8DD-4FCA-81B3-57C8B01B0B2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Perfeccionar mecanismos de rendición de cuentas. Instituciones nacionales deberán contratar ejecución de servicios a municipios bajo estándares predefinidos y exigib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Traspasar la responsabilidad en temas urbanos a municipios. Entregar recursos en forma directa a municipios sin pasar por el FNDR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le a municipios mayor autonomía en determinación de ingresos. * Perfeccionar política de aportes financieros a municip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C07-72CB-4C99-8308-04B805EBD19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Reforzar y empoderar a la primera línea del Estado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l rol de las regiones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res tiene rol relevante en coordinación y financiamiento de inversiones y en movilizar recursos priv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Nombramiento de directivos regiones por el SADP. *Instaurar mecanismos de presupuestos plurianuales y con flexibilidad para reasignacion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Mejorar evaluación de rentabilidad social de proyectos regional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Revisar convenios de programación para hacerlos coherentes con estrategias regionales de desarrollo. *Eliminar las actuales provincias y posibilitar la instalación de territorios con un coordinador territorial. Mantener nombramiento de intendentes por Presidente, previa consulta a la reg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8A7-3FBD-4C5D-843C-0594E209AEF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Una nueva forma de gobernar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esidente todo terreno 24/7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in al cuoteo polític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rvicio público al servicio de los ciudadanos y no de los partidos polít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impondrá el sentido de urgen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ol del Est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oveedor de bienes públ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te promotor de la innovación y el emprendimient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ilitador de la igualdad de oportunidade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egulador del merc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tor de protección de los más desmejorad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42E7-4FC0-49EB-8559-CB0AA2AD212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centralización e institucion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mpromisos de desconcentr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stitucionalidad reguladora de servicios de utilidad pública.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Nuevas tecnologí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4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 de acción en NTI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ocumento electrónico y firma digital en sector públic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tranet gubernamen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2E8-61E8-4DD2-A873-580C13D1AEB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oncertación no ha modernizado el estado para adecuarlo a los requerimientos del siglo XXI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eta es tener mejor estado, fuerte, eficiente y con sentido de urgencia. Rol de funcionarios públicos es fundamental, son ejemplo de servic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5 ejes para la moderniz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0C21-65F9-466C-96FB-7837C54D508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76920" indent="-37692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Mejorar la gestión de la administración superior del estado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l Ministerio de Desarrollo Soci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estructuración de Segegob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ortalecer rol coordinador de Segp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inistros coordinadores para abordar prioridades del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intendentes designados por Sistema de Alta Direc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gencia de Auditoría dependiente del Pdl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5339-F411-4E01-839E-7149CC11731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Contar con mejores servidore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cademia para formar a funcionar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Extensión de selección de Alta Dirección a niveles regionales y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ayor movilidad horizontal y el mérito para el ascens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de remuneración variable para funcionarios destac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Avanzar en transparencia y rendición de cuen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ACD-3005-4446-990B-75871885681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3. Mejorar la calidad de los servici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Perfeccionar el sistema de evaluación de proyect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rear la Agencia Autónoma de Evaluación de Políticas Públicas para evaluación expost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4. Potenciar la Contraloría General de la República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Mejorar control de legalidad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Supervisar buen uso de recursos y probidad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4F77-4245-4A06-ACF2-32E11B51C9F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5. Modernización de las empresas públic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Regirse por normas de sociedades anónimas abiert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Transformación del SEP en holding autónomo, con directorio representativo de todos los sectores del paí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ambios en gobiernos corporativos de empresas para asegurar autonomía del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337E-0366-4A84-9D1E-90CBF29000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corta :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talecimiento del centro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oordinación estratégica (Comités de Ministros y estructuración de estrategi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alidad de políticas públicas  (Coherencia de mérito, jurídico, programática y presupuestaria; coordinación sectores, Segpres, Dipres; análisis y gestión integrada de evaluación de polític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umplimiento de políticas públicas ( metas, acciones, plazos y responsables; gestión de cumplimiento de ejes  prioritarios –delivery unit-; seguimiento de cumplimiento ministe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D061-8B63-491A-9169-B4D4761EF22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de l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arrollo social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Seguridad Públic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ancia y adolecentes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irección del Trabaj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Adulto mayor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Áreas silvestres protegid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raestructura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Política indígen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novación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larga 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Alta Direcc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incentiv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gencia de calidad de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biernos corporativos de empres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Nuev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39B5-C7E2-42C1-AA75-204E1C8F89C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674A-14CE-4716-9624-E283E79F3D2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Lagos (2000-2006): reforma instituc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año 2000 se puso en marcha e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yecto de Reforma y Modernización del Est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con un enfoque global sobre transformaciones institucionales y de modernización de la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uerdos de enero de 2003: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Agenda de Modernización consensuada con la oposición revitalizó el proceso de reforma, permitiendo abordar cuestiones fundamentales del orden institucional del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EC5F-7AA2-4946-A8F2-069E52A9597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exto político y posibilidades de éxit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mplitud de la agenda y dificultades de implementación simultá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ituación económica del paí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iderazgo del proyecto de reform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forma institucional y limitaciones de sistema político presidencial – parlamentar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ón por obtener logros menores pero tangib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clusión: a los dos años se baja el perfil al PRYM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opta por desagregar implement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 opta por avanzar en lo pos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BD9-3F32-4318-8756-68C67BB9484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Mediados 2002 : acusaciones de corrupción en Ministerio de Transportes y Ministerio de Ob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Gobierno opta por clarificar acusa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desata crisis política grav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n centro de explicación de crisis está : </a:t>
            </a:r>
            <a:r>
              <a:rPr b="1" i="1" lang="es-MX" sz="2200" spc="-1" strike="noStrike" u="sng">
                <a:solidFill>
                  <a:srgbClr val="003399"/>
                </a:solidFill>
                <a:uFillTx/>
                <a:latin typeface="Arial"/>
              </a:rPr>
              <a:t>el mal funcionamiento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necesidad el mejorar gestión e institucionalidad pública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oportunidad el avanzar en la reforma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6-23T20:25:42Z</dcterms:modified>
  <cp:revision>1281</cp:revision>
  <dc:subject/>
  <dc:title>GESTION PUBLICA Y MODERNIZACION DEL ESTADO</dc:title>
</cp:coreProperties>
</file>