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19B1-1FDA-427A-A848-CD6DCE85E0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417F-ED67-4FF3-ABB2-22C9A7451DD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C267-FD51-4DEE-A8C5-F6DA0B4FA07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80A4-3EFA-46C2-B036-277E19DF22A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068A-3E22-430E-B50A-004F14F9151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44D5-F0D7-4E46-B1C0-27815363629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7958-703D-4886-8E49-4445E5E12DA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23EA-CB85-454F-8643-FA5BBAE483E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711-F61A-446B-8C99-2F7D5C7A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3D8-0CE6-4215-8B07-FEFC8027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6C0-31DE-400F-8141-D6E93683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118-E9C8-4555-A02B-CA972909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2385-54AA-465C-AC39-A227B06B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0EFD-BFEE-426F-8FCF-70142A94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9F43-BC11-4C10-B90C-28C78DD2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D8FB-AABB-4BA5-BDE1-27C555E1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8D3E-5BBF-43A7-BC49-3C33198F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E641-1E1F-4A9A-87C6-E4197EEB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1E50-95C8-4369-88F9-96602550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6D6-8932-49D4-900B-1D137F44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5355-F529-42C0-8B27-B9A5DBEC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AEF7-3DCC-48A9-9D11-5707CAC2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A7E7-7796-47A6-A3BD-3F7990CC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4BCF-23D7-459B-BC69-A9D50E0B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4D2A-5AF3-4EA4-BAB7-FE3A3D8E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6F8-4F4A-4FBF-A9BC-2FC0A697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A55-86C8-4008-8F34-85B3CF7B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FE4-C35C-45D5-AA97-FCD56500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226-266B-4993-8FFD-49C0386C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038-CB6B-484E-88F4-9A2A6D98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B02-8638-4A50-8562-05D0D4A0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BD3-73DA-457B-B4B0-AAF19763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8115-8A6C-4035-ADE8-8B96E7393FA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324C-DDA5-47F9-9E1D-ADEAEDEAFD1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ramitefacil.gov.cl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1613-A182-4585-8A74-C667F1058F6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136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2. La experiencia chilena en los últimos 20 años. </a:t>
            </a: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estado de la Reforma del Estad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33320" y="4581360"/>
            <a:ext cx="7655040" cy="13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2A37-D4C8-4615-8086-EBDBB6B02BD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Reformas de la institucionalidad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Nueva institucionalidad de salu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inisterio de Salud como órgano rector con Subsecretaría de Redes y Subsecretaría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uperintendencia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Autoridades regionales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Hospitales públicos autogestion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Nueva institucionalidad de la cultur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ejo Nacional de la Cultura presidido por Minist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ejos Regionales de la Cultura y las Art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mité Consultivo Nacional y diversos Fon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A66-6022-43A1-816A-AD59B195429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descentralizadora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Inversión pública de decisión regional del 57%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FNDR aumenta en 140% y Fondo Común Municipal en 68%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yecto de Reforma Constitucional para democratizar Core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yecto de creación de nuevas regione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Ley de casinos de beneficio municipal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Municipios se incorporan a Chilecompra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gramas de inversión regional: sanitaria, convenios de programación, electrificación rural, PMU, PMB, Profir, Profim, Cideze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1BB6-E82D-4082-BF50-6660754B1DA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Recurso humanos y Dirección Públic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reación de la Dirección Nacional del Servicio Civil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reación del Sistema de Alta Dirección Pública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Consejo de Alta Dirección Pública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Sistema de concursos y selección de directiv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Puesta en marcha del proceso de concursos y selección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Formación de altos directiv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arrera funcionaria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Concurso de cargos de tercer nivel directiv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Política de remuneraciones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Incentivos al desempeñ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Asignación para funciones crítica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Bonificación al retir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718C-B548-4CF7-8BE9-F5ED4B29CE1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Modernización en finanz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trol de gestión y presupuesto por resultad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ceso presupuestario e indicadores de desempeñ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valuación de programas e institu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Balances Integrales de gestión BGI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gramas de mejoramiento de gest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Transparencia fisc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gulación de gastos reserv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misión Mixta Permanente de Presupuest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ntrega de información por parte del ejecutiv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Implantación del SIGF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69C4-3FF3-4C8B-AAB1-85264500D79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Modernización en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ey de Bases de los Procedimientos Administrativ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Sistema de compr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arco normativo y plataforma electrónica para compr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Tribunal de Contratac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Gobierno electrónico y nuevas tecnologí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genda de gobierno electrón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tención a ciudadanos: Portal TrámiteFácil y trámites en líne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cceso a la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213B-FA4A-49ED-9D2B-9AABDB31C9B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6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Transparencia y derechos ciudad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Declaración de patrimonio de autoridade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Regulación del financiamiento de la polít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oyecto de lobby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Regulación de relación entre función pública a actividades privad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venciones internacionales contra la corrup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446C-7AE6-4479-8DBF-D90F7D0514E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7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sejo Ciudadano para el fortalecimiento de la 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lan de fortalecimiento de la 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ndo de iniciativas de la sociedad civi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ndo de capacitación de dirigentes soci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Instructivo Presidencial sobre participación ciudadan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oyecto de ley de asociaciones y participación en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MG de atención a usuari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0293-2B31-4034-BA97-79EB5A0EA24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B597-A752-4E94-A115-8976594E5D9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Nueva institucionalida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onsejo para la Competitividad y la Innova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Ministerio de Energí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égimen de gobierno corporativo para empresas privadas y nuevo estatuto de Codelc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ley de concesiones de OOPP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Ministerio de Medio Ambiente, transformación de Conama y Coremas, Servicio de Evaluación Ambiental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ed de Protección Soci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institucionalidad para reforma prevision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1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A7DA-4672-45F9-B61B-1E40E0D42C9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578A-E18C-409A-B68E-52FB4244208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Nueva institucionalida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institucionalidad del sector turismo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o diseño del Ministerio de Defensa, con creación de nuevas subsecretarí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eforma a la institucionalidad de la discapacidad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2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233D-483F-465A-82F3-F44E202FBD6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0080-01DE-4171-9D25-96A32322DED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Descentraliz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reación de fondos especiales de decisión regional ( Inversión para competitividad FIC; Inversión local FRIL)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Transferencia de competencias; creación de División de Planificación y Desarrollo Regional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Agencias Regionales de Desarroll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Elección directa de Consejeros regionale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Nuevas Regiones : Arica y Parinacota y Los Rio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Territorios especiales de Isla de Pascua y Juan Fernández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3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81EE-31A0-4445-AB5E-9F25E467E27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1. Gobierno del Presidente P.Aylwin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485720"/>
            <a:ext cx="80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Aylwin (1990-1994): transición a la democracia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3399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instituciones básicas para el desarrollo de políticas públicas prioritarias.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 Ejemplo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inisterio Secretaría General de la Presiden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itucionalidad social: Mujer y Familia, Indígenas, Solidaridad e Inversión Social, Juventud, Discapacitad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itucionalidad para la Cooper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dio Ambiente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47EF-6C00-4FE5-8B07-2ADAD2C404A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864E-B1B1-4A5A-AA5E-51A7796C2A1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Sector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Nueva ley general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onsejo Nacional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Agencia de Calidad de la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Superintendencia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Sistema nacional de competencias laborale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4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207B-178D-4FCE-8EE4-9F50BD2A3EF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A291-563D-4B77-9712-3EA7A9B77BD1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4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Tran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Ley de transparencia y acceso a la Información Públic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onsejo para la Tra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Introducción del principio de la “Transparencia activa”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5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A0F8-565A-4C69-8FED-06A3BEAE2F9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2D45-26A1-41E2-8238-8F9C77ABD0B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5. 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Derechos Human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reación del Instituto de los Derechos Hum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6. 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Modernización de gestión pública y recursos hum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Evaluación de programas públic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Fondo de modernización de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Gobierno electrónic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1375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Trebuchet MS"/>
              </a:rPr>
              <a:t>Portal de Trámites del estado. Chilecli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ódigo de Buenas Prácticas Laboral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Traspaso de personal de honorarios a contrat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6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8801-7E77-4B68-AB97-6E233526E1C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F754-A626-4ED1-82A9-20E0BAB51BF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7. </a:t>
            </a:r>
            <a:r>
              <a:rPr b="1" i="1" lang="es-MX" sz="2000" spc="-1" strike="noStrike">
                <a:solidFill>
                  <a:srgbClr val="ff9900"/>
                </a:solidFill>
                <a:latin typeface="Trebuchet MS"/>
              </a:rPr>
              <a:t>Participación ciudadan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Sistema integral de Atención a Ciudadanos SIAC (ex OIRS)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Agenda de participación ciudadana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170 Compromisos d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700 iniciativas d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Instructivo sobre participación ciudadana en la gestión pública. 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Nuevas formas de consulta ciudadana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ara la reforma prevision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residencial sobre la calidad en la educ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ara la educación superior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sobre el trabajo y la equidad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7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996F-6BB4-455B-B12D-A882B6ADA39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1. Adecuación de la institucionalidad a las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necesidades de un Estado Modern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0099cc"/>
                </a:solidFill>
                <a:uFillTx/>
                <a:latin typeface="Arial"/>
              </a:rPr>
              <a:t>Institucionalidad central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reación de instituciones básicas para el desarrollo de políticas públicas prioritari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rtalecimiento institucional políticas extrema pobrez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rreglos institucionales en sistema de control de calidad en la gest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organización Sistema de Empres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odernización judicial: procesal penal, trabajo, familia, competenci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diseño del sector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6900-EE8A-4779-9FF5-83D9CEF242D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Un Gobierno más cerca de las personas. La Descentraliza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Énfasis mayor en desconcentr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diseño de mecanismo de redistribución de recursos municip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ortalecimiento y modernización Gobiernos Reg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Descentralización ejecución programas soci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odernización financiamiento municip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odernización normas gestión administrativa y de recursos humanos en gobiernos loc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Nuevas Reg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8C5B-D1E7-4E13-BF8E-120233084BD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3. Facilitar la relación de las personas con 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201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Lo central son los “trámites”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mplificación de procedimientos administrativos establecida por ley.  Silencio administrativ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diseño de proce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ortal </a:t>
            </a:r>
            <a:r>
              <a:rPr b="0" lang="es-ES_tradnl" sz="2200" spc="-1" strike="noStrike" u="sng">
                <a:solidFill>
                  <a:srgbClr val="d88100"/>
                </a:solidFill>
                <a:uFillTx/>
                <a:latin typeface="Arial"/>
                <a:hlinkClick r:id="rId1"/>
              </a:rPr>
              <a:t>www.tramitefacil.gov.cl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s-ES_tradnl" sz="2200" spc="-1" strike="noStrike">
                <a:solidFill>
                  <a:srgbClr val="f4b144"/>
                </a:solidFill>
                <a:latin typeface="Arial"/>
              </a:rPr>
              <a:t>Chilecli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1.600 trámites en el Port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Número de trámites en línea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360 y 400 formulari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Implementación de documento, firma electrónicos y factura electrón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18D8-6697-4FBA-86C4-3F5BE8BE8A6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00000" y="1485720"/>
            <a:ext cx="80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i="1" lang="es-ES_tradnl" sz="2200" spc="-1" strike="noStrike">
                <a:solidFill>
                  <a:srgbClr val="0033cc"/>
                </a:solidFill>
                <a:latin typeface="Arial"/>
              </a:rPr>
              <a:t>n servicio público más eficiente y eficaz: mejoras en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mportantes avances en implantación de cultura orientada a resultados y al servicio de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strumentos de gestión de amplio uso: PMG, Balances de Gestión, Sigf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 evaluación de control de gestión financier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 Compras públicas vía Internet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ransparencia fisc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Gobierno electrónico en desarroll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4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62E4-B0B3-4BBE-BB57-B4C7976BA46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El desarrollo de las personas en </a:t>
            </a:r>
            <a:r>
              <a:rPr b="1" i="1" lang="es-ES_tradnl" sz="2200" spc="-1" strike="noStrike">
                <a:solidFill>
                  <a:srgbClr val="0033cc"/>
                </a:solidFill>
                <a:latin typeface="Arial"/>
              </a:rPr>
              <a:t>el sector públic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rofesionalización servicio público: concursos, mérito v/s antigüe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reación del Sistema Alta Direcc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reación Dirección Nacional del Servicio Civi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olidación legal normativa presupuestaria sobre gestión de person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scentralizado de formación de recursos huma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digo de Buenas Prácticas Labor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5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AC23-E0A6-42D4-9DA6-4F73F3298B1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6. </a:t>
            </a:r>
            <a:r>
              <a:rPr b="1" i="1" lang="es-CL" sz="2600" spc="-1" strike="noStrike">
                <a:solidFill>
                  <a:srgbClr val="0033cc"/>
                </a:solidFill>
                <a:latin typeface="Arial"/>
              </a:rPr>
              <a:t>Avances en </a:t>
            </a:r>
            <a:r>
              <a:rPr b="1" i="1" lang="es-ES_tradnl" sz="2600" spc="-1" strike="noStrike">
                <a:solidFill>
                  <a:srgbClr val="0033cc"/>
                </a:solidFill>
                <a:latin typeface="Arial"/>
              </a:rPr>
              <a:t>rol regulador del Estado. 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reducido el rol del estado de  productor directo de bienes y servici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n perfeccionado los marcos regulatorios de los servicios de utilidad pública, en normativa, fiscalización y sancion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definido sistemas regulatorios para las relaciones público – privados en áreas de interés público abiertas a la inversión privad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avanzado en modernizar el rol regulador del estado no sólo en la esfera productiva sino también en la soci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6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2667-4D75-4F52-8DF0-F3C01CAF37E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1. Gobierno del Presidente P.Aylwin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486080"/>
            <a:ext cx="80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esidente Aylwin (1990-1994): transición a la democraci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Inicio de procesos de modernización de gestión pública en grandes servicios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: Impuestos Internos, Tesorería, Fondo de Salud, Registro Civil, etc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Mejoramiento de condiciones de trabajo en el sector público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. Ejemplos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Incrementos salariale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Reconocimiento y formalización de asociaciones de funcionari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Democratización de los Gobiernos locales y regional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5B71-AB62-4676-B86E-BEF068B8149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7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Cuánto se está escuchando a las person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Establecimiento del Defensor Ciudadano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Comisión Asesora Presidencial para la Protección de los Derechos de las Person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forma Constitucional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en tramitación en el Congres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articipación Ciudadan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Sociedad Civil y Participación ciudadana en la gestión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proyecto de ley en el Parlamento; instructivo presidencial sobr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s de Información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1500 Oficinas de Información y Reclamos en todos los servicios públic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400 Sitios web gubernamental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7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7556-791B-4B9C-9049-A766748AEE7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8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Un estado más probo y transparente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inanciamiento de la polític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ansparencia en el financiamiento de la polític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gulación de publicidad y difusión programas público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gulación del lobby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Ley Transpare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stitucionalidad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royecto de Modernización Contralorí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erfeccionamiento fiscalización municip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derecho ciudadano a la información: Declaración de patrimoni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ética funcionaria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Código de Ét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Ley de Transparencia y Acceso a la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8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6D89-A14C-41A4-8AA2-283ACB9E4E9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 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500" spc="-1" strike="noStrike">
                <a:solidFill>
                  <a:srgbClr val="0033cc"/>
                </a:solidFill>
                <a:latin typeface="Arial"/>
              </a:rPr>
              <a:t>1</a:t>
            </a:r>
            <a:endParaRPr b="1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1.  Autoridad política.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99"/>
                </a:solidFill>
                <a:latin typeface="Arial"/>
              </a:rPr>
              <a:t>Avanzar en la reforma del estado tiene como requisito fundamental que exista una autoridad política encargada de esta tarea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99"/>
                </a:solidFill>
                <a:latin typeface="Arial"/>
              </a:rPr>
              <a:t>Esta autoridad debe tener rango ministerial (Subsecretario) y debe tener autoridad sobre todas las instituciones transversales responsables de procesos de modernizació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3D1D-024B-4D2F-9763-73D0358A140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2. Ordenar la agenda de modernizaciones de la institucionalidad 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- Las transformaciones institucionales deben priorizars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Se debe concordar cuales serán posibles de aprobar en este mandato presidencial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Modernización de la Cancillería. Subsecretario de Comercio Exterior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Ministerio de la Agricultura y la Aliment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Subsecretaría de Seguridad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Autoridad Metropolitana Central de Transporte Público de Pasajer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La institución del Defensor Ciudadan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71D9-8CA7-477F-95B1-86FA8CE6ED7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2.  Ordenar la agenda de modernizaciones de la institucionalidad.  (2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Agencia para la Calidad de las Polític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Instituto del Patrimoni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Dirección de fiscalización electoral especializada en fiscalización y supervigila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Ministerio de asuntos Indígenas y Consejo Nacional de Pueblos Indígen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4834-C531-49D6-86E9-40690EDD371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 Avanzar en el nuevo trato laboral: Las personas que trabajan para 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Definir política clara sobre vinculación laboral: plantas y contratas. Crear estatuto para contratas similar al Código del Trabaj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Facilitar la jubilación de personal en edad de jubila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Recrear sistema de evaluaciones y de calificaciones y hacerlo operar eficazmen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uperar rigidez de diversos estatutos especiales : docente, municip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Incentivos a la formación y perfeccionamiento (pasantías, e-learning)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6CB6-F6DF-4E6D-8A57-2C4BD2EBB34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5490a8"/>
                </a:solidFill>
                <a:latin typeface="Arial"/>
              </a:rPr>
              <a:t>4. </a:t>
            </a: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Fortalecer la capacidad </a:t>
            </a:r>
            <a:r>
              <a:rPr b="1" i="1" lang="es-ES_tradnl" sz="2800" spc="-1" strike="noStrike">
                <a:solidFill>
                  <a:srgbClr val="003399"/>
                </a:solidFill>
                <a:latin typeface="Arial"/>
              </a:rPr>
              <a:t>institucional para dirigir mejor: fortalecimiento del poder ejecutivo.</a:t>
            </a:r>
            <a:r>
              <a:rPr b="1" i="1" lang="es-ES_tradnl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332000" y="2924280"/>
            <a:ext cx="7488000" cy="36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Mejorar la coordinación central de gobierno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Completar donde falte la diferenciación institucional: formulación de políticas, ejecución, regulación y fiscalizació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Actualización marco jurídico ministerial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Mejorar la coordinación en temas transversale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0E6B-0B83-462B-A643-212B6644C64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 Definir una interpretación clara sobre la descentralización</a:t>
            </a:r>
            <a:r>
              <a:rPr b="0" i="1" lang="es-MX" sz="24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4804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Verdana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Fortalecimiento y modernización de gobiernos region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finir política sobre creación de Servicios region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Desarrollo soc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Infraestructura y transporte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Desarrollo productiv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lanificación regional y ordenamiento territor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Modernización municipal. Evaluar el modelo actual, proponer ajustes y definir plan de acción de mediano plaz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finir cambios en modelo político de la descentraliz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0521-1FF3-4FCA-B6FA-A9A1ECE9475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6. Completar la reforma a la justicia</a:t>
            </a:r>
            <a:r>
              <a:rPr b="0" i="1" lang="es-MX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reación tribunales de lo contencioso administrativ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Modernización Judicatura Civil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Gestionar adecuadamente reformas en implementación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rocesal pen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amil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abaj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Compete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ibutar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7EE5-7E70-4DEA-A07A-EC75AE03513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7. Perfeccionar la institucionalidad y las capacidades regulatorias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1337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Verdana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Fortalecimiento entes reguladores actualmente estableci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feccionar el modelo de autonomía de entes regulado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D5C8-EE3B-4B06-ADB2-401BC87485E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99"/>
              </a:solidFill>
              <a:latin typeface="Verdana"/>
            </a:endParaRPr>
          </a:p>
          <a:p>
            <a:pPr marL="35784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Comité Interministerial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1994)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Recursos human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centivos vinculados a calidad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puesta de sistema de gerencia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Mejoras en capacit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alidad de servicio y participación ciudadana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Simplificación de trámit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artas de derechos ciudadan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emio nacional a la calidad de servicios públic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emio a la innovación en gestión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F6BD-2E8A-42D6-B3F6-10F894C1CC7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8. Mantener y perfeccionar avances logrados en la gestión pública.</a:t>
            </a: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Nuevas tecnologías: permanente ajuste y actualización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.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vanzar en la interoperabilidad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istema decisional: ley de procedimientos hecha proces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trol de gestión. Evaluar herramientas actuales, simplificarlas y hacerlas más releva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Buenas prácticas en gestión: recopilación y aprendizajes a partir de ell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3DE0-571E-479B-9FDA-B2152D60776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9. Instalar en forma real la 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1337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Verdana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Incorporación legal de los ciudadanos en procesos decision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ctualizar instructivo sobre 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feccionar los sistema de información sobre la acción estatal: nuevo impulso a las OIR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instalar las cartas de derechos ciudadanos en los servic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BD4D-0175-4A74-AC24-3A91227EECB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11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10.  Completar la agenda de probidad y tran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La ética como sustento de la participación en el servicio públ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Rediseño de los sistemas de contro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Resolver los conflictos de interés de altos funcionarios de gobiern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E8EF-44A9-44BC-AD78-2E9FA221461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 El Consorcio para la Reforma del Estado.  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La meta: un Estado de clase mundial al servicio de las person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ntecedentes a considerar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Sociedad chilena tiene nuevos desafíos y mayores aspir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Ciudadanos le exigen al estado calidad y diversidad de servic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mpresas requieren relacionarse de nuevas formas con el estad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ís debe adaptarse a la globaliz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Si bien hay avances en el tipo de estado, es insuficiente para enfrentar el futu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FC76-41BF-4DFA-A3F0-D3D86D8E724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ntecedentes a considerar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stado presenta estructuras anticuadas; la gestión de políticas públicas es ineficiente; crecimiento ha sido inorgánico; hay malas prác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ra avanzar al desarrollo se requiere reformas institucionales que mejoren eficiencia y eficacia en la gestión; diseño de políticas públicas que respondan a necesidades de personas; transformaciones que ejecuten de forma coherente; se debe asegurar flexibilidad al aparato estat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Reformas como las planteadas permitirían aumentar el ingreso por habitante, mejorar la equidad y la protección social, y ofrecer mejores oportunidades a todos los chile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8AE5-A8A5-420D-9142-B2EBC853699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da de reformas propuesta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550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Liderazgo integrador y eficaz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que ayude a superar la fragmentación del estado chileno; que facilite el ejercicio de las facultades presidenciales; que separe las tareas de estado de las de un gobiern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550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para producir los impactos esperados la ejecución debe estar coordinadas y orientadas a los resultados; debe existir buena coordinación intersectorial; se debe contar con mayor flexibilidad organizacional; mejorar proceso de diseño, presupuesto, ejecución y evaluación de polí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9F7E-5431-422A-93A9-572C1181A9E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da de reformas propuesta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ersonas - profesionalizar el estad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sarrollar carrera profesional de servicio público que privilegie el mérito; instaurar la movilidad horizontal entre servicios; expandir la selección de directivos a nuevas áreas instituc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Los ciudadanos como protagonistas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ben ser el centro de la acción estatal; crear espacios de opinión, elección y participación; profundizar transparencia en gestión pública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ortalecer la primera línea del estad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sarrollar a nivel municipal entrega de servicios públicos; fortalecer capacidades municipales y flexibilizar estructur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42F0-8566-4216-A979-B156301F3B1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Liderazgo integrador y eficaz.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Separar la definición de políticas de su ejecución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Evitar conflictos de interés cuando en una institución se ejercen simultáneamente roles de juez, fiscalizador y evaluador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Definición de políticas corresponde al Presidente y su Gabinete; ejecución debe recaer en unidades permanentes del estado. *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Se deben profesionalizar entidades ejecutoras, se debe revisar dependencias institucionales, descentralización ayuda en este proceso, mejorar instrumentos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Mejorar herramientas al servicio del Presidente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El centro de gobierno presta servicio directo al Presidente; proponen crear “Oficina de la Presidencia” fusionando Segpres y Segegob; coordinar políticas intersectoriales vía Consejos de Ministr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244C-DEE7-45DB-AFA9-F1F573DA177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6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Estrategia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 deben expresarse en metas con indicadores para medir impactos. Estrategias requieren mantener integralidad de las políticas (diversas instituciones deben operar con mismas directrices); funciones de diseño, ejecución, fiscalización y evaluación deben evitar conflictos de interes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Contratos de ejecución de políticas transversale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. Ministros son responsables políticos de políticas transversales, deben contratar ejecución de productos asociados a metas estratégicas con agencias públicas o empresas privadas, esto introduce incentivos para mejorar calidad y eficiencia. Potenciales descoordinaciones deben resolverse por Oficina del Presidente. Esto evita crear nuevas instituciones por nuevos problem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ABFF-0210-4E61-A1BA-FB4A4A54E9C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7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Convenios de desempeño de los servicios públicos: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ra alinear gestión de servicios públicos con estrategia gubernamental se deben firmar convenios de desempeño, para evaluar resultados y definir incenti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unción de las Subsecretarías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Separar equipo político de Ministros ( Jefe de Gabinete y asesores) de Subsecretario que debe administrar ministerio y programas no adscritos a servicios; no debe subrogar a Minist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roceso presupuestari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Sistema presupuestario debe contemplar gestión anual y planificación plurianual. Debe valorar servicios prestados, imputar activos y facilitar transparencia y eficiencia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5C77-E543-4C55-ABFD-22E14B37E47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marL="35784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yecto de compras públicas vía electrón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Ley de probidad administrativ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onsejo de Auditoría Interna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Oficinas de información y reclam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ortal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Gestión estratég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gramas de mejoramiento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grama de evaluación de proyectos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lanes pilotos de mejoramiento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4A67-D061-4B50-A4E3-CEDC50D3CF8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8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Evaluación de la acción del estado: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Al alero de una planificación estratégica del estado, se debe integrar los sistemas de evaluación y gestión existentes. Promover información integrada que permita el control y evaluación de resultados. Esto debe complementarse con una Agencia de Calidad de las Políticas Públicas, independiente, que mida el impacto de políticas, velando por su cali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Control de legalidad y auditoria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Pasar del control exante al control expost, que Contraloría defina y aplique sanciones. Crear sistema judicial administrativo, mecanismos de resolución de contenciosos administrativos. Fortalecer la auditoria intern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E38A-692A-41EE-9539-3974B94C768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.2.  El Consorcio para la Reforma del Estado.  9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Una carrera funcionaria de excelencia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Mejorar procesos de selección, evaluación y movilidad; establecer movilidad horizontal entre diversas instituciones del estado de todo nivel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Nuevo contrato de carácter indefinido y que accede al seguro de desempleo como sistema de ingreso; no habrá nuevas incorporaciones a actuales plantas; honorarios sólo para labores temporal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952E-E6DA-4029-A827-5486262D0DB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9i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Una carrera funcionaria de excelencia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* 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implificar sistema de grados y crear bandas de remuneraciones; mejorar sistemas de evaluaciones individuales y grupales; comités de calificaciones con supervisión externa; incentivos de remuneraciones en función de indicadores de calidad de aten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 Mejorar formación y capacita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Instaurar relaciones laborales modernas, con mecanismo descentralizado de negociación reglada y con arbitraje forzoso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01E0-86D9-438B-A607-55A424CBC16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0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rofundizar el Sistema de Alta Dirección Pública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*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xpandir el sistema a los servicios nacionales no incorporados, a los gobiernos regionales (directivos de Gores y jefes de servicios regionales) y municipales (administradores municipales y jefes de programas)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* Seleccionar a Subsecretarios por el SADP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* Descentralizar gestión del personal entregando a directivos mayor capacidad de decisiones autónom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ortalecer Servicio Civil y crear Consejo de Personal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arle autonomía al Consejo y transformar el Servicio Civil en servicio autónom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B7F6-5D67-4F8C-BE0D-C2EB7E669F1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Los ciudadanos como protagonistas.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Profundizar la transparencia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Evitar costos y riesgos de intervención y captura del estado por intereses particulares, facilitando el control ciudadano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Implementar adecuadamente Ley de Acceso a la Información y Consejo para la Transparencia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Definir claramente funciones y atribuciones de instituciones y hacerlas conocidas por la ciudadaní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Mecanismos de participación efectivo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Participación ciudadana en diseño de políticas, en control de la acción pública y en empoderamiento frente a resultado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Establecer documentos de consulta de políticas y permitir que ciudadanos exijan mejores servici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6516-6BE2-4CCC-846A-468EBD182FC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Servicios públicos en torno al ciudadano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: Rediseñar servicios públicos en torno al ciudadano, agrupando la prestación de servicios en una sola entidad. Estado debe procesar en línea e internamente los requerimientos de ciudadan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: Permite mayor cercanía del estado a las personas, para facilitar el escrutinio público, el recoger necesidades y preferenci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31F8-820F-41C2-8267-E05CEECA4D5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3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-335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Fortalecer el gobierno local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: el liderazgo local es requisito para un gobierno que responda a ciudadan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Se debe dotar a municipios de capacidad de decisión y de gestión en provisión de servicios e inversión local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Se debe lograr correspondencia entre responsabilidades y atribuciones y capacidades y recurs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Dar mayor autonomía en organización interna y contratacion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92AE-1DE2-45F3-87D9-58D61EEA115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Fortalecer el gobierno local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Perfeccionar mecanismos de rendición de cuentas. Instituciones nacionales deberán contratar ejecución de servicios a municipios bajo estándares predefinidos y exigibl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Traspasar la responsabilidad en temas urbanos a municipios. Entregar recursos en forma directa a municipios sin pasar por el FNDR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Darle a municipios mayor autonomía en determinación de ingresos. * Perfeccionar política de aportes financieros a municipi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F55A-9362-49E4-B3A6-21707F91E3E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Reforzar y empoderar a la primera línea del Estado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El rol de las regiones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Gores tiene rol relevante en coordinación y financiamiento de inversiones y en movilizar recursos privado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Nombramiento de directivos regiones por el SADP. *Instaurar mecanismos de presupuestos plurianuales y con flexibilidad para reasignacione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Mejorar evaluación de rentabilidad social de proyectos regionale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Revisar convenios de programación para hacerlos coherentes con estrategias regionales de desarrollo. *Eliminar las actuales provincias y posibilitar la instalación de territorios con un coordinador territorial. Mantener nombramiento de intendentes por Presidente, previa consulta a la reg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55CD-BFB3-4C87-96AA-4974CBAF8A2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Una nueva forma de gobernar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residente todo terreno 24/7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in al cuoteo polític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rvicio público al servicio de los ciudadanos y no de los partidos político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 impondrá el sentido de urgencia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Rol del Estad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roveedor de bienes público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te promotor de la innovación y el emprendimient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acilitador de la igualdad de oportunidade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regulador del mercad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actor de protección de los más desmejorad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175B-0117-4517-A615-97FA46E3E9B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escentralización e institucionali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ompromisos de desconcentr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stitucionalidad reguladora de servicios de utilidad pública.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Nuevas tecnologías de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4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lan de acción en NTI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Documento electrónico y firma digital en sector públic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tranet gubernament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5617-F0CD-47E4-AA30-BA405D112BE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oncertación no ha modernizado el estado para adecuarlo a los requerimientos del siglo XXI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eta es tener mejor estado, fuerte, eficiente y con sentido de urgencia. Rol de funcionarios públicos es fundamental, son ejemplo de servici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5 ejes para la modernizac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834E-4826-4E7C-A4B2-C172CDCFF9B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76920" indent="-37692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Mejorar la gestión de la administración superior del estado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l Ministerio de Desarrollo Soci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Reestructuración de Segegob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Fortalecer rol coordinador de Segp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inistros coordinadores para abordar prioridades del gobiern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uperintendentes designados por Sistema de Alta Direc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 Agencia de Auditoría dependiente del Pdl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E0A4-88FF-48FE-87F0-CE7AD534C4F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Contar con mejores servidore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 Academia para formar a funcionar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Extensión de selección de Alta Dirección a niveles regionales y municip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ayor movilidad horizontal y el mérito para el ascens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Incentivos de remuneración variable para funcionarios destaca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Avanzar en transparencia y rendición de cuent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D6DD-B017-49BF-8858-13148796E89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3. Mejorar la calidad de los servicios públic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Perfeccionar el sistema de evaluación de proyectos públic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Crear la Agencia Autónoma de Evaluación de Políticas Públicas para evaluación expost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4. Potenciar la Contraloría General de la República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Mejorar control de legalidad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Supervisar buen uso de recursos y probidad.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6B4D-A5B9-49E5-A045-14E3D276418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6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5. Modernización de las empresas públic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Regirse por normas de sociedades anónimas abiert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Transformación del SEP en holding autónomo, con directorio representativo de todos los sectores del paí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Cambios en gobiernos corporativos de empresas para asegurar autonomía del gobierno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1EBE-F792-4308-BF98-7738084410F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7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98720" y="1499760"/>
            <a:ext cx="8045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de Modernización. Junio 2010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corta :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Fortalecimiento del centro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oordinación estratégica (Comités de Ministros y estructuración de estrategia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alidad de políticas públicas  (Coherencia de mérito, jurídico, programática y presupuestaria; coordinación sectores, Segpres, Dipres; análisis y gestión integrada de evaluación de política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umplimiento de políticas públicas ( metas, acciones, plazos y responsables; gestión de cumplimiento de ejes  prioritarios –delivery unit-; seguimiento de cumplimiento minister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CACF-25FC-46F7-BF46-D926E39A44E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8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98720" y="1499760"/>
            <a:ext cx="8045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de Modernización. Junio 2010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de la institucionalidad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esarrollo social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Seguridad Públic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fancia y adolecentes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irección del Trabaj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Adulto mayor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Áreas silvestres protegid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fraestructura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Política indígen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novación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57840" indent="-3578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larga 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Alta Dirección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incentiv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Agencia de calidad de polític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Gobiernos corporativos de empres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Nueva institucionalidad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EB29-81CA-40AE-B1B2-F2A7B3EE5F8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136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2. La experiencia chilena en los últimos 20 años. </a:t>
            </a: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estado de la Reforma del Estad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33320" y="4581360"/>
            <a:ext cx="7655040" cy="13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C9B2-302F-4F00-94F7-8079C53DFF0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Lagos (2000-2006): reforma institucion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l año 2000 se puso en marcha el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oyecto de Reforma y Modernización del Estad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con un enfoque global sobre transformaciones institucionales y de modernización de la gest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cuerdos de enero de 2003: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Agenda de Modernización consensuada con la oposición revitalizó el proceso de reforma, permitiendo abordar cuestiones fundamentales del orden institucional del Gobiern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B369-092B-4EEE-AB24-9A31B13E2D7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texto político y posibilidades de éxit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mplitud de la agenda y dificultades de implementación simultáne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ituación económica del paí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iderazgo del proyecto de reform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forma institucional y limitaciones de sistema político presidencial – parlamentari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Opción por obtener logros menores pero tangib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clusión: a los dos años se baja el perfil al PRYM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e opta por desagregar implement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e  opta por avanzar en lo pos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8A9A-73C7-40EE-8B6C-0E9D02A7FF6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Mediados 2002 : acusaciones de corrupción en Ministerio de Transportes y Ministerio de Obr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Gobierno opta por clarificar acusacion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 desata crisis política grav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n centro de explicación de crisis está : </a:t>
            </a:r>
            <a:r>
              <a:rPr b="1" i="1" lang="es-MX" sz="2200" spc="-1" strike="noStrike" u="sng">
                <a:solidFill>
                  <a:srgbClr val="003399"/>
                </a:solidFill>
                <a:uFillTx/>
                <a:latin typeface="Arial"/>
              </a:rPr>
              <a:t>el mal funcionamiento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parece como necesidad el mejorar gestión e institucionalidad pública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parece como oportunidad el avanzar en la reforma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21:03:08Z</dcterms:created>
  <dc:creator>Rodrigo Egaña</dc:creator>
  <dc:description/>
  <dc:language>en-US</dc:language>
  <cp:lastModifiedBy>..</cp:lastModifiedBy>
  <cp:lastPrinted>2003-02-05T21:45:17Z</cp:lastPrinted>
  <dcterms:modified xsi:type="dcterms:W3CDTF">2010-06-23T20:25:42Z</dcterms:modified>
  <cp:revision>1281</cp:revision>
  <dc:subject/>
  <dc:title>GESTION PUBLICA Y MODERNIZACION DEL ESTADO</dc:title>
</cp:coreProperties>
</file>