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33B5-F800-489A-8148-179CA09E4A6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A546-07D1-4AEF-BDDB-A028D495813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CF3A-FA9F-41EA-97E9-75A74982BB9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0578-1E8F-4D21-95AE-E3B4716C11F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7931-677E-43E1-A309-8F0B48DE2E5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156F-F42B-4BCB-8A23-1E3739ED894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A28C-7C73-4C65-8514-C808CD3FBBC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4439-15BD-43A7-8420-163DA038165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62A-B9C3-4A11-A18B-0D99EFBC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945E-66D3-4DB6-AA82-5B383493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6D2-72C3-4500-BC77-3DFB3915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016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068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016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068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7E2-3EF8-462A-93CB-46BEA69F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C162-B6A3-4456-97C0-1B207069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2734-FF64-4D12-93C2-D53BE988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9A79-0AEF-4F64-9A5D-0232BF8B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F64B-65E6-4909-B7A8-B632F6F3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9525-D1CC-4D23-8A13-DBDE555F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0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C3F3-B03E-4295-8058-DD61A019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7ADB-B125-461A-B3B1-2F12400D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722-9FEF-4203-8569-67BEF95C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DB1B-6511-4F5F-8D8B-E8DB6E57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C0A0-E5A0-4AC9-9AB6-2821B8A6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445A-8E0E-492D-804B-65CD7FAA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508B-892B-4397-BD74-6C388B13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016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4068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964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016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4068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7BDB-7343-4C7B-92CE-4559371D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088-6E07-40A9-A60E-EF814206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5D4-C474-45D9-BDD9-8AA3092C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3E72-7C38-496A-8E3D-03353811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0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9B9D-BD5B-4FD6-9DB9-0CFCC504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B5C0-E81B-4AB2-B835-8E470881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8382-63F1-432A-8283-0DA5FDD3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681-0AFB-4A99-9A8E-92189679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981080" indent="-36180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spcBef>
                <a:spcPts val="55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E6C9-ED06-4ECC-99A7-9FE821295893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981080" indent="-36180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spcBef>
                <a:spcPts val="55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5C7F-D950-41D4-B185-67DC98A237BE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ramitefacil.gov.cl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9012-84C1-4144-9CEE-DB5F8E48099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136000" cy="172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2. La experiencia chilena en los últimos 20 años. </a:t>
            </a: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El estado de la Reforma del Estado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33320" y="4581360"/>
            <a:ext cx="7655040" cy="136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2010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5800-F0DC-4D74-BA9E-FD4526AE5ED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Reformas de la institucionalidad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Nueva institucionalidad de salud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Ministerio de Salud como órgano rector con Subsecretaría de Redes y Subsecretaría de Salu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uperintendencia de Salu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Autoridades regionales de salu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Hospitales públicos autogestion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Nueva institucionalidad de la cultur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onsejo Nacional de la Cultura presidido por Ministr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onsejos Regionales de la Cultura y las Art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omité Consultivo Nacional y diversos Fon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511B-1401-429E-801C-0C75ACDADAB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Reformas descentralizadoras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Inversión pública de decisión regional del 57%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FNDR aumenta en 140% y Fondo Común Municipal en 68%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Proyecto de Reforma Constitucional para democratizar Cores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Proyecto de creación de nuevas regiones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Ley de casinos de beneficio municipal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Municipios se incorporan a Chilecompras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Programas de inversión regional: sanitaria, convenios de programación, electrificación rural, PMU, PMB, Profir, Profim, Cideze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6A41-BCFC-4BB6-BB39-2F12D2D24D2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Recurso humanos y Dirección Pública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3399"/>
                </a:solidFill>
                <a:latin typeface="Arial"/>
              </a:rPr>
              <a:t>Creación de la Dirección Nacional del Servicio Civil.</a:t>
            </a:r>
            <a:endParaRPr b="1" i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3399"/>
                </a:solidFill>
                <a:latin typeface="Arial"/>
              </a:rPr>
              <a:t>Creación del Sistema de Alta Dirección Pública.</a:t>
            </a:r>
            <a:endParaRPr b="1" i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Consejo de Alta Dirección Pública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Sistema de concursos y selección de directivo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Puesta en marcha del proceso de concursos y selección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Formación de altos directivo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3399"/>
                </a:solidFill>
                <a:latin typeface="Arial"/>
              </a:rPr>
              <a:t>Carrera funcionaria.</a:t>
            </a:r>
            <a:endParaRPr b="1" i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Concurso de cargos de tercer nivel directivo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3399"/>
                </a:solidFill>
                <a:latin typeface="Arial"/>
              </a:rPr>
              <a:t>Política de remuneraciones.</a:t>
            </a:r>
            <a:endParaRPr b="1" i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Incentivos al desempeño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Asignación para funciones crítica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Bonificación al retiro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C949-7DDE-4116-9E22-03350A58F32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Modernización en finanzas públic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trol de gestión y presupuesto por resultad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ceso presupuestario e indicadores de desempeñ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valuación de programas e instituc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Balances Integrales de gestión BGI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gramas de mejoramiento de gest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Transparencia fisc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Regulación de gastos reserv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omisión Mixta Permanente de Presupuest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ntrega de información por parte del ejecutiv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Implantación del SIGFE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64AA-2A76-4C1D-A9F4-AA63D5AF6F4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Modernización en gestión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ey de Bases de los Procedimientos Administrativ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Sistema de compras públic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Marco normativo y plataforma electrónica para compr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Tribunal de Contratación Públ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Gobierno electrónico y nuevas tecnologí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genda de gobierno electrónic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tención a ciudadanos: Portal TrámiteFácil y trámites en líne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cceso a la inform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D0BF-FE07-4FFE-AE02-73762D0B375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6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Transparencia y derechos ciudadan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Declaración de patrimonio de autoridades públic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Regulación del financiamiento de la polít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oyecto de lobby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Regulación de relación entre función pública a actividades privad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venciones internacionales contra la corrupc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EE99-87AD-44CA-AC3F-A263E3101EC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7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Participación ciudadan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sejo Ciudadano para el fortalecimiento de la sociedad civi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lan de fortalecimiento de la sociedad civi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Fondo de iniciativas de la sociedad civi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Fondo de capacitación de dirigentes soci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Instructivo Presidencial sobre participación ciudadan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oyecto de ley de asociaciones y participación en la gestión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MG de atención a usuarios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4759-E426-457A-86FA-89EB001CAE6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405E-5591-4F10-9FEC-29750BDF7C2B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1.</a:t>
            </a: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i="1" lang="es-MX" sz="2200" spc="-1" strike="noStrike">
                <a:solidFill>
                  <a:srgbClr val="ff9900"/>
                </a:solidFill>
                <a:latin typeface="Trebuchet MS"/>
              </a:rPr>
              <a:t>Nueva institucionalidad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Consejo para la Competitividad y la Innovac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Ministerio de Energí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Régimen de gobierno corporativo para empresas privadas y nuevo estatuto de Codelc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Nueva ley de concesiones de OOPP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Ministerio de Medio Ambiente, transformación de Conama y Coremas, Servicio de Evaluación Ambiental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Red de Protección Soci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Nueva institucionalidad para reforma prevision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1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C061-15EB-4E97-ABC8-DBC6C436D5D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41A5-B2AA-4F74-B850-9495964AD6A7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1.</a:t>
            </a: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i="1" lang="es-MX" sz="2200" spc="-1" strike="noStrike">
                <a:solidFill>
                  <a:srgbClr val="ff9900"/>
                </a:solidFill>
                <a:latin typeface="Trebuchet MS"/>
              </a:rPr>
              <a:t>Nueva institucionalidad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Nueva institucionalidad del sector turismo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Nuevo diseño del Ministerio de Defensa, con creación de nuevas subsecretarí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Reforma a la institucionalidad de la discapacidad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2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F201-ADDC-46B1-8058-C3F81E9ADF3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5F50-2A42-443E-88C9-557AA86B545F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2. </a:t>
            </a:r>
            <a:r>
              <a:rPr b="1" i="1" lang="es-MX" sz="2400" spc="-1" strike="noStrike">
                <a:solidFill>
                  <a:srgbClr val="ff9900"/>
                </a:solidFill>
                <a:latin typeface="Trebuchet MS"/>
              </a:rPr>
              <a:t>Descentraliz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Creación de fondos especiales de decisión regional ( Inversión para competitividad FIC; Inversión local FRIL)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Transferencia de competencias; creación de División de Planificación y Desarrollo Regional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Agencias Regionales de Desarroll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Elección directa de Consejeros regionales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Nuevas Regiones : Arica y Parinacota y Los Rios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Territorios especiales de Isla de Pascua y Juan Fernández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3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1B30-4CAB-4EE4-B83B-3AC4E92E541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1. Gobierno del Presidente P.Aylwin (1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485720"/>
            <a:ext cx="8064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Aylwin (1990-1994): transición a la democracia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3399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reación de instituciones básicas para el desarrollo de políticas públicas prioritarias.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 Ejemplo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inisterio Secretaría General de la Presiden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Institucionalidad social: Mujer y Familia, Indígenas, Solidaridad e Inversión Social, Juventud, Discapacitad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Institucionalidad para la Cooperac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edio Ambiente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C524-6F48-418A-9C35-0227A1EFE1D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84D8-83D3-4F4C-9B69-B989CD173DBC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3. </a:t>
            </a:r>
            <a:r>
              <a:rPr b="1" i="1" lang="es-MX" sz="2400" spc="-1" strike="noStrike">
                <a:solidFill>
                  <a:srgbClr val="ff9900"/>
                </a:solidFill>
                <a:latin typeface="Trebuchet MS"/>
              </a:rPr>
              <a:t>Sector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Nueva ley general de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Consejo Nacional de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Agencia de Calidad de la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Superintendencia de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Sistema nacional de competencias laborales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4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1674-68BB-42AD-9DBA-C74FC8F17B4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C746-C8B3-4701-BA0B-5B5DDDA84D9C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4. </a:t>
            </a:r>
            <a:r>
              <a:rPr b="1" i="1" lang="es-MX" sz="2400" spc="-1" strike="noStrike">
                <a:solidFill>
                  <a:srgbClr val="ff9900"/>
                </a:solidFill>
                <a:latin typeface="Trebuchet MS"/>
              </a:rPr>
              <a:t>Transparenci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Ley de transparencia y acceso a la Información Públic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Consejo para la Trasparenci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Introducción del principio de la “Transparencia activa”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5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CBA3-81E3-4EED-A020-9AB58208DED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1B9D-0816-4A50-B127-F4E082E9229C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5. </a:t>
            </a:r>
            <a:r>
              <a:rPr b="1" i="1" lang="es-MX" sz="2200" spc="-1" strike="noStrike">
                <a:solidFill>
                  <a:srgbClr val="ff9900"/>
                </a:solidFill>
                <a:latin typeface="Trebuchet MS"/>
              </a:rPr>
              <a:t>Derechos Humanos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Creación del Instituto de los Derechos Human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6. </a:t>
            </a:r>
            <a:r>
              <a:rPr b="1" i="1" lang="es-MX" sz="2200" spc="-1" strike="noStrike">
                <a:solidFill>
                  <a:srgbClr val="ff9900"/>
                </a:solidFill>
                <a:latin typeface="Trebuchet MS"/>
              </a:rPr>
              <a:t>Modernización de gestión pública y recursos human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Evaluación de programas públic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Fondo de modernización de la gestión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Gobierno electrónic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1375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Trebuchet MS"/>
              </a:rPr>
              <a:t>Portal de Trámites del estado. Chilecli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Código de Buenas Prácticas Laborale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Traspaso de personal de honorarios a contrat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6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20E4-0435-404A-8E11-FA432DD09F2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8D9C-E1C3-413A-8DD1-135DAA5EDB27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7. </a:t>
            </a:r>
            <a:r>
              <a:rPr b="1" i="1" lang="es-MX" sz="2000" spc="-1" strike="noStrike">
                <a:solidFill>
                  <a:srgbClr val="ff9900"/>
                </a:solidFill>
                <a:latin typeface="Trebuchet MS"/>
              </a:rPr>
              <a:t>Participación ciudadana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8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Sistema integral de Atención a Ciudadanos SIAC (ex OIRS)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8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Agenda de participación ciudadanas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170 Compromisos de particip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700 iniciativas de particip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8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Instructivo sobre participación ciudadana en la gestión pública. 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8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Nuevas formas de consulta ciudadana: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Consejo asesor para la reforma prevision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Consejo asesor presidencial sobre la calidad en la educ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Consejo asesor para la educación superior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Consejo asesor sobre el trabajo y la equidad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7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F6CD-AEF9-4752-8620-E2BF41BB70F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1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1. Adecuación de la institucionalidad a las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necesidades de un Estado Modern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0099cc"/>
                </a:solidFill>
                <a:uFillTx/>
                <a:latin typeface="Arial"/>
              </a:rPr>
              <a:t>Institucionalidad central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reación de instituciones básicas para el desarrollo de políticas públicas prioritari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Fortalecimiento institucional políticas extrema pobrez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rreglos institucionales en sistema de control de calidad en la gestión públ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Reorganización Sistema de Empresas Públ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Modernización judicial: procesal penal, trabajo, familia, competenci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Rediseño del sector salu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99AF-F42B-440D-B4A4-6654D452988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i="1" lang="es-CL" sz="2200" spc="-1" strike="noStrike">
                <a:solidFill>
                  <a:srgbClr val="0033cc"/>
                </a:solidFill>
                <a:latin typeface="Arial"/>
              </a:rPr>
              <a:t>Un Gobierno más cerca de las personas. La Descentralizac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Énfasis mayor en desconcentr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Rediseño de mecanismo de redistribución de recursos municip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Fortalecimiento y modernización Gobiernos Region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Descentralización ejecución programas soci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Modernización financiamiento municip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Modernización normas gestión administrativa y de recursos humanos en gobiernos loc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Nuevas Reg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2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8DF2-204C-46BF-82FC-73A2A497967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3. Facilitar la relación de las personas con 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spcBef>
                <a:spcPts val="201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Lo central son los “trámites”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mplificación de procedimientos administrativos establecida por ley.  Silencio administrativ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Rediseño de proces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Portal </a:t>
            </a:r>
            <a:r>
              <a:rPr b="0" lang="es-ES_tradnl" sz="2200" spc="-1" strike="noStrike" u="sng">
                <a:solidFill>
                  <a:srgbClr val="d88100"/>
                </a:solidFill>
                <a:uFillTx/>
                <a:latin typeface="Arial"/>
                <a:hlinkClick r:id="rId1"/>
              </a:rPr>
              <a:t>www.tramitefacil.gov.cl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s-ES_tradnl" sz="2200" spc="-1" strike="noStrike">
                <a:solidFill>
                  <a:srgbClr val="f4b144"/>
                </a:solidFill>
                <a:latin typeface="Arial"/>
              </a:rPr>
              <a:t>Chilecli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2" marL="1085760" indent="-37296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1.600 trámites en el Port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Número de trámites en línea: </a:t>
            </a: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360 y 400 formulari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Implementación de documento, firma electrónicos y factura electrón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3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E865-C5BF-4A9B-9B57-D68196865E0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900000" y="1485720"/>
            <a:ext cx="80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1" i="1" lang="es-CL" sz="22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1" i="1" lang="es-ES_tradnl" sz="2200" spc="-1" strike="noStrike">
                <a:solidFill>
                  <a:srgbClr val="0033cc"/>
                </a:solidFill>
                <a:latin typeface="Arial"/>
              </a:rPr>
              <a:t>n servicio público más eficiente y eficaz: mejoras en la gest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spcBef>
                <a:spcPts val="99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Importantes avances en implantación de cultura orientada a resultados y al servicio de usuari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Instrumentos de gestión de amplio uso: PMG, Balances de Gestión, Sigf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stema de evaluación de control de gestión financier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stema de Compras públicas vía Internet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Transparencia fisc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Gobierno electrónico en desarroll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0" algn="just">
              <a:spcBef>
                <a:spcPts val="550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4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9391-C149-4CF5-8F64-470FA7B836C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1" i="1" lang="es-CL" sz="2200" spc="-1" strike="noStrike">
                <a:solidFill>
                  <a:srgbClr val="0033cc"/>
                </a:solidFill>
                <a:latin typeface="Arial"/>
              </a:rPr>
              <a:t>El desarrollo de las personas en </a:t>
            </a:r>
            <a:r>
              <a:rPr b="1" i="1" lang="es-ES_tradnl" sz="2200" spc="-1" strike="noStrike">
                <a:solidFill>
                  <a:srgbClr val="0033cc"/>
                </a:solidFill>
                <a:latin typeface="Arial"/>
              </a:rPr>
              <a:t>el sector públic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spcBef>
                <a:spcPts val="99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Profesionalización servicio público: concursos, mérito v/s antigüeda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reación del Sistema Alta Dirección públ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reación Dirección Nacional del Servicio Civi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onsolidación legal normativa presupuestaria sobre gestión de person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stema descentralizado de formación de recursos human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digo de Buenas Prácticas Labor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5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CEEC-C1AE-4D35-8E26-C025400DB2F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6. </a:t>
            </a:r>
            <a:r>
              <a:rPr b="1" i="1" lang="es-CL" sz="2600" spc="-1" strike="noStrike">
                <a:solidFill>
                  <a:srgbClr val="0033cc"/>
                </a:solidFill>
                <a:latin typeface="Arial"/>
              </a:rPr>
              <a:t>Avances en </a:t>
            </a:r>
            <a:r>
              <a:rPr b="1" i="1" lang="es-ES_tradnl" sz="2600" spc="-1" strike="noStrike">
                <a:solidFill>
                  <a:srgbClr val="0033cc"/>
                </a:solidFill>
                <a:latin typeface="Arial"/>
              </a:rPr>
              <a:t>rol regulador del Estado. 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3399"/>
                </a:solidFill>
                <a:latin typeface="Arial"/>
              </a:rPr>
              <a:t>Se ha reducido el rol del estado de  productor directo de bienes y servici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3399"/>
                </a:solidFill>
                <a:latin typeface="Arial"/>
              </a:rPr>
              <a:t>Se han perfeccionado los marcos regulatorios de los servicios de utilidad pública, en normativa, fiscalización y sancione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3399"/>
                </a:solidFill>
                <a:latin typeface="Arial"/>
              </a:rPr>
              <a:t>Se ha definido sistemas regulatorios para las relaciones público – privados en áreas de interés público abiertas a la inversión privad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3399"/>
                </a:solidFill>
                <a:latin typeface="Arial"/>
              </a:rPr>
              <a:t>Se ha avanzado en modernizar el rol regulador del estado no sólo en la esfera productiva sino también en la soci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6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DA98-CEC2-4197-8540-35B1CEAC129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1. Gobierno del Presidente P.Aylwin (2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486080"/>
            <a:ext cx="806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Presidente Aylwin (1990-1994): transición a la democracia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99"/>
                </a:solidFill>
                <a:latin typeface="Arial"/>
              </a:rPr>
              <a:t>Inicio de procesos de modernización de gestión pública en grandes servicios</a:t>
            </a: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: Impuestos Internos, Tesorería, Fondo de Salud, Registro Civil, etc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99"/>
                </a:solidFill>
                <a:latin typeface="Arial"/>
              </a:rPr>
              <a:t>Mejoramiento de condiciones de trabajo en el sector público</a:t>
            </a: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. Ejemplos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99"/>
              </a:solidFill>
              <a:latin typeface="Verdana"/>
            </a:endParaRPr>
          </a:p>
          <a:p>
            <a:pPr lvl="2" marL="1428840" indent="-354240" algn="just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Incrementos salariale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Reconocimiento y formalización de asociaciones de funcionario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99"/>
                </a:solidFill>
                <a:latin typeface="Arial"/>
              </a:rPr>
              <a:t>Democratización de los Gobiernos locales y regional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BA58-E4ED-4DDA-B5D8-FDE5ECE085C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7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Cuánto se está escuchando a las person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Establecimiento del Defensor Ciudadano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Comisión Asesora Presidencial para la Protección de los Derechos de las Person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Reforma Constitucional: </a:t>
            </a: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en tramitación en el Congres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Participación Ciudadana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Fortalecimiento Sociedad Civil y Participación ciudadana en la gestión: </a:t>
            </a: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proyecto de ley en el Parlamento; instructivo presidencial sobre particip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stemas de Información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1500 Oficinas de Información y Reclamos en todos los servicios públic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400 Sitios web gubernamental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7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F3A7-F4FE-4AC6-8C8D-9741B4A774D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8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Un estado más probo y transparente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Financiamiento de la política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Transparencia en el financiamiento de la polític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Regulación de publicidad y difusión programas público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Regulación del lobby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Ley Transparenc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Institucionalidad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Proyecto de Modernización Contralorí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Perfeccionamiento fiscalización municip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Fortalecimiento derecho ciudadano a la información: Declaración de patrimoni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Fortalecimiento ética funcionaria: </a:t>
            </a: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Código de Ét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Ley de Transparencia y Acceso a la Inform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8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A68D-0DAA-4041-87B7-AD2CA7C4B1E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 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500" spc="-1" strike="noStrike">
                <a:solidFill>
                  <a:srgbClr val="0033cc"/>
                </a:solidFill>
                <a:latin typeface="Arial"/>
              </a:rPr>
              <a:t>1</a:t>
            </a:r>
            <a:endParaRPr b="1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3399"/>
                </a:solidFill>
                <a:latin typeface="Arial"/>
              </a:rPr>
              <a:t>1.  Autoridad política.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99"/>
                </a:solidFill>
                <a:latin typeface="Arial"/>
              </a:rPr>
              <a:t>Avanzar en la reforma del estado tiene como requisito fundamental que exista una autoridad política encargada de esta tarea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99"/>
                </a:solidFill>
                <a:latin typeface="Arial"/>
              </a:rPr>
              <a:t>Esta autoridad debe tener rango ministerial (Subsecretario) y debe tener autoridad sobre todas las instituciones transversales responsables de procesos de modernización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7D53-7864-46D6-80FC-E5239ABB897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2. Ordenar la agenda de modernizaciones de la institucionalidad 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- Las transformaciones institucionales deben priorizarse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Se debe concordar cuales serán posibles de aprobar en este mandato presidencial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Modernización de la Cancillería. Subsecretario de Comercio Exterior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Ministerio de la Agricultura y la Aliment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Subsecretaría de Seguridad Públ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Autoridad Metropolitana Central de Transporte Público de Pasajer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La institución del Defensor Ciudadan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970E-F56A-4CB9-8232-79D9D61480C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2.  Ordenar la agenda de modernizaciones de la institucionalidad.  (2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Agencia para la Calidad de las Políticas Públic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Instituto del Patrimoni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Dirección de fiscalización electoral especializada en fiscalización y supervigilanc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Ministerio de asuntos Indígenas y Consejo Nacional de Pueblos Indígen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6A03-153D-4799-BCE9-B01C39956CD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3. Avanzar en el nuevo trato laboral: Las personas que trabajan para el estad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Definir política clara sobre vinculación laboral: plantas y contratas. Crear estatuto para contratas similar al Código del Trabaj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Facilitar la jubilación de personal en edad de jubilar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Recrear sistema de evaluaciones y de calificaciones y hacerlo operar eficazment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Superar rigidez de diversos estatutos especiales : docente, municip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Incentivos a la formación y perfeccionamiento (pasantías, e-learning)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7A32-514C-4ECD-9FEE-913720CD7D3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5490a8"/>
                </a:solidFill>
                <a:latin typeface="Arial"/>
              </a:rPr>
              <a:t>4. </a:t>
            </a:r>
            <a:r>
              <a:rPr b="1" i="1" lang="es-MX" sz="2800" spc="-1" strike="noStrike">
                <a:solidFill>
                  <a:srgbClr val="003399"/>
                </a:solidFill>
                <a:latin typeface="Arial"/>
              </a:rPr>
              <a:t>Fortalecer la capacidad </a:t>
            </a:r>
            <a:r>
              <a:rPr b="1" i="1" lang="es-ES_tradnl" sz="2800" spc="-1" strike="noStrike">
                <a:solidFill>
                  <a:srgbClr val="003399"/>
                </a:solidFill>
                <a:latin typeface="Arial"/>
              </a:rPr>
              <a:t>institucional para dirigir mejor: fortalecimiento del poder ejecutivo.</a:t>
            </a:r>
            <a:r>
              <a:rPr b="1" i="1" lang="es-ES_tradnl" sz="2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332000" y="2924280"/>
            <a:ext cx="7488000" cy="36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Mejorar la coordinación central de gobierno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Completar donde falte la diferenciación institucional: formulación de políticas, ejecución, regulación y fiscalizació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Actualización marco jurídico ministerial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Mejorar la coordinación en temas transversale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BA09-686F-4F5E-B26F-BED45307B96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5. Definir una interpretación clara sobre la descentralización</a:t>
            </a:r>
            <a:r>
              <a:rPr b="0" i="1" lang="es-MX" sz="2400" spc="-1" strike="noStrike">
                <a:solidFill>
                  <a:srgbClr val="0033cc"/>
                </a:solidFill>
                <a:latin typeface="Arial"/>
              </a:rPr>
              <a:t>. 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48040" indent="0" algn="just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99"/>
              </a:solidFill>
              <a:latin typeface="Verdana"/>
            </a:endParaRPr>
          </a:p>
          <a:p>
            <a:pPr lvl="1" marL="804240" indent="-365400" algn="just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Fortalecimiento y modernización de gobiernos region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04240" indent="-36540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Definir política sobre creación de Servicios region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207080" indent="-3290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Desarrollo soci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07080" indent="-3290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Infraestructura y transporte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07080" indent="-3290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Desarrollo productiv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07080" indent="-3290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Planificación regional y ordenamiento territori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04240" indent="-365400" algn="just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Modernización municipal. Evaluar el modelo actual, proponer ajustes y definir plan de acción de mediano plaz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04240" indent="-365400" algn="just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Definir cambios en modelo político de la descentralizac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57B7-3C34-4326-B5E8-98EB23CD140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6. Completar la reforma a la justicia</a:t>
            </a:r>
            <a:r>
              <a:rPr b="0" i="1" lang="es-MX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reación tribunales de lo contencioso administrativ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Modernización Judicatura Civil.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Gestionar adecuadamente reformas en implementación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Procesal pen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Famil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Trabaj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Competenc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Tributar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9594-9FD8-4014-8F02-EE7AFAB2FEF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7. Perfeccionar la institucionalidad y las capacidades regulatorias. 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1337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Verdana"/>
            </a:endParaRPr>
          </a:p>
          <a:p>
            <a:pPr lvl="1" marL="838080" indent="-38088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Fortalecimiento entes reguladores actualmente establecid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erfeccionar el modelo de autonomía de entes regulador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7B76-27B5-4FF8-9A36-A00ED8FA4DA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2. Gobierno del Presidente E.Frei R-T (1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Frei (1994-2000): modernización de la gest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99"/>
              </a:solidFill>
              <a:latin typeface="Verdana"/>
            </a:endParaRPr>
          </a:p>
          <a:p>
            <a:pPr marL="35784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reación de Comité Interministerial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(1994)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Recursos human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Incentivos vinculados a calidad de gest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opuesta de sistema de gerencia públ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Mejoras en capacit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alidad de servicio y participación ciudadana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Simplificación de trámit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Cartas de derechos ciudadan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emio nacional a la calidad de servicios públic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emio a la innovación en gestión públ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D718-B2E1-4A28-B18E-A9DFEE196E5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8. Mantener y perfeccionar avances logrados en la gestión pública.</a:t>
            </a:r>
            <a:r>
              <a:rPr b="1" i="1" lang="es-MX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Nuevas tecnologías: permanente ajuste y actualización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. 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vanzar en la interoperabilidad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Sistema decisional: ley de procedimientos hecha proces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ontrol de gestión. Evaluar herramientas actuales, simplificarlas y hacerlas más relevant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Buenas prácticas en gestión: recopilación y aprendizajes a partir de ell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0142-773D-4505-B492-5E85CEED6A7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9. Instalar en forma real la 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participación ciudadan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1337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Verdana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Incorporación legal de los ciudadanos en procesos decision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ctualizar instructivo sobre participación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erfeccionar los sistema de información sobre la acción estatal: nuevo impulso a las OIR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instalar las cartas de derechos ciudadanos en los servicios públic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F886-2D70-415E-B23B-210906DE962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11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10.  Completar la agenda de probidad y transparenci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La ética como sustento de la participación en el servicio públ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Rediseño de los sistemas de control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Resolver los conflictos de interés de altos funcionarios de gobiern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4D23-5382-4EC1-99B5-5A783BDB9C7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 El Consorcio para la Reforma del Estado.  1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La meta: un Estado de clase mundial al servicio de las person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ntecedentes a considerar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Sociedad chilena tiene nuevos desafíos y mayores aspirac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Ciudadanos le exigen al estado calidad y diversidad de servici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Empresas requieren relacionarse de nuevas formas con el estad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País debe adaptarse a la globaliz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Si bien hay avances en el tipo de estado, es insuficiente para enfrentar el futur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8FEB-0D23-4AB6-B2BA-CF9BC61989D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2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ntecedentes a considerar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Estado presenta estructuras anticuadas; la gestión de políticas públicas es ineficiente; crecimiento ha sido inorgánico; hay malas práct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Para avanzar al desarrollo se requiere reformas institucionales que mejoren eficiencia y eficacia en la gestión; diseño de políticas públicas que respondan a necesidades de personas; transformaciones que ejecuten de forma coherente; se debe asegurar flexibilidad al aparato estat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Reformas como las planteadas permitirían aumentar el ingreso por habitante, mejorar la equidad y la protección social, y ofrecer mejores oportunidades a todos los chilen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EE9F-E14B-48A1-9F45-1A037BF2B2C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3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genda de reformas propuesta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550"/>
              </a:spcBef>
              <a:buClr>
                <a:srgbClr val="00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Liderazgo integrador y eficaz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que ayude a superar la fragmentación del estado chileno; que facilite el ejercicio de las facultades presidenciales; que separe las tareas de estado de las de un gobiern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550"/>
              </a:spcBef>
              <a:buClr>
                <a:srgbClr val="00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Ejecución efectiva de la estrategia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para producir los impactos esperados la ejecución debe estar coordinadas y orientadas a los resultados; debe existir buena coordinación intersectorial; se debe contar con mayor flexibilidad organizacional; mejorar proceso de diseño, presupuesto, ejecución y evaluación de polít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E0A3-A0DB-4DFD-90F0-8D634FC6B09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4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genda de reformas propuesta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Personas - profesionalizar el estado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desarrollar carrera profesional de servicio público que privilegie el mérito; instaurar la movilidad horizontal entre servicios; expandir la selección de directivos a nuevas áreas institucion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Los ciudadanos como protagonistas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deben ser el centro de la acción estatal; crear espacios de opinión, elección y participación; profundizar transparencia en gestión pública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Fortalecer la primera línea del estado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desarrollar a nivel municipal entrega de servicios públicos; fortalecer capacidades municipales y flexibilizar estructur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CB8C-FCEE-4EDF-8266-7CF895F9D88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5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Liderazgo integrador y eficaz.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Separar la definición de políticas de su ejecución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Evitar conflictos de interés cuando en una institución se ejercen simultáneamente roles de juez, fiscalizador y evaluador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Definición de políticas corresponde al Presidente y su Gabinete; ejecución debe recaer en unidades permanentes del estado. *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Se deben profesionalizar entidades ejecutoras, se debe revisar dependencias institucionales, descentralización ayuda en este proceso, mejorar instrumentos de gest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Mejorar herramientas al servicio del Presidente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: El centro de gobierno presta servicio directo al Presidente; proponen crear “Oficina de la Presidencia” fusionando Segpres y Segegob; coordinar políticas intersectoriales vía Consejos de Ministr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918A-0B93-4E54-A6A5-E64201B6CC1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6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Ejecución efectiva de la estrategia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Estrategias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 deben expresarse en metas con indicadores para medir impactos. Estrategias requieren mantener integralidad de las políticas (diversas instituciones deben operar con mismas directrices); funciones de diseño, ejecución, fiscalización y evaluación deben evitar conflictos de interes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Contratos de ejecución de políticas transversales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. Ministros son responsables políticos de políticas transversales, deben contratar ejecución de productos asociados a metas estratégicas con agencias públicas o empresas privadas, esto introduce incentivos para mejorar calidad y eficiencia. Potenciales descoordinaciones deben resolverse por Oficina del Presidente. Esto evita crear nuevas instituciones por nuevos problem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7AA6-F5E6-44E6-BD26-DD8FB2CBD97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7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Ejecución efectiva de la estrategi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Convenios de desempeño de los servicios públicos: 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Para alinear gestión de servicios públicos con estrategia gubernamental se deben firmar convenios de desempeño, para evaluar resultados y definir incentiv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Función de las Subsecretarías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Separar equipo político de Ministros ( Jefe de Gabinete y asesores) de Subsecretario que debe administrar ministerio y programas no adscritos a servicios; no debe subrogar a Ministr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Proceso presupuestario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Sistema presupuestario debe contemplar gestión anual y planificación plurianual. Debe valorar servicios prestados, imputar activos y facilitar transparencia y eficiencia públ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3FEB-0C6F-4143-B232-41533F6982C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2. Gobierno del Presidente E.Frei R-T (2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Frei (1994-2000): modernización de la gest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marL="35784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oyecto de compras públicas vía electrón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Ley de probidad administrativ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Consejo de Auditoría Interna de Gobiern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Oficinas de información y reclam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ortal del Estad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Gestión estratég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ogramas de mejoramiento de gest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ograma de evaluación de proyectos de gobiern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lanes pilotos de mejoramiento de gest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130F-ECD2-43B0-B593-29E81C77F0B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8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Ejecución efectiva de la estrategi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Evaluación de la acción del estado: 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Al alero de una planificación estratégica del estado, se debe integrar los sistemas de evaluación y gestión existentes. Promover información integrada que permita el control y evaluación de resultados. Esto debe complementarse con una Agencia de Calidad de las Políticas Públicas, independiente, que mida el impacto de políticas, velando por su calida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Control de legalidad y auditoria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Pasar del control exante al control expost, que Contraloría defina y aplique sanciones. Crear sistema judicial administrativo, mecanismos de resolución de contenciosos administrativos. Fortalecer la auditoria intern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E7E8-E709-43D8-9BFD-2F0B0637410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.2.  El Consorcio para la Reforma del Estado.  9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Personas: profesionalizar el Estado. 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Una carrera funcionaria de excelencia: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 Mejorar procesos de selección, evaluación y movilidad; establecer movilidad horizontal entre diversas instituciones del estado de todo nivel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 Nuevo contrato de carácter indefinido y que accede al seguro de desempleo como sistema de ingreso; no habrá nuevas incorporaciones a actuales plantas; honorarios sólo para labores temporale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4873-F2EA-47AB-A682-6C7AEC04051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9i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Personas: profesionalizar el Estado. 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Una carrera funcionaria de excelencia: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* 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Simplificar sistema de grados y crear bandas de remuneraciones; mejorar sistemas de evaluaciones individuales y grupales; comités de calificaciones con supervisión externa; incentivos de remuneraciones en función de indicadores de calidad de atención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  Mejorar formación y capacitación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 Instaurar relaciones laborales modernas, con mecanismo descentralizado de negociación reglada y con arbitraje forzoso.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348C-CF15-41B4-BFF2-2B96535ED09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0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Personas: profesionalizar el Estado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Profundizar el Sistema de Alta Dirección Pública: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* 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Expandir el sistema a los servicios nacionales no incorporados, a los gobiernos regionales (directivos de Gores y jefes de servicios regionales) y municipales (administradores municipales y jefes de programas)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* Seleccionar a Subsecretarios por el SADP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* Descentralizar gestión del personal entregando a directivos mayor capacidad de decisiones autónom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Fortalecer Servicio Civil y crear Consejo de Personal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Darle autonomía al Consejo y transformar el Servicio Civil en servicio autónom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790E-5D3B-4835-8135-A1B2A8D6454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1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Los ciudadanos como protagonistas.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Profundizar la transparencia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Evitar costos y riesgos de intervención y captura del estado por intereses particulares, facilitando el control ciudadano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Implementar adecuadamente Ley de Acceso a la Información y Consejo para la Transparencia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Definir claramente funciones y atribuciones de instituciones y hacerlas conocidas por la ciudadaní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Mecanismos de participación efectivos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Participación ciudadana en diseño de políticas, en control de la acción pública y en empoderamiento frente a resultados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Establecer documentos de consulta de políticas y permitir que ciudadanos exijan mejores servici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A58D-DE09-4209-9879-58D80584C99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2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Reforzar y empoderar a la primera línea del Estado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Servicios públicos en torno al ciudadano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: Rediseñar servicios públicos en torno al ciudadano, agrupando la prestación de servicios en una sola entidad. Estado debe procesar en línea e internamente los requerimientos de ciudadano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Descentralización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: Permite mayor cercanía del estado a las personas, para facilitar el escrutinio público, el recoger necesidades y preferencia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7F37-D6C4-4FA6-8904-867B2C1E678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3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3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zar y empoderar a la primera línea del Estad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-335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Fortalecer el gobierno local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: el liderazgo local es requisito para un gobierno que responda a ciudadano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Se debe dotar a municipios de capacidad de decisión y de gestión en provisión de servicios e inversión local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Se debe lograr correspondencia entre responsabilidades y atribuciones y capacidades y recurso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Dar mayor autonomía en organización interna y contratacione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C849-D090-473A-8F37-18C3A8E9451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4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zar y empoderar a la primera línea del Estad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Fortalecer el gobierno local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Perfeccionar mecanismos de rendición de cuentas. Instituciones nacionales deberán contratar ejecución de servicios a municipios bajo estándares predefinidos y exigible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Traspasar la responsabilidad en temas urbanos a municipios. Entregar recursos en forma directa a municipios sin pasar por el FNDR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Darle a municipios mayor autonomía en determinación de ingresos. * Perfeccionar política de aportes financieros a municipi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1D96-676E-40EC-AC8F-647363D5730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5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Reforzar y empoderar a la primera línea del Estado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El rol de las regiones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Gores tiene rol relevante en coordinación y financiamiento de inversiones y en movilizar recursos privados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Nombramiento de directivos regiones por el SADP. *Instaurar mecanismos de presupuestos plurianuales y con flexibilidad para reasignaciones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Mejorar evaluación de rentabilidad social de proyectos regionales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Revisar convenios de programación para hacerlos coherentes con estrategias regionales de desarrollo. *Eliminar las actuales provincias y posibilitar la instalación de territorios con un coordinador territorial. Mantener nombramiento de intendentes por Presidente, previa consulta a la reg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C0A9-115F-4B1F-9938-E1629119C5F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1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Una nueva forma de gobernar.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Presidente todo terreno 24/7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Fin al cuoteo político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Servicio público al servicio de los ciudadanos y no de los partidos políticos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Se impondrá el sentido de urgencia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Rol del Estado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proveedor de bienes públicos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gente promotor de la innovación y el emprendimiento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facilitador de la igualdad de oportunidades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regulador del mercado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factor de protección de los más desmejorados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1047-7CA5-4874-AE43-42DEF0C9E99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2. Gobierno del Presidente E.Frei R-T (3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Frei (1994-2000): modernización de la gest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Descentralización e institucionalida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Compromisos de desconcentr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Institucionalidad reguladora de servicios de utilidad pública.</a:t>
            </a: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Nuevas tecnologías de inform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4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lan de acción en NTI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Documento electrónico y firma digital en sector públic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Intranet gubernament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0EB2-418C-4391-9E7B-AA6A99B9EFE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2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Concertación no ha modernizado el estado para adecuarlo a los requerimientos del siglo XXI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Meta es tener mejor estado, fuerte, eficiente y con sentido de urgencia. Rol de funcionarios públicos es fundamental, son ejemplo de servici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5 ejes para la modernizació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84E5-03BF-4601-A395-11338075E97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3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76920" indent="-37692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Mejorar la gestión de la administración superior del estado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Creación del Ministerio de Desarrollo Social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Reestructuración de Segegob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Fortalecer rol coordinador de Segpr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Ministros coordinadores para abordar prioridades del gobiern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Superintendentes designados por Sistema de Alta Direcc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Creación de Agencia de Auditoría dependiente del PdlR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0B11-821C-4993-8C74-D74F4BC251B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4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Contar con mejores servidores públic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Creación de Academia para formar a funcionarios públic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Extensión de selección de Alta Dirección a niveles regionales y municip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Mayor movilidad horizontal y el mérito para el ascens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Incentivos de remuneración variable para funcionarios destacad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Avanzar en transparencia y rendición de cuent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8345-8DE6-48FE-B63D-FF3EE0DCFEE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5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3. Mejorar la calidad de los servicios público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Perfeccionar el sistema de evaluación de proyectos público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- Crear la Agencia Autónoma de Evaluación de Políticas Públicas para evaluación expost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4. Potenciar la Contraloría General de la República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Mejorar control de legalidad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- Supervisar buen uso de recursos y probidad.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5688-BCB7-4420-A73A-652B40D689C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6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just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5. Modernización de las empresas pública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Regirse por normas de sociedades anónimas abierta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- Transformación del SEP en holding autónomo, con directorio representativo de todos los sectores del paí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- Cambios en gobiernos corporativos de empresas para asegurar autonomía del gobierno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81C8-4E52-4E2A-BD12-30FB2754B53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7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98720" y="1499760"/>
            <a:ext cx="8045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Agenda de Modernización. Junio 2010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Agenda corta :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Fortalecimiento del centro de gobiern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Coordinación estratégica (Comités de Ministros y estructuración de estrategia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Calidad de políticas públicas  (Coherencia de mérito, jurídico, programática y presupuestaria; coordinación sectores, Segpres, Dipres; análisis y gestión integrada de evaluación de política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Cumplimiento de políticas públicas ( metas, acciones, plazos y responsables; gestión de cumplimiento de ejes  prioritarios –delivery unit-; seguimiento de cumplimiento ministeri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79FC-4316-4499-9251-A96026FABD0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8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98720" y="1499760"/>
            <a:ext cx="8045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Agenda de Modernización. Junio 2010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Perfeccionamiento de la institucionalidad del estad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Desarrollo social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Seguridad Públic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Infancia y adolecentes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Dirección del Trabaj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Adulto mayor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Áreas silvestres protegid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Infraestructura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Política indígen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Innovación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Descentralizació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57840" indent="-35784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Agenda larga :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Perfeccionamiento Alta Dirección Públ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Perfeccionamiento incentiv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Agencia de calidad de políticas públic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Gobiernos corporativos de empresas públic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Nueva institucionalidad del Estad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FD8D-B93D-45ED-BE83-E95074BFDAF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136000" cy="172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2. La experiencia chilena en los últimos 20 años. </a:t>
            </a: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El estado de la Reforma del Estado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733320" y="4581360"/>
            <a:ext cx="7655040" cy="136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2010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05C7-87B8-4A60-9937-35945A32B6E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3. Gobierno del Presidente R.Lagos  (1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Lagos (2000-2006): reforma institucion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l año 2000 se puso en marcha el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Proyecto de Reforma y Modernización del Estad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con un enfoque global sobre transformaciones institucionales y de modernización de la gest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cuerdos de enero de 2003: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Agenda de Modernización consensuada con la oposición revitalizó el proceso de reforma, permitiendo abordar cuestiones fundamentales del orden institucional del Gobiern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B320-A13C-4987-9AD8-E0F7457C964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3. Gobierno del Presidente R.Lagos  (2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texto político y posibilidades de éxit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mplitud de la agenda y dificultades de implementación simultáne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Situación económica del paí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Liderazgo del proyecto de reform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Reforma institucional y limitaciones de sistema político presidencial – parlamentari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Opción por obtener logros menores pero tangib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clusión: a los dos años se baja el perfil al PRYME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Se opta por desagregar implement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Se  opta por avanzar en lo posi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A6DC-3B47-4552-B5BB-D2514ADF08E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3. Gobierno del Presidente R.Lagos  (3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Mediados 2002 : acusaciones de corrupción en Ministerio de Transportes y Ministerio de Obras Públic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Gobierno opta por clarificar acusacione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Se desata crisis política grave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En centro de explicación de crisis está : </a:t>
            </a:r>
            <a:r>
              <a:rPr b="1" i="1" lang="es-MX" sz="2200" spc="-1" strike="noStrike" u="sng">
                <a:solidFill>
                  <a:srgbClr val="003399"/>
                </a:solidFill>
                <a:uFillTx/>
                <a:latin typeface="Arial"/>
              </a:rPr>
              <a:t>el mal funcionamiento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parece como necesidad el mejorar gestión e institucionalidad pública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parece como oportunidad el avanzar en la reforma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21:03:08Z</dcterms:created>
  <dc:creator>Rodrigo Egaña</dc:creator>
  <dc:description/>
  <dc:language>en-US</dc:language>
  <cp:lastModifiedBy>..</cp:lastModifiedBy>
  <cp:lastPrinted>2003-02-05T21:45:17Z</cp:lastPrinted>
  <dcterms:modified xsi:type="dcterms:W3CDTF">2010-06-23T20:25:42Z</dcterms:modified>
  <cp:revision>1281</cp:revision>
  <dc:subject/>
  <dc:title>GESTION PUBLICA Y MODERNIZACION DEL ESTADO</dc:title>
</cp:coreProperties>
</file>