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1F3-2A0E-44C2-8877-D1C57660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995-8886-4CA6-B998-6F42F5ED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F38-C45A-400A-A5B5-331E5D44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016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068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016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068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7560-86E6-47EB-BA6F-60162E82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53CA-9163-4CAF-AEC6-54963B72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0623-E8D5-4FB9-835E-BFCEA848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C436-699B-48F3-A69F-FBEF4D1E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5C02-EE4F-49B1-B6D2-56B59C90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62E4-A7D9-4390-9FF2-35F654F5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0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68FA-D086-4429-B1C6-22E37D90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534E-E6DC-44D3-B7E2-E47CF150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141-0C5C-4500-850B-C83869A6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E854-8A4D-4C91-A45C-7DF70B1C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EC72-9E34-498E-9055-D8844BBE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BDA8-95EE-4624-8A8C-F23991BF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87CA-ED70-4F52-9648-7439B6D3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016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40680" y="148392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964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016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40680" y="4079880"/>
            <a:ext cx="2590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88D7-30AF-4066-AA14-D5862A7A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0DE-BE1D-41BD-A793-5E0ED50D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F90F-7C83-4AAD-B97B-6CB4AEFF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29F-CBA9-4E80-AB6E-37938D73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0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E86B-41B0-4FA1-AEA8-D5783020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5CE-6EBD-4286-AD16-21E87566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2360" y="407988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2AA-0E4C-4810-A4BA-47957111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2360" y="1483920"/>
            <a:ext cx="3926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079880"/>
            <a:ext cx="80456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6A8-A75B-4CBA-971E-9B1DE16A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981080" indent="-36180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spcBef>
                <a:spcPts val="55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0D9D-5EC8-4730-B227-E6B80AD34F00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981080" indent="-36180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spcBef>
                <a:spcPts val="550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2465280" indent="-228600" algn="just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5042-7F7C-4FB5-AB33-C582968A9B84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0857-E2EA-4583-8282-AF62E2808D5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07280" cy="164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1. Agenda para la reforma del estado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55640" y="4581360"/>
            <a:ext cx="7655040" cy="139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2010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501C-F9A4-4AEA-9525-1E7411C62DF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9840" indent="-33984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discontinuo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317320" indent="0" algn="just">
              <a:lnSpc>
                <a:spcPct val="6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41320" indent="-33264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amplia y profunda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sume que las funciones públicas no son perfectamente predecibles, sino que son producto de la interacción entre funcionarios y usuarios / destinatarios / client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-33264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punta a generar alteraciones en las funciones y roles que asume el estado, y en la forma como se distribuye el poder entre las instituciones y entre estas y la ciudadaní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-33264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e le denomina “reforma del Estado”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41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F4D7-7633-4743-AB8F-9C7CF3FFDEC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9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Reformas tienen dos momentos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Políticas destinadas a enfrentar la crisis económica: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políticas macroeconómicas y de ajuste de balanza de pag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No enfocan aspectos institucion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Incluyen política de privatizaciones de empresas públ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forma de las instituciones públicas para enfrentar desafíos políticos actu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ervicios son reformados, reconstruidos o se crean nuev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786F-9FE6-45D3-A6BA-51E4D9E598D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790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tienen diversas concepciones: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 del Estado como sinónimo de reducción de intromisión no deseada en los mercados: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 incremento de eficiencia burocrática, privatizaciones, reducción de regulacion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Idea es tener un Estado circunscrit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 del Estado para “expansión” selectiva de la acción pública: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 mejorar provisión de infraestructura, de servicios de salud y educación, enfrentar pobreza y desemple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Idea es tener un Estado con nueva capacidad regulador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0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E3A6-28D9-4536-9ACB-88451CD7643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42920" y="1413000"/>
            <a:ext cx="7902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tienen diversas concepciones: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 del Estado como transformación de las relaciones de poder: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 fortalecer poder legislativo, mejorar justicia, fortalecer gobiernos regionales y locales, responsabilidad pública y participación. Es enfoque más polít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3399"/>
                </a:solidFill>
                <a:latin typeface="Arial"/>
              </a:rPr>
              <a:t>Idea es tener un Estado más democrát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BACF-1C54-4EEF-ADFA-C795817A6E9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Reformas y el sistema polític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istemas presidencialistas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grado de conflicto o cooperación entre presidente y legislatura y poderes presidenci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Efecto</a:t>
            </a: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: mayor coherencia de reformas es producto de mayor sintonía entre ambos poder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istema de partidos políticos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fragmentación de partidos vrs partidos o coaliciones cohesionad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Efecto</a:t>
            </a: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: mayor o menor posibilidad de apoyo a procesos de reform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A53E-8B8B-4C75-9317-CFEE584278B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Reformas y el sistema político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Delegación de facultades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desde parlamento a ejecutivo y desde presidente a agencias o servicios públic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Falacia tecnocrática:</a:t>
            </a:r>
            <a:r>
              <a:rPr b="0" i="1" lang="es-ES_tradnl" sz="2400" spc="-1" strike="noStrike">
                <a:solidFill>
                  <a:srgbClr val="003399"/>
                </a:solidFill>
                <a:latin typeface="Arial"/>
              </a:rPr>
              <a:t> suponer que es posible solucionar difíciles problemas políticos removiendo de toma de decisiones a políticos y grupo de presión y reemplazarlos por tecnócrat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1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C3C4-89A8-472D-A045-B243EC95DCE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Reformas al servicio civil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forma como recorte del tamaño del servicio civil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En ciertos países se acompañó de mejoras en la eficiencia organizacion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Introducción de incentivos al desempeño y al esfuerzo de funcionarios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Incentivos positivos vía descomprimir escalas salariales, sistemas de promoción más competitivos, sistemas de evaluación más discriminadores, sanciones a la corrupción y a abus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 Reforma y modernización del Estado (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F426-EE42-47C4-BF1C-7741CDE5894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Gestión de los recursos humanos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A mayor descentralización de gestión de personal, se requiere mayor capacidad administrativ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e constata sobrecentralización en gestión de personal, de decisiones sobre gastos, asignación de vacantes, aprobaciones de reclutamiento, despidos, promociones, ajustes salariales, sistemas de calificación de desempeñ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argos de confianza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Designaciones políticas en cargos superiores de las administraciones.  Esto cumple tres objetivos: garantizar beneficios a partidarios; asegurar apoyo de legisladores; garantizar orientaciones político - programát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8324-5CAB-46AE-BB66-CFBEC7EE03F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90000"/>
              </a:lnSpc>
              <a:spcBef>
                <a:spcPts val="5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Diseño de servicios administrativos y reguladores</a:t>
            </a:r>
            <a:r>
              <a:rPr b="1" i="1" lang="es-ES_tradnl" sz="23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3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Cambio de rol del Estado de productor de bienes y servicios a rol normativo, regulador y fiscalizador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Estado interviene menos directamente en los mercados y asume función reguladora; privatizaciones separa empresas del Estado, que deben ser fiscalizadas de forma nueva; crecen demandas por regular nuevos sectores (salud, medio ambiente, seguridad laboral, etc.)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en entidades administrativas y reguladoras requiere delegación de la autoridad política a autoridades burocrát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Delegación de la autoridad monetaria en Banco Centra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Delegación de programas de pobreza en Fondos Soci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49DD-2BA1-4AC5-A06C-961981054A0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Descentralización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Debate sobre cuan centralizado o cuan descentralizado debe ser un gobierno tiene que ver con quién y dónde se toman decis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Transferencia de responsabilidades en planificación, gerencia y asignación de recursos desde el gobierno central a servicios nacionales, corporaciones públicas autónomas, autoridades regionales o locales, tercer sector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Descentralización entendida como Desconcentración: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tareas y autoridad son delegadas hacia abajo dentro de un servicio, para obtener mayor eficienci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B7FE-12C8-4613-918E-833ABCC6864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Oval 2"/>
          <p:cNvSpPr/>
          <p:nvPr/>
        </p:nvSpPr>
        <p:spPr>
          <a:xfrm>
            <a:off x="2411280" y="1484280"/>
            <a:ext cx="2089440" cy="1295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Oval 3"/>
          <p:cNvSpPr/>
          <p:nvPr/>
        </p:nvSpPr>
        <p:spPr>
          <a:xfrm>
            <a:off x="6084720" y="1484280"/>
            <a:ext cx="2087640" cy="1224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stan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Oval 4"/>
          <p:cNvSpPr/>
          <p:nvPr/>
        </p:nvSpPr>
        <p:spPr>
          <a:xfrm>
            <a:off x="1547640" y="3141720"/>
            <a:ext cx="158436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4427640" y="3284640"/>
            <a:ext cx="1728720" cy="107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dministra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Oval 6"/>
          <p:cNvSpPr/>
          <p:nvPr/>
        </p:nvSpPr>
        <p:spPr>
          <a:xfrm>
            <a:off x="3924360" y="189000"/>
            <a:ext cx="2087640" cy="86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 d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2987640" y="5013360"/>
            <a:ext cx="187344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forma restringid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odernizac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la gest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Oval 8"/>
          <p:cNvSpPr/>
          <p:nvPr/>
        </p:nvSpPr>
        <p:spPr>
          <a:xfrm>
            <a:off x="5796000" y="5013360"/>
            <a:ext cx="1944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amplia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del estado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H="1">
            <a:off x="3850920" y="98100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5724360" y="90792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 flipH="1">
            <a:off x="2627280" y="27082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4140360" y="2637000"/>
            <a:ext cx="718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 flipH="1">
            <a:off x="4427640" y="4365720"/>
            <a:ext cx="576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5651640" y="4292640"/>
            <a:ext cx="57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F184-8F3B-4E5A-B38A-6E453AD14A0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886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Descentralización entendida como Devolución: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transferencia de capacidad de decisión desde nivel central a gobiernos regionales y locales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Federalismo (Venezuela, Brasil, Argentina)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Regionalismo (Chile, Colombia)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0" algn="just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Procesos de descentralización están afectados por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Qué se transfiere primero: funciones o recurs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mo se construye capacidad gerencial en niveles regionales y local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mo se ejerce control desde el centro sobre entes descentraliz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Cómo se resuelve la descentralización fiscal: federalismo o centralismo fiscal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7CEC-8DB8-4144-8E8D-59ABF2BEDAA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Gestión pública. 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1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Verdana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omo tener una gestión públic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moderna, profesional, eficiente y sosteni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egunta tiene que ver con como gestionar el estad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Los principales tópicos se refieren a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laboración y ejecución de políticas públ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ejorar la capacidad fiscal. 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odernizar gestión de servicios públic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valuación y control de políticas y program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erfeccionamiento de la gestión financier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ordinación intragobiern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Gobierno electrón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147C-DEED-432D-835E-0A3A49CB108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Arial"/>
              </a:rPr>
              <a:t>1. Marco conceptual.</a:t>
            </a: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 Se refiere a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Funcionamiento del sistema polít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rocesos de toma de decision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articipación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Arial"/>
              </a:rPr>
              <a:t>2.Requie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structura que permita transparencia;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Objetivos claros y transparent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sponsabilidades, procedimientos y regl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articipación y control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3990-55D2-43EA-9FD9-751231BAD7F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110000"/>
              </a:lnSpc>
              <a:spcBef>
                <a:spcPts val="64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endParaRPr b="1" i="1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99"/>
                </a:solidFill>
                <a:latin typeface="Arial"/>
              </a:rPr>
              <a:t>3. Supone participación y rendición de cuentas</a:t>
            </a:r>
            <a:r>
              <a:rPr b="0" lang="es-ES_tradnl" sz="26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Transparencia está ligada a participación ciudadan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cceso a la informac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ndición de cuentas o accountability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55840" indent="-381240" algn="just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xistencia de controles internos, separación de poderes y controles externos a la administració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2. Agenda de Reforma y modernización del Estado (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453B-2BE1-4FE4-9214-767D9207C1B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Oval 2"/>
          <p:cNvSpPr/>
          <p:nvPr/>
        </p:nvSpPr>
        <p:spPr>
          <a:xfrm>
            <a:off x="2411280" y="1484280"/>
            <a:ext cx="2089440" cy="1295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Oval 3"/>
          <p:cNvSpPr/>
          <p:nvPr/>
        </p:nvSpPr>
        <p:spPr>
          <a:xfrm>
            <a:off x="6084720" y="1484280"/>
            <a:ext cx="2087640" cy="1224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stan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1547640" y="3141720"/>
            <a:ext cx="158436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Oval 5"/>
          <p:cNvSpPr/>
          <p:nvPr/>
        </p:nvSpPr>
        <p:spPr>
          <a:xfrm>
            <a:off x="4427640" y="3284640"/>
            <a:ext cx="1728720" cy="1079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dministrativa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Oval 6"/>
          <p:cNvSpPr/>
          <p:nvPr/>
        </p:nvSpPr>
        <p:spPr>
          <a:xfrm>
            <a:off x="3924360" y="189000"/>
            <a:ext cx="2087640" cy="86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 d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2987640" y="5013360"/>
            <a:ext cx="187344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forma restringid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odernizac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la gestión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5796000" y="5013360"/>
            <a:ext cx="1944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amplia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forma del estado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3850920" y="98100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5724360" y="90792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 flipH="1">
            <a:off x="2627280" y="27082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4140360" y="2637000"/>
            <a:ext cx="718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 flipH="1">
            <a:off x="4427640" y="4365720"/>
            <a:ext cx="576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5651640" y="4292640"/>
            <a:ext cx="57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23E4-7DD1-4B33-BEF7-6194FFD30B0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           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Un objetivo esencial del proceso de reformas ha sido </a:t>
            </a:r>
            <a:r>
              <a:rPr b="1" i="1" lang="es-CL" sz="2100" spc="-1" strike="noStrike">
                <a:solidFill>
                  <a:srgbClr val="003399"/>
                </a:solidFill>
                <a:latin typeface="Arial"/>
              </a:rPr>
              <a:t>lograr que el Estado desarrolle la capacidad de diseñar y ejecutar eficazmente las políticas públicas apropiad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30000"/>
              </a:lnSpc>
              <a:spcBef>
                <a:spcPts val="5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E6BC-FF9E-442E-A65F-B415398F1988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           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30000"/>
              </a:lnSpc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Se han caracterizado por ser</a:t>
            </a:r>
            <a:r>
              <a:rPr b="1" i="1" lang="es-CL" sz="2100" spc="-1" strike="noStrike">
                <a:solidFill>
                  <a:srgbClr val="003399"/>
                </a:solidFill>
                <a:latin typeface="Arial"/>
              </a:rPr>
              <a:t> procesos </a:t>
            </a: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que han apuntado a: 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fortalecer los procesos polític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haber abarcado ámbitos institucionales y normativos,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estar enfocados tanto a políticas de mayor equidad como de mayor desarrollo económico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ser procesos altamente dependientes de factores políticos,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mostrar la necesidad de tener esfuerzos de largo plazo,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or existir algunas áreas críticas a modernizar como condición para avanzar.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5C0A-929F-4510-AF5A-C3721806BEF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Estos procesos se han expresado en: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proyectos específic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muchas veces han generado visiones fragmentaria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son altamente dependientes de las capacidades institucionales, de las disponibilidades de recursos humanos y financier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sufren del cambio continuo de interlocutores en los gobiernos, 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que están diseñados en formatos rígidos y poco flexibles.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47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3A84-F2B5-4078-82D8-448E888BFC3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4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3399"/>
                </a:solidFill>
                <a:latin typeface="Arial"/>
              </a:rPr>
              <a:t>La Agenda sobre Reforma y Modernización del Estado se ha ido ampliando: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desde un inicio en que estuvo concentrada en mejoras administrativas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110000"/>
              </a:lnSpc>
              <a:spcBef>
                <a:spcPts val="476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900" spc="-1" strike="noStrike">
                <a:solidFill>
                  <a:srgbClr val="003399"/>
                </a:solidFill>
                <a:latin typeface="Arial"/>
              </a:rPr>
              <a:t>a un temario más comprehensivo, que cubre el sistema de gobierno en su conjunto, la participación de la ciudadanía, las mejoras en la gestión y la transparencia y probidad.</a:t>
            </a:r>
            <a:endParaRPr b="0" lang="en-US" sz="1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0C23-B180-4680-BB50-317EC94567C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5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Fortalecimiento del sistema democrátic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oder judicia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oder legislativ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istemas elector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Descentralizac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articipación ciudadan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Transparencia y probidad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istemas de contro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28A7-21D1-4AC2-89EC-58E1777C1827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Cambio continuo y discontinuo en el estad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ambios continuos son transformaciones que no cuestionan la lógica dominante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ni la identidad del estado en sus formas y actuac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Son cambios por adaptación, espontáneos, periféric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Cambios discontinuos alteran el modo de razonamiento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, el carácter del estado, aportando nuevos valores y nuevos principios que obligan a cambios en el comportamiento de los actor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formas se caracterizan por ser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cambios discontinu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. (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7C2B-5BE5-464B-8B44-D94C1EC0ECD6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6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onsolidar el estado de derech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Administración de justi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Defensa de los derechos de los ciudadan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eguridad jurídic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olución de controversias y conflict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Igualdad de acceso a la justi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ntrol de ilícitos, delitos financieros y lavado de diner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eguridad ciudadan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168B-0966-4FF0-8346-4702A542C85E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 (7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578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na administración pública moderna, profesional, eficiente y sosteni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laboración y ejecución de políticas públ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ejorar la capacidad fiscal. 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ervicio civil y gerencia públic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Modernizar gestión de servicios públic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valuación y control de políticas y program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erfeccionamiento de la gestión financier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ordinación intragobiern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414440" indent="-350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Gobierno electrónic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4689-DE29-4187-ACB9-0B267287848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9840" indent="-3398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ID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(8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984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Ámbitos prioritarios en la modernización del Estado</a:t>
            </a:r>
            <a:r>
              <a:rPr b="1" i="1" lang="es-CL" sz="21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317320" indent="0" algn="just">
              <a:lnSpc>
                <a:spcPct val="3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4132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n estado que apoye el desarrollo económico, la equidad y el funcionamiento de los mercados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Fortalecimiento de autoridades macroeconóm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Instalación y ajuste en sistemas regulatori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Reglas del juego mercantiles, financieras y de informac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Sistemas de pension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Gestión de empresas estatal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rocedimientos administrativos facilitadore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Políticas fiscales y tributarias adecuad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2" marL="1342800" indent="-332640" algn="just">
              <a:spcBef>
                <a:spcPts val="524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Fomento productivo y de la competitividad y el emprendimiento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8554-37CA-4E13-9699-05128E679F5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El Informe sobre el desarrollo mundial 1997 se dedica al papel del est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Las principales directrices son las siguientes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Reconsiderar el papel del estado: “qué produce” y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“cómo lo produce”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l estado debería ser facilitador del mercad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32040" indent="0" algn="ctr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Hacer coincidir el papel del estado con su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capacidad; usar los recursos del mercado y de la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sociedad civil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9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F358-8187-439C-9D95-3D897672949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720880" indent="0" algn="just">
              <a:spcBef>
                <a:spcPts val="201"/>
              </a:spcBef>
              <a:buNone/>
              <a:tabLst>
                <a:tab algn="l" pos="0"/>
                <a:tab algn="l" pos="62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Los estados débiles se deberían concentrar en lo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esencial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ctr">
              <a:spcBef>
                <a:spcPts val="201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erechos de propiedad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stabilidad macroeconómica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ontrol de enfermedad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gua potabl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Camin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20000"/>
              </a:lnSpc>
              <a:spcBef>
                <a:spcPts val="575"/>
              </a:spcBef>
              <a:buClr>
                <a:srgbClr val="003399"/>
              </a:buClr>
              <a:buFont typeface="Arial"/>
              <a:buChar char="–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tección</a:t>
            </a: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 a los más necesitados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0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CBB7-6AC8-4A13-9B63-D04C8F64653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4240" indent="-3542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542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Construir un mejor sector público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mover una capacidad central para formular y coordinar políticas públic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moción de sistemas eficientes y efectivos de provisión de servicios a través de una variedad de medios: valorar el desempeño, meritocracias, mejores sistemas de inform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Lucha contra la corrupción, vía un ataque múltiple que contemple menor regulación, mayor transparencia, mayor uso de mercados y mejor supervis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-3466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Promover personal motivado y capacitado vía políticas de retribución adecuadas y formación de equip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E7A8-16C2-40BF-BA5B-B80F09BF789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visión del Banco Mundial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           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4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* Pensar la secuencia de las reformas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Asegurar que reglas anunciadas sean reales, especialmente el control macroeconómic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75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Introducir con cautela nuevas técnicas de administración. Mayor flexibilidad en la medida que exista control efectivo de insumos y resultados.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575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Mejorar formulación y coordinación de políticas, al mismo tiempo de implementar un servicio público profesionalizado y de utilizar mecanismos de mercado.</a:t>
            </a:r>
            <a:r>
              <a:rPr b="0" lang="es-CL" sz="23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s-CL" sz="23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3399"/>
              </a:solidFill>
              <a:latin typeface="Arial"/>
            </a:endParaRPr>
          </a:p>
          <a:p>
            <a:pPr marL="36180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3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2)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4A8C-1F18-4829-B091-65D48EE2C08F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7840" indent="-3578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Osborne y Gaebler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40440" indent="0" algn="just">
              <a:lnSpc>
                <a:spcPct val="12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Conviene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separar la toma de decisiones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que pertenece al mundo de las políticas públicas,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de la ejecución y prestación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 del servicio, pues cuando ambas esferas se mezclan se generan toda clase de vici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Es mejor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darle facultades a las organizaciones ciudadanas que servirlas directamente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pues la experiencia demuestra que las pequeñas unidades autogestionadas por sus “dueños” suelen ser más eficaces que las pesadas maquinarias burocrática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86320" indent="-3502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Hay que inyectar competitividad e innovación en la prestación de servicios públicos, haciéndolos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competir entre si y con tercer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062B-D608-45BC-827E-66C6A2D3D3F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0640" indent="-3506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Osborne y Gaebler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Hay que buscar la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transformación de las organizaciones regidas por reglas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que en última instancia tienen como propósito fundamental su autopreservación,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en organizaciones orientadas a resultados,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 que es lo que le interesa a la ciudadaní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Debemos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financiar el producto final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que es lo que le interesa a la ciudadanía, en lugar de los datos e indicadores intermedios, que es lo que le interesa a la burocracia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lnSpc>
                <a:spcPct val="9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Las organizaciones públicas deben procurar </a:t>
            </a: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ganar en lugar de gastar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, introduciendo criterios emprendedores en su gestión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68320" indent="-343080" algn="just"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3399"/>
                </a:solidFill>
                <a:latin typeface="Arial"/>
              </a:rPr>
              <a:t>Satisfacer las necesidades del cliente</a:t>
            </a:r>
            <a:r>
              <a:rPr b="0" lang="es-CL" sz="2100" spc="-1" strike="noStrike">
                <a:solidFill>
                  <a:srgbClr val="003399"/>
                </a:solidFill>
                <a:latin typeface="Arial"/>
              </a:rPr>
              <a:t> debe ser un principio ordenador fundamental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3DCB-EB9B-4322-B69F-8111E14750A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Osborne y Gaebler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             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Más vale gastar un kilogramo en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prevención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que una tonelada en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uració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iseñemos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n gobierno verdaderamente descentralizad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en su toma de decisiones, y por tanto cercano a los usuari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11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Provoquemos el cambio a través del mercado cada vez que se pueda,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como por ejemplo en el caso de los permisos de emisión transables, que buscan controlar la contaminación mediante ese tipo de regl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0B76-7110-40BB-997B-6B1DE3CA73A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4240" indent="-3542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3399"/>
                </a:solidFill>
                <a:latin typeface="Arial"/>
              </a:rPr>
              <a:t>La amplitud del objeto de la reform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lnSpc>
                <a:spcPct val="90000"/>
              </a:lnSpc>
              <a:spcBef>
                <a:spcPts val="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99"/>
              </a:solidFill>
              <a:latin typeface="Verdana"/>
            </a:endParaRPr>
          </a:p>
          <a:p>
            <a:pPr lvl="1" marL="877320" indent="-3466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que afectan el diseño y funcionamiento de las instituciones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, es decir, la manera como se organizan y articulan los poderes del Estado para elaborar y ejecutar políticas públicas.  Se centran en los procesos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Se conocen como “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institucionales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”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Ej. La reforma liberal.  Separa poderes, asegura libertades, etc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4" marL="2415960" indent="0" algn="just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77320" indent="-346680" algn="just">
              <a:lnSpc>
                <a:spcPct val="110000"/>
              </a:lnSpc>
              <a:spcBef>
                <a:spcPts val="524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que transforman el contenido de la acción pública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, redefiniendo finalidad, objetivo y alcance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Se conocen como “</a:t>
            </a:r>
            <a:r>
              <a:rPr b="1" lang="es-ES_tradnl" sz="2100" spc="-1" strike="noStrike">
                <a:solidFill>
                  <a:srgbClr val="003399"/>
                </a:solidFill>
                <a:latin typeface="Arial"/>
              </a:rPr>
              <a:t>reformas sustantivas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”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  <a:p>
            <a:pPr lvl="1" marL="87732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3399"/>
                </a:solidFill>
                <a:latin typeface="Arial"/>
              </a:rPr>
              <a:t>Ej. El estado de bienestar, cambia contenido de acción pública y pone énfasis en redistribución, solidaridad, etc.</a:t>
            </a:r>
            <a:endParaRPr b="0" lang="en-US" sz="21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3EF6-75FA-4F11-92B3-029DF692381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Nueva Gestión Pública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1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Término surge en el 1989 propuesto por Hood en Inglaterra y se implementa en diversos países desarroll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Elementos constitutivos de esta propuesta son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a)  Énfasis en </a:t>
            </a: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privilegiar economía, eficiencia y eficacia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en la gestión de los gobiern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Redimensionamiento de la estructura administrativa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buscando aligerar organización enfocándola a lograr fines específicos y metas precisa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99"/>
                </a:solidFill>
                <a:latin typeface="Arial"/>
              </a:rPr>
              <a:t>Descentralización de decisiones</a:t>
            </a:r>
            <a:r>
              <a:rPr b="0" lang="es-ES_tradnl" sz="2200" spc="-1" strike="noStrike">
                <a:solidFill>
                  <a:srgbClr val="003399"/>
                </a:solidFill>
                <a:latin typeface="Arial"/>
              </a:rPr>
              <a:t> hacia mandos subalternos, con el necesario empoderamiento y responsabilización por resultad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C067-8C5F-4C31-821C-471D75BFAEC1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41472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Nueva Gestión Pública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reación de agencias públicas descentralizada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independientes y estructuradas de manera no burocrát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Distinción entre formular políticas e implementar política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; distinción entre “timonera” y “remar”. Insistir en carácter estratégico de alta dirección del gobierno y en la posibilidad de externalizar provisión de insumos y realizaión de contratos. Distinguir entre proveer financiamiento público y realizar acciones con dichos recurs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f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Uso de mecanismos de mercado tanto como incentiv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para la mejor gestión como para ofrecer mayor posibilidades de elección a usuari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4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FEEE-529F-4165-8CA2-2B900C4FF29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Nueva Gestión Pública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3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g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Orientación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tanto hacia l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omunidad política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(quienes definen objetivos) y hacia l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comunidad de usuari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(quienes aceptan la utilidad del servicio), incorporando expectativas, intereses y calidad en la gestión pública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h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Enfasis en los resultados y el desempeñ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más que sólo en observar procedimientos y norma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i) 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Implantación de sistemas de medición y evaluación de desempeñ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lo que obliga a definir actividades, productos y resultados y crear estándares e  indicadores de desempeño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8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9297-0BDA-4A30-852C-BBFFE86F795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414720" algn="just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(1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-414720" algn="just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Ha surgido un nuevo paradigma de la gestión pública, que se centra en la promoción de una cultura orientada al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desempeño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en un sector público menos centralizado”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-414720" algn="just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Estructuras administrativas y patrones directivos tradicionales son ineficaces; esto obliga a un cambio radical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que revise el ámbito y el modo de la intervención gubernamental,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que mejore la calidad analítica de las decisiones de políticas,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5076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que rehaga la relación costo/beneficio – efectividad de las acciones públicas y que renueve normas e incentiv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19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B436-6327-4846-8D4B-041421A5BA60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40644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(2)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406440" indent="-40644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La agenda de reformas propuesta por la OCDE es la ss.: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31320" indent="-4064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Focalización 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de la acción pública </a:t>
            </a: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en los resultado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 conforme a criterios de eficiencia, eficacia y calidad del servicio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31320" indent="-4064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Sustitución de estructuras organizativas jerárquicas y centralizadas por estructuras descentralizadas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, para acercar la toma de decisiones a la prestación de servicios y se posibilite la retroalimentación de los clientes y usuario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31320" indent="-406440" algn="just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3399"/>
                </a:solidFill>
                <a:latin typeface="Arial"/>
              </a:rPr>
              <a:t>Flexibilizar </a:t>
            </a:r>
            <a:r>
              <a:rPr b="0" lang="es-CL" sz="2200" spc="-1" strike="noStrike">
                <a:solidFill>
                  <a:srgbClr val="003399"/>
                </a:solidFill>
                <a:latin typeface="Arial"/>
              </a:rPr>
              <a:t>opciones de prestación directa de servicios públicos y de la regulación, a fin de bajar costos de las prestacion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0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22FF-0F56-4B12-8202-7BF8BFBBF59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(3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19040" indent="-41904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La agenda de reformas propuesta por la OCDE es la ss.: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lphaL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Priorizar la eficiencia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de los servicios proveídos por el sector público, para lo cual se deben definir metas y crear entornos competitivos intra e inter servicio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lphaL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Reforzar las capacidades estratégicas de la alta dirección del gobierno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, para poder conducir la evolución del estado y responder con rapidez, flexibilidad y a bajo costo  a cambios externos y a nuevas demand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1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10C1-8E4C-4C06-A82D-3D4583ACCDC5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(4)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19040" indent="-41904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Arial"/>
              </a:rPr>
              <a:t>Los medios para lograr esta agenda son: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Descentralización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de decision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Mejorar la dirección estratégica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, financiera y de calidad de los servicios prestado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Desregulación o re-regulación apropiada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de normas aplicadas a diversos sector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-419040" algn="just">
              <a:spcBef>
                <a:spcPts val="601"/>
              </a:spcBef>
              <a:buClr>
                <a:srgbClr val="00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Introducción de </a:t>
            </a: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incentivos de mercado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 en la operación administrativa de los servici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9604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2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C865-C737-4FF1-BDCD-00C86EA6E19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La propuesta de la OCDE: “Governance in transition” de 1995.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(5)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19040" indent="-419040" algn="just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Visión de la OCDE sobre la futura administración pública: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41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“ </a:t>
            </a:r>
            <a:r>
              <a:rPr b="1" i="1" lang="es-CL" sz="2000" spc="-1" strike="noStrike">
                <a:solidFill>
                  <a:srgbClr val="003399"/>
                </a:solidFill>
                <a:latin typeface="Arial"/>
              </a:rPr>
              <a:t>en las décadas por venir, el sector público será radicalmente diferente en apariencia y actuación: se involucrará cada vez menos en la prestación directa de los servicios; se concentrará más en establecer un marco flexible que favorezca las actividades económicas; regulará mejor al disponer de una información más completa sobre los impactos de la regulación; evaluará de manera permanente la eficacia de las políticas; desarrollará funciones de planeación y liderazgo estratégico para dar respuestas a los desafíos económicos y sociales; y tendrá un enfoque más participativo de la gobernabilidad. “</a:t>
            </a:r>
            <a:endParaRPr b="1" i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3. Propuestas de agendas de reforma. (2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617D-5A36-48C3-96F4-FD22896CC5A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99640" y="1483920"/>
            <a:ext cx="8045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2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Hechas las distinciones del caso,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política vs. gestión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reforma sustancial vs. reforma institucional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reforma política vs. administrativa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y de </a:t>
            </a:r>
            <a:r>
              <a:rPr b="1" i="1" lang="es-CL" sz="2200" spc="-1" strike="noStrike" u="sng">
                <a:solidFill>
                  <a:srgbClr val="003399"/>
                </a:solidFill>
                <a:uFillTx/>
                <a:latin typeface="Arial"/>
              </a:rPr>
              <a:t>reforma vs. modernización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, es sano volver a la vaga e inclusiva definición de Pollit y Bouckaert: </a:t>
            </a:r>
            <a:r>
              <a:rPr b="1" i="1" lang="es-CL" sz="2200" spc="-1" strike="noStrike">
                <a:solidFill>
                  <a:srgbClr val="ff9900"/>
                </a:solidFill>
                <a:latin typeface="Arial"/>
              </a:rPr>
              <a:t>“Son cambios deliberados a las estructuras y procesos del sector público, con el objeto de hacer que funcionen</a:t>
            </a: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es-CL" sz="2200" spc="-1" strike="noStrike">
                <a:solidFill>
                  <a:srgbClr val="ff9900"/>
                </a:solidFill>
                <a:latin typeface="Arial"/>
              </a:rPr>
              <a:t>mejor en algún sentido”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12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marL="361800" indent="-361800" algn="just">
              <a:lnSpc>
                <a:spcPct val="11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3399"/>
                </a:solidFill>
                <a:latin typeface="Arial"/>
              </a:rPr>
              <a:t>En definitiva, de eso se trata, de que funcionen mejor para los ciudadanos, y también para los trabajadores públicos.</a:t>
            </a:r>
            <a:endParaRPr b="1" i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Reforma y modernización del Estado: Perspectiva histórica y Conceptos Generale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9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6D48-A1B1-4B9E-B8B2-4EC8568A0BC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07280" cy="164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99"/>
                </a:solidFill>
                <a:latin typeface="Arial"/>
              </a:rPr>
              <a:t>1. Agenda para la reforma del estado.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55640" y="4581360"/>
            <a:ext cx="7655040" cy="139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Arial"/>
              </a:rPr>
              <a:t>2010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9241-63BE-4E53-8234-6E104816FE23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Al interior de las reformas institucionales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Se distinguen reformas políticas y reformas administrativ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política consiste en cambio discontinuo en lo polít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aso de dictadura a democraci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ambio de estado unitario a estado federal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Integración supranacional en un nuevo estad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onversión de régimen presidencial a parlamentari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3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D208-07CF-41E0-996C-CFF859B6C18D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Al interior de las reformas institucionales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administrativa consiste en cambios en la administración pública, en la forma como el poder ejecutivo realiza sus tare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Organización de estructuras gubernamenta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égimen y gestión del funcionariad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Gestión financiera y presupuestari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Control de la gestió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428840" indent="-354240" algn="just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4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97A1-D1F8-4319-AB84-D548E77D0CA2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continuo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-228600" algn="just">
              <a:lnSpc>
                <a:spcPct val="60000"/>
              </a:lnSpc>
              <a:spcBef>
                <a:spcPts val="201"/>
              </a:spcBef>
              <a:buClr>
                <a:srgbClr val="003399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restringida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aplicación de principios organizacionales a la administrac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Permite mejoras en procesos rutinarios, sencillos, predecible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Desconoce especificidad de gestión pública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s interpretación simplificada de la complejidad del sector públic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5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8018-C165-4639-9336-4DC5E408185B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7040" indent="-347040" algn="just">
              <a:spcBef>
                <a:spcPts val="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continuo.</a:t>
            </a:r>
            <a:endParaRPr b="1" i="1" lang="en-US" sz="2500" spc="-1" strike="noStrike">
              <a:solidFill>
                <a:srgbClr val="003399"/>
              </a:solidFill>
              <a:latin typeface="Arial"/>
            </a:endParaRPr>
          </a:p>
          <a:p>
            <a:pPr lvl="4" marL="2366640" indent="-219240" algn="just">
              <a:lnSpc>
                <a:spcPct val="60000"/>
              </a:lnSpc>
              <a:spcBef>
                <a:spcPts val="201"/>
              </a:spcBef>
              <a:buClr>
                <a:srgbClr val="003399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restringida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Se caracteriza por rejuvenecimiento físico, organizativo, introducción de nuevas tecnologí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No supone un cambio de la institucionalidad, ni de las funciones ni de los roles de la administración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-3394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A veces permite hacer eficientemente lo incorrecto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e le denomina “reforma gerencial”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593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Se asocia con “modernización de la gestión pública”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6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5 Marcador de número de diapositiva"/>
          <p:cNvSpPr/>
          <p:nvPr/>
        </p:nvSpPr>
        <p:spPr>
          <a:xfrm>
            <a:off x="7203960" y="6500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6ADB-BF61-4ACD-8C6B-FA65769EB309}" type="slidenum">
              <a:rPr b="1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45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3399"/>
                </a:solidFill>
                <a:latin typeface="Arial"/>
              </a:rPr>
              <a:t>Reformas en la administración como cambio discontinuo</a:t>
            </a:r>
            <a:r>
              <a:rPr b="1" i="1" lang="es-ES_tradnl" sz="2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465280" indent="0" algn="just">
              <a:lnSpc>
                <a:spcPct val="6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Verdana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Reforma amplia y profunda: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 analiza relación de la administración con el resto del Estado y su legitimidad democrática.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Entiende que lo administrativo y lo político están íntimamente ligado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-353880" algn="just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Reconoce que la acción gubernamental se caracteriza por la interconexión entre servicios e instancias públicas y privada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95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1. Conceptos generales (7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21:03:08Z</dcterms:created>
  <dc:creator>Rodrigo Egaña</dc:creator>
  <dc:description/>
  <dc:language>en-US</dc:language>
  <cp:lastModifiedBy>..</cp:lastModifiedBy>
  <cp:lastPrinted>2003-02-05T21:45:17Z</cp:lastPrinted>
  <dcterms:modified xsi:type="dcterms:W3CDTF">2010-05-28T15:42:55Z</dcterms:modified>
  <cp:revision>940</cp:revision>
  <dc:subject/>
  <dc:title>GESTION PUBLICA Y MODERNIZACION DEL ESTADO</dc:title>
</cp:coreProperties>
</file>