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B67-4FA1-43EB-B972-A05981FB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A29-78B5-41B3-B1EF-5E864DD3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268-2EF7-4EC1-A45D-9B06A6B5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D88-E582-4B88-A4E2-A0D8A1DF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B958-FB98-45A7-A711-2B256F5B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3DF3-E322-4DD4-A3E3-DE7630B4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3F33-C1D1-49F3-AE81-FA6C2079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D1F2-21BC-4CE1-8EC5-E9DF1791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C0AA-4BC6-458D-8091-B22B7A20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B4F9-9FD5-4E61-9A6F-75267BB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E165-2935-426D-A70E-0D6E121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B32-6951-4FB2-B368-85705B36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2A5D-DCE3-475B-A960-B7D7FF2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2504-39E8-43BB-8A91-4C82FB54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3635-3BE2-4B16-BFB8-51FFA97F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8CBA-3159-42DC-A96C-734BE159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34A9-C373-4B6B-97AF-1AA70C62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00E-9ABD-457A-9E86-212B242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526-57E8-417B-9FFA-4874567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323-C739-42FF-A586-F0172004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65A-8E55-40F5-8B60-BB8D94D1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98C-9126-4EDA-898A-11B9E7AD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6C4-9C30-44AE-B22B-54016D2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30B-EE4E-46EE-A417-C663440C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E2B5-0A7A-41F9-9142-8A96C080CB6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1EE6-56AE-4902-880D-7422530B5DF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180D-B224-40E6-A7CF-95D0919BAEB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7205-AA71-461E-8A22-61AEB73A041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sume que las funciones públicas no son perfectamente predecibles, sino que son producto de la interacción entre funcionarios y usuarios / destinatarios / cli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punta a generar alteraciones en las funciones y roles que asume el estado, y en la forma como se distribuye el poder entre las instituciones y entre estas y la ciudadaní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del Estado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32C7-A9F7-4E66-A25F-63EBE8E8106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tienen dos momento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olíticas destinadas a enfrentar la crisis económica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políticas macroeconómicas y de ajuste de balanza de pag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o enfocan aspecto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cluyen política de privatizaciones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de las instituciones públicas para enfrentar desafíos políticos actu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rvicios son reformados, reconstruidos o se crean nue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03C5-181C-4A73-8442-01A8ED84BBF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sinónimo de reducción de intromisión no deseada en los mercados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incremento de eficiencia burocrática, privatizaciones, reducción de regulac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ircunscri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para “expansión” selectiva de la acción pública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mejorar provisión de infraestructura, de servicios de salud y educación, enfrentar pobreza y desemple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on nueva capacidad regulado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8199-95EE-4C15-8E67-3BD3A8BBA05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transformación de las relaciones de poder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fortalecer poder legislativo, mejorar justicia, fortalecer gobiernos regionales y locales, responsabilidad pública y participación. Es enfoque más polí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más democrá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4C56-B099-4C83-94DF-A2C1D4011E0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s presidencialista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grado de conflicto o cooperación entre presidente y legislatura y poderes presidenci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coherencia de reformas es producto de mayor sintonía entre ambos pode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 de partidos político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fragmentación de partidos vrs partidos o coaliciones cohesion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o menor posibilidad de apoyo a procesos de reform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E8CE-A3F6-4873-A1BD-5A09E598586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Delegación de facultade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desde parlamento a ejecutivo y desde presidente a agencias o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Falacia tecnocrática: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 suponer que es posible solucionar difíciles problemas políticos removiendo de toma de decisiones a políticos y grupo de presión y reemplazarlos por tecnócra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72C1-C1AE-4725-AB24-30DC05BE443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Reformas al servicio civil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como recorte del tamaño del servicio civil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ciertos países se acompañó de mejoras en la eficiencia organizaci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Introducción de incentivos al desempeño y al esfuerzo de funcionari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Incentivos positivos vía descomprimir escalas salariales, sistemas de promoción más competitivos, sistemas de evaluación más discriminadores, sanciones a la corrupción y a abu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 Reforma y modernización del Estado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8748-7F45-4274-AE0B-83760B319AB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Gestión de los recursos human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A mayor descentralización de gestión de personal, se requiere mayor capacidad administrativ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 constata sobrecentralización en gestión de personal, de decisiones sobre gastos, asignación de vacantes, aprobaciones de reclutamiento, despidos, promociones, ajustes salariales, sistemas de calificación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rgos de confianza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Designaciones políticas en cargos superiores de las administraciones.  Esto cumple tres objetivos: garantizar beneficios a partidarios; asegurar apoyo de legisladores; garantizar orientaciones político - programá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B398-4004-4302-8818-16A4C672324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Diseño de servicios administrativos y reguladores</a:t>
            </a:r>
            <a:r>
              <a:rPr b="1" i="1" lang="es-ES_tradnl" sz="23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Cambio de rol del Estado de productor de bienes y servicios a rol normativo, regulador y fiscalizador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stado interviene menos directamente en los mercados y asume función reguladora; privatizaciones separa empresas del Estado, que deben ser fiscalizadas de forma nueva; crecen demandas por regular nuevos sectores (salud, medio ambiente, seguridad laboral, etc.)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en entidades administrativas y reguladoras requiere delegación de la autoridad política a autoridade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la autoridad monetaria en Banco Centr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programas de pobreza en Fondos Soci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EDF-349F-4233-8AD6-D325F298F39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bate sobre cuan centralizado o cuan descentralizado debe ser un gobierno tiene que ver con quién y dónde se toman decis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ferencia de responsabilidades en planificación, gerencia y asignación de recursos desde el gobierno central a servicios nacionales, corporaciones públicas autónomas, autoridades regionales o locales, tercer sector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sconcentra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areas y autoridad son delegadas hacia abajo dentro de un servicio, para obtener mayor efici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7435-34FB-4E3A-B9AF-86B8206C690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DF6F-B8ED-492B-94B6-9EFF38A1A36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volu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ransferencia de capacidad de decisión desde nivel central a gobiernos regionales y locales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ederalismo (Venezuela, Brasil, Argentin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gionalismo (Chile, Colombi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ocesos de descentralización están afectados por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Qué se transfiere primero: funciones o recur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construye capacidad gerencial en niveles regionales y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ejerce control desde el centro sobre entes descentraliz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resuelve la descentralización fiscal: federalismo o centralismo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1520-A839-4657-9777-1402E4C1CA0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Gestión pública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omo tener una gest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egunta tiene que ver con como gestionar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os principales tópicos se refieren 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9F35-FDCD-42AA-9773-5ECB60AC36B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1. Marco conceptual.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 Se refiere a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uncionamiento del sistema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rocesos de toma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2.Requie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tructura que permita transparencia;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bjetivos claros y transpar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sponsabilidades, procedimientos y reg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y control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3711-21DF-4D2C-B072-5A6408D8FCE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3. Supone participación y rendición de cuentas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Transparencia está ligada a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ceso a la inform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ndición de cuentas o accountabil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xistencia de controles internos, separación de poderes y controles externos a la administr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3A55-57F1-4AB8-9098-8C17B62B67F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72B-06D9-4EFA-8891-D64444641AA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Un objetivo esencial del proceso de reformas ha sido 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lograr que el Estado desarrolle la capacidad de diseñar y ejecutar eficazmente las políticas públicas apropi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5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8ABD-CF7C-4C91-B9AD-BE4EAC3A3ED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Se han caracterizado por ser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 procesos </a:t>
            </a: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que han apuntado a: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fortalecer los procesos polít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haber abarcado ámbitos institucionales y normativ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star enfocados tanto a políticas de mayor equidad como de mayor desarrollo económico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ser procesos altamente dependientes de factores polític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mostrar la necesidad de tener esfuerzos de largo plazo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xistir algunas áreas críticas a modernizar como condición para avanzar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1FCB-7530-45CF-B091-454CFE681D4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Estos procesos se han expresado en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royectos específ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muchas veces han generado visiones fragmentaria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on altamente dependientes de las capacidades institucionales, de las disponibilidades de recursos humanos y financier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ufren del cambio continuo de interlocutores en los gobiern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están diseñados en formatos rígidos y poco flexibles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E271-8914-46CD-9DC6-288ECDB6BC4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La Agenda sobre Reforma y Modernización del Estado se ha ido ampliando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desde un inicio en que estuvo concentrada en mejoras administrativa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a un temario más comprehensivo, que cubre el sistema de gobierno en su conjunto, la participación de la ciudadanía, las mejoras en la gestión y la transparencia y probidad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B298-476F-4ADD-A861-C64D6CDDF5D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5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rtalecimiento del sistema democrát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judici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legislativ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elector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contro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7ADA-69BC-4160-BB91-BD4CAD5A7B2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ambio continuo y discontinuo en el esta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continuos son transformaciones que no cuestionan la lógica dominante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ni la identidad del estado en sus formas y actu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on cambios por adaptación, espontáneos, periféric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discontinuos alteran el modo de razonamiento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, el carácter del estado, aportando nuevos valores y nuevos principios que obligan a cambios en el comportamiento de los actor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s se caracterizan por ser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cambios discontinu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85F5-A8C0-4CEC-BCBF-938E7FC95BF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6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nsolidar el estado de derech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Administración de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fensa de los derechos de los ciudadan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juríd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olución de controversias y conflict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gualdad de acceso a la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trol de ilícitos, delitos financieros y lavado de diner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16E9-5D4E-4DF2-A52F-1956F8434F3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7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578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a administración pública 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rvicio civil y gerencia públ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13F7-C815-4F23-B734-2EE3B1A32F5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(8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8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3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estado que apoye el desarrollo económico, la equidad y el funcionamiento de los mercados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rtalecimiento de autoridades macroeconóm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alación y ajuste en sistemas regulator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Reglas del juego mercantiles, financieras y de inform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pens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estión de empresas estat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rocedimientos administrativos facilitador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líticas fiscales y tributarias adecu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mento productivo y de la competitividad y el emprendimien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0611-9C09-4868-8E4D-FDFFE0D7873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l Informe sobre el desarrollo mundial 1997 se dedica al papel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as principales directrices son las siguiente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Reconsiderar el papel del estado: “qué produce” y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“cómo lo produce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estado debería ser facilitador del merc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Hacer coincidir el papel del estado con su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apacidad; usar los recursos del mercado y de la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2971-1C05-413D-BC56-6CC5824CFB2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2088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Los estados débiles se deberían concentrar en lo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sencial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rechos de propi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abilidad macroeconóm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ntrol de enfermedad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ua pota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ami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tección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 a los más necesi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755C-8387-4940-A4B7-2DE490ECCE7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542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Construir un mejor sector públ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una capacidad central para formular y coordinar polític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ción de sistemas eficientes y efectivos de provisión de servicios a través de una variedad de medios: valorar el desempeño, meritocracias, mejores sistem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ucha contra la corrupción, vía un ataque múltiple que contemple menor regulación, mayor transparencia, mayor uso de mercados y mejor supervis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personal motivado y capacitado vía políticas de retribución adecuadas y formación de equip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129C-8E58-4CE5-A11D-9FDF56311C0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Pensar la secuencia de las reforma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segurar que reglas anunciadas sean reales, especialmente el control macroeconóm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Introducir con cautela nuevas técnicas de administración. Mayor flexibilidad en la medida que exista control efectivo de insumos y resul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Mejorar formulación y coordinación de políticas, al mismo tiempo de implementar un servicio público profesionalizado y de utilizar mecanismos de mercado.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2)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EF80-F7D3-4A43-89A3-508A5465218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viene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eparar la toma de decisione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pertenece al mundo de las políticas públicas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e la ejecución y prestación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l servicio, pues cuando ambas esferas se mezclan se generan toda clase de vic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s mejo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arle facultades a las organizaciones ciudadanas que servirlas directam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pues la experiencia demuestra que las pequeñas unidades autogestionadas por sus “dueños” suelen ser más eficaces que las pesadas maquinaria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inyectar competitividad e innovación en la prestación de servicios públicos, haciéndol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competir entre si y con tercer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666B-0126-48EF-96B1-2C316BCCB49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0640" indent="-3506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buscar la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transformación de las organizaciones regidas por regla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n última instancia tienen como propósito fundamental su autopreservación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en organizaciones orientadas a resultados,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que es lo que le interesa a la ciudadaní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bem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financiar el producto final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s lo que le interesa a la ciudadanía, en lugar de los datos e indicadores intermedios, que es lo que le interesa a la burocra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Las organizaciones públicas deben procura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ganar en lugar de gastar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introduciendo criterios emprendedores en su gest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atisfacer las necesidades del cli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be ser un principio ordenador fundament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4090-A206-4B68-A77E-733EE92959D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ás vale gastar un kilogramo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even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que una tonelada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u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iseñemos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gobierno verdaderamente descentraliz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en su toma de decisiones, y por tanto cercano a los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voquemos el cambio a través del mercado cada vez que se pueda,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mo por ejemplo en el caso de los permisos de emisión transables, que buscan controlar la contaminación mediante ese tipo de regl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5960-D55A-49F3-BF7D-35E30D5648A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La amplitud del objeto de la reform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lnSpc>
                <a:spcPct val="9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afectan el diseño y funcionamiento de las institucion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es decir, la manera como se organizan y articulan los poderes del Estado para elaborar y ejecutar políticas públicas.  Se centran en los proces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institucional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La reforma liberal.  Separa poderes, asegura libertades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transforman el contenido de la acción pública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redefiniendo finalidad, objetivo y alcanc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sustantiva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El estado de bienestar, cambia contenido de acción pública y pone énfasis en redistribución, solidaridad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C602-DB5C-4D46-8BAD-8FF09D4C67C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érmino surge en el 1989 propuesto por Hood en Inglaterra y se implementa en diversos países desarroll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lementos constitutivos de esta propuesta so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)  Énfasis en 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ivilegiar economía, eficiencia y eficaci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la gestión de los gobier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dimensionamiento de la estructura administrativ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buscando aligerar organización enfocándola a lograr fines específicos y metas precis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de decisiones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hacia mandos subalternos, con el necesario empoderamiento y responsabilización por result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DC7A-7CD2-499C-8FBC-45F631D0AFD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agencias públic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independientes y estructuradas de manera no burocrá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istinción entre formular políticas e implementar polític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; distinción entre “timonera” y “remar”. Insistir en carácter estratégico de alta dirección del gobierno y en la posibilidad de externalizar provisión de insumos y realizaión de contratos. Distinguir entre proveer financiamiento público y realizar acciones con dichos recurs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so de mecanismos de mercado tanto como incentiv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para la mejor gestión como para ofrecer mayor posibilidades de elección a usuar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6ED-4AFA-41B8-ABD5-82428952127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g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Orienta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tanto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polític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definen objetivos) y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de usuari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aceptan la utilidad del servicio), incorporando expectativas, intereses y calidad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fasis en los resultados y el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más que sólo en observar procedimientos y norm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i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Implantación de sistemas de medición y evaluación de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lo que obliga a definir actividades, productos y resultados y crear estándares e  indicadores de desempeñ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C6C8-0A26-4B1C-897E-5E8BE1D3B10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a surgido un nuevo paradigma de la gestión pública, que se centra en la promoción de una cultura orientada a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un sector público menos centralizado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ructuras administrativas y patrones directivos tradicionales son ineficaces; esto obliga a un cambio radical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vise el ámbito y el modo de la intervención gubernamental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mejore la calidad analítica de las decisiones de políticas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haga la relación costo/beneficio – efectividad de las acciones públicas y que renueve normas e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4581-CB4E-4F4E-8050-D775CE30A4A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calización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 la acc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los resultad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nforme a criterios de eficiencia, eficacia y calidad del servic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Sustitución de estructuras organizativas jerárquicas y centralizadas por estructur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para acercar la toma de decisiones a la prestación de servicios y se posibilite la retroalimentación de los clientes y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lexibilizar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ones de prestación directa de servicios públicos y de la regulación, a fin de bajar costos de las prest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C3B1-9917-404D-9E63-3CF766D0EFA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Priorizar la eficienci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los servicios proveídos por el sector público, para lo cual se deben definir metas y crear entornos competitivos intra e inter servici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Reforzar las capacidades estratégicas de la alta dirección del gobiern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para poder conducir la evolución del estado y responder con rapidez, flexibilidad y a bajo costo  a cambios externos y a nuevas deman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E0A7-DE4C-425D-9AD8-C31C75E3578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os medios para lograr esta agenda son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ejorar la dirección estratégic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financiera y de calidad de los servicios prestad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regulación o re-regulación apropiad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normas aplicadas a diversos sect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ntroducción de 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incentivos de mercad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en la operación administrativa de los servic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FE4-F55B-4F71-8D66-05D627480B3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(5)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Visión de la OCDE sobre la futura administración públic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“ 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en las décadas por venir, el sector público será radicalmente diferente en apariencia y actuación: se involucrará cada vez menos en la prestación directa de los servicios; se concentrará más en establecer un marco flexible que favorezca las actividades económicas; regulará mejor al disponer de una información más completa sobre los impactos de la regulación; evaluará de manera permanente la eficacia de las políticas; desarrollará funciones de planeación y liderazgo estratégico para dar respuestas a los desafíos económicos y sociales; y tendrá un enfoque más participativo de la gobernabilidad. 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B9D3-2EB3-4C5A-87FF-92C6160E697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2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Hechas las distinciones del caso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política vs. gest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sustancial vs. reforma institucional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política vs. administrativa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y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vs. modernizac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es sano volver a la vaga e inclusiva definición de Pollit y Bouckaert: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“Son cambios deliberados a las estructuras y procesos del sector público, con el objeto de hacer que funcione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mejor en algún sentido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n definitiva, de eso se trata, de que funcionen mejor para los ciudadanos, y también para los trabajadore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Reforma y modernización del Estado: Perspectiva histórica y Conceptos General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A17D-86F4-43CD-94E0-8A800A10757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FBD0-1728-4FEF-8312-6AF9B9DF7E4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distinguen reformas políticas y reformas administrativ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política consiste en cambio discontinuo en lo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so de dictadura a democrac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ambio de estado unitario a estado feder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tegración supranacional en un nuevo est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versión de régimen presidencial a parlamentar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73EF-D69F-4028-B0B9-3E5A7367164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dministrativa consiste en cambios en la administración pública, en la forma como el poder ejecutivo realiza sus tare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rganización de estructuras gubernament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égimen y gestión del funcionari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ón financiera y presupuestar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la gest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EA1A-5BCB-417F-8788-3FB81E878C3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plicación de principios organizacionales a la administr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mite mejoras en procesos rutinarios, sencillos, predecib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Desconoce especificidad de gest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 interpretación simplificada de la complejidad del sector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275B-5FD6-4948-8FD5-9D45CD3C1E5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7040" indent="-34704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366640" indent="-21924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caracteriza por rejuvenecimiento físico, organizativo, introducción de nuevas tecnologí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o supone un cambio de la institucionalidad, ni de las funciones ni de los roles de la administr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 veces permite hacer eficientemente lo incorrect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gerencial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asocia con “modernización de la gestión pública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F7EF-CB77-4223-A352-D6A764B3B06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naliza relación de la administración con el resto del Estado y su legitimidad democrática.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ntiende que lo administrativo y lo político están íntimamente lig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conoce que la acción gubernamental se caracteriza por la interconexión entre servicios e instancias públicas y priv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5-28T15:42:55Z</dcterms:modified>
  <cp:revision>940</cp:revision>
  <dc:subject/>
  <dc:title>GESTION PUBLICA Y MODERNIZACION DEL ESTADO</dc:title>
</cp:coreProperties>
</file>