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FA1-2813-47BA-A07C-EF9DB202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C58C-4B67-40D1-9864-5FF3A063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2E7-3979-4ED9-9FBC-2296F517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29C0-C00F-4387-8778-A575D844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E9D-48B5-4F39-B847-9DCA61A7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4B6-19CF-4956-BE7B-1F54F804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58E-7AC9-484D-8D96-3206DB64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C60-2A8B-4637-A0ED-399FD30B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0AE-D596-427C-BDDA-8EBADD18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529-3B0D-4246-86C9-A79BAB79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B29-3E6F-42D8-BD61-5DA2132C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B60-670B-4D56-9F68-1454C707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3C3D-2487-40C4-A347-B537C10AE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ítica indígen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rendizaje y desafí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31748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drigo Egaña Bara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0920" y="1249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 de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50800"/>
            <a:ext cx="8424720" cy="55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lan de Acción se estructura en torno a tres grandes á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1. Sistema Político, derechos e institu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.1. Sistema político y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.2.  Institucional y 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2. Desarrollo Integral de los pueb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1. Tierras y terri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2. Desarrollo económico y produc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3. Educación, salud y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4. Especificidad de los pueblo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3. Multiculturalidad y diver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1. Política Indígena Urb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2. Multiculturalidad en la soc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3. Gestión del desarrollo integrado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3A6-D5A4-4925-AC2C-9D6B73E966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ción de una narrativa sobre la política aprob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tactos sistemáticos con actores relevantes para difundir la polít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zacione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zaciones sociedad civ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gles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lamen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tid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adé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smos intern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dios de comun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r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tores de gobierno ministeriales, de servicios, reg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4F5B-243A-4799-9D3B-741530F3C6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I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l plan de trabajo para aplicar la política definida: identificar acciones, responsables, productos a generar, plazos, condiciones de satisfacción a alcanza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r equipo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institucional a diversos nive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ADI, Programa Oríg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interminis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10F4-50D0-4136-94F5-0122AB0E65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 esquema de trabajo de gobernabil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actores, intereses, iniciativas a desarrollar con cada uno, preparación de programas de acción, puesta en marcha de los mis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recursos presupuestarios para equipo de coordinación y para programas que entregarán soluciones a problemas ur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0F89-A990-4ABE-AA10-2450FDF08C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87640" y="652464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ORNO INTER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187280" y="-162000"/>
            <a:ext cx="7305840" cy="6681960"/>
            <a:chOff x="1187280" y="-162000"/>
            <a:chExt cx="7305840" cy="6681960"/>
          </a:xfrm>
        </p:grpSpPr>
        <p:sp>
          <p:nvSpPr>
            <p:cNvPr id="72" name="_s14340"/>
            <p:cNvSpPr/>
            <p:nvPr/>
          </p:nvSpPr>
          <p:spPr>
            <a:xfrm>
              <a:off x="1187280" y="693720"/>
              <a:ext cx="5999400" cy="5826240"/>
            </a:xfrm>
            <a:prstGeom prst="donut">
              <a:avLst>
                <a:gd name="adj" fmla="val 12500"/>
              </a:avLst>
            </a:prstGeom>
            <a:solidFill>
              <a:srgbClr val="ff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4341"/>
            <p:cNvSpPr/>
            <p:nvPr/>
          </p:nvSpPr>
          <p:spPr>
            <a:xfrm>
              <a:off x="7392960" y="2766960"/>
              <a:ext cx="1100160" cy="180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-47880" bIns="-47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4342"/>
            <p:cNvSpPr/>
            <p:nvPr/>
          </p:nvSpPr>
          <p:spPr>
            <a:xfrm>
              <a:off x="2536920" y="1859040"/>
              <a:ext cx="3154320" cy="3025800"/>
            </a:xfrm>
            <a:prstGeom prst="donut">
              <a:avLst>
                <a:gd name="adj" fmla="val 25000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4343"/>
            <p:cNvSpPr/>
            <p:nvPr/>
          </p:nvSpPr>
          <p:spPr>
            <a:xfrm>
              <a:off x="7392960" y="569880"/>
              <a:ext cx="1100160" cy="733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49680" bIns="49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4344"/>
            <p:cNvSpPr/>
            <p:nvPr/>
          </p:nvSpPr>
          <p:spPr>
            <a:xfrm>
              <a:off x="3287520" y="2532240"/>
              <a:ext cx="1643040" cy="166500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4345"/>
            <p:cNvSpPr/>
            <p:nvPr/>
          </p:nvSpPr>
          <p:spPr>
            <a:xfrm>
              <a:off x="7392960" y="-162000"/>
              <a:ext cx="1100160" cy="73188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49680" bIns="49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65080" y="3503520"/>
              <a:ext cx="176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Organizaciones y dirigentes indíg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60720" y="5111640"/>
              <a:ext cx="23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ORNO REG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65560" y="5904000"/>
              <a:ext cx="209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NTORNO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57360" y="4348080"/>
              <a:ext cx="1575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ORN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65080" y="1741680"/>
              <a:ext cx="172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EMPRESAR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33440" y="4633920"/>
              <a:ext cx="150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ARLA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49680" y="422280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MUND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38120" y="2160720"/>
              <a:ext cx="240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INSTITUCIONES PRIVAD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55760" y="4118040"/>
              <a:ext cx="188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sejo de la CONAD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8640" y="1368360"/>
              <a:ext cx="254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DE COMUNI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92360" y="2951280"/>
              <a:ext cx="1293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Comisionado Presidencial para Asuntos Indíg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92360" y="2735280"/>
              <a:ext cx="14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Universida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46040" y="235116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entros de pens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9680" y="246060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ONG Indigeni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2760" y="295128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Igles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10160" y="454968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ersonajes 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32360" y="3181320"/>
              <a:ext cx="21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Bell MT"/>
                </a:rPr>
                <a:t>GOBIE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22520" y="5067360"/>
              <a:ext cx="172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Bancada concer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49440" y="4849920"/>
              <a:ext cx="172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Bancada Alian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65080" y="5268960"/>
              <a:ext cx="172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certación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16360" y="949320"/>
              <a:ext cx="171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sa Interagen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24360" y="1152360"/>
              <a:ext cx="14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84360" y="792000"/>
              <a:ext cx="171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Grupo de trabaj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64764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operación Inter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21080" y="158436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3440" y="172728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38400" y="187164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Lo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44720" y="2664000"/>
              <a:ext cx="254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ASESORÍA ESTRATÉG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24360" y="2820960"/>
              <a:ext cx="15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sejo de Ministr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08720" y="2664000"/>
              <a:ext cx="1801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Unidades minister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76720" y="338472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sas indígena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5080" y="475128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ersonaje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60720" y="3168720"/>
              <a:ext cx="2303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8000" y="3902040"/>
              <a:ext cx="164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UND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52720" y="503280"/>
              <a:ext cx="2013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RELACIONES INTER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5832360" y="0"/>
            <a:ext cx="331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Esquema de gobernabilidad</a:t>
            </a:r>
            <a:r>
              <a:rPr b="1" lang="es-MX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CE55-BE10-44F3-9568-9F1FA84730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2528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re-establecimiento del diálogo con las organiza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organizaciones y dirig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cuchar demandas y establecer mecanismo de respu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er mecanismo institucionalizados de diálo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eparación de los primeros pro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imiento de alianzas clav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uerdo con Agencias de Naciones U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E92B-3CEB-4486-A066-23EF441737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6672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ácticas recurrentes de coordi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acciones que respondan a problemas críticos y los solucio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ción de primeros productos en cada área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político – instituci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venio 1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forma constitu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yecto de ley de Subsecreta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ejo de Minis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ructivo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0E0-78B4-4CDE-AF45-C67B73CCE8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desarrollo integral de los pueb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 : 115 comunidades prioriz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puestas de infraestructura vial, agua, electrificación, vivi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s económicos – productivos. Coordinación con diversos servicios de Minagri, Econom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esión en programa de salud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 educacional : Becas y educación intercul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mandas específicas de cada pueb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433-AED3-44C3-B8FE-BE98630C21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multiculturalidad y divers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 indígena urb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rco regulatorio para inversiones en tierra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mensión regional del Plan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 de trabajo con diversos a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uerdo Marco con Naciones U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l Presupuesto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legislativa para agend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9F3-991A-4A10-8492-2BBFA877B1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elementos que conforman la cris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42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robación y promulgación del Convenio 169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de difusión del convenio y de su forma de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ulta indígena sobre proyecto de participación política y consejo de pueblo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ulta sobre el proceso de consulta y particip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isita del Relator Especial de Naciones Unidas para Pueblos Indíge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ntecedentes a la vis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e preliminar posi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A556-AED7-4270-8F75-0301D9758D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9120" y="1700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isis política por demandas no resuel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yectos de inve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cremento de la conflictiv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uelga de hambre de deten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erte de estudiante  en predio recla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crítica de avances gubernament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rgencia de enfrentar situación con enfoque de largo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3B18-0557-467E-902D-F249293AB0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elementos que conforman la cris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negociación de 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vances en compras para las 1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sos especiales y comunidades en confli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rco regulatorio para proyectos de inversión en tierr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puesta de Código de Conducta Respon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cusión pública; decisión de bajar la propu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forma constitucional de recono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robación en general en el Se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de consult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719-3B73-4528-850F-AE67568521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elementos que conforman la crisis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vilizaciones de comunidades porque no hay solución inmediata a sus deman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cursiones en predios demand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tos violentos contra camiones y bus de pasaj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as específicos de conflictos parciales: aeropuerto de Temuco, subsidios 20b declarados ilegales, problemas del trigo, lentitud de programa Orígenes, construcción de nuevos hogares universi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cción gubernamental ante tales manifest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erte de Jaime Mendoza Collio durante la ocupación de un pre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B55-9C2B-4118-81E5-73B6537694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entorno político de la cris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obierno pro-activo en implementación de política Re-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mplitud de agenda que permite discusión pública de diversas dema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tas expectativas generadas en comunidades producto de promesas de cumplimiento de política Re-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cial lentitud en implementación de diversas med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blemas puntuales que sumados permiten articulación de grupos desconec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levancia de los temas de seguridad en la política pública. El conflicto mapuche se debe controlar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5B9E-DAD1-4EA2-B93E-FFE097B350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entorno político de la cris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sconfianza creciente de dirigencia indígena frente a la posibilidad de concretar propuestas que enfrentan tres problemas básic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tección frente a proyectos de inve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íodo preelectoral, con poca claridad programática frente a la forma en que se encararán las demandas indíge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obierno obligado a reaccionar de forma difer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en responsable y en contenidos de enfoque y de med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B1B-CE72-45C9-B012-26FF624A75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as 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struir políticas públicas es una tarea comple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basta con definir los contenidos; la política se juega en su imple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rea central para el éxito es construirle gobern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novar en políticas es más complejo que iniciar una política nue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líticas que requieren rediseños institucionales enfrentan dificultades adi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iderazgos son fundament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iabilidad de política depende de relevancia que tenga para el máximo nivel gubernam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blemas transversales requieren acciones especiales para coord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AE70-E672-469B-A271-6C587EC512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ítica indígen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rendizaje y desafí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431748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drigo Egaña Bara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iseño de bases para la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os avances en los programas vi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a institucionalidad responsable: MIDEPLAN, CONADI, otros ministe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as dema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su relevancia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B86-7D4B-4280-8859-2B843F3B04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Medidas ini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titución de Comité de Minis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gociación de temas coyunturales urgentes ( huelga de hamb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mbramiento de una autoridad política espe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cargo político en fase de transició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álo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lticultur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onocimiento de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2E22-DB8A-4AA2-96AC-B237947101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Fase de diseño de la política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mensaje ini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ocalizar el sentido de la interven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 de comun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eño del plan de trabajo ini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actor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instituciones y procesos a 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olección de antecede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cuchar, escuchar, escuch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669-1AE6-420C-BEF6-8B4709A3F8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Fase de diseño de la política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problemas de urgente sol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denar actores gubernamentales de nivel ministerial y reg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r proceso para establecer bases de gobernabilidad del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r propuesta de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DD4-679F-4FAB-A60A-C4241460D9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Fase de diseño de la política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r pertinencia, relevancia, eficacia de la política en diseñ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steo preliminar con actor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cusión y aprobación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 puesta en escena pública de la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entación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5B6-7E54-484A-B9CC-6CC9453F6D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La política</a:t>
            </a:r>
            <a:br>
              <a:rPr sz="3200"/>
            </a:b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Reconocer: Pacto social por la multiculturalidad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logros alcanz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valuación de la sit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desafíos a enfr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objetivos a alcan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opuesta de Plan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esquema de gobern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5F2-5367-4553-8B85-31256CD67C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492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Cambios de enf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840" y="155556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onsideraba el tema indígena como una cuestión de pobreza y marginalidad; el cambio de enfoque debe llevar a considerarlo un asunto referido a derechos de los pueblos indígen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mucho tiempo se consideró a los indígenas como un asunto exclusivamente concerniente al gobierno; es un tema de toda la soci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s se intentaba centralizar en una repartición del gobierno los temas indígenas; actualmente se busca transversalizarlos e institucionalizarlo en toda la estructura estat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plantea la construcción de espacios de diálogo con visiones consensuadas, acuerdos y compromisos para la implementación de la participación de los pueblos indígenas y la adecuación plena de nuestra organización para la aplicación del Convenio 16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busca construir la multiculturalidad entendida como respeto a la diferencia con igualdad de derechos, en el marco de una sociedad democrática en la que varias culturas se dan cita en un espacio físico comú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CA2-597E-47A6-AD00-4B0DCA039F2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5:08:21Z</dcterms:created>
  <dc:creator>regana</dc:creator>
  <dc:description/>
  <dc:language>en-US</dc:language>
  <cp:lastModifiedBy>regana</cp:lastModifiedBy>
  <dcterms:modified xsi:type="dcterms:W3CDTF">2009-10-01T21:18:32Z</dcterms:modified>
  <cp:revision>58</cp:revision>
  <dc:subject/>
  <dc:title>Diapositiva 1</dc:title>
</cp:coreProperties>
</file>