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CE6D-C7D3-469C-817C-714E8B397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90B9-B1C8-40AA-8FD4-61B08F9F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D831-EEB4-4808-91CA-25E0DE0CC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0757-06CD-4459-8830-CD102AD95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72A7-F9CF-49F7-A2D2-DED00D26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2067-3982-476D-B4BA-6C5B7AA8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A085-061F-4648-AD10-6E0D503B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9621-90A8-49D5-8212-FE0B6E42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C875-B755-42CF-8303-936B30B7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30E1-25E8-4CF7-B844-4BDADEA2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45AB-EC88-47B2-913D-BFC2F90B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49DD-2813-486D-A010-5FA5C2CF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59D7-36E7-4437-9BAF-E5312D665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ítica indígena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prendizaje y desafí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317480"/>
            <a:ext cx="6400800" cy="24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odrigo Egaña Bara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ctubre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0920" y="1249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n de 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450800"/>
            <a:ext cx="8424720" cy="55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lan de Acción se estructura en torno a tres grandes áre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1. Sistema Político, derechos e institucion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.1. Sistema político y derech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.2.  Institucional y políticas públ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2. Desarrollo Integral de los pueb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.1. Tierras y territo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.2. Desarrollo económico y produc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.3. Educación, salud y cul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.4. Especificidad de los pueblos indíge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3. Multiculturalidad y divers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.1. Política Indígena Urb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.2. Multiculturalidad en la socie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.3. Gestión del desarrollo integrado.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9058-30C0-4B7D-9BB9-85D30188B1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uesta en marcha de la política 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eneración de una narrativa sobre la política aprob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tactos sistemáticos con actores relevantes para difundir la polít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rganizaciones indíge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rganizaciones sociedad civ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gles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lament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tidos polí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cadém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rganismos internacio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edios de comun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res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ctores de gobierno ministeriales, de servicios, regio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8DCA-E0BA-4650-8B7A-6714725DC8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uesta en marcha de la política II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82360"/>
            <a:ext cx="8229600" cy="38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paración del plan de trabajo para aplicar la política definida: identificar acciones, responsables, productos a generar, plazos, condiciones de satisfacción a alcanzar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enerar equipos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ordinación institucional a diversos nive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ADI, Programa Oríge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ordinación interministe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B914-88D4-477A-9A52-DFC4CC0121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uesta en marcha de la política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paración de esquema de trabajo de gobernabili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ción de actores, intereses, iniciativas a desarrollar con cada uno, preparación de programas de acción, puesta en marcha de los mis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ción de recursos presupuestarios para equipo de coordinación y para programas que entregarán soluciones a problemas urg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84A1-3889-4035-B16F-3CB065E671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987640" y="6524640"/>
            <a:ext cx="23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TORNO INTERNA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uesta en marcha de la política 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187280" y="-162000"/>
            <a:ext cx="7305840" cy="6681960"/>
            <a:chOff x="1187280" y="-162000"/>
            <a:chExt cx="7305840" cy="6681960"/>
          </a:xfrm>
        </p:grpSpPr>
        <p:sp>
          <p:nvSpPr>
            <p:cNvPr id="72" name="_s14340"/>
            <p:cNvSpPr/>
            <p:nvPr/>
          </p:nvSpPr>
          <p:spPr>
            <a:xfrm>
              <a:off x="1187280" y="693720"/>
              <a:ext cx="5999400" cy="5826240"/>
            </a:xfrm>
            <a:prstGeom prst="donut">
              <a:avLst>
                <a:gd name="adj" fmla="val 12500"/>
              </a:avLst>
            </a:prstGeom>
            <a:solidFill>
              <a:srgbClr val="ff33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4341"/>
            <p:cNvSpPr/>
            <p:nvPr/>
          </p:nvSpPr>
          <p:spPr>
            <a:xfrm>
              <a:off x="7392960" y="2766960"/>
              <a:ext cx="1100160" cy="1800"/>
            </a:xfr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-47880" bIns="-47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4342"/>
            <p:cNvSpPr/>
            <p:nvPr/>
          </p:nvSpPr>
          <p:spPr>
            <a:xfrm>
              <a:off x="2536920" y="1859040"/>
              <a:ext cx="3154320" cy="3025800"/>
            </a:xfrm>
            <a:prstGeom prst="donut">
              <a:avLst>
                <a:gd name="adj" fmla="val 25000"/>
              </a:avLst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4343"/>
            <p:cNvSpPr/>
            <p:nvPr/>
          </p:nvSpPr>
          <p:spPr>
            <a:xfrm>
              <a:off x="7392960" y="569880"/>
              <a:ext cx="1100160" cy="733320"/>
            </a:xfr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49680" bIns="49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4344"/>
            <p:cNvSpPr/>
            <p:nvPr/>
          </p:nvSpPr>
          <p:spPr>
            <a:xfrm>
              <a:off x="3287520" y="2532240"/>
              <a:ext cx="1643040" cy="1665000"/>
            </a:xfrm>
            <a:prstGeom prst="ellipse">
              <a:avLst/>
            </a:prstGeom>
            <a:solidFill>
              <a:srgbClr val="33cc3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4345"/>
            <p:cNvSpPr/>
            <p:nvPr/>
          </p:nvSpPr>
          <p:spPr>
            <a:xfrm>
              <a:off x="7392960" y="-162000"/>
              <a:ext cx="1100160" cy="731880"/>
            </a:xfr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49680" bIns="49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65080" y="3503520"/>
              <a:ext cx="1764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Bell MT"/>
                </a:rPr>
                <a:t>Organizaciones y dirigentes indíge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60720" y="5111640"/>
              <a:ext cx="232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TORNO REG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65560" y="5904000"/>
              <a:ext cx="2098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ENTORNO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NAC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357360" y="4348080"/>
              <a:ext cx="1575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TORNO INDÍGE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765080" y="1741680"/>
              <a:ext cx="172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Bell MT"/>
                </a:rPr>
                <a:t>EMPRESARI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33440" y="4633920"/>
              <a:ext cx="150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PARLAM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49680" y="4222800"/>
              <a:ext cx="1498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Bell MT"/>
                </a:rPr>
                <a:t>MUNDO INDÍGE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38120" y="2160720"/>
              <a:ext cx="2400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Bell MT"/>
                </a:rPr>
                <a:t>INSTITUCIONES PRIVAD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55760" y="4118040"/>
              <a:ext cx="188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Consejo de la CONAD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68640" y="1368360"/>
              <a:ext cx="254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DIOS DE COMUNIC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492360" y="2951280"/>
              <a:ext cx="1293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Comisionado Presidencial para Asuntos Indíge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92360" y="2735280"/>
              <a:ext cx="149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Universida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46040" y="2351160"/>
              <a:ext cx="1498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Centros de pens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09680" y="246060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ONG Indigenist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82760" y="295128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Iglesi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10160" y="4549680"/>
              <a:ext cx="20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Personajes nac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32360" y="3181320"/>
              <a:ext cx="21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Bell MT"/>
                </a:rPr>
                <a:t>GOBIER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22520" y="5067360"/>
              <a:ext cx="172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Bancada concert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49440" y="4849920"/>
              <a:ext cx="172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Bancada Alianz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65080" y="5268960"/>
              <a:ext cx="172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Concertación indíge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16360" y="949320"/>
              <a:ext cx="171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sa Interagenc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924360" y="1152360"/>
              <a:ext cx="149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O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84360" y="792000"/>
              <a:ext cx="171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Grupo de trabaj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81080" y="647640"/>
              <a:ext cx="1944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Cooperación Internac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221080" y="1584360"/>
              <a:ext cx="1498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dios Nac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3440" y="1727280"/>
              <a:ext cx="1498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dios Reg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38400" y="187164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dios Loc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44720" y="2664000"/>
              <a:ext cx="254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ASESORÍA ESTRATÉG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24360" y="2820960"/>
              <a:ext cx="15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Consejo de Ministr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08720" y="2664000"/>
              <a:ext cx="1801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Unidades ministeri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76720" y="3384720"/>
              <a:ext cx="1944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esas indígenas reg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645080" y="4751280"/>
              <a:ext cx="20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Personajes reg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60720" y="3168720"/>
              <a:ext cx="2303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08000" y="3902040"/>
              <a:ext cx="164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cc"/>
                  </a:solidFill>
                  <a:latin typeface="Bell MT"/>
                </a:rPr>
                <a:t>MUNDO INDÍGE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52720" y="503280"/>
              <a:ext cx="2013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Bell MT"/>
                </a:rPr>
                <a:t>RELACIONES INTERNACION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5832360" y="0"/>
            <a:ext cx="3311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Esquema de gobernabilidad</a:t>
            </a:r>
            <a:r>
              <a:rPr b="1" lang="es-MX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14B8-CEC2-4EC2-9B1F-BF2552E005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uesta en marcha de la política 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25280"/>
            <a:ext cx="822960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re-establecimiento del diálogo con las organiza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ción de organizaciones y dirig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cuchar demandas y establecer mecanismo de respue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ablecer mecanismo institucionalizados de diálo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preparación de los primeros produc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ablecimiento de alianzas clav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cuerdo con Agencias de Naciones Un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0F72-81AE-4CDC-AEC7-AF925C8064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olítica en fase de régimen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6672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avance en la implementación del Plan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ácticas recurrentes de coordin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ción de acciones que respondan a problemas críticos y los solucion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eneración de primeros productos en cada área de a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Área político – institucion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venio 16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forma constitu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yecto de ley de Subsecretar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sejo de Minis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structivo Presiden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2ADD-1AB9-49D1-A71F-8D577E2DB8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olítica en fase de régimen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avance en la implementación del Plan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Área desarrollo integral de los pueb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rras : 115 comunidades prioriz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puestas de infraestructura vial, agua, electrificación, vivie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gramas económicos – productivos. Coordinación con diversos servicios de Minagri, Econom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gresión en programa de salud indíg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grama educacional : Becas y educación intercult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mandas específicas de cada pueb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9322-33C7-4302-805E-556FBDD7FC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olítica en fase de régimen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avance en la implementación del Plan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Área multiculturalidad y divers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lítica indígena urb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arco regulatorio para inversiones en tierras indíge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mensión regional del Plan de a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grama de trabajo con diversos act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cuerdo Marco con Naciones Un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paración del Presupuesto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ordinación legislativa para agenda indíg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0BA2-8303-45EE-BE74-5D47D0D628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s elementos que conforman la crisis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42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probación y promulgación del Convenio 169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ceso de difusión del convenio y de su forma de implement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consulta indígena sobre proyecto de participación política y consejo de pueblos indíge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consulta sobre el proceso de consulta y particip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Visita del Relator Especial de Naciones Unidas para Pueblos Indígen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ntecedentes a la visi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forme preliminar posi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37C5-01EF-4045-AC64-3685107EEA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Anteced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9120" y="1700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risis política por demandas no resuelt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rechos polí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r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yectos de inver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cremento de la conflictiv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uelga de hambre de deteni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uerte de estudiante  en predio reclam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ción crítica de avances gubernamenta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rgencia de enfrentar situación con enfoque de largo plaz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C00E-7B11-471F-AB30-9AAB01336F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s elementos que conforman la crisis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roceso de negociación de tier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vances en compras para las 11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sos especiales y comunidades en confli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arco regulatorio para proyectos de inversión en tierra indíg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puesta de Código de Conducta Respons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cusión pública; decisión de bajar la propue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forma constitucional de reconoc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probación en general en el Sen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ceso de consulta indíg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515E-3B52-4B89-979E-BEAB7E0FA1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s elementos que conforman la crisis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ovilizaciones de comunidades porque no hay solución inmediata a sus demand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cursiones en predios demand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ctos violentos contra camiones y bus de pasaje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emas específicos de conflictos parciales: aeropuerto de Temuco, subsidios 20b declarados ilegales, problemas del trigo, lentitud de programa Orígenes, construcción de nuevos hogares universit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acción gubernamental ante tales manifest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uerte de Jaime Mendoza Collio durante la ocupación de un pred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3ACE-31BA-413E-BCA4-F637FAD133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entorno político de la crisis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obierno pro-activo en implementación de política Re-Cono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mplitud de agenda que permite discusión pública de diversas deman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tas expectativas generadas en comunidades producto de promesas de cumplimiento de política Re-Cono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cial lentitud en implementación de diversas med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blemas puntuales que sumados permiten articulación de grupos desconec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levancia de los temas de seguridad en la política pública. El conflicto mapuche se debe controlar.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F64D-E600-4734-9853-9BE9D64B5C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entorno político de la crisis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sconfianza creciente de dirigencia indígena frente a la posibilidad de concretar propuestas que enfrentan tres problemas básic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rechos polí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r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tección frente a proyectos de inver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eríodo preelectoral, con poca claridad programática frente a la forma en que se encararán las demandas indígen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obierno obligado a reaccionar de forma difer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mbio en responsable y en contenidos de enfoque y de med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F822-0ED0-4D0D-89F2-ADF4DDDBC8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gunas conclu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struir políticas públicas es una tarea comple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o basta con definir los contenidos; la política se juega en su implemen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rea central para el éxito es construirle gobern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novar en políticas es más complejo que iniciar una política nue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olíticas que requieren rediseños institucionales enfrentan dificultades adicion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iderazgos son fundament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Viabilidad de política depende de relevancia que tenga para el máximo nivel gubernam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blemas transversales requieren acciones especiales para coordin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D7F4-F210-4E4F-B2F8-4379CADE3E4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ítica indígena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prendizaje y desafí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4317480"/>
            <a:ext cx="6400800" cy="24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odrigo Egaña Bara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ctubre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Diseño de bases para la interv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ción de los avances en los programas vig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ción de la institucionalidad responsable: MIDEPLAN, CONADI, otros ministe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ción de las deman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ción de su relevancia polí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AC52-8C6A-4D30-AB72-4AECEED22B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Medidas ini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stitución de Comité de Minis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egociación de temas coyunturales urgentes ( huelga de hambr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mbramiento de una autoridad política espe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cargo político en fase de transició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álo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líticas públ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ulticultur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conocimiento de derech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92FD-F76A-4581-B804-00F42B96D1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Fase de diseño de la política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mensaje inici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Focalizar el sentido de la interven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lítica de comun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eño del plan de trabajo inici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r actores relev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r instituciones y procesos a conoc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colección de antecedent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cuchar, escuchar, escuch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0C95-E147-4FE0-A17D-3FDC1D2B7A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Fase de diseño de la política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dentificar problemas de urgente solu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rdenar actores gubernamentales de nivel ministerial y reg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iciar proceso para establecer bases de gobernabilidad del pro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parar propuesta de polí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B8E9-9431-4163-BC1B-81165159B8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Fase de diseño de la política 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valuar pertinencia, relevancia, eficacia de la política en diseñ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esteo preliminar con actores relev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cusión y aprobación Presiden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paración de puesta en escena pública de la polí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sentación Presiden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D12F-C936-4AB0-A9E4-9CC2A16192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La política</a:t>
            </a:r>
            <a:br>
              <a:rPr sz="3200"/>
            </a:b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Reconocer: Pacto social por la multiculturalidad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logros alcanz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evaluación de la situ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desafíos a enfren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objetivos a alcanz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propuesta de Plan de A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esquema de gobernabi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109A-A535-4BF0-A5D7-D70325D03A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2492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Cambios de enfo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840" y="155556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consideraba el tema indígena como una cuestión de pobreza y marginalidad; el cambio de enfoque debe llevar a considerarlo un asunto referido a derechos de los pueblos indígen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urante mucho tiempo se consideró a los indígenas como un asunto exclusivamente concerniente al gobierno; es un tema de toda la socie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tes se intentaba centralizar en una repartición del gobierno los temas indígenas; actualmente se busca transversalizarlos e institucionalizarlo en toda la estructura estat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plantea la construcción de espacios de diálogo con visiones consensuadas, acuerdos y compromisos para la implementación de la participación de los pueblos indígenas y la adecuación plena de nuestra organización para la aplicación del Convenio 16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busca construir la multiculturalidad entendida como respeto a la diferencia con igualdad de derechos, en el marco de una sociedad democrática en la que varias culturas se dan cita en un espacio físico comú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673C-7D01-4AC9-99C5-867E5992AE6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15:08:21Z</dcterms:created>
  <dc:creator>regana</dc:creator>
  <dc:description/>
  <dc:language>en-US</dc:language>
  <cp:lastModifiedBy>regana</cp:lastModifiedBy>
  <dcterms:modified xsi:type="dcterms:W3CDTF">2009-10-01T21:18:32Z</dcterms:modified>
  <cp:revision>58</cp:revision>
  <dc:subject/>
  <dc:title>Diapositiva 1</dc:title>
</cp:coreProperties>
</file>