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D7DE-CB54-4DF8-ABCB-1BF93238C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64D8-57B8-40AD-A84A-CD9BD5845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DFAC-AAF4-4CAD-B879-D069E893F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4300-85C9-400E-9914-A1ED5562B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529D-4E6C-4C4C-BA0E-654F6E0B4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BAD3-0E14-4513-B838-B1F6013A5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18FD-0CA9-4A0A-B8CE-8A2BF2C26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20AB-20B6-47F1-B4E0-2F4F90868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482E-F6D0-4C21-9152-AD3A237A8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E685-71E8-48D2-A009-44BDE892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7DE2-ED47-4C4B-9A27-BB918F49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C637-3827-4772-89C9-1090E30E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57E41-2D58-448C-9774-EB9C21407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390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lítica indígena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prendizaje y desafí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4317480"/>
            <a:ext cx="6400800" cy="24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odrigo Egaña Bara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ctubre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0920" y="1249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lan de A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450800"/>
            <a:ext cx="8424720" cy="55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Plan de Acción se estructura en torno a tres grandes áre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1. Sistema Político, derechos e institucion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.1. Sistema político y derech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.2.  Institucional y políticas públ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2. Desarrollo Integral de los pueb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.1. Tierras y territo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.2. Desarrollo económico y producti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.3. Educación, salud y cultu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.4. Especificidad de los pueblos indíge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3. Multiculturalidad y divers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.1. Política Indígena Urba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.2. Multiculturalidad en la socie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.3. Gestión del desarrollo integrado.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BA30-3CB2-4BB3-AD5D-1BABED6B001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Puesta en marcha de la política 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Generación de una narrativa sobre la política aprob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tactos sistemáticos con actores relevantes para difundir la polític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rganizaciones indíge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rganizaciones sociedad civ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gles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arlamenta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artidos polít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cadém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rganismos internacion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edios de comunic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mpresa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ctores de gobierno ministeriales, de servicios, region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AE4B-2890-4ADF-9E02-DB73FD734FB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Puesta en marcha de la política II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82360"/>
            <a:ext cx="8229600" cy="38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eparación del plan de trabajo para aplicar la política definida: identificar acciones, responsables, productos a generar, plazos, condiciones de satisfacción a alcanzar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Generar equipos de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ordinación institucional a diversos nive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ADI, Programa Oríge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ordinación interminister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45E8-279E-4449-902B-924162DB90D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Puesta en marcha de la política 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eparación de esquema de trabajo de gobernabilida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dentificación de actores, intereses, iniciativas a desarrollar con cada uno, preparación de programas de acción, puesta en marcha de los mis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dentificación de recursos presupuestarios para equipo de coordinación y para programas que entregarán soluciones a problemas urg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9759-EA26-4CBC-A81C-FE7905A05B2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987640" y="6524640"/>
            <a:ext cx="23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TORNO INTERNAC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Puesta en marcha de la política 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187280" y="-162000"/>
            <a:ext cx="7305840" cy="6681960"/>
            <a:chOff x="1187280" y="-162000"/>
            <a:chExt cx="7305840" cy="6681960"/>
          </a:xfrm>
        </p:grpSpPr>
        <p:sp>
          <p:nvSpPr>
            <p:cNvPr id="72" name="_s14340"/>
            <p:cNvSpPr/>
            <p:nvPr/>
          </p:nvSpPr>
          <p:spPr>
            <a:xfrm>
              <a:off x="1187280" y="693720"/>
              <a:ext cx="5999400" cy="5826240"/>
            </a:xfrm>
            <a:prstGeom prst="donut">
              <a:avLst>
                <a:gd name="adj" fmla="val 12500"/>
              </a:avLst>
            </a:prstGeom>
            <a:solidFill>
              <a:srgbClr val="ff33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4341"/>
            <p:cNvSpPr/>
            <p:nvPr/>
          </p:nvSpPr>
          <p:spPr>
            <a:xfrm>
              <a:off x="7392960" y="2766960"/>
              <a:ext cx="1100160" cy="1800"/>
            </a:xfr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-47880" bIns="-47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14342"/>
            <p:cNvSpPr/>
            <p:nvPr/>
          </p:nvSpPr>
          <p:spPr>
            <a:xfrm>
              <a:off x="2536920" y="1859040"/>
              <a:ext cx="3154320" cy="3025800"/>
            </a:xfrm>
            <a:prstGeom prst="donut">
              <a:avLst>
                <a:gd name="adj" fmla="val 25000"/>
              </a:avLst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4343"/>
            <p:cNvSpPr/>
            <p:nvPr/>
          </p:nvSpPr>
          <p:spPr>
            <a:xfrm>
              <a:off x="7392960" y="569880"/>
              <a:ext cx="1100160" cy="733320"/>
            </a:xfr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49680" bIns="49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14344"/>
            <p:cNvSpPr/>
            <p:nvPr/>
          </p:nvSpPr>
          <p:spPr>
            <a:xfrm>
              <a:off x="3287520" y="2532240"/>
              <a:ext cx="1643040" cy="1665000"/>
            </a:xfrm>
            <a:prstGeom prst="ellipse">
              <a:avLst/>
            </a:prstGeom>
            <a:solidFill>
              <a:srgbClr val="33cc3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14345"/>
            <p:cNvSpPr/>
            <p:nvPr/>
          </p:nvSpPr>
          <p:spPr>
            <a:xfrm>
              <a:off x="7392960" y="-162000"/>
              <a:ext cx="1100160" cy="731880"/>
            </a:xfr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49680" bIns="49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765080" y="3503520"/>
              <a:ext cx="1764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Bell MT"/>
                </a:rPr>
                <a:t>Organizaciones y dirigentes indígen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060720" y="5111640"/>
              <a:ext cx="23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TORNO REGIO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265560" y="5904000"/>
              <a:ext cx="2098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ENTORNO</a:t>
              </a: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 NACIO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357360" y="4348080"/>
              <a:ext cx="1575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TORNO INDÍGE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765080" y="1741680"/>
              <a:ext cx="172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Bell MT"/>
                </a:rPr>
                <a:t>EMPRESARI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333440" y="4633920"/>
              <a:ext cx="1500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PARLAME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449680" y="4222800"/>
              <a:ext cx="1498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Bell MT"/>
                </a:rPr>
                <a:t>MUNDO INDÍGE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338120" y="2160720"/>
              <a:ext cx="2400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Bell MT"/>
                </a:rPr>
                <a:t>INSTITUCIONES PRIVAD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255760" y="4118040"/>
              <a:ext cx="1884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Consejo de la CONAD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968640" y="1368360"/>
              <a:ext cx="254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MEDIOS DE COMUNIC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492360" y="2951280"/>
              <a:ext cx="12938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Comisionado Presidencial para Asuntos Indígen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92360" y="2735280"/>
              <a:ext cx="149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Universidad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346040" y="2351160"/>
              <a:ext cx="1498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Centros de pensamie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209680" y="2460600"/>
              <a:ext cx="149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ONG Indigenist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82760" y="2951280"/>
              <a:ext cx="149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Iglesi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10160" y="4549680"/>
              <a:ext cx="208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Personajes nacion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32360" y="3181320"/>
              <a:ext cx="215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Bell MT"/>
                </a:rPr>
                <a:t>GOBIER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22520" y="5067360"/>
              <a:ext cx="1726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Bancada concert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549440" y="4849920"/>
              <a:ext cx="172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Bancada Alianz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765080" y="5268960"/>
              <a:ext cx="1727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Concertación indíge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916360" y="949320"/>
              <a:ext cx="1714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Mesa Interagenci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924360" y="1152360"/>
              <a:ext cx="149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O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484360" y="792000"/>
              <a:ext cx="171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Grupo de trabaj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81080" y="647640"/>
              <a:ext cx="1944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Cooperación Internacio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221080" y="1584360"/>
              <a:ext cx="1498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Medios Nacion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73440" y="1727280"/>
              <a:ext cx="1498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Medios Region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938400" y="1871640"/>
              <a:ext cx="149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Medios Loc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844720" y="2664000"/>
              <a:ext cx="254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ASESORÍA ESTRATÉG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24360" y="2820960"/>
              <a:ext cx="15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Consejo de Ministr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508720" y="2664000"/>
              <a:ext cx="1801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Unidades ministeri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76720" y="3384720"/>
              <a:ext cx="1944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Mesas indígenas region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645080" y="4751280"/>
              <a:ext cx="208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Personajes region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60720" y="3168720"/>
              <a:ext cx="2303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08000" y="3902040"/>
              <a:ext cx="164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MUNDO INDÍGE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52720" y="503280"/>
              <a:ext cx="2013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Bell MT"/>
                </a:rPr>
                <a:t>RELACIONES INTERNACION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5832360" y="0"/>
            <a:ext cx="3311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Esquema de gobernabilidad</a:t>
            </a:r>
            <a:r>
              <a:rPr b="1" lang="es-MX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2375-3564-48F0-9707-78C6579B027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Puesta en marcha de la política 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25280"/>
            <a:ext cx="8229600" cy="31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re-establecimiento del diálogo con las organizaci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dentificación de organizaciones y dirige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cuchar demandas y establecer mecanismo de respues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tablecer mecanismo institucionalizados de diálo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preparación de los primeros produc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tablecimiento de alianzas clav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cuerdo con Agencias de Naciones Uni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FE0D-1340-4EE3-9541-60FDD27F80A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Política en fase de régimen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6672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avance en la implementación del Plan de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ácticas recurrentes de coordin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dentificación de acciones que respondan a problemas críticos y los solucion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Generación de primeros productos en cada área de a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Área político – institucion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venio 16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forma constituc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yecto de ley de Subsecretar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sejo de Minist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structivo Presiden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7304-0E8E-4ECB-B334-0666ED4F68B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Política en fase de régimen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avance en la implementación del Plan de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Área desarrollo integral de los puebl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ierras : 115 comunidades prioriza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puestas de infraestructura vial, agua, electrificación, vivien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gramas económicos – productivos. Coordinación con diversos servicios de Minagri, Econom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gresión en programa de salud indíge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grama educacional : Becas y educación intercultu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mandas específicas de cada pueb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E4CE-D762-4E1A-B088-9809E1ECD8E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Política en fase de régimen 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avance en la implementación del Plan de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Área multiculturalidad y divers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olítica indígena urba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arco regulatorio para inversiones en tierras indíge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mensión regional del Plan de a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grama de trabajo con diversos act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cuerdo Marco con Naciones Uni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eparación del Presupuesto 200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ordinación legislativa para agenda indíge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5BC1-4466-4220-B5BE-339C657D709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s elementos que conforman la crisis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42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probación y promulgación del Convenio 169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ceso de difusión del convenio y de su forma de implement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consulta indígena sobre proyecto de participación política y consejo de pueblos indíge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consulta sobre el proceso de consulta y particip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Visita del Relator Especial de Naciones Unidas para Pueblos Indígen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ntecedentes a la visi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forme preliminar positi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763E-B2D0-431E-A8B7-58BA364A9FA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Anteced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19120" y="1700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risis política por demandas no resuelt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rechos polít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ier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yectos de invers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cremento de la conflictivid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Huelga de hambre de detenid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uerte de estudiante  en predio reclam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valuación crítica de avances gubernamenta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Urgencia de enfrentar situación con enfoque de largo plaz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1A58-0196-4496-88F7-0A9615B53C8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s elementos que conforman la crisis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proceso de negociación de tier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vances en compras para las 11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asos especiales y comunidades en conflic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arco regulatorio para proyectos de inversión en tierra indíge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puesta de Código de Conducta Respons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scusión pública; decisión de bajar la propues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forma constitucional de reconoci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probación en general en el Sen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ceso de consulta indíge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DA23-A065-4D14-AF7F-DFFE7EF3285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s elementos que conforman la crisis 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ovilizaciones de comunidades porque no hay solución inmediata a sus demand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cursiones en predios demand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ctos violentos contra camiones y bus de pasaje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emas específicos de conflictos parciales: aeropuerto de Temuco, subsidios 20b declarados ilegales, problemas del trigo, lentitud de programa Orígenes, construcción de nuevos hogares universita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acción gubernamental ante tales manifest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uerte de Jaime Mendoza Collio durante la ocupación de un pred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ADA6-E504-46B2-8778-EF0EC65D111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 entorno político de la crisis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Gobierno pro-activo en implementación de política Re-Conoc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mplitud de agenda que permite discusión pública de diversas deman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ltas expectativas generadas en comunidades producto de promesas de cumplimiento de política Re-Conoc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arcial lentitud en implementación de diversas medi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blemas puntuales que sumados permiten articulación de grupos desconect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levancia de los temas de seguridad en la política pública. El conflicto mapuche se debe controlar.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DFE4-5939-4FB5-AA21-E2C2C3B290D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 entorno político de la crisis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sconfianza creciente de dirigencia indígena frente a la posibilidad de concretar propuestas que enfrentan tres problemas básico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rechos polít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ier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tección frente a proyectos de invers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eríodo preelectoral, con poca claridad programática frente a la forma en que se encararán las demandas indígen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Gobierno obligado a reaccionar de forma difer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ambio en responsable y en contenidos de enfoque y de medi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DEEA-5E3F-48A3-A16A-7BA598E4DCE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gunas conclus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nstruir políticas públicas es una tarea comple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No basta con definir los contenidos; la política se juega en su implemen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area central para el éxito es construirle goberna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nnovar en políticas es más complejo que iniciar una política nue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olíticas que requieren rediseños institucionales enfrentan dificultades adicion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iderazgos son fundamenta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Viabilidad de política depende de relevancia que tenga para el máximo nivel gubernamen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oblemas transversales requieren acciones especiales para coordin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B709-626B-4607-ABD8-F272995F4DE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390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lítica indígena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prendizaje y desafí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4317480"/>
            <a:ext cx="6400800" cy="24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odrigo Egaña Bara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ctubre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Diseño de bases para la interven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valuación de los avances en los programas vig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valuación de la institucionalidad responsable: MIDEPLAN, CONADI, otros ministe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valuación de las deman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valuación de su relevancia polít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4019-541A-4FD1-A9D0-6C43091174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Medidas inic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stitución de Comité de Minist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egociación de temas coyunturales urgentes ( huelga de hambr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mbramiento de una autoridad política espe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cargo político en fase de transició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álo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olíticas públ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ulticultura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conocimiento de derech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02E2-2A47-4A22-8597-2D8BA32FAEB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Fase de diseño de la política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mensaje inici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Focalizar el sentido de la interven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olítica de comunic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seño del plan de trabajo inici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dentificar actores releva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dentificar instituciones y procesos a conoc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colección de antecedent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cuchar, escuchar, escuch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D9D6-DEBC-4C6F-946C-DD02BD5128B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Fase de diseño de la política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dentificar problemas de urgente solu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rdenar actores gubernamentales de nivel ministerial y reg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iciar proceso para establecer bases de gobernabilidad del proce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eparar propuesta de polít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0317-8A68-49E5-AA41-15A9733E30B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Arial"/>
              </a:rPr>
              <a:t>Fase de diseño de la política I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valuar pertinencia, relevancia, eficacia de la política en diseñ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esteo preliminar con actores releva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scusión y aprobación Presiden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eparación de puesta en escena pública de la polít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esentación Presiden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B6CC-937C-44A2-B0FA-F66BCCAF0A6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La política</a:t>
            </a:r>
            <a:br>
              <a:rPr sz="3200"/>
            </a:b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Reconocer: Pacto social por la multiculturalidad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s logros alcanz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evaluación de la situ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s desafíos a enfrent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s objetivos a alcanz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propuesta de Plan de A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esquema de gobernabi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BE7B-81B9-426B-B2CE-E3637CA647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640" y="12492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Cambios de enfo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7840" y="155556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consideraba el tema indígena como una cuestión de pobreza y marginalidad; el cambio de enfoque debe llevar a considerarlo un asunto referido a derechos de los pueblos indígen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urante mucho tiempo se consideró a los indígenas como un asunto exclusivamente concerniente al gobierno; es un tema de toda la socie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tes se intentaba centralizar en una repartición del gobierno los temas indígenas; actualmente se busca transversalizarlos e institucionalizarlo en toda la estructura estat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e plantea la construcción de espacios de diálogo con visiones consensuadas, acuerdos y compromisos para la implementación de la participación de los pueblos indígenas y la adecuación plena de nuestra organización para la aplicación del Convenio 16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busca construir la multiculturalidad entendida como respeto a la diferencia con igualdad de derechos, en el marco de una sociedad democrática en la que varias culturas se dan cita en un espacio físico comú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E138-CF67-4B26-96F8-40B56426C6C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8T15:08:21Z</dcterms:created>
  <dc:creator>regana</dc:creator>
  <dc:description/>
  <dc:language>en-US</dc:language>
  <cp:lastModifiedBy>regana</cp:lastModifiedBy>
  <dcterms:modified xsi:type="dcterms:W3CDTF">2009-10-01T21:18:32Z</dcterms:modified>
  <cp:revision>58</cp:revision>
  <dc:subject/>
  <dc:title>Diapositiva 1</dc:title>
</cp:coreProperties>
</file>