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B41-F224-4DC9-A09F-B8B938FD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C08-4611-4992-8EA2-FC101CB9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162-66C1-4B75-9384-0566B169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C92-1C24-47BB-9C50-803C767C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C03-2046-45DE-8CAB-0DCED95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838-35A2-4663-8BD3-F073854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A17-3CDA-4A29-872B-532025BE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80F-9A11-43CC-B47B-ADB1201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16C-6313-4963-A984-25BF442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859-A9D7-4687-946D-8A760CDD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96D-EF64-4032-81EB-C4DBD58D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1A2-C75E-4048-B2EC-2C76F44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D28-C702-4440-88D3-CE3C9482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E84-A872-4EE0-B51E-E64E8B7BE5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C79-482B-409A-8BDC-26ACF1478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7DA-05CD-4400-980C-EAE8AA6638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01E-AC25-4035-9756-B07EF39877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72" name="_s14340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4341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4342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43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44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4345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4B6-8F1F-4874-ACB1-AD3B55ECAB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132-2BDF-427F-A204-FBBE57A367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D24-5E67-46B0-A95C-638F54BCD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0A7-B921-43E4-B221-D52D5F7859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25A-67AC-4C5A-A04C-1DABF72990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DD8-BAC5-47AA-B060-66F82C288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306-5062-4E2C-B0AE-3D9CD19B9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74A-0536-4812-9CB7-ACAE4E96CE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DA1-46C5-4F30-B2E6-91A394A6A7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790-BB6F-4E73-9D7D-124D1DA71B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B6B-8334-4526-A094-8AFA341136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CAB-1A2B-4A84-A067-FD91FD3815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EBC-A324-447D-B5F9-B997BADE8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B73-0C99-4FFD-932E-45055CF51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CC9-2EBD-41AE-8AFE-310311819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B5C-9C7A-44E1-B08C-F4F839A56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E72-43DC-4C65-95FF-FAF2D1BA84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379-C5A7-45C7-8500-D55CE4AF3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5FA-D9FD-4A74-AB38-DD07D52B52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regana</cp:lastModifiedBy>
  <dcterms:modified xsi:type="dcterms:W3CDTF">2009-10-01T21:18:32Z</dcterms:modified>
  <cp:revision>58</cp:revision>
  <dc:subject/>
  <dc:title>Diapositiva 1</dc:title>
</cp:coreProperties>
</file>