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3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3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25F69FD-2C4A-4560-A2EB-CD55611D4C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xplicar que por la falla de mercado en el óptimo la oferta de mercado no se encuetra con la demanda de mercado y por ello es que existen dos precios.  Cuando veamos la corrección a las externalidades va a quedar mas claro el concep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cer incapie que estamos hablando de costos y benefici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e Q* es el mismo de los otros 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999-3BA2-4318-9643-C2C2058B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56C-010C-489D-A077-CA20707F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43362-F347-4E58-979C-E4138032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3FCAE-63C3-499C-98DB-3BBFBB0E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67FBA-C605-404E-AC3D-8B7D96D8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F12E1-940B-4D50-B915-DACBAD1E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50B19-5A71-4049-9624-3297A27A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A8A10-45C3-4A42-BBE4-5FC214BB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9AC53-8041-4F56-8161-05346C60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11745-1AB7-4D43-BA62-32CBC019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DF529-8726-44B2-BA9E-6159B0CD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3D99C-CAA6-4350-B15C-8F20B2A4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15E-2B6D-48C6-869F-6682117B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07902-AAC3-4416-A043-027B5F15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FE136-554A-4255-9344-F5E75C5D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16AED-5F40-40F4-BC59-9B77492F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DE4C9-85BE-45CF-8B2F-B1FD6773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0238B-8834-43F8-B029-CE3FCF1C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5C6D9-071D-49DD-BF1D-E3B064C4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72CDA-3585-4469-8964-2677BC5B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B3863-639C-4111-99FF-209508F1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4E0C5-45A4-4288-B4CE-D9952218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278FD-C443-4A40-B9E1-5C93B810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B5B-CD1B-4CEB-A20B-138F655F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DB759-EBAD-46F8-BDA3-8E059A18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7B68D-0FD3-4A1F-8082-A2DD3196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3913E-BB82-46B9-9076-3921030C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76625-4B36-4534-9C27-8D6B9491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7AE85-7D67-47FD-9275-37455112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8B59A-ACB9-4A49-A977-BA84ED0A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EDA6E-17DC-4327-8585-7D671C56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73D70-266D-4EBA-91F6-9F385CD1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27257-0111-4C53-868F-5A87E9AB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8D240-9F09-4504-95CC-E6FD0BCC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BD42-2075-44CB-93E4-A16E04DE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09CB0-846C-4B1D-9889-693C83B0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4B964-05EE-4B04-A189-41D5BFCA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1A7F1-3C06-4E49-8D09-89C9ED24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B4C1-523D-473A-B841-22369F41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F630-BCC8-409D-84BE-AF99839A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A770-61A6-4513-9FD5-789F5984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D3E4-C651-4949-B419-1ACA28CD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74E5-055C-4521-86F9-0E0B9790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9CF7-4648-4F61-B056-B1A9F818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9DA-3BAA-43CE-A58C-FA849F1D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3119-1285-4566-969B-88E0B839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23C2-2A27-4D21-BC43-182A9291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9746-FAA2-4B6E-B032-B4BE210F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BA01-442D-4927-ACAB-BD346A85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F225-8AB9-4760-BA4F-8B4CFC2A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51CA2-637D-416F-908E-A02C1051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F0411-23E2-4B6C-985E-BA7871AD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0664-1D22-45D9-A2FA-BB5B0A58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50517-7F5F-48D5-9D93-16A4A727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17DD4-C0BE-463E-ADB7-B46B9907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328-7220-4AC3-9619-1625C4AF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8339-E147-4F1A-8693-C9B6865D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2C488-BA00-4AE6-9814-2971917D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94C72-4EDA-457C-8ED9-12FF5209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5A9BB-F53B-4A66-969D-29707BE6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0B66C-F353-4CBA-B338-7D54C59D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A324C-782A-48DF-883A-338DC992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06CCA-EBC5-41BC-B982-B9DD2E33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006DB-0310-4FFB-B866-5F950CDB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6CAC3-4206-4C2B-83B0-6D170B7B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7087F-F40A-4D6F-AB9C-A017ED37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F3A-7723-423C-8FB2-9AFB371F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B38E3-ECB5-4CC4-97AC-C1791D5D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08181-A90A-4A93-A8B7-DA0A7592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BDDAA-9075-443F-BF52-43B0AE03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8A82B-C32D-4D04-809C-C655CFEE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AAE16-AA89-4B50-8ED8-88CF6274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0CB1E-4CBB-4D18-A699-B4E8D8B6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423D5-7DD9-4E3A-95FB-7EEE7320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CBD93-35C6-4855-B0D7-7F7F9AEF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2FAF5-1AA6-4C65-9089-CA9707EC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00F8D-4578-4948-A204-3200AEDF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6F6-0D1E-4695-A028-964B1FB8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7B777-2CEF-46EA-93EF-B647BE44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61D8C-F46B-4727-ABF2-511C253C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6B4A6-85E3-41FC-AA0C-B64D69BE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01FD5-A20E-4087-97D4-FA6CFC3A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B4BE0-3290-41E9-8DCB-5DD571CA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14E26-4AC0-4210-BD00-7AE7B629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AFF6A-01A1-426C-9770-2A5E39F3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B6299-2E2B-44CA-A883-36CF4B37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0DF0B-F5CD-4617-B3AC-DC3B18C6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1C2A0-BBC1-47DC-A56B-5870EEAA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89A-4711-4E76-9D9A-072FE6B6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508F3-C7BC-414F-9ACC-02F89E8F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7D6F4-050D-4A1E-B99F-57C0C38F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A3A5F-006F-490E-BF33-FAD721C2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996F1-1C40-4899-9DCA-B314EF92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4DB53-4B11-48BD-84AB-FE432F9A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260D8-0D61-4730-BE4B-F866E66A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1F20D-AB16-4020-BDBC-0491FAC8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D4221-E051-4271-B0F7-4DB2F58B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837DE-8725-40FF-B2D1-76841F60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62800-B383-492E-AA38-B73AB477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550-72FE-49FF-B8F6-95304C9C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B3EBB-EE9B-4B08-A51C-0A062363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E03EC-D973-48AA-B0EB-EA88C775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B9EEB-8E74-42FF-B27C-C18523D0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C6AC7-AD54-4EDE-ADD3-36583535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B66A8-2EEC-4D18-AD55-E5871650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74EB5-2F56-44A9-9626-169EBE04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1987F-EF82-4481-8964-DCCC33A0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55936-3D11-499A-8384-FBC6F9FF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F8451-991D-4225-ABDE-4606F837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FA556-EAFD-4BE9-8732-03187466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408-BE04-4714-81F2-49BED1E5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CFDBE-5C77-4960-91C3-049B73C4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DBAB4-8187-4F14-B731-993C0DB9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C75C6-2439-480B-AB1B-04D3EF31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12701-3E25-4F00-A751-D8F3232C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A99EF-03CA-4519-A31B-50033133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5AE95-FDDF-45B2-AE5C-67DD0374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132D6-5E75-4F3D-AF16-CC552F46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1B751-6E4B-4C37-A9C6-3EE7F81D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B6CCB-B545-4281-B433-618874C2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C8A9B-2488-4165-A907-269CC242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1EF-C6CD-417E-9947-4F7AE4FA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42668-07F4-4E45-B0E3-B7C440FC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811C5-5E4D-4310-BAAE-AE5194B5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9F23A-C41C-42FC-B6C7-B8532B0B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0D5D0-FA23-470C-AE06-9EB57FDB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66EA2-30EB-4644-8BCF-36A987E9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7D8CA-E5FA-47D1-BFC6-63E182AF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A39D5-F539-4EEB-9AD7-0194CD94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DA93B-DCC1-4AA8-9D64-8C21BD5F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38BA5-CEE2-4524-AC20-D6A03FDB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40BD8-BC29-4619-A523-37B75CC0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2EBB-8F59-4971-8D8D-4A770B58689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3FC4-0FC9-4B8A-A004-2F84AC2BD2B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9B16-8CB1-4F73-9D39-673BC0E4573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E476-D7C6-40B5-BAC7-C652A917742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CE77-9D20-4CE2-8278-BDC32E88DBB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F819-90DC-4518-9170-9ECE90C66E9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D2C1-74DD-49D8-886F-DDF3C3A8521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7DFB-F446-4E4E-85BE-870F6DCDECE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14C2-0B14-4C5C-A76D-A07958F6768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8C6B-BC01-4E6C-BD01-2825C67DDBD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29E6-BD20-437E-8E70-5C7F4FA40AD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Las Externalidad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429000" cy="2610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8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4358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"/>
          <p:cNvSpPr/>
          <p:nvPr/>
        </p:nvSpPr>
        <p:spPr>
          <a:xfrm>
            <a:off x="1619280" y="4653000"/>
            <a:ext cx="56894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6"/>
          <p:cNvSpPr/>
          <p:nvPr/>
        </p:nvSpPr>
        <p:spPr>
          <a:xfrm>
            <a:off x="7238160" y="4365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9"/>
          <p:cNvSpPr/>
          <p:nvPr/>
        </p:nvSpPr>
        <p:spPr>
          <a:xfrm flipV="1">
            <a:off x="1908000" y="2707920"/>
            <a:ext cx="532944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20"/>
          <p:cNvSpPr/>
          <p:nvPr/>
        </p:nvSpPr>
        <p:spPr>
          <a:xfrm>
            <a:off x="1908000" y="1197000"/>
            <a:ext cx="3132360" cy="1440000"/>
          </a:xfrm>
          <a:prstGeom prst="wedgeRectCallout">
            <a:avLst>
              <a:gd name="adj1" fmla="val 83703"/>
              <a:gd name="adj2" fmla="val 10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sto Marginal Social es igual al costo marginal de la empresa más el costo marginal que genera sobre terceros (DMg)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03142 -0.15602 E">
                                      <p:cBhvr>
                                        <p:cTn id="141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485928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9"/>
          <p:cNvSpPr/>
          <p:nvPr/>
        </p:nvSpPr>
        <p:spPr>
          <a:xfrm>
            <a:off x="2195640" y="1916280"/>
            <a:ext cx="2808000" cy="647640"/>
          </a:xfrm>
          <a:prstGeom prst="wedgeRectCallout">
            <a:avLst>
              <a:gd name="adj1" fmla="val 648"/>
              <a:gd name="adj2" fmla="val 160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ivel socialmente óptimo de producció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2"/>
          <p:cNvSpPr/>
          <p:nvPr/>
        </p:nvSpPr>
        <p:spPr>
          <a:xfrm flipH="1">
            <a:off x="1582200" y="3429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3356640" y="57801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1092240" y="31878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1092240" y="44370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2"/>
          <p:cNvSpPr/>
          <p:nvPr/>
        </p:nvSpPr>
        <p:spPr>
          <a:xfrm flipH="1">
            <a:off x="1582200" y="4653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0"/>
          <p:cNvSpPr/>
          <p:nvPr/>
        </p:nvSpPr>
        <p:spPr>
          <a:xfrm>
            <a:off x="4859280" y="2781360"/>
            <a:ext cx="0" cy="293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7772400" y="2276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6948360" y="126828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7"/>
          <p:cNvSpPr/>
          <p:nvPr/>
        </p:nvSpPr>
        <p:spPr>
          <a:xfrm>
            <a:off x="2195640" y="1773360"/>
            <a:ext cx="2808000" cy="718920"/>
          </a:xfrm>
          <a:prstGeom prst="wedgeRectCallout">
            <a:avLst>
              <a:gd name="adj1" fmla="val 24620"/>
              <a:gd name="adj2" fmla="val 122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2"/>
          <p:cNvSpPr/>
          <p:nvPr/>
        </p:nvSpPr>
        <p:spPr>
          <a:xfrm flipH="1">
            <a:off x="1582200" y="3429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3356640" y="57801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23"/>
          <p:cNvSpPr/>
          <p:nvPr/>
        </p:nvSpPr>
        <p:spPr>
          <a:xfrm rot="1803000">
            <a:off x="3890880" y="2730600"/>
            <a:ext cx="1249560" cy="1079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24"/>
          <p:cNvSpPr/>
          <p:nvPr/>
        </p:nvSpPr>
        <p:spPr>
          <a:xfrm>
            <a:off x="108000" y="6021360"/>
            <a:ext cx="3024000" cy="719280"/>
          </a:xfrm>
          <a:prstGeom prst="wedgeRectCallout">
            <a:avLst>
              <a:gd name="adj1" fmla="val 59240"/>
              <a:gd name="adj2" fmla="val -53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ay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2"/>
          <p:cNvSpPr/>
          <p:nvPr/>
        </p:nvSpPr>
        <p:spPr>
          <a:xfrm flipH="1">
            <a:off x="1582200" y="4653000"/>
            <a:ext cx="21258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3"/>
          <p:cNvSpPr/>
          <p:nvPr/>
        </p:nvSpPr>
        <p:spPr>
          <a:xfrm>
            <a:off x="1092240" y="31878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1092240" y="44370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5"/>
          <p:cNvSpPr/>
          <p:nvPr/>
        </p:nvSpPr>
        <p:spPr>
          <a:xfrm>
            <a:off x="4421160" y="1268280"/>
            <a:ext cx="15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3"/>
          <p:cNvSpPr/>
          <p:nvPr/>
        </p:nvSpPr>
        <p:spPr>
          <a:xfrm>
            <a:off x="2052720" y="388152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3"/>
          <p:cNvSpPr/>
          <p:nvPr/>
        </p:nvSpPr>
        <p:spPr>
          <a:xfrm>
            <a:off x="2808360" y="214776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2909880" y="351000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2"/>
          <p:cNvSpPr/>
          <p:nvPr/>
        </p:nvSpPr>
        <p:spPr>
          <a:xfrm>
            <a:off x="6156360" y="1557360"/>
            <a:ext cx="273672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costos generados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l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Text Box 27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minación (ríos, aíre, agua subterranea, et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i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gestión vehicul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0"/>
          <p:cNvSpPr/>
          <p:nvPr/>
        </p:nvSpPr>
        <p:spPr>
          <a:xfrm>
            <a:off x="4859280" y="2781360"/>
            <a:ext cx="0" cy="293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1"/>
          <p:cNvSpPr/>
          <p:nvPr/>
        </p:nvSpPr>
        <p:spPr>
          <a:xfrm>
            <a:off x="4641120" y="57564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3"/>
          <p:cNvSpPr/>
          <p:nvPr/>
        </p:nvSpPr>
        <p:spPr>
          <a:xfrm>
            <a:off x="1076760" y="37749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6948360" y="11970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7599960" y="4911840"/>
            <a:ext cx="13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"/>
          <p:cNvSpPr/>
          <p:nvPr/>
        </p:nvSpPr>
        <p:spPr>
          <a:xfrm flipV="1">
            <a:off x="1619280" y="1628280"/>
            <a:ext cx="5329080" cy="286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5"/>
          <p:cNvSpPr/>
          <p:nvPr/>
        </p:nvSpPr>
        <p:spPr>
          <a:xfrm>
            <a:off x="7956720" y="1989000"/>
            <a:ext cx="107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MgS=CMgP-AM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7"/>
          <p:cNvSpPr/>
          <p:nvPr/>
        </p:nvSpPr>
        <p:spPr>
          <a:xfrm>
            <a:off x="1979640" y="1773360"/>
            <a:ext cx="2808360" cy="718920"/>
          </a:xfrm>
          <a:prstGeom prst="wedgeRectCallout">
            <a:avLst>
              <a:gd name="adj1" fmla="val 11731"/>
              <a:gd name="adj2" fmla="val 173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0"/>
          <p:cNvSpPr/>
          <p:nvPr/>
        </p:nvSpPr>
        <p:spPr>
          <a:xfrm>
            <a:off x="3635280" y="3429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2"/>
          <p:cNvSpPr/>
          <p:nvPr/>
        </p:nvSpPr>
        <p:spPr>
          <a:xfrm flipH="1">
            <a:off x="1547280" y="3429000"/>
            <a:ext cx="212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1055880" y="31878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3360960" y="57801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22"/>
          <p:cNvSpPr/>
          <p:nvPr/>
        </p:nvSpPr>
        <p:spPr>
          <a:xfrm rot="5400000">
            <a:off x="3551400" y="3441600"/>
            <a:ext cx="1320480" cy="1152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3"/>
          <p:cNvSpPr/>
          <p:nvPr/>
        </p:nvSpPr>
        <p:spPr>
          <a:xfrm>
            <a:off x="6372360" y="3357720"/>
            <a:ext cx="2592360" cy="1295280"/>
          </a:xfrm>
          <a:prstGeom prst="wedgeRectCallout">
            <a:avLst>
              <a:gd name="adj1" fmla="val 16810"/>
              <a:gd name="adj2" fmla="val -849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beneficio a terceros que no esta siendo incorporado en la función de costo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25"/>
          <p:cNvSpPr/>
          <p:nvPr/>
        </p:nvSpPr>
        <p:spPr>
          <a:xfrm>
            <a:off x="108000" y="6021360"/>
            <a:ext cx="3024000" cy="719280"/>
          </a:xfrm>
          <a:prstGeom prst="wedgeRectCallout">
            <a:avLst>
              <a:gd name="adj1" fmla="val 59240"/>
              <a:gd name="adj2" fmla="val -53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en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1124640" y="263700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2"/>
          <p:cNvSpPr/>
          <p:nvPr/>
        </p:nvSpPr>
        <p:spPr>
          <a:xfrm flipH="1">
            <a:off x="1547640" y="2781360"/>
            <a:ext cx="32767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6" name="Text Box 15"/>
          <p:cNvSpPr/>
          <p:nvPr/>
        </p:nvSpPr>
        <p:spPr>
          <a:xfrm>
            <a:off x="4356000" y="1268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1"/>
          <p:cNvSpPr/>
          <p:nvPr/>
        </p:nvSpPr>
        <p:spPr>
          <a:xfrm>
            <a:off x="1845000" y="49417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2"/>
          <p:cNvSpPr/>
          <p:nvPr/>
        </p:nvSpPr>
        <p:spPr>
          <a:xfrm flipH="1">
            <a:off x="684360" y="2997360"/>
            <a:ext cx="136656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3"/>
          <p:cNvSpPr/>
          <p:nvPr/>
        </p:nvSpPr>
        <p:spPr>
          <a:xfrm>
            <a:off x="314640" y="285264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5"/>
          <p:cNvSpPr/>
          <p:nvPr/>
        </p:nvSpPr>
        <p:spPr>
          <a:xfrm>
            <a:off x="4643280" y="1557360"/>
            <a:ext cx="15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A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2"/>
          <p:cNvSpPr/>
          <p:nvPr/>
        </p:nvSpPr>
        <p:spPr>
          <a:xfrm flipH="1">
            <a:off x="684360" y="2492280"/>
            <a:ext cx="2279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3"/>
          <p:cNvSpPr/>
          <p:nvPr/>
        </p:nvSpPr>
        <p:spPr>
          <a:xfrm>
            <a:off x="299880" y="227664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1"/>
          <p:cNvSpPr/>
          <p:nvPr/>
        </p:nvSpPr>
        <p:spPr>
          <a:xfrm>
            <a:off x="2849760" y="4941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2"/>
          <p:cNvSpPr/>
          <p:nvPr/>
        </p:nvSpPr>
        <p:spPr>
          <a:xfrm flipH="1">
            <a:off x="684360" y="3500280"/>
            <a:ext cx="2232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3"/>
          <p:cNvSpPr/>
          <p:nvPr/>
        </p:nvSpPr>
        <p:spPr>
          <a:xfrm>
            <a:off x="322200" y="335772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2771640" y="220500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2987640" y="357336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3"/>
          <p:cNvSpPr/>
          <p:nvPr/>
        </p:nvSpPr>
        <p:spPr>
          <a:xfrm>
            <a:off x="2124000" y="4005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7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bienestar generado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l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costos generados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a producción inferi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2" name="Text Box 3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ras de irrig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mig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aso de las abej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8"/>
          <p:cNvSpPr/>
          <p:nvPr/>
        </p:nvSpPr>
        <p:spPr>
          <a:xfrm>
            <a:off x="1600200" y="2478240"/>
            <a:ext cx="59436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0"/>
          <p:cNvSpPr/>
          <p:nvPr/>
        </p:nvSpPr>
        <p:spPr>
          <a:xfrm>
            <a:off x="4284720" y="378936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3137760" y="5661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"/>
          <p:cNvSpPr/>
          <p:nvPr/>
        </p:nvSpPr>
        <p:spPr>
          <a:xfrm flipH="1">
            <a:off x="1619280" y="378936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7020000" y="162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6"/>
          <p:cNvSpPr/>
          <p:nvPr/>
        </p:nvSpPr>
        <p:spPr>
          <a:xfrm>
            <a:off x="7601400" y="5192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9"/>
          <p:cNvSpPr/>
          <p:nvPr/>
        </p:nvSpPr>
        <p:spPr>
          <a:xfrm flipV="1">
            <a:off x="1619280" y="2060280"/>
            <a:ext cx="547380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5"/>
          <p:cNvSpPr/>
          <p:nvPr/>
        </p:nvSpPr>
        <p:spPr>
          <a:xfrm>
            <a:off x="5940360" y="5157720"/>
            <a:ext cx="1440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D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7"/>
          <p:cNvSpPr/>
          <p:nvPr/>
        </p:nvSpPr>
        <p:spPr>
          <a:xfrm>
            <a:off x="2843280" y="2133720"/>
            <a:ext cx="2808360" cy="718920"/>
          </a:xfrm>
          <a:prstGeom prst="wedgeRectCallout">
            <a:avLst>
              <a:gd name="adj1" fmla="val -5569"/>
              <a:gd name="adj2" fmla="val 20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0"/>
          <p:cNvSpPr/>
          <p:nvPr/>
        </p:nvSpPr>
        <p:spPr>
          <a:xfrm>
            <a:off x="3492360" y="3429000"/>
            <a:ext cx="0" cy="230364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2"/>
          <p:cNvSpPr/>
          <p:nvPr/>
        </p:nvSpPr>
        <p:spPr>
          <a:xfrm flipH="1">
            <a:off x="1619280" y="3429000"/>
            <a:ext cx="1838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1055880" y="35733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3864240" y="5661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22"/>
          <p:cNvSpPr/>
          <p:nvPr/>
        </p:nvSpPr>
        <p:spPr>
          <a:xfrm rot="16200000">
            <a:off x="3456720" y="3824640"/>
            <a:ext cx="86364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23"/>
          <p:cNvSpPr/>
          <p:nvPr/>
        </p:nvSpPr>
        <p:spPr>
          <a:xfrm>
            <a:off x="6012000" y="2852640"/>
            <a:ext cx="2808000" cy="1295640"/>
          </a:xfrm>
          <a:prstGeom prst="wedgeRectCallout">
            <a:avLst>
              <a:gd name="adj1" fmla="val -29138"/>
              <a:gd name="adj2" fmla="val 104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daño a terceros que no esta siendo incorporado en la función de beneficio privad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4"/>
          <p:cNvSpPr/>
          <p:nvPr/>
        </p:nvSpPr>
        <p:spPr>
          <a:xfrm>
            <a:off x="2411280" y="6138720"/>
            <a:ext cx="3024360" cy="719280"/>
          </a:xfrm>
          <a:prstGeom prst="wedgeRectCallout">
            <a:avLst>
              <a:gd name="adj1" fmla="val -1287"/>
              <a:gd name="adj2" fmla="val -78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ay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8"/>
          <p:cNvSpPr/>
          <p:nvPr/>
        </p:nvSpPr>
        <p:spPr>
          <a:xfrm>
            <a:off x="1619280" y="3341520"/>
            <a:ext cx="4608360" cy="2248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6"/>
          <p:cNvSpPr/>
          <p:nvPr/>
        </p:nvSpPr>
        <p:spPr>
          <a:xfrm>
            <a:off x="1117440" y="32464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27"/>
          <p:cNvSpPr/>
          <p:nvPr/>
        </p:nvSpPr>
        <p:spPr>
          <a:xfrm>
            <a:off x="1111320" y="4076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2"/>
          <p:cNvSpPr/>
          <p:nvPr/>
        </p:nvSpPr>
        <p:spPr>
          <a:xfrm flipH="1">
            <a:off x="1619280" y="4221000"/>
            <a:ext cx="1838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s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acciones de individuos o empresas tienen consecuencias (negativas o positivas) sobre el resto de perso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efectos de nuestras acciones que recaen sobre otras personas son conocidos como externalidad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Text Box 15"/>
          <p:cNvSpPr/>
          <p:nvPr/>
        </p:nvSpPr>
        <p:spPr>
          <a:xfrm>
            <a:off x="4356000" y="1268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6"/>
          <p:cNvSpPr/>
          <p:nvPr/>
        </p:nvSpPr>
        <p:spPr>
          <a:xfrm>
            <a:off x="4718520" y="4292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8"/>
          <p:cNvSpPr/>
          <p:nvPr/>
        </p:nvSpPr>
        <p:spPr>
          <a:xfrm>
            <a:off x="684360" y="2276640"/>
            <a:ext cx="410364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0"/>
          <p:cNvSpPr/>
          <p:nvPr/>
        </p:nvSpPr>
        <p:spPr>
          <a:xfrm>
            <a:off x="1979640" y="2997360"/>
            <a:ext cx="0" cy="188568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1"/>
          <p:cNvSpPr/>
          <p:nvPr/>
        </p:nvSpPr>
        <p:spPr>
          <a:xfrm>
            <a:off x="2133720" y="4869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314640" y="306216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9"/>
          <p:cNvSpPr/>
          <p:nvPr/>
        </p:nvSpPr>
        <p:spPr>
          <a:xfrm flipV="1">
            <a:off x="690480" y="1844280"/>
            <a:ext cx="38815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0"/>
          <p:cNvSpPr/>
          <p:nvPr/>
        </p:nvSpPr>
        <p:spPr>
          <a:xfrm>
            <a:off x="2484360" y="3213000"/>
            <a:ext cx="0" cy="1625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2"/>
          <p:cNvSpPr/>
          <p:nvPr/>
        </p:nvSpPr>
        <p:spPr>
          <a:xfrm flipH="1">
            <a:off x="684360" y="2997360"/>
            <a:ext cx="129528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299880" y="335772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1770120" y="4869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2"/>
          <p:cNvSpPr/>
          <p:nvPr/>
        </p:nvSpPr>
        <p:spPr>
          <a:xfrm flipH="1">
            <a:off x="684360" y="3573360"/>
            <a:ext cx="129528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322200" y="2708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3"/>
          <p:cNvSpPr/>
          <p:nvPr/>
        </p:nvSpPr>
        <p:spPr>
          <a:xfrm>
            <a:off x="1979640" y="263700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1908000" y="3645000"/>
            <a:ext cx="30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3"/>
          <p:cNvSpPr/>
          <p:nvPr/>
        </p:nvSpPr>
        <p:spPr>
          <a:xfrm>
            <a:off x="2556000" y="306864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3"/>
          <p:cNvSpPr/>
          <p:nvPr/>
        </p:nvSpPr>
        <p:spPr>
          <a:xfrm>
            <a:off x="2484360" y="4005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7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costo generado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l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*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 consumo superior al ópti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2"/>
          <p:cNvSpPr/>
          <p:nvPr/>
        </p:nvSpPr>
        <p:spPr>
          <a:xfrm flipH="1">
            <a:off x="684360" y="3284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8"/>
          <p:cNvSpPr/>
          <p:nvPr/>
        </p:nvSpPr>
        <p:spPr>
          <a:xfrm>
            <a:off x="684360" y="2874960"/>
            <a:ext cx="3527280" cy="1994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5"/>
          <p:cNvSpPr/>
          <p:nvPr/>
        </p:nvSpPr>
        <p:spPr>
          <a:xfrm>
            <a:off x="3635280" y="4581360"/>
            <a:ext cx="1440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D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5" name="Text Box 3"/>
          <p:cNvSpPr/>
          <p:nvPr/>
        </p:nvSpPr>
        <p:spPr>
          <a:xfrm>
            <a:off x="611280" y="1557360"/>
            <a:ext cx="8281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rog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coholis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baquis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8"/>
          <p:cNvSpPr/>
          <p:nvPr/>
        </p:nvSpPr>
        <p:spPr>
          <a:xfrm>
            <a:off x="1600200" y="2478240"/>
            <a:ext cx="5943600" cy="2895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0"/>
          <p:cNvSpPr/>
          <p:nvPr/>
        </p:nvSpPr>
        <p:spPr>
          <a:xfrm>
            <a:off x="3492360" y="342900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4074120" y="5661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2"/>
          <p:cNvSpPr/>
          <p:nvPr/>
        </p:nvSpPr>
        <p:spPr>
          <a:xfrm flipH="1">
            <a:off x="1618920" y="422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7020000" y="162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6229800" y="5300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9"/>
          <p:cNvSpPr/>
          <p:nvPr/>
        </p:nvSpPr>
        <p:spPr>
          <a:xfrm flipV="1">
            <a:off x="1619280" y="2060280"/>
            <a:ext cx="547380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5"/>
          <p:cNvSpPr/>
          <p:nvPr/>
        </p:nvSpPr>
        <p:spPr>
          <a:xfrm>
            <a:off x="7380360" y="4724280"/>
            <a:ext cx="14396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+ A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5"/>
          <p:cNvSpPr/>
          <p:nvPr/>
        </p:nvSpPr>
        <p:spPr>
          <a:xfrm>
            <a:off x="2843280" y="2133720"/>
            <a:ext cx="2808360" cy="718920"/>
          </a:xfrm>
          <a:prstGeom prst="wedgeRectCallout">
            <a:avLst>
              <a:gd name="adj1" fmla="val -17041"/>
              <a:gd name="adj2" fmla="val 14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social generada por la externalida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10"/>
          <p:cNvSpPr/>
          <p:nvPr/>
        </p:nvSpPr>
        <p:spPr>
          <a:xfrm>
            <a:off x="4284720" y="3716280"/>
            <a:ext cx="0" cy="20178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2"/>
          <p:cNvSpPr/>
          <p:nvPr/>
        </p:nvSpPr>
        <p:spPr>
          <a:xfrm flipH="1">
            <a:off x="1618920" y="3789360"/>
            <a:ext cx="25923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3"/>
          <p:cNvSpPr/>
          <p:nvPr/>
        </p:nvSpPr>
        <p:spPr>
          <a:xfrm>
            <a:off x="1119240" y="39798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"/>
          <p:cNvSpPr/>
          <p:nvPr/>
        </p:nvSpPr>
        <p:spPr>
          <a:xfrm>
            <a:off x="3289680" y="5661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20"/>
          <p:cNvSpPr/>
          <p:nvPr/>
        </p:nvSpPr>
        <p:spPr>
          <a:xfrm rot="5400000">
            <a:off x="3456360" y="3393000"/>
            <a:ext cx="863280" cy="792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21"/>
          <p:cNvSpPr/>
          <p:nvPr/>
        </p:nvSpPr>
        <p:spPr>
          <a:xfrm>
            <a:off x="6012000" y="2852640"/>
            <a:ext cx="2808000" cy="1295640"/>
          </a:xfrm>
          <a:prstGeom prst="wedgeRectCallout">
            <a:avLst>
              <a:gd name="adj1" fmla="val -29138"/>
              <a:gd name="adj2" fmla="val 104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 un beneficio  a terceros que no esta siendo incorporado en la función de beneficio privado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22"/>
          <p:cNvSpPr/>
          <p:nvPr/>
        </p:nvSpPr>
        <p:spPr>
          <a:xfrm>
            <a:off x="1042920" y="6138720"/>
            <a:ext cx="3024360" cy="719280"/>
          </a:xfrm>
          <a:prstGeom prst="wedgeRectCallout">
            <a:avLst>
              <a:gd name="adj1" fmla="val -1287"/>
              <a:gd name="adj2" fmla="val -78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ntidad es de mercado es menor a la óp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8"/>
          <p:cNvSpPr/>
          <p:nvPr/>
        </p:nvSpPr>
        <p:spPr>
          <a:xfrm>
            <a:off x="1619280" y="3341520"/>
            <a:ext cx="4608360" cy="224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4"/>
          <p:cNvSpPr/>
          <p:nvPr/>
        </p:nvSpPr>
        <p:spPr>
          <a:xfrm>
            <a:off x="1117440" y="45021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5"/>
          <p:cNvSpPr/>
          <p:nvPr/>
        </p:nvSpPr>
        <p:spPr>
          <a:xfrm>
            <a:off x="1111320" y="3573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2"/>
          <p:cNvSpPr/>
          <p:nvPr/>
        </p:nvSpPr>
        <p:spPr>
          <a:xfrm flipH="1">
            <a:off x="1618920" y="4653000"/>
            <a:ext cx="2630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Text Box 15"/>
          <p:cNvSpPr/>
          <p:nvPr/>
        </p:nvSpPr>
        <p:spPr>
          <a:xfrm>
            <a:off x="4356000" y="1268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6"/>
          <p:cNvSpPr/>
          <p:nvPr/>
        </p:nvSpPr>
        <p:spPr>
          <a:xfrm>
            <a:off x="4213440" y="450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8"/>
          <p:cNvSpPr/>
          <p:nvPr/>
        </p:nvSpPr>
        <p:spPr>
          <a:xfrm>
            <a:off x="684360" y="2276640"/>
            <a:ext cx="4103640" cy="23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0"/>
          <p:cNvSpPr/>
          <p:nvPr/>
        </p:nvSpPr>
        <p:spPr>
          <a:xfrm>
            <a:off x="1979640" y="2997360"/>
            <a:ext cx="0" cy="1885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1702080" y="4869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3"/>
          <p:cNvSpPr/>
          <p:nvPr/>
        </p:nvSpPr>
        <p:spPr>
          <a:xfrm>
            <a:off x="314640" y="33498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9"/>
          <p:cNvSpPr/>
          <p:nvPr/>
        </p:nvSpPr>
        <p:spPr>
          <a:xfrm flipV="1">
            <a:off x="690480" y="1844280"/>
            <a:ext cx="38815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0"/>
          <p:cNvSpPr/>
          <p:nvPr/>
        </p:nvSpPr>
        <p:spPr>
          <a:xfrm>
            <a:off x="2484360" y="3213000"/>
            <a:ext cx="0" cy="162576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2"/>
          <p:cNvSpPr/>
          <p:nvPr/>
        </p:nvSpPr>
        <p:spPr>
          <a:xfrm flipH="1">
            <a:off x="684360" y="3933720"/>
            <a:ext cx="1800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3"/>
          <p:cNvSpPr/>
          <p:nvPr/>
        </p:nvSpPr>
        <p:spPr>
          <a:xfrm>
            <a:off x="299880" y="2917800"/>
            <a:ext cx="6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2281320" y="4869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2"/>
          <p:cNvSpPr/>
          <p:nvPr/>
        </p:nvSpPr>
        <p:spPr>
          <a:xfrm flipH="1">
            <a:off x="684360" y="3573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3"/>
          <p:cNvSpPr/>
          <p:nvPr/>
        </p:nvSpPr>
        <p:spPr>
          <a:xfrm>
            <a:off x="324000" y="37162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3"/>
          <p:cNvSpPr/>
          <p:nvPr/>
        </p:nvSpPr>
        <p:spPr>
          <a:xfrm>
            <a:off x="2484360" y="3860640"/>
            <a:ext cx="20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1908000" y="2708280"/>
            <a:ext cx="30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2556000" y="306864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1835280" y="357336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24"/>
          <p:cNvSpPr/>
          <p:nvPr/>
        </p:nvSpPr>
        <p:spPr>
          <a:xfrm>
            <a:off x="6156360" y="1557360"/>
            <a:ext cx="2736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lz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costo generado por la 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ea maQ*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beneficios generados por el consu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stos – beneficios = área mal = pérdida social por un consumo inferior al ópti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2"/>
          <p:cNvSpPr/>
          <p:nvPr/>
        </p:nvSpPr>
        <p:spPr>
          <a:xfrm flipH="1">
            <a:off x="684360" y="3284640"/>
            <a:ext cx="18000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684360" y="2874960"/>
            <a:ext cx="3527280" cy="199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5"/>
          <p:cNvSpPr/>
          <p:nvPr/>
        </p:nvSpPr>
        <p:spPr>
          <a:xfrm>
            <a:off x="4500720" y="3789360"/>
            <a:ext cx="14396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- AM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positiva en el Consumo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611280" y="1557360"/>
            <a:ext cx="8281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 más comu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oluciones a las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lo Priv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eorema de Coa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us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lo Públic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mpuestos o Subsid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ando y contro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eorema de Co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 los derechos de propiedad están bien definidos y no existen costos de transacción para negociar, las negociaciones de los afectados llevarán a un nivel óptimo social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importa quien tenga los derechos (contaminado o contaminant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función del estado es establecer los derechos de propie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Teorema de Coase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5"/>
          <p:cNvSpPr/>
          <p:nvPr/>
        </p:nvSpPr>
        <p:spPr>
          <a:xfrm>
            <a:off x="4421160" y="1268280"/>
            <a:ext cx="15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27"/>
          <p:cNvSpPr/>
          <p:nvPr/>
        </p:nvSpPr>
        <p:spPr>
          <a:xfrm>
            <a:off x="6156360" y="1268280"/>
            <a:ext cx="27367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 0 y Q* el BMgP – CMgP &gt; DMg, lo que da espacio para negociar (el contaminante esta dispuesto a pagar contaminar y el contaminado a aceptar un pag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 Q* y Qm el DMg &gt;BmgP-CMgP, dando espacio para negociar (el contaminado esta dispuesto a pagar por menos contaminación y el contaminante a aceptar el pag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eorema de Co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or qué no suele funcionar en la práctic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os derechos de propiedad no siempre están bien definidos (como estado resulta difícil determinar a quien asignarl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stos de transacción &gt;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iempre se gastarán tiempo y recurs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Lograr consensos no es fácil, especialmente en grupos gran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dentificar a los involucrados no es gratuit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Hacer cumplir los acuerdos tampoco es grati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fícil valorar el da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ree ri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la equidad? (no da lo mismo entregar los derechos al contaminador que al contaminad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8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8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8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us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siste en fusionar en una sola entidad al generador de la externalidad y al perjudicado/beneficiado por ell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 esta manera esta única gran empresa internalizará dentro de su función de costos el daño/beneficio generado por la external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. Venta a la fábrica río arriba las piscinas que se encuentran río abaj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Externalida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PECUNIARIAS: son aquellas que no producen un fracaso en el mercado.  Estas externalidades son transmitidas  a través de los precio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. Incremento de la demanda de un bi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TECNOLÓGICAS: aquellas que producen un fracaso en el mercado.  Consisten en daños o beneficios generados a terceros en los cuales no existe una compensación por el daño/beneficio caus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. La contaminación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n este curso nos enfocaremos en las externalidades tecnológica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uestos o subsid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aplican impuestos o subsidios que modifiquen las funciones de costos/beneficios privadas en una magnitud igual a la distorsión (impuestos piguviano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Impuesto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2" name="Text Box 15"/>
          <p:cNvSpPr/>
          <p:nvPr/>
        </p:nvSpPr>
        <p:spPr>
          <a:xfrm>
            <a:off x="5072040" y="1916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6"/>
          <p:cNvSpPr/>
          <p:nvPr/>
        </p:nvSpPr>
        <p:spPr>
          <a:xfrm>
            <a:off x="4789440" y="40766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3"/>
          <p:cNvSpPr/>
          <p:nvPr/>
        </p:nvSpPr>
        <p:spPr>
          <a:xfrm>
            <a:off x="677880" y="178596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4"/>
          <p:cNvSpPr/>
          <p:nvPr/>
        </p:nvSpPr>
        <p:spPr>
          <a:xfrm>
            <a:off x="677880" y="4883040"/>
            <a:ext cx="447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5"/>
          <p:cNvSpPr/>
          <p:nvPr/>
        </p:nvSpPr>
        <p:spPr>
          <a:xfrm>
            <a:off x="5097960" y="488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6"/>
          <p:cNvSpPr/>
          <p:nvPr/>
        </p:nvSpPr>
        <p:spPr>
          <a:xfrm>
            <a:off x="252720" y="172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8"/>
          <p:cNvSpPr/>
          <p:nvPr/>
        </p:nvSpPr>
        <p:spPr>
          <a:xfrm>
            <a:off x="677880" y="2219400"/>
            <a:ext cx="4159080" cy="23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"/>
          <p:cNvSpPr/>
          <p:nvPr/>
        </p:nvSpPr>
        <p:spPr>
          <a:xfrm flipV="1">
            <a:off x="677880" y="2147760"/>
            <a:ext cx="444816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0"/>
          <p:cNvSpPr/>
          <p:nvPr/>
        </p:nvSpPr>
        <p:spPr>
          <a:xfrm>
            <a:off x="2959200" y="2438280"/>
            <a:ext cx="0" cy="24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1"/>
          <p:cNvSpPr/>
          <p:nvPr/>
        </p:nvSpPr>
        <p:spPr>
          <a:xfrm>
            <a:off x="2810160" y="491796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2"/>
          <p:cNvSpPr/>
          <p:nvPr/>
        </p:nvSpPr>
        <p:spPr>
          <a:xfrm flipH="1">
            <a:off x="677520" y="3492360"/>
            <a:ext cx="2281320" cy="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3"/>
          <p:cNvSpPr/>
          <p:nvPr/>
        </p:nvSpPr>
        <p:spPr>
          <a:xfrm>
            <a:off x="314640" y="33066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9"/>
          <p:cNvSpPr/>
          <p:nvPr/>
        </p:nvSpPr>
        <p:spPr>
          <a:xfrm flipV="1">
            <a:off x="690480" y="1562040"/>
            <a:ext cx="3730680" cy="2325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5"/>
          <p:cNvSpPr/>
          <p:nvPr/>
        </p:nvSpPr>
        <p:spPr>
          <a:xfrm>
            <a:off x="4421160" y="1268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MgS=CMgP+DMg=CMgP+Impues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0"/>
          <p:cNvSpPr/>
          <p:nvPr/>
        </p:nvSpPr>
        <p:spPr>
          <a:xfrm>
            <a:off x="2101680" y="3024360"/>
            <a:ext cx="0" cy="1814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12"/>
          <p:cNvSpPr/>
          <p:nvPr/>
        </p:nvSpPr>
        <p:spPr>
          <a:xfrm flipH="1">
            <a:off x="665280" y="3024360"/>
            <a:ext cx="148752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322200" y="2828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1"/>
          <p:cNvSpPr/>
          <p:nvPr/>
        </p:nvSpPr>
        <p:spPr>
          <a:xfrm>
            <a:off x="1906560" y="4933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12"/>
          <p:cNvSpPr/>
          <p:nvPr/>
        </p:nvSpPr>
        <p:spPr>
          <a:xfrm flipH="1">
            <a:off x="641160" y="4019400"/>
            <a:ext cx="148716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3"/>
          <p:cNvSpPr/>
          <p:nvPr/>
        </p:nvSpPr>
        <p:spPr>
          <a:xfrm>
            <a:off x="322200" y="38448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3"/>
          <p:cNvSpPr/>
          <p:nvPr/>
        </p:nvSpPr>
        <p:spPr>
          <a:xfrm>
            <a:off x="2052720" y="388152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3"/>
          <p:cNvSpPr/>
          <p:nvPr/>
        </p:nvSpPr>
        <p:spPr>
          <a:xfrm>
            <a:off x="1951200" y="2673360"/>
            <a:ext cx="301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3"/>
          <p:cNvSpPr/>
          <p:nvPr/>
        </p:nvSpPr>
        <p:spPr>
          <a:xfrm>
            <a:off x="2808360" y="2147760"/>
            <a:ext cx="19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3"/>
          <p:cNvSpPr/>
          <p:nvPr/>
        </p:nvSpPr>
        <p:spPr>
          <a:xfrm>
            <a:off x="2909880" y="3510000"/>
            <a:ext cx="201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28"/>
          <p:cNvSpPr/>
          <p:nvPr/>
        </p:nvSpPr>
        <p:spPr>
          <a:xfrm>
            <a:off x="3564000" y="2133720"/>
            <a:ext cx="0" cy="1008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29"/>
          <p:cNvSpPr/>
          <p:nvPr/>
        </p:nvSpPr>
        <p:spPr>
          <a:xfrm>
            <a:off x="3708360" y="2133720"/>
            <a:ext cx="142920" cy="934920"/>
          </a:xfrm>
          <a:custGeom>
            <a:avLst/>
            <a:gdLst>
              <a:gd name="textAreaLeft" fmla="*/ 0 w 142920"/>
              <a:gd name="textAreaRight" fmla="*/ 51480 w 1429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5"/>
          <p:cNvSpPr/>
          <p:nvPr/>
        </p:nvSpPr>
        <p:spPr>
          <a:xfrm>
            <a:off x="3848040" y="2414520"/>
            <a:ext cx="1731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mpuesto=DM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plicación de un impuesto de igual magnitud al daño marginal nos lleva a un punto socialmente ópti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impuesto produce dos precios; el de venta relevante para el consumidor (Pc), y un precio que no incluye el impuesto relevante para el productor (P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mayor precio para el consumidor (Pc) reduce la cantidad consumida, mientras que un menor precio para el productor (Pp) reduce la produc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diferencia entre Pc y PP es igual al impues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07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Subsidios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2" name="Text Box 15"/>
          <p:cNvSpPr/>
          <p:nvPr/>
        </p:nvSpPr>
        <p:spPr>
          <a:xfrm>
            <a:off x="4500720" y="119700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=CMgP=CM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3"/>
          <p:cNvSpPr/>
          <p:nvPr/>
        </p:nvSpPr>
        <p:spPr>
          <a:xfrm>
            <a:off x="538200" y="1332000"/>
            <a:ext cx="0" cy="3171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4"/>
          <p:cNvSpPr/>
          <p:nvPr/>
        </p:nvSpPr>
        <p:spPr>
          <a:xfrm>
            <a:off x="538200" y="45036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5"/>
          <p:cNvSpPr/>
          <p:nvPr/>
        </p:nvSpPr>
        <p:spPr>
          <a:xfrm>
            <a:off x="4994280" y="4503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6"/>
          <p:cNvSpPr/>
          <p:nvPr/>
        </p:nvSpPr>
        <p:spPr>
          <a:xfrm>
            <a:off x="10980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8"/>
          <p:cNvSpPr/>
          <p:nvPr/>
        </p:nvSpPr>
        <p:spPr>
          <a:xfrm>
            <a:off x="538200" y="1808280"/>
            <a:ext cx="4195800" cy="24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0"/>
          <p:cNvSpPr/>
          <p:nvPr/>
        </p:nvSpPr>
        <p:spPr>
          <a:xfrm>
            <a:off x="1873080" y="2600280"/>
            <a:ext cx="0" cy="1917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1"/>
          <p:cNvSpPr/>
          <p:nvPr/>
        </p:nvSpPr>
        <p:spPr>
          <a:xfrm>
            <a:off x="2284920" y="4459320"/>
            <a:ext cx="3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2"/>
          <p:cNvSpPr/>
          <p:nvPr/>
        </p:nvSpPr>
        <p:spPr>
          <a:xfrm flipH="1">
            <a:off x="550440" y="3260880"/>
            <a:ext cx="1322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"/>
          <p:cNvSpPr/>
          <p:nvPr/>
        </p:nvSpPr>
        <p:spPr>
          <a:xfrm>
            <a:off x="3805200" y="415908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=BMg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9"/>
          <p:cNvSpPr/>
          <p:nvPr/>
        </p:nvSpPr>
        <p:spPr>
          <a:xfrm flipV="1">
            <a:off x="550800" y="1461960"/>
            <a:ext cx="3863880" cy="27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5"/>
          <p:cNvSpPr/>
          <p:nvPr/>
        </p:nvSpPr>
        <p:spPr>
          <a:xfrm>
            <a:off x="4572000" y="3860640"/>
            <a:ext cx="4057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BMgS=BMgP + AMg=BMgP+Subsidio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0"/>
          <p:cNvSpPr/>
          <p:nvPr/>
        </p:nvSpPr>
        <p:spPr>
          <a:xfrm>
            <a:off x="2433600" y="2840040"/>
            <a:ext cx="0" cy="167940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12"/>
          <p:cNvSpPr/>
          <p:nvPr/>
        </p:nvSpPr>
        <p:spPr>
          <a:xfrm flipH="1">
            <a:off x="550440" y="2900520"/>
            <a:ext cx="18306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3"/>
          <p:cNvSpPr/>
          <p:nvPr/>
        </p:nvSpPr>
        <p:spPr>
          <a:xfrm>
            <a:off x="200520" y="3059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1"/>
          <p:cNvSpPr/>
          <p:nvPr/>
        </p:nvSpPr>
        <p:spPr>
          <a:xfrm>
            <a:off x="1730520" y="445932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8"/>
          <p:cNvSpPr/>
          <p:nvPr/>
        </p:nvSpPr>
        <p:spPr>
          <a:xfrm>
            <a:off x="550800" y="2527200"/>
            <a:ext cx="32529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24"/>
          <p:cNvSpPr/>
          <p:nvPr/>
        </p:nvSpPr>
        <p:spPr>
          <a:xfrm>
            <a:off x="145440" y="342900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25"/>
          <p:cNvSpPr/>
          <p:nvPr/>
        </p:nvSpPr>
        <p:spPr>
          <a:xfrm>
            <a:off x="141120" y="27446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H="1">
            <a:off x="550800" y="3619440"/>
            <a:ext cx="1857600" cy="0"/>
          </a:xfrm>
          <a:prstGeom prst="line">
            <a:avLst/>
          </a:prstGeom>
          <a:ln w="93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28"/>
          <p:cNvSpPr/>
          <p:nvPr/>
        </p:nvSpPr>
        <p:spPr>
          <a:xfrm>
            <a:off x="3132000" y="3306600"/>
            <a:ext cx="1800" cy="6987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29"/>
          <p:cNvSpPr/>
          <p:nvPr/>
        </p:nvSpPr>
        <p:spPr>
          <a:xfrm>
            <a:off x="3276720" y="328464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5"/>
          <p:cNvSpPr/>
          <p:nvPr/>
        </p:nvSpPr>
        <p:spPr>
          <a:xfrm>
            <a:off x="3416400" y="3390840"/>
            <a:ext cx="173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mpuesto=AM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Subsid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plicación de un subsidio de igual magnitud al aporte marginal nos lleva a un punto socialmente ópti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 igual que con los impuestos, el subsidio produce dos precios; el de venta relevante para el productor (Pp), y un precio subsidiado relevante para el consumidor (P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menor precio para el consumidor (Pc) aumenta la cantidad consumida, mientras que un mayor precio para el productor (Pp) aumenta la produc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diferencia entre Pc y PP es igual al subsid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j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acción tomada por el estado mediante subsidios y impuestos sirve para complementar el funcionamiento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reemplaza o sustituye a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uego de aplicada la regulación el mercado sigue funcionando y logra una asignación eficiente de los recurs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omando y Contro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estado define la cantidad a producir/consumir y fiscaliza para que esta se cumpl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e caso se encuentran los permisos de producción máxima, producción por tamaño de recurso, por tipo de productor, et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quivalencia entre los impuestos Pigouvianos y los permisos de contaminació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 Pigouviano:  El estado fija un precio por la contaminación estableciendo un impuesto que nos lleve al punto de equilibrio so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misos de Contaminación: El estado fija la cantidad en el óptimo social entregando un numero limitado de permisos de contamin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4" name="Line 4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5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6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7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8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9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1"/>
          <p:cNvSpPr/>
          <p:nvPr/>
        </p:nvSpPr>
        <p:spPr>
          <a:xfrm>
            <a:off x="3851280" y="32688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12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3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4"/>
          <p:cNvSpPr/>
          <p:nvPr/>
        </p:nvSpPr>
        <p:spPr>
          <a:xfrm>
            <a:off x="539640" y="4653000"/>
            <a:ext cx="806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* es el optimo social de contamin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descontaminación implica costos superiores a los beneficios de descontamin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5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16"/>
          <p:cNvSpPr/>
          <p:nvPr/>
        </p:nvSpPr>
        <p:spPr>
          <a:xfrm>
            <a:off x="5364000" y="1989000"/>
            <a:ext cx="2376720" cy="1224000"/>
          </a:xfrm>
          <a:prstGeom prst="wedgeRoundRectCallout">
            <a:avLst>
              <a:gd name="adj1" fmla="val -71240"/>
              <a:gd name="adj2" fmla="val 1165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xiste un BMg Privado por Descontamin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4000"/>
            </a:b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  El caso de los Impuest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8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7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9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10"/>
          <p:cNvSpPr/>
          <p:nvPr/>
        </p:nvSpPr>
        <p:spPr>
          <a:xfrm>
            <a:off x="3851280" y="326880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=BMgPD+ Impues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11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2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3"/>
          <p:cNvSpPr/>
          <p:nvPr/>
        </p:nvSpPr>
        <p:spPr>
          <a:xfrm>
            <a:off x="395280" y="4653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blecer un impuesto igual al daño marginal generado por la contaminación iguala el BMgSD y el BMgPS llevandonos al óptimo Q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xternalidades Tecnológ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eden ser positivas o negativ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sitivas (economías externas): vacun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egativas (deseconomías externas): contamin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ueden ser producidas por consumidores o producto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sumidores: fum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ductores: desechos de fábric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roblema radica en que los productores/ consumidores no consideran los costos o beneficios generados a terceros dentro de su función de costos o beneficios respectivam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4000"/>
            </a:b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  Regulación de Cantida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1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7"/>
          <p:cNvSpPr/>
          <p:nvPr/>
        </p:nvSpPr>
        <p:spPr>
          <a:xfrm flipV="1">
            <a:off x="1547640" y="2133720"/>
            <a:ext cx="216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9"/>
          <p:cNvSpPr/>
          <p:nvPr/>
        </p:nvSpPr>
        <p:spPr>
          <a:xfrm>
            <a:off x="3708360" y="1773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0"/>
          <p:cNvSpPr/>
          <p:nvPr/>
        </p:nvSpPr>
        <p:spPr>
          <a:xfrm>
            <a:off x="3276720" y="32688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1"/>
          <p:cNvSpPr/>
          <p:nvPr/>
        </p:nvSpPr>
        <p:spPr>
          <a:xfrm>
            <a:off x="2268360" y="350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2"/>
          <p:cNvSpPr/>
          <p:nvPr/>
        </p:nvSpPr>
        <p:spPr>
          <a:xfrm>
            <a:off x="2124000" y="42210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3"/>
          <p:cNvSpPr/>
          <p:nvPr/>
        </p:nvSpPr>
        <p:spPr>
          <a:xfrm>
            <a:off x="395280" y="49165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estado fija la cantidad en Q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5"/>
          <p:cNvSpPr/>
          <p:nvPr/>
        </p:nvSpPr>
        <p:spPr>
          <a:xfrm flipV="1">
            <a:off x="2268360" y="2133720"/>
            <a:ext cx="0" cy="201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l caso de los Impuestos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5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7"/>
          <p:cNvSpPr/>
          <p:nvPr/>
        </p:nvSpPr>
        <p:spPr>
          <a:xfrm flipV="1">
            <a:off x="1547640" y="1773000"/>
            <a:ext cx="172908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8"/>
          <p:cNvSpPr/>
          <p:nvPr/>
        </p:nvSpPr>
        <p:spPr>
          <a:xfrm>
            <a:off x="1547640" y="35020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9"/>
          <p:cNvSpPr/>
          <p:nvPr/>
        </p:nvSpPr>
        <p:spPr>
          <a:xfrm>
            <a:off x="3132000" y="15397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0"/>
          <p:cNvSpPr/>
          <p:nvPr/>
        </p:nvSpPr>
        <p:spPr>
          <a:xfrm>
            <a:off x="3851280" y="326880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=BMGPD+ Impues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1"/>
          <p:cNvSpPr/>
          <p:nvPr/>
        </p:nvSpPr>
        <p:spPr>
          <a:xfrm>
            <a:off x="255600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2"/>
          <p:cNvSpPr/>
          <p:nvPr/>
        </p:nvSpPr>
        <p:spPr>
          <a:xfrm>
            <a:off x="2340000" y="422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3"/>
          <p:cNvSpPr/>
          <p:nvPr/>
        </p:nvSpPr>
        <p:spPr>
          <a:xfrm>
            <a:off x="395280" y="484344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Mg de descontaminar el es mismo para todas las firm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5"/>
          <p:cNvSpPr/>
          <p:nvPr/>
        </p:nvSpPr>
        <p:spPr>
          <a:xfrm flipV="1">
            <a:off x="1547640" y="2060280"/>
            <a:ext cx="208764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6"/>
          <p:cNvSpPr/>
          <p:nvPr/>
        </p:nvSpPr>
        <p:spPr>
          <a:xfrm>
            <a:off x="3419640" y="18288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7"/>
          <p:cNvSpPr/>
          <p:nvPr/>
        </p:nvSpPr>
        <p:spPr>
          <a:xfrm>
            <a:off x="4211640" y="213372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8"/>
          <p:cNvSpPr/>
          <p:nvPr/>
        </p:nvSpPr>
        <p:spPr>
          <a:xfrm flipV="1">
            <a:off x="1547640" y="2349000"/>
            <a:ext cx="273708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9"/>
          <p:cNvSpPr/>
          <p:nvPr/>
        </p:nvSpPr>
        <p:spPr>
          <a:xfrm>
            <a:off x="197964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20"/>
          <p:cNvSpPr/>
          <p:nvPr/>
        </p:nvSpPr>
        <p:spPr>
          <a:xfrm>
            <a:off x="219564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21"/>
          <p:cNvSpPr/>
          <p:nvPr/>
        </p:nvSpPr>
        <p:spPr>
          <a:xfrm>
            <a:off x="1547640" y="414972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22"/>
          <p:cNvSpPr/>
          <p:nvPr/>
        </p:nvSpPr>
        <p:spPr>
          <a:xfrm>
            <a:off x="1836720" y="41324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Regulación de cantidad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6" name="Line 3"/>
          <p:cNvSpPr/>
          <p:nvPr/>
        </p:nvSpPr>
        <p:spPr>
          <a:xfrm flipV="1">
            <a:off x="1547640" y="1628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4"/>
          <p:cNvSpPr/>
          <p:nvPr/>
        </p:nvSpPr>
        <p:spPr>
          <a:xfrm>
            <a:off x="1547640" y="414972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"/>
          <p:cNvSpPr/>
          <p:nvPr/>
        </p:nvSpPr>
        <p:spPr>
          <a:xfrm>
            <a:off x="1187280" y="155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$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3490920" y="414972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contamin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7"/>
          <p:cNvSpPr/>
          <p:nvPr/>
        </p:nvSpPr>
        <p:spPr>
          <a:xfrm flipV="1">
            <a:off x="1547640" y="1700280"/>
            <a:ext cx="144000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8"/>
          <p:cNvSpPr/>
          <p:nvPr/>
        </p:nvSpPr>
        <p:spPr>
          <a:xfrm>
            <a:off x="1547640" y="3500280"/>
            <a:ext cx="23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2987640" y="155736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0"/>
          <p:cNvSpPr/>
          <p:nvPr/>
        </p:nvSpPr>
        <p:spPr>
          <a:xfrm>
            <a:off x="3276720" y="326880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1"/>
          <p:cNvSpPr/>
          <p:nvPr/>
        </p:nvSpPr>
        <p:spPr>
          <a:xfrm>
            <a:off x="2556000" y="35002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12"/>
          <p:cNvSpPr/>
          <p:nvPr/>
        </p:nvSpPr>
        <p:spPr>
          <a:xfrm>
            <a:off x="2340000" y="4221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3"/>
          <p:cNvSpPr/>
          <p:nvPr/>
        </p:nvSpPr>
        <p:spPr>
          <a:xfrm>
            <a:off x="395280" y="4843440"/>
            <a:ext cx="8569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legar a QS* debo hacer que cada empresa descontamine en QS*/2 (reparto la descontaminación en partes igua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esta cantidad el costo de descontaminar para A es muy elevado, a B le sale más barato que con un impues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14"/>
          <p:cNvSpPr/>
          <p:nvPr/>
        </p:nvSpPr>
        <p:spPr>
          <a:xfrm>
            <a:off x="4141800" y="391644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P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15"/>
          <p:cNvSpPr/>
          <p:nvPr/>
        </p:nvSpPr>
        <p:spPr>
          <a:xfrm flipV="1">
            <a:off x="1547640" y="2060280"/>
            <a:ext cx="208764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16"/>
          <p:cNvSpPr/>
          <p:nvPr/>
        </p:nvSpPr>
        <p:spPr>
          <a:xfrm>
            <a:off x="3419640" y="18288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</a:t>
            </a:r>
            <a:r>
              <a:rPr b="0" lang="es-CL" sz="1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4211640" y="213372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Mg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18"/>
          <p:cNvSpPr/>
          <p:nvPr/>
        </p:nvSpPr>
        <p:spPr>
          <a:xfrm flipV="1">
            <a:off x="1547640" y="2349000"/>
            <a:ext cx="2737080" cy="180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19"/>
          <p:cNvSpPr/>
          <p:nvPr/>
        </p:nvSpPr>
        <p:spPr>
          <a:xfrm>
            <a:off x="2050920" y="27082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1"/>
          <p:cNvSpPr/>
          <p:nvPr/>
        </p:nvSpPr>
        <p:spPr>
          <a:xfrm>
            <a:off x="1763640" y="4149720"/>
            <a:ext cx="6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S*/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3"/>
          <p:cNvSpPr/>
          <p:nvPr/>
        </p:nvSpPr>
        <p:spPr>
          <a:xfrm flipV="1">
            <a:off x="2556000" y="1989000"/>
            <a:ext cx="0" cy="21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3628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/subsidios suelen ser más eficientes que la regulación de la cant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s firmas pueden tener distintos costos de mitig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impuesto logra que todas las firmas tengan el mismo costo marginal de mitigació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 se fija la cantidad, todas las firmas deben reducir pero a unas les sale mas costoso que a ot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dicionalmente los impuestos generan incentivos para buscar  alternativas más limpias, ya que de reducir la externalidad pagaría menor impuesto, lo que no sucede con la regulación de cant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regulación de cantidad es preferible si desconocemos las funciones de demanda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solución son los permisos trans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89080" y="18864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ostos y beneficios de descontaminar</a:t>
            </a:r>
            <a:br>
              <a:rPr sz="3600"/>
            </a:b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Permisos Transables – Firmas Heterogéne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7" name="Text Box 13"/>
          <p:cNvSpPr/>
          <p:nvPr/>
        </p:nvSpPr>
        <p:spPr>
          <a:xfrm>
            <a:off x="395280" y="569592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le compra permisos a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22"/>
          <p:cNvGrpSpPr/>
          <p:nvPr/>
        </p:nvGrpSpPr>
        <p:grpSpPr>
          <a:xfrm>
            <a:off x="1187280" y="1557360"/>
            <a:ext cx="5689440" cy="3823560"/>
            <a:chOff x="1187280" y="1557360"/>
            <a:chExt cx="5689440" cy="3823560"/>
          </a:xfrm>
        </p:grpSpPr>
        <p:sp>
          <p:nvSpPr>
            <p:cNvPr id="1039" name="Line 3"/>
            <p:cNvSpPr/>
            <p:nvPr/>
          </p:nvSpPr>
          <p:spPr>
            <a:xfrm flipV="1">
              <a:off x="1653840" y="1650960"/>
              <a:ext cx="0" cy="332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4"/>
            <p:cNvSpPr/>
            <p:nvPr/>
          </p:nvSpPr>
          <p:spPr>
            <a:xfrm>
              <a:off x="1653840" y="4979880"/>
              <a:ext cx="335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5"/>
            <p:cNvSpPr/>
            <p:nvPr/>
          </p:nvSpPr>
          <p:spPr>
            <a:xfrm>
              <a:off x="1187280" y="1557360"/>
              <a:ext cx="5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$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6"/>
            <p:cNvSpPr/>
            <p:nvPr/>
          </p:nvSpPr>
          <p:spPr>
            <a:xfrm>
              <a:off x="4170960" y="4979880"/>
              <a:ext cx="270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scontaminac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7"/>
            <p:cNvSpPr/>
            <p:nvPr/>
          </p:nvSpPr>
          <p:spPr>
            <a:xfrm flipV="1">
              <a:off x="1653840" y="1746000"/>
              <a:ext cx="1865160" cy="32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8"/>
            <p:cNvSpPr/>
            <p:nvPr/>
          </p:nvSpPr>
          <p:spPr>
            <a:xfrm>
              <a:off x="1653840" y="4122360"/>
              <a:ext cx="307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9"/>
            <p:cNvSpPr/>
            <p:nvPr/>
          </p:nvSpPr>
          <p:spPr>
            <a:xfrm>
              <a:off x="3519000" y="155736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</a:t>
              </a:r>
              <a:r>
                <a:rPr b="0" lang="es-CL" sz="1400" spc="-1" strike="noStrike" baseline="30000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10"/>
            <p:cNvSpPr/>
            <p:nvPr/>
          </p:nvSpPr>
          <p:spPr>
            <a:xfrm>
              <a:off x="3893400" y="3816720"/>
              <a:ext cx="261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MgS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11"/>
            <p:cNvSpPr/>
            <p:nvPr/>
          </p:nvSpPr>
          <p:spPr>
            <a:xfrm>
              <a:off x="2959920" y="4122360"/>
              <a:ext cx="0" cy="855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12"/>
            <p:cNvSpPr/>
            <p:nvPr/>
          </p:nvSpPr>
          <p:spPr>
            <a:xfrm>
              <a:off x="2680200" y="5073840"/>
              <a:ext cx="83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QS*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14"/>
            <p:cNvSpPr/>
            <p:nvPr/>
          </p:nvSpPr>
          <p:spPr>
            <a:xfrm>
              <a:off x="5131440" y="46717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MgPD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15"/>
            <p:cNvSpPr/>
            <p:nvPr/>
          </p:nvSpPr>
          <p:spPr>
            <a:xfrm flipV="1">
              <a:off x="1653840" y="2221200"/>
              <a:ext cx="2703960" cy="27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16"/>
            <p:cNvSpPr/>
            <p:nvPr/>
          </p:nvSpPr>
          <p:spPr>
            <a:xfrm>
              <a:off x="4078440" y="191556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</a:t>
              </a:r>
              <a:r>
                <a:rPr b="0" lang="es-CL" sz="1400" spc="-1" strike="noStrike" baseline="30000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17"/>
            <p:cNvSpPr/>
            <p:nvPr/>
          </p:nvSpPr>
          <p:spPr>
            <a:xfrm>
              <a:off x="5104440" y="2318040"/>
              <a:ext cx="121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MgD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18"/>
            <p:cNvSpPr/>
            <p:nvPr/>
          </p:nvSpPr>
          <p:spPr>
            <a:xfrm flipV="1">
              <a:off x="1653840" y="2602800"/>
              <a:ext cx="3544920" cy="23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19"/>
            <p:cNvSpPr/>
            <p:nvPr/>
          </p:nvSpPr>
          <p:spPr>
            <a:xfrm>
              <a:off x="2305800" y="3076560"/>
              <a:ext cx="0" cy="1900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20"/>
            <p:cNvSpPr/>
            <p:nvPr/>
          </p:nvSpPr>
          <p:spPr>
            <a:xfrm>
              <a:off x="1933560" y="4979880"/>
              <a:ext cx="83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QS*/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21"/>
            <p:cNvSpPr/>
            <p:nvPr/>
          </p:nvSpPr>
          <p:spPr>
            <a:xfrm flipV="1">
              <a:off x="2959920" y="2126880"/>
              <a:ext cx="0" cy="28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7" name="Line 23"/>
          <p:cNvSpPr/>
          <p:nvPr/>
        </p:nvSpPr>
        <p:spPr>
          <a:xfrm flipH="1">
            <a:off x="2123640" y="3860640"/>
            <a:ext cx="144360" cy="216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24"/>
          <p:cNvSpPr/>
          <p:nvPr/>
        </p:nvSpPr>
        <p:spPr>
          <a:xfrm flipV="1">
            <a:off x="2340000" y="4149720"/>
            <a:ext cx="216000" cy="216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89080" y="-2736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Permisos Transables – Ejemplo Numéric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324000" y="1484280"/>
            <a:ext cx="8569080" cy="79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aginemos dos firmas (A y B), cada una produce dos toneladas de contaminant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objetivo de política es reducir las emisiones en dos toneladas, eso implica que cada firma deberá reducir su contaminación en una tonelad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costo de mitigación de una tonelada de contaminación es de 60 para la firma A y de 300 para la firma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se hace una regulación por cantidad simple A y B deberán reducir en una tonelada sus emisiones.  El costo para A será de 60 y para B de 300 con lo que el costo total descontaminación ascenderá a 36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permitimos que los permisos se transen en el mercado, A estará dispuesto a venderle a B su permiso por algo más de 60 y B estará dispuesto a pagar algo menos que 36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89080" y="-2736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Permisos Transables – Ejemplo Numéric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24000" y="1484280"/>
            <a:ext cx="8569080" cy="80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pongamos que llegan al acuerdo de pagar 150 por el permis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este caso A deberá reducir su contaminación en dos toneladas lo que le cuesta 12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 ya no debe reducir sus emisiones, solo debe pagar 150 a 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jo este esquema A gana 30 (150 que recibe de B menos los 120 que le cuesta descontaminar), mientras que B solo paga 150 a A.  Notablemente mejor que los 60 y 300 que antes pagaban A y B respectivam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decir, como sociedad hemos logrado los mismos niveles de contaminación pero a un costo mucho más baj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permiso transable tiene también la ventaja de estimular el uso de tecnologías más limpias.  Como vemos en el ejercicio las empresas más limpias ganan cuando se aplican políticas de descontamin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xternalidades Tecnológic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xiste una externalidad cuando el punto de equilibrio privado no es el mismo que el punto de equilibrio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…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. Esto porque no se está internalizando el costo o beneficio generado a otro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ibre funcionamiento del mercado nos asegura que el BMg privado = CMg Priv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o una asignación socialmente óptima requiere que el BMg social = CMg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lgunas Defini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P=medición monetaria del beneficio que obtiene una persona al consumir una unidad del bien o servic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= medición monetaria del beneficio que obtienen todos los miembros de la sociedad cuando una persona consum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P=medición monetaria de cuanto le cuesta a un productor la generación d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=medición monetaria de cuanto le a todos los miembros de la sociedad la producción de una unidad del bien o servic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laciones Existen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 &gt; BMgP = 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MgS &lt; BMgP = des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&gt; CMgP = des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&lt; CMgP = economías extern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MgS = CMgP y BMgS=BMgP.- entonces no hay externalidades, el mercado asigna eficientemente los recurs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 flipV="1">
            <a:off x="1600200" y="2971800"/>
            <a:ext cx="52578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6877080" y="2421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7601400" y="45086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21"/>
          <p:cNvSpPr/>
          <p:nvPr/>
        </p:nvSpPr>
        <p:spPr>
          <a:xfrm>
            <a:off x="3635280" y="1557360"/>
            <a:ext cx="2808360" cy="1295280"/>
          </a:xfrm>
          <a:prstGeom prst="wedgeRectCallout">
            <a:avLst>
              <a:gd name="adj1" fmla="val -8675"/>
              <a:gd name="adj2" fmla="val 127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mpresa maximiza utilidades en el punto donde CMgP = BMgP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22"/>
          <p:cNvSpPr/>
          <p:nvPr/>
        </p:nvSpPr>
        <p:spPr>
          <a:xfrm>
            <a:off x="395280" y="2997360"/>
            <a:ext cx="3095640" cy="1152360"/>
          </a:xfrm>
          <a:prstGeom prst="wedgeRoundRectCallout">
            <a:avLst>
              <a:gd name="adj1" fmla="val 38152"/>
              <a:gd name="adj2" fmla="val 1117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mpresa no captura el daño generado a terceros en su función de cos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78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4617b"/>
                </a:solidFill>
                <a:latin typeface="Calibri"/>
              </a:rPr>
              <a:t>Externalidad negativa en la Producción</a:t>
            </a:r>
            <a:endParaRPr b="0" lang="en-US" sz="4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9142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9"/>
          <p:cNvSpPr/>
          <p:nvPr/>
        </p:nvSpPr>
        <p:spPr>
          <a:xfrm flipV="1">
            <a:off x="1600200" y="2349000"/>
            <a:ext cx="6356520" cy="336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7308720" y="1700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=CM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6"/>
          <p:cNvSpPr/>
          <p:nvPr/>
        </p:nvSpPr>
        <p:spPr>
          <a:xfrm>
            <a:off x="7601400" y="4911840"/>
            <a:ext cx="15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=BMgP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M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7"/>
          <p:cNvSpPr/>
          <p:nvPr/>
        </p:nvSpPr>
        <p:spPr>
          <a:xfrm>
            <a:off x="1619280" y="4653000"/>
            <a:ext cx="56894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8"/>
          <p:cNvSpPr/>
          <p:nvPr/>
        </p:nvSpPr>
        <p:spPr>
          <a:xfrm>
            <a:off x="6012000" y="2852640"/>
            <a:ext cx="3132000" cy="1295640"/>
          </a:xfrm>
          <a:prstGeom prst="wedgeRectCallout">
            <a:avLst>
              <a:gd name="adj1" fmla="val -38087"/>
              <a:gd name="adj2" fmla="val 832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ongamos que el daño marginal es constante. Lo que nos genera una curva de daño marginal DM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7238160" y="4365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M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19T17:35:20Z</dcterms:modified>
  <cp:revision>83</cp:revision>
  <dc:subject/>
  <dc:title>Economía del Sector Público</dc:title>
</cp:coreProperties>
</file>