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5B0A93-35E3-4085-B926-5E0C727ABC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plicar que por la falla de mercado en el óptimo la oferta de mercado no se encuetra con la demanda de mercado y por ello es que existen dos precios.  Cuando veamos la corrección a las externalidades va a quedar mas claro el concep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7A9-5242-4AA6-BAD2-0D46C049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D77-95BC-44C7-927C-BC47EA3D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186B2-23D1-413D-ACF2-6D8FC725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B5BDC-0834-4CD5-9894-861C39C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312E4-BEDE-4FC1-B569-076AD457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4A5D2-2546-4AB9-8379-C90E3FBD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F6F93-618D-4B20-8B40-8040CB8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7F93D-DA5C-42F5-B842-8A34F4BE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52E3C-FFB1-440F-BA9D-5C3DAF3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6D03C-5698-4301-8B84-5D4E5254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EC296-6DFD-4EE5-B6CE-681739C6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297DC-60D4-48D2-B7FC-D0E05239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B65-A890-42A6-A48F-8D408CE7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C4AEE-8AEA-48BF-900C-406E6613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B229B-426B-488C-AC3F-9131E58C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E2FFD-C9B7-46C6-A363-5A81F1BC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AC6AF-8E07-4AA0-BBD7-A9E87202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7ED7F-C494-4607-A9BC-3370DD8E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0E7DD-80A7-4709-B768-514EC2C8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837E5-FBB7-4F9C-809B-9FF02078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C8A9A-6E87-4480-9BCD-4574364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9170F-36AC-4D2E-B128-07A16722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44394-C091-48FA-A736-46EE4B16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93F-A079-497D-9387-EB0F5091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32682-FB02-4D36-8C6A-A571E2F7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F485E-A3CB-4B88-9F4A-D2D76214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4B6A8-16EB-4493-A2D3-AB5821BD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E4EAE-6B0D-473B-BA6F-4C544BE8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FC2D1-0F40-44BB-81BB-1BCABCB4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01A6B-206F-464A-8BA7-2B75B694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7C106-E7B4-460B-96FC-C8D7EFF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A449D-9766-4D0A-85CE-0593515A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BD5B0-2B66-4DA6-B8BC-F853735D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FEAC5-50E8-4D72-956F-0562ACF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83E3-64E6-4EBE-9906-4C687219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099B1-7C35-4DE0-A632-5F2DC5B3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0FDAC-4BC0-4CE6-8F72-062475EA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2DFF9-31FD-4A1C-9C2D-1D1FC950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8DBD-54B1-4DD1-BC64-FB6B00CA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A5E8-B547-4511-B805-8E433180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4CEA-107A-43B9-8E79-215D9CAB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FB60-5A71-4ABA-B86C-71C77D7B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5B76-BB5C-4E6A-A1B5-17B633A4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AF3B-F130-40F3-9A3D-D2AADE04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73C-68AF-48E4-8880-32E3D607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13F6-739E-4999-BDAC-02768C66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7BCD-F8E9-4FEC-B93A-4531D5F5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753-6682-4BAC-87B3-2CFE208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7DD5-35DB-4709-8B85-16B78BD6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C35D-B004-4959-9ECD-B5CE15A1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4845-552E-4D8A-9920-BAA3AD16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92FBD-2319-4131-8B49-C6D58D11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31E3-E51C-44C3-94D6-49CBE8A0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FB44-3CA3-47E2-AB1B-F404E9B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EA09-2033-4815-AFE1-EB6F20B7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DF2-6FD2-4AC4-997C-AFBE2B88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96D04-2084-4F71-AD9A-8DC340A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7040-E813-4694-BAEB-6967E99D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D08FF-76A1-4D6F-A5E8-3A6F26ED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97F8-5E0C-4AEF-90EC-CBA57BD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534B-423A-4A2B-9EAE-A654844F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A8A8-E4DC-478E-9F47-0470C820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296D-9339-440A-80DD-C00FA6DF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8A26-541D-45DA-9C16-44451255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DEE9C-8475-4F5B-BB47-9C61ECC9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D604-FCDA-4BDD-9D9D-C0F1FE23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27B-44E8-4FFD-8869-7CEE9DB2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B51E8-9F1B-4CF8-93A8-CD0EE806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2EC4-B070-4980-82F2-1872FB75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7D3D7-7EBD-48F7-80F9-B1229B9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41E0D-263C-448D-ACE3-C283EBA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404B-54C3-46A9-9CCF-D4C9794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A24D-E7F2-4068-A44C-BC70A53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2153-570B-4840-8B89-F279E073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14BA-DF74-4D1A-8A2D-4838F038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50A53-E08F-4602-8801-C2B31C4A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2A09F-FFBD-40A9-97FC-10B09A16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E4E-6BFC-43B0-98D2-AFE27104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D5C3-A113-4E52-A7C2-D699D255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95724-D718-481D-9621-FFE119AC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D6EEC-4781-4E7B-82DD-539F236B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4B1EF-C106-4E9A-8627-38E192FC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CF637-30B6-4487-9457-8FADDE21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1BC2-A161-47CF-81B4-69A5F44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D13C-3A68-430C-9A6A-D7DCE956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2238-E5AD-4A65-88EB-E9FB046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BA76-5B60-4C91-BCDE-2A0C0216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F62D-FE8C-4CF8-8D03-E4ED4692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2DB-34BC-49FC-864A-718E8088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6B39-1351-4E0E-9594-4297ECF6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BEE98-4629-420B-BA1A-EF67DC6D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03126-841F-4B20-85DA-E6B03885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60643-3A5B-4D6D-B8A3-14ECDAE6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5C65F-882B-44C8-906A-D9D4D96D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B3588-6CCB-4166-86F4-FD8596A4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5D338-4253-4841-BF79-F589D5E7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6C6BC-926C-4A3C-853A-6D0FC4E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93DC-241D-4257-BABB-8E3A384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313F-6FF8-4F7F-BC4B-6290BEC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CEE-E4A8-4818-88E8-17BDB6E3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5965-F7FD-4F7A-81C7-35FFF24A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0F404-38F6-4AFB-B13E-729686CF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D1FAD-56B1-4B81-AB30-2EBB8B65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50618-C0B2-47B8-8745-1333FC81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1F1C1-2CFD-46E8-A9A8-BCBB5292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8B40-227D-4669-8295-9E3E096F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9AECB-84E5-4F73-8008-7544C795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EDE3A-45A0-413B-A998-DACA70CB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BAA36-5B07-47AC-89E1-D53AA2D9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AA04-BA7E-4F12-B39E-20D43567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2B5-8333-4274-85F2-F0CB83E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AF838-8C12-42B1-A630-7378804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1346D-37F2-4966-AB27-A34DBF3C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FA2CA-B2F9-4532-8B72-7A480256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086B-61D4-4B0D-B8F1-443F5639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B0BF-4F0A-4EBC-8BFB-CA321859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CF291-5BC7-4FF9-9160-9B17C31C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6D50B-FAF0-4741-9CB8-EB6BFC88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A297A-63D0-4FCB-BB07-726A42D2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52FF-35BE-49EA-8560-510C0A82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6F11D-1CA2-4862-AF20-A479A017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820-AA33-471B-AABA-94C70611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0096C-372A-4E64-9272-2ADB14BA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82E15-5409-4A34-9272-CA4D3FB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33FA8-5DAD-4B95-8B4E-AD536A2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14AD6-29DE-439C-AC8D-429B493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F5EEC-E576-4650-A633-1CB2DA37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E5431-BE89-4E61-84F4-4CC0C933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0AAE-D0C3-4882-92C8-115F5368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310EA-F4E5-4CD8-9764-E8D4745C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D2DE6-5D7E-40B3-93B6-BB38C622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018C3-8B50-4917-9866-87F99961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27C-D68C-4D34-AE00-314BC7C467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7DA3-F3D4-4F2C-ADB4-A1197CABDF3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DBD-9B53-4D52-807B-02D2FC1711B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BD30-63FC-44AD-86E2-7654B8974E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63A1-20C2-47B5-A01C-D3B98AF5D8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33B8-1EA6-49BA-AD71-6D53421E13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9BC2-CD6D-48F7-8BE1-9566515937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948-B4AC-4F04-91DD-E3E0A01EDE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31DA-1863-488C-96FF-7EF47361EFF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248C-433D-486B-A956-0CB86BDD742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6DE7-0C44-4280-BB0D-F4A50700A7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29000" cy="261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9"/>
          <p:cNvSpPr/>
          <p:nvPr/>
        </p:nvSpPr>
        <p:spPr>
          <a:xfrm flipV="1">
            <a:off x="1908000" y="2707920"/>
            <a:ext cx="532944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0"/>
          <p:cNvSpPr/>
          <p:nvPr/>
        </p:nvSpPr>
        <p:spPr>
          <a:xfrm>
            <a:off x="1908000" y="1197000"/>
            <a:ext cx="3132360" cy="1440000"/>
          </a:xfrm>
          <a:prstGeom prst="wedgeRectCallout">
            <a:avLst>
              <a:gd name="adj1" fmla="val 83703"/>
              <a:gd name="adj2" fmla="val 10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sto Marginal Social es igual al costo marginal de la empresa más el costo marginal que genera sobre terceros (DMg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03142 -0.15602 E">
                                      <p:cBhvr>
                                        <p:cTn id="141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485928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9"/>
          <p:cNvSpPr/>
          <p:nvPr/>
        </p:nvSpPr>
        <p:spPr>
          <a:xfrm>
            <a:off x="2195640" y="1916280"/>
            <a:ext cx="2808000" cy="647640"/>
          </a:xfrm>
          <a:prstGeom prst="wedgeRectCallout">
            <a:avLst>
              <a:gd name="adj1" fmla="val 648"/>
              <a:gd name="adj2" fmla="val 160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 socialmente óptimo de producció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7"/>
          <p:cNvSpPr/>
          <p:nvPr/>
        </p:nvSpPr>
        <p:spPr>
          <a:xfrm>
            <a:off x="2195640" y="1773360"/>
            <a:ext cx="2808000" cy="718920"/>
          </a:xfrm>
          <a:prstGeom prst="wedgeRectCallout">
            <a:avLst>
              <a:gd name="adj1" fmla="val 24620"/>
              <a:gd name="adj2" fmla="val 122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3"/>
          <p:cNvSpPr/>
          <p:nvPr/>
        </p:nvSpPr>
        <p:spPr>
          <a:xfrm rot="1803000">
            <a:off x="3890880" y="2730600"/>
            <a:ext cx="1249560" cy="1079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4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2"/>
          <p:cNvSpPr/>
          <p:nvPr/>
        </p:nvSpPr>
        <p:spPr>
          <a:xfrm>
            <a:off x="6156360" y="1557360"/>
            <a:ext cx="27367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minación (ríos, aíre, agua subterranea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gestión vehicu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4641120" y="57564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1076760" y="3774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6948360" y="1197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7599960" y="4911840"/>
            <a:ext cx="13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7956720" y="1989000"/>
            <a:ext cx="107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MgS=CMgP-AM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7"/>
          <p:cNvSpPr/>
          <p:nvPr/>
        </p:nvSpPr>
        <p:spPr>
          <a:xfrm>
            <a:off x="1979640" y="1773360"/>
            <a:ext cx="2808360" cy="718920"/>
          </a:xfrm>
          <a:prstGeom prst="wedgeRectCallout">
            <a:avLst>
              <a:gd name="adj1" fmla="val 11731"/>
              <a:gd name="adj2" fmla="val 173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2"/>
          <p:cNvSpPr/>
          <p:nvPr/>
        </p:nvSpPr>
        <p:spPr>
          <a:xfrm flipH="1">
            <a:off x="1547280" y="342900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1055880" y="3187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3360960" y="5780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2"/>
          <p:cNvSpPr/>
          <p:nvPr/>
        </p:nvSpPr>
        <p:spPr>
          <a:xfrm rot="5400000">
            <a:off x="3551400" y="3441600"/>
            <a:ext cx="1320480" cy="1152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6372360" y="3357720"/>
            <a:ext cx="2592360" cy="1295280"/>
          </a:xfrm>
          <a:prstGeom prst="wedgeRectCallout">
            <a:avLst>
              <a:gd name="adj1" fmla="val 16810"/>
              <a:gd name="adj2" fmla="val -84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a terceros que no esta siendo incorporado en la función de costo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5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1124640" y="26370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547640" y="278136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4356000" y="1268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1845000" y="4941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2"/>
          <p:cNvSpPr/>
          <p:nvPr/>
        </p:nvSpPr>
        <p:spPr>
          <a:xfrm flipH="1">
            <a:off x="684360" y="2997360"/>
            <a:ext cx="136656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3"/>
          <p:cNvSpPr/>
          <p:nvPr/>
        </p:nvSpPr>
        <p:spPr>
          <a:xfrm>
            <a:off x="314640" y="285264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4643280" y="1557360"/>
            <a:ext cx="15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A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2"/>
          <p:cNvSpPr/>
          <p:nvPr/>
        </p:nvSpPr>
        <p:spPr>
          <a:xfrm flipH="1">
            <a:off x="684360" y="2492280"/>
            <a:ext cx="2279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"/>
          <p:cNvSpPr/>
          <p:nvPr/>
        </p:nvSpPr>
        <p:spPr>
          <a:xfrm>
            <a:off x="299880" y="227664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2849760" y="4941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 flipH="1">
            <a:off x="684360" y="3500280"/>
            <a:ext cx="2232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322200" y="33577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2771640" y="2205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2987640" y="357336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212400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ienestar generado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a producción inferi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rrig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mig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aso de las abej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0"/>
          <p:cNvSpPr/>
          <p:nvPr/>
        </p:nvSpPr>
        <p:spPr>
          <a:xfrm>
            <a:off x="4284720" y="3789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313776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"/>
          <p:cNvSpPr/>
          <p:nvPr/>
        </p:nvSpPr>
        <p:spPr>
          <a:xfrm flipH="1">
            <a:off x="1619280" y="3789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6"/>
          <p:cNvSpPr/>
          <p:nvPr/>
        </p:nvSpPr>
        <p:spPr>
          <a:xfrm>
            <a:off x="7601400" y="51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5940360" y="515772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7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5569"/>
              <a:gd name="adj2" fmla="val 20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 flipH="1">
            <a:off x="1619280" y="3429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1055880" y="35733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386424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2"/>
          <p:cNvSpPr/>
          <p:nvPr/>
        </p:nvSpPr>
        <p:spPr>
          <a:xfrm rot="16200000">
            <a:off x="3456720" y="3824640"/>
            <a:ext cx="86364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23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daño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4"/>
          <p:cNvSpPr/>
          <p:nvPr/>
        </p:nvSpPr>
        <p:spPr>
          <a:xfrm>
            <a:off x="241128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6"/>
          <p:cNvSpPr/>
          <p:nvPr/>
        </p:nvSpPr>
        <p:spPr>
          <a:xfrm>
            <a:off x="1117440" y="324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7"/>
          <p:cNvSpPr/>
          <p:nvPr/>
        </p:nvSpPr>
        <p:spPr>
          <a:xfrm>
            <a:off x="1111320" y="407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2"/>
          <p:cNvSpPr/>
          <p:nvPr/>
        </p:nvSpPr>
        <p:spPr>
          <a:xfrm flipH="1">
            <a:off x="1619280" y="4221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cciones de individuos o empresas tienen consecuencias (negativas o positivas) sobre el resto de perso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efectos de nuestras acciones que recaen sobre otras personas son conocidos como externalidad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6"/>
          <p:cNvSpPr/>
          <p:nvPr/>
        </p:nvSpPr>
        <p:spPr>
          <a:xfrm>
            <a:off x="4718520" y="42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213372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314640" y="306216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H="1">
            <a:off x="684360" y="2997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299880" y="335772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17701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322200" y="2708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1979640" y="2637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1908000" y="364500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3"/>
          <p:cNvSpPr/>
          <p:nvPr/>
        </p:nvSpPr>
        <p:spPr>
          <a:xfrm>
            <a:off x="248436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sup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3635280" y="458136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cohol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407412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1618920" y="422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6229800" y="5300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7380360" y="472428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5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17041"/>
              <a:gd name="adj2" fmla="val 14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4284720" y="3716280"/>
            <a:ext cx="0" cy="20178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2"/>
          <p:cNvSpPr/>
          <p:nvPr/>
        </p:nvSpPr>
        <p:spPr>
          <a:xfrm flipH="1">
            <a:off x="1618920" y="3789360"/>
            <a:ext cx="25923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3"/>
          <p:cNvSpPr/>
          <p:nvPr/>
        </p:nvSpPr>
        <p:spPr>
          <a:xfrm>
            <a:off x="1119240" y="3979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"/>
          <p:cNvSpPr/>
          <p:nvPr/>
        </p:nvSpPr>
        <p:spPr>
          <a:xfrm>
            <a:off x="328968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0"/>
          <p:cNvSpPr/>
          <p:nvPr/>
        </p:nvSpPr>
        <p:spPr>
          <a:xfrm rot="5400000">
            <a:off x="3456360" y="3393000"/>
            <a:ext cx="8632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22"/>
          <p:cNvSpPr/>
          <p:nvPr/>
        </p:nvSpPr>
        <p:spPr>
          <a:xfrm>
            <a:off x="104292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4"/>
          <p:cNvSpPr/>
          <p:nvPr/>
        </p:nvSpPr>
        <p:spPr>
          <a:xfrm>
            <a:off x="1117440" y="45021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1111320" y="3573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2"/>
          <p:cNvSpPr/>
          <p:nvPr/>
        </p:nvSpPr>
        <p:spPr>
          <a:xfrm flipH="1">
            <a:off x="1618920" y="4653000"/>
            <a:ext cx="2630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4213440" y="45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170208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314640" y="33498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2"/>
          <p:cNvSpPr/>
          <p:nvPr/>
        </p:nvSpPr>
        <p:spPr>
          <a:xfrm flipH="1">
            <a:off x="684360" y="393372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299880" y="291780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22813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324000" y="3716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3"/>
          <p:cNvSpPr/>
          <p:nvPr/>
        </p:nvSpPr>
        <p:spPr>
          <a:xfrm>
            <a:off x="2484360" y="386064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1908000" y="270828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835280" y="3573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4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z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inf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4500720" y="378936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611280" y="1557360"/>
            <a:ext cx="828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oluciones a 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orema de Co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úbl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 o Subsid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ando y contro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 los derechos de propiedad están bien definidos y no existen costos de transacción para negociar, las negociaciones de los afectados llevarán a un nivel óptimo social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importa quien tenga los derechos (contaminado o contaminan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función del estado es establecer los derechos de propie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7"/>
          <p:cNvSpPr/>
          <p:nvPr/>
        </p:nvSpPr>
        <p:spPr>
          <a:xfrm>
            <a:off x="6156360" y="1268280"/>
            <a:ext cx="27367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0 y Q* el BMgP – CMgP &gt; DMg, lo que da espacio para negociar (el contaminante esta dispuesto a pagar contaminar y el contaminado a aceptar un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Q* y Qm el DMg &gt;BmgP-CMgP, dando espacio para negociar (el contaminado esta dispuesto a pagar por menos contaminación y el contaminante a aceptar el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no suele funcionar en la práctic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os derechos de propiedad no siempre están bien definidos (como estado resulta difícil determinar a quien asignarl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stos de transacción &gt;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iempre se gastarán tiempo y recurs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ograr consensos no es fácil, especialmente en grupos gran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dentificar a los involucrados no es gratuit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Hacer cumplir los acuerdos tampoco es grati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ícil valorar el d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e r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la equidad? (no da lo mismo entregar los derechos al contaminador que al contaminad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us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ste en fusionar en una sola entidad al generador de la externalidad y al perjudicado/beneficiado por el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esta manera esta única gran empresa internalizará dentro de su función de costos el daño/beneficio generado por la externa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. Venta a la fábrica río arriba las piscinas que se encuentran río 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ECUNIARIAS: son aquellas que no producen un fracaso en el mercado.  Estas externalidades son transmitidas  a través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Incremento de la demanda de un bi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TECNOLÓGICAS: aquellas que producen un fracaso en el mercado.  Consisten en daños o beneficios generados a terceros en los cuales no existe una compensación por el daño/beneficio caus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La contaminación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n este curso nos enfocaremos en las externalidades tecnológic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 o 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aplican impuestos o subsidios que modifiquen las funciones de costos/beneficios privadas en una magnitud igual a la distorsión (impuestos piguvian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2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4421160" y="126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=CMgP+Impues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8"/>
          <p:cNvSpPr/>
          <p:nvPr/>
        </p:nvSpPr>
        <p:spPr>
          <a:xfrm>
            <a:off x="3564000" y="213372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9"/>
          <p:cNvSpPr/>
          <p:nvPr/>
        </p:nvSpPr>
        <p:spPr>
          <a:xfrm>
            <a:off x="3708360" y="2133720"/>
            <a:ext cx="142920" cy="93492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5"/>
          <p:cNvSpPr/>
          <p:nvPr/>
        </p:nvSpPr>
        <p:spPr>
          <a:xfrm>
            <a:off x="3848040" y="2414520"/>
            <a:ext cx="173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mpuesto=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impuesto de igual magnitud al daño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impuesto produce dos precios; el de venta relevante para el consumidor (Pc), y un precio que no incluye el impuesto relevante para el productor (P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ayor precio para el consumidor (Pc) reduce la cantidad consumida, mientras que un menor precio para el productor (Pp) reduce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2" name="Text Box 15"/>
          <p:cNvSpPr/>
          <p:nvPr/>
        </p:nvSpPr>
        <p:spPr>
          <a:xfrm>
            <a:off x="4500720" y="119700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"/>
          <p:cNvSpPr/>
          <p:nvPr/>
        </p:nvSpPr>
        <p:spPr>
          <a:xfrm>
            <a:off x="538200" y="1332000"/>
            <a:ext cx="0" cy="3171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"/>
          <p:cNvSpPr/>
          <p:nvPr/>
        </p:nvSpPr>
        <p:spPr>
          <a:xfrm>
            <a:off x="538200" y="45036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5"/>
          <p:cNvSpPr/>
          <p:nvPr/>
        </p:nvSpPr>
        <p:spPr>
          <a:xfrm>
            <a:off x="4994280" y="4503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10980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>
            <a:off x="538200" y="1808280"/>
            <a:ext cx="4195800" cy="24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0"/>
          <p:cNvSpPr/>
          <p:nvPr/>
        </p:nvSpPr>
        <p:spPr>
          <a:xfrm>
            <a:off x="1873080" y="2600280"/>
            <a:ext cx="0" cy="19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1"/>
          <p:cNvSpPr/>
          <p:nvPr/>
        </p:nvSpPr>
        <p:spPr>
          <a:xfrm>
            <a:off x="2284920" y="4459320"/>
            <a:ext cx="3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2"/>
          <p:cNvSpPr/>
          <p:nvPr/>
        </p:nvSpPr>
        <p:spPr>
          <a:xfrm flipH="1">
            <a:off x="550440" y="3260880"/>
            <a:ext cx="132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3805200" y="41590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9"/>
          <p:cNvSpPr/>
          <p:nvPr/>
        </p:nvSpPr>
        <p:spPr>
          <a:xfrm flipV="1">
            <a:off x="550800" y="1461960"/>
            <a:ext cx="3863880" cy="27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5"/>
          <p:cNvSpPr/>
          <p:nvPr/>
        </p:nvSpPr>
        <p:spPr>
          <a:xfrm>
            <a:off x="4572000" y="3860640"/>
            <a:ext cx="4057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=BMgP+Subsidio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0"/>
          <p:cNvSpPr/>
          <p:nvPr/>
        </p:nvSpPr>
        <p:spPr>
          <a:xfrm>
            <a:off x="2433600" y="2840040"/>
            <a:ext cx="0" cy="1679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2"/>
          <p:cNvSpPr/>
          <p:nvPr/>
        </p:nvSpPr>
        <p:spPr>
          <a:xfrm flipH="1">
            <a:off x="550440" y="2900520"/>
            <a:ext cx="1830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3"/>
          <p:cNvSpPr/>
          <p:nvPr/>
        </p:nvSpPr>
        <p:spPr>
          <a:xfrm>
            <a:off x="200520" y="3059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1730520" y="44593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8"/>
          <p:cNvSpPr/>
          <p:nvPr/>
        </p:nvSpPr>
        <p:spPr>
          <a:xfrm>
            <a:off x="550800" y="2527200"/>
            <a:ext cx="32529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4"/>
          <p:cNvSpPr/>
          <p:nvPr/>
        </p:nvSpPr>
        <p:spPr>
          <a:xfrm>
            <a:off x="145440" y="34290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25"/>
          <p:cNvSpPr/>
          <p:nvPr/>
        </p:nvSpPr>
        <p:spPr>
          <a:xfrm>
            <a:off x="141120" y="27446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H="1">
            <a:off x="550800" y="3619440"/>
            <a:ext cx="1857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8"/>
          <p:cNvSpPr/>
          <p:nvPr/>
        </p:nvSpPr>
        <p:spPr>
          <a:xfrm>
            <a:off x="3132000" y="3306600"/>
            <a:ext cx="1800" cy="6987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29"/>
          <p:cNvSpPr/>
          <p:nvPr/>
        </p:nvSpPr>
        <p:spPr>
          <a:xfrm>
            <a:off x="3276720" y="328464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3416400" y="3390840"/>
            <a:ext cx="173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mpuesto=AM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subsidio de igual magnitud al aporte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igual que con los impuestos, el subsidio produce dos precios; el de venta relevante para el productor (Pp), y un precio subsidiado relevante para el consumidor (P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nor precio para el consumidor (Pc) aumenta la cantidad consumida, mientras que un mayor precio para el productor (Pp) aumenta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subs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cción tomada por el estado mediante subsidios y impuestos sirve para complementar e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emplaza o sustituye a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uego de aplicada la regulación el mercado sigue funcionando y logra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ando y Contr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define la cantidad a producir/consumir y fiscaliza para que esta se cump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aso se encuentran los permisos de producción máxima, producción por tamaño de recurso, por tipo de productor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valencia entre los impuestos Pigouvianos y los permisos de contaminació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 Pigouviano:  El estado fija un precio por la contaminación estableciendo un impuesto que nos lleve al punto de equilibrio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sos de Contaminación: El estado fija la cantidad en el óptimo social entregando un numero limitado de permisos de contamin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4" name="Line 4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6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3851280" y="32688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539640" y="4653000"/>
            <a:ext cx="80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* es el optimo social de contamin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descontaminación implica costos superiores a los beneficios de descontamin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5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16"/>
          <p:cNvSpPr/>
          <p:nvPr/>
        </p:nvSpPr>
        <p:spPr>
          <a:xfrm>
            <a:off x="5364000" y="1989000"/>
            <a:ext cx="2376720" cy="1224000"/>
          </a:xfrm>
          <a:prstGeom prst="wedgeRoundRectCallout">
            <a:avLst>
              <a:gd name="adj1" fmla="val -71240"/>
              <a:gd name="adj2" fmla="val 116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BMg Privado por Descontamin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El caso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3"/>
          <p:cNvSpPr/>
          <p:nvPr/>
        </p:nvSpPr>
        <p:spPr>
          <a:xfrm>
            <a:off x="395280" y="4653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un impuesto igual al daño marginal generado por la contaminación iguala el BMgSD y el BMgPS llevandonos al óptimo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ositivas o nega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itivas (economías externas): vacun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gativas (deseconomías externas): contamin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roducidas por consumidores o product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idores: fum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ductores: desechos de fábr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radica en que los productores/ consumidores no consideran los costos o beneficios generados a terceros dentro de su función de costos o beneficios respectiv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Regulación de Cantid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1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395280" y="49165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stado fija la cantidad en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5"/>
          <p:cNvSpPr/>
          <p:nvPr/>
        </p:nvSpPr>
        <p:spPr>
          <a:xfrm flipV="1">
            <a:off x="2268360" y="2133720"/>
            <a:ext cx="0" cy="201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caso de los Impuesto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7"/>
          <p:cNvSpPr/>
          <p:nvPr/>
        </p:nvSpPr>
        <p:spPr>
          <a:xfrm flipV="1">
            <a:off x="1547640" y="1773000"/>
            <a:ext cx="17290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3132000" y="1539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395280" y="48434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Mg de descontaminar el es mismo para todas las fir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9"/>
          <p:cNvSpPr/>
          <p:nvPr/>
        </p:nvSpPr>
        <p:spPr>
          <a:xfrm>
            <a:off x="1979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0"/>
          <p:cNvSpPr/>
          <p:nvPr/>
        </p:nvSpPr>
        <p:spPr>
          <a:xfrm>
            <a:off x="2195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1"/>
          <p:cNvSpPr/>
          <p:nvPr/>
        </p:nvSpPr>
        <p:spPr>
          <a:xfrm>
            <a:off x="154764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2"/>
          <p:cNvSpPr/>
          <p:nvPr/>
        </p:nvSpPr>
        <p:spPr>
          <a:xfrm>
            <a:off x="1836720" y="41324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Regulación de cantidad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6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7"/>
          <p:cNvSpPr/>
          <p:nvPr/>
        </p:nvSpPr>
        <p:spPr>
          <a:xfrm flipV="1">
            <a:off x="1547640" y="1700280"/>
            <a:ext cx="14400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8"/>
          <p:cNvSpPr/>
          <p:nvPr/>
        </p:nvSpPr>
        <p:spPr>
          <a:xfrm>
            <a:off x="1547640" y="35002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2987640" y="1557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95280" y="4843440"/>
            <a:ext cx="856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legar a QS* debo hacer que cada empresa descontamine en QS*/2 (reparto la descontaminación en partes igua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esta cantidad el costo de descontaminar para A es muy elevado, a B le sale más barato que con un impues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9"/>
          <p:cNvSpPr/>
          <p:nvPr/>
        </p:nvSpPr>
        <p:spPr>
          <a:xfrm>
            <a:off x="20509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1"/>
          <p:cNvSpPr/>
          <p:nvPr/>
        </p:nvSpPr>
        <p:spPr>
          <a:xfrm>
            <a:off x="1763640" y="414972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/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 flipV="1">
            <a:off x="2556000" y="19890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/subsidios suelen ser más eficientes que la regulación de la cant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s firmas pueden tener distintos costos de mitig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impuesto logra que todas las firmas tengan el mismo costo marginal de mitig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 se fija la cantidad, todas las firmas deben reducir pero a unas les sale mas costoso que a ot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icionalmente los impuestos generan incentivos para buscar  alternativas más limpias, ya que de reducir la externalidad pagaría menor impuesto, lo que no sucede con la regulación de cant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ulación de cantidad es preferible si desconocemos las funciones de demanda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solución son los permisos trans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Permisos Transable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7" name="Text Box 13"/>
          <p:cNvSpPr/>
          <p:nvPr/>
        </p:nvSpPr>
        <p:spPr>
          <a:xfrm>
            <a:off x="395280" y="569592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le compra permisos a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22"/>
          <p:cNvGrpSpPr/>
          <p:nvPr/>
        </p:nvGrpSpPr>
        <p:grpSpPr>
          <a:xfrm>
            <a:off x="1187280" y="1557360"/>
            <a:ext cx="5689440" cy="3823560"/>
            <a:chOff x="1187280" y="1557360"/>
            <a:chExt cx="5689440" cy="3823560"/>
          </a:xfrm>
        </p:grpSpPr>
        <p:sp>
          <p:nvSpPr>
            <p:cNvPr id="1039" name="Line 3"/>
            <p:cNvSpPr/>
            <p:nvPr/>
          </p:nvSpPr>
          <p:spPr>
            <a:xfrm flipV="1">
              <a:off x="1653840" y="1650960"/>
              <a:ext cx="0" cy="33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4"/>
            <p:cNvSpPr/>
            <p:nvPr/>
          </p:nvSpPr>
          <p:spPr>
            <a:xfrm>
              <a:off x="1653840" y="4979880"/>
              <a:ext cx="335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5"/>
            <p:cNvSpPr/>
            <p:nvPr/>
          </p:nvSpPr>
          <p:spPr>
            <a:xfrm>
              <a:off x="1187280" y="155736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$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6"/>
            <p:cNvSpPr/>
            <p:nvPr/>
          </p:nvSpPr>
          <p:spPr>
            <a:xfrm>
              <a:off x="4170960" y="4979880"/>
              <a:ext cx="270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scontamin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7"/>
            <p:cNvSpPr/>
            <p:nvPr/>
          </p:nvSpPr>
          <p:spPr>
            <a:xfrm flipV="1">
              <a:off x="1653840" y="1746000"/>
              <a:ext cx="1865160" cy="32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8"/>
            <p:cNvSpPr/>
            <p:nvPr/>
          </p:nvSpPr>
          <p:spPr>
            <a:xfrm>
              <a:off x="1653840" y="4122360"/>
              <a:ext cx="307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9"/>
            <p:cNvSpPr/>
            <p:nvPr/>
          </p:nvSpPr>
          <p:spPr>
            <a:xfrm>
              <a:off x="3519000" y="15573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10"/>
            <p:cNvSpPr/>
            <p:nvPr/>
          </p:nvSpPr>
          <p:spPr>
            <a:xfrm>
              <a:off x="3893400" y="3816720"/>
              <a:ext cx="26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S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1"/>
            <p:cNvSpPr/>
            <p:nvPr/>
          </p:nvSpPr>
          <p:spPr>
            <a:xfrm>
              <a:off x="2959920" y="412236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12"/>
            <p:cNvSpPr/>
            <p:nvPr/>
          </p:nvSpPr>
          <p:spPr>
            <a:xfrm>
              <a:off x="2680200" y="507384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4"/>
            <p:cNvSpPr/>
            <p:nvPr/>
          </p:nvSpPr>
          <p:spPr>
            <a:xfrm>
              <a:off x="5131440" y="46717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P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15"/>
            <p:cNvSpPr/>
            <p:nvPr/>
          </p:nvSpPr>
          <p:spPr>
            <a:xfrm flipV="1">
              <a:off x="1653840" y="2221200"/>
              <a:ext cx="2703960" cy="27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16"/>
            <p:cNvSpPr/>
            <p:nvPr/>
          </p:nvSpPr>
          <p:spPr>
            <a:xfrm>
              <a:off x="4078440" y="19155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7"/>
            <p:cNvSpPr/>
            <p:nvPr/>
          </p:nvSpPr>
          <p:spPr>
            <a:xfrm>
              <a:off x="5104440" y="231804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18"/>
            <p:cNvSpPr/>
            <p:nvPr/>
          </p:nvSpPr>
          <p:spPr>
            <a:xfrm flipV="1">
              <a:off x="1653840" y="2602800"/>
              <a:ext cx="3544920" cy="23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19"/>
            <p:cNvSpPr/>
            <p:nvPr/>
          </p:nvSpPr>
          <p:spPr>
            <a:xfrm>
              <a:off x="2305800" y="3076560"/>
              <a:ext cx="0" cy="1900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20"/>
            <p:cNvSpPr/>
            <p:nvPr/>
          </p:nvSpPr>
          <p:spPr>
            <a:xfrm>
              <a:off x="1933560" y="497988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/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1"/>
            <p:cNvSpPr/>
            <p:nvPr/>
          </p:nvSpPr>
          <p:spPr>
            <a:xfrm flipV="1">
              <a:off x="2959920" y="2126880"/>
              <a:ext cx="0" cy="28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Line 23"/>
          <p:cNvSpPr/>
          <p:nvPr/>
        </p:nvSpPr>
        <p:spPr>
          <a:xfrm flipH="1">
            <a:off x="2123640" y="3860640"/>
            <a:ext cx="14436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4"/>
          <p:cNvSpPr/>
          <p:nvPr/>
        </p:nvSpPr>
        <p:spPr>
          <a:xfrm flipV="1">
            <a:off x="2340000" y="4149720"/>
            <a:ext cx="21600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324000" y="1484280"/>
            <a:ext cx="8569080" cy="79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aginemos dos firmas (A y B), cada una produce dos toneladas de contaminan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objetivo de política es reducir las emisiones en dos toneladas, eso implica que cada firma deberá reducir su contaminación en una tonela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osto de mitigación de una tonelada de contaminación es de 60 para la firma A y de 300 para la firma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se hace una regulación por cantidad simple A y B deberán reducir en una tonelada sus emisiones.  El costo para A será de 60 y para B de 300 con lo que el costo total descontaminación ascenderá a 36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permitimos que los permisos se transen en el mercado, A estará dispuesto a venderle a B su permiso por algo más de 60 y B estará dispuesto a pagar algo menos que 3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24000" y="1484280"/>
            <a:ext cx="8569080" cy="80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ongamos que llegan al acuerdo de pagar 150 por el permi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este caso A deberá reducir su contaminación en dos toneladas lo que le cuesta 12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 ya no debe reducir sus emisiones, solo debe pagar 150 a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jo este esquema A gana 30 (150 que recibe de B menos los 120 que le cuesta descontaminar), mientras que B solo paga 150 a A.  Notablemente mejor que los 60 y 300 que antes pagaban A y B respectivam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decir, como sociedad hemos logrado los mismos niveles de contaminación pero a un costo mucho más 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permiso transable tiene también la ventaja de estimular el uso de tecnologías más limpias.  Como vemos en el ejercicio las empresas más limpias ganan cuando se aplican políticas de descontamin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iste una externalidad cuando el punto de equilibrio privado no es el mismo que el punto de equilibrio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. Esto porque no se está internalizando el costo o beneficio generado a otr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nos asegura que el BMg privado = CMg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o una asignación socialmente óptima requiere que el BMg social = CMg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lgunas Defini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P=medición monetaria del beneficio que obtiene una persona al consumir una unidad del bien o servi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= medición monetaria del beneficio que obtienen todos los miembros de la sociedad cuando una persona consum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P=medición monetaria de cuanto le cuesta a un productor la genera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=medición monetaria de cuanto le a todos los miembros de la sociedad la produc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laciones Existe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gt; B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lt; B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gt; C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lt; C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= CMgP y BMgS=BMgP.- entonces no hay externalidades, el mercado asigna eficientement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77080" y="24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7601400" y="45086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1"/>
          <p:cNvSpPr/>
          <p:nvPr/>
        </p:nvSpPr>
        <p:spPr>
          <a:xfrm>
            <a:off x="3635280" y="1557360"/>
            <a:ext cx="2808360" cy="1295280"/>
          </a:xfrm>
          <a:prstGeom prst="wedgeRectCallout">
            <a:avLst>
              <a:gd name="adj1" fmla="val -8675"/>
              <a:gd name="adj2" fmla="val 127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maximiza utilidades en el punto donde CMgP = BMgP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2"/>
          <p:cNvSpPr/>
          <p:nvPr/>
        </p:nvSpPr>
        <p:spPr>
          <a:xfrm>
            <a:off x="395280" y="2997360"/>
            <a:ext cx="3095640" cy="1152360"/>
          </a:xfrm>
          <a:prstGeom prst="wedgeRoundRectCallout">
            <a:avLst>
              <a:gd name="adj1" fmla="val 38152"/>
              <a:gd name="adj2" fmla="val 111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no captura el daño generado a terceros en su función de cos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7308720" y="1700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7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8"/>
          <p:cNvSpPr/>
          <p:nvPr/>
        </p:nvSpPr>
        <p:spPr>
          <a:xfrm>
            <a:off x="6012000" y="2852640"/>
            <a:ext cx="3132000" cy="1295640"/>
          </a:xfrm>
          <a:prstGeom prst="wedgeRectCallout">
            <a:avLst>
              <a:gd name="adj1" fmla="val -38087"/>
              <a:gd name="adj2" fmla="val 83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l daño marginal es constante. Lo que nos genera una curva de daño marginal DM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19T17:35:20Z</dcterms:modified>
  <cp:revision>83</cp:revision>
  <dc:subject/>
  <dc:title>Economía del Sector Público</dc:title>
</cp:coreProperties>
</file>