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3ECE75-488E-4D0D-BA04-6056456A98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622F25-ADA0-4215-91B0-3084C54BC2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E2E-37E7-4C6B-A025-43EC3002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B17-EEF6-46D4-A758-C12154FF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B0B60-47CB-41F6-95B3-26CA9C68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B75D1-F9E6-4F19-BFE6-34C869C1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3161A-8C55-49DC-BD71-0D06769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F5B12-69B7-404A-9407-272158D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2E02-5F71-4EFB-8E17-2CD485A7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0E278-D5F5-426A-89AE-8143417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92F04-C320-46CB-B82F-36D1164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321F-522A-4ABA-AD32-6AE597BC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E723E-B114-4B6C-8E03-F4AC1315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E38FA-42CD-4738-AD7E-1B1CE4C4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6AA-F3AF-4B12-A148-36658547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4C05E-2DB3-4767-A956-620A12C5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4F272-864E-4CFA-BE1C-37543410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D5774-CE3C-442F-ADCF-A53333FC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13188-FB7F-44AA-AF70-E131874D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D850D-1861-492D-B5E9-9C7B63A2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9DEF5-5DC8-47A3-8BC5-4A2B9473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1BD20-32D5-409C-AE3A-7454183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FAFE8-E1D4-4D18-BD7F-4E3FB34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32AD0-CDB4-458F-A502-8A79119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49BB-6DC6-4A7F-AE15-6C46A1FE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339-D29E-4735-9CDE-A98C618B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284A6-74FE-45E8-A5AF-AE7BFCF5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DD458-D02F-4F94-8BF0-5226E4D2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1DC6F-F033-482A-B375-49872647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3E13C-2CC2-47DE-9737-7DB7D1BC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9BF7B-7F34-48E6-BE4A-BA96DA8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E1F44-CA52-4E81-84BC-BB6DC37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6FB31-51B0-472E-98D8-CFEA2AC1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C6E1-3D81-4906-9968-13F9747F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1760C-2CC8-4E40-8E59-DF765DD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E5386-EEDE-44E0-8574-E1066F11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084-A5E9-4A7F-BACB-DCFEB08E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961EC-3DD2-440B-946D-FFDD185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35CD5-22B3-464F-8B7C-D5DB67F4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327A9-C0CC-4179-9D7C-1452A5C7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36554-643A-4B32-8814-62061862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010B3-3593-475A-86BF-F7DE0F3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EE27E-B4F6-4CB6-A003-4C903D8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79EFF-78B7-4A85-879B-49372C6E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1BA1F-62B4-404C-8563-3C39999A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0B050-4690-409D-AF91-39385D9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18280-CF1F-4666-997B-08061C4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2195-4698-4D7E-9FB7-433D74DF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4B061-64CF-461C-95EB-6647406E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F8CC3-5277-48F2-90AF-ED988B2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E610B-3551-4FE1-B0C6-E49933B1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063BC-3F8B-4A9A-9FC1-A79DEA42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18A74-A670-4AC5-B352-49ED0D44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5386-8FEC-4FE0-BEF3-1B9A38D0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24AA-7424-4ED8-B89C-AAB83B9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94F-E75D-439B-B30F-5E83FDB1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63CD-DE42-4A47-8908-4724FB2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388-E571-40BA-BD51-8B9B3FB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636-EE56-4124-9D37-AA7E437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63B-DDB7-424A-BEB2-4F071B8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124F-B351-4913-9185-DB880A4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CCBE-7594-4E9C-AEE0-9FD60A0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EC0-5826-499B-A5DD-875F9880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E179-2F3C-483A-A622-EBCB7870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2C6B-275A-4272-8721-3A362152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C34B-3BE8-4361-A75F-55938547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B9ED-E0CA-4DD4-8044-800ABB7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0FFE-90DE-4DA8-AC64-BFDB8836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D178-4394-41E0-8456-C06B574F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23A-EBD0-41FD-B936-7B924FA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3FA5-4D18-4887-99AE-B9E9455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8658-89CD-4607-8A2C-36D3824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145C-B931-4FB2-A9AD-FAB7ED9B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248D-A8D3-453D-821D-8A8CD2F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D4A2A-6AAA-4A80-A5CE-7C05D627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6C14-1319-4564-A015-9CDFADF5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70CC-F5D3-44F6-AECC-C8CFF6DB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20471-BC06-4048-B6C3-938BC1C7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29E5-D4E2-4C0B-B904-EF142039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368C-8D19-4FA1-8A87-F6EF3F7D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F6D-9B9E-4A9A-84DB-BE46739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FF63-349E-4527-9B9D-80E31E67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8026-EFC0-43DD-9650-02516B6D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86308-1D4E-4244-9BA5-8C618102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D842-9692-46EB-83BA-11256A3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4832-B407-4CC1-8175-DC6C0DB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A10E-985B-467F-8505-62CF7805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6CF3-111C-4735-9619-11276E16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96F6-F869-43E4-86E5-41411FB5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F66B-FA94-49AA-B864-92F13667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7E34-BA6B-43F4-9C23-2E6EE6D5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9FD-07A3-4F18-B09A-4D11F38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8D3E-4819-415B-A86B-3328A4B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1A91E-66AA-407D-A60E-6AD2E1D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28B8-A3C0-4D65-9655-4FFCEB22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8DA2-43B0-41F9-B362-2E9C5CC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6DC7-3F25-4D8A-8085-F77D7B3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3E76-8212-4B30-8A08-7FF83E88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DA27-E2F4-4EB8-B477-5304128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0ECF-C629-4E88-808C-8406FCBF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7354-A492-4399-8679-2707667A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7145-C077-4166-8197-C2669726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7CC-D56A-4CC6-9E30-6B71123B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CE61D-5786-4D10-917A-0808F866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0C93-4934-440C-BBF2-F5607F4F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472E-3AFF-4E86-AE4D-711C34E2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326E-98E2-4FEC-BFBC-21773314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BC27-0D2C-4372-9ED8-8AF002C4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8860-790E-4A64-B288-0EE07D2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7934-45E2-4DEF-A381-8B0F064E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3779-BFB4-4E8C-96C2-D7435009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81C2-F699-4B1C-B36E-4B7E0477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D4FA-9F7F-4B3F-9784-4F42281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D73-16E0-48ED-8C17-69B074BB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5F848-25EC-4EED-8040-9A3DF17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B99D-431D-429F-BE9D-58EBBFDF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52D97-1D40-4CB5-A309-CB337632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471C-C1AA-4B22-8F4D-2C6A24EE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D860-E3ED-41CC-9852-C937601C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9191-CA5A-4D87-AE30-13F23AF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E4A00-75D1-4AAD-8A28-EC875024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D414D-64A5-4615-A635-E16D479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261B-35DE-4A6C-9917-670DF722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8B5D-EDA5-4F04-BB7C-6E598C7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12D-C685-40AA-8EC2-60906ED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B579-E2ED-4D8F-89E9-1A0600B8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D6A8A-7F16-4712-8EC9-0A333CA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0BCA-6325-47A0-9B93-91E860A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EB11-321D-4A20-B70A-510DFEBB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7DA7-1661-4998-8076-F9844D97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CDEE-3E23-42FA-851A-52B81154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CF3D2-C755-4E24-A62F-3B5D8D3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92C15-7BB1-41F7-BA2A-086524D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EFB64-9E53-49A3-897B-0F8AEC8E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A1966-142C-4D27-81B7-D99492A6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299-4D1E-4381-9AB8-9F134B2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D248-9882-4EE1-850E-FA601520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B891F-3E24-4870-84E0-97B80D9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1F048-3944-4828-8A17-F968682A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C86AF-644B-4F61-A16A-277217D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2312-EA83-487E-963A-33F68AF8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61D9-71E4-4AB7-8B30-FF44C64D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74083-73BD-49D5-BFBF-1AB226C5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A642-BB54-42F8-8539-7CE45419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A14EB-4916-4926-99F8-9A7413C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54DDF-3442-4898-9AD5-7AF4211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235-454A-413A-B295-E6710C4FA15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E66-F368-4C7B-8047-B0615154FA6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6BD8-9D3A-4BD2-9CF1-57652B3049A2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961-DB43-4EAC-885A-4505F68C7C9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CFD-5D5A-4FA6-BF48-858937FC5E69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6EA-79D5-4ADA-801F-7CBA41BE460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70B-83E1-4E79-BFEB-FCE45E366F9B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4F1-80FE-4912-9AA6-689431B441C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D92-B6E4-4F1F-80DD-85888EB506B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CEE0-38B8-4780-95BD-A408C73C0D4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EEA-030C-49EE-A6B3-D200D853D42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0E4-8FD0-4210-86F8-9B22724F4F9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Desastres Natura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Consideraciones Macroeconómicas</a:t>
            </a:r>
            <a:br>
              <a:rPr sz="4200"/>
            </a:b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de la reconstr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ar los efectos Crowding Out sobre la inversión privada (mayor gasto puede hacer escasear el capital y subir la tasa de interé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idar la apreciación del tipo de cambi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el financiamiento? Se requieren recursos para la reconstrucción. Pero de ser mediante impuestos, se  puede desestimular la actividad privada (una opción el royalty mine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esupuestos creíbles, transparentes (evitar presiones de grupos de interés) y flexi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upos de interé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ntro de un proceso de reconstrucción distintos grupos de interés van a enfrentarse por los recursos existente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 que puede hacer que la asignación de recursos no sea la óptim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enes son los grupos de interés?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olític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ntereses económic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Personas comunes y corrient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2340000" y="1916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existir efectos positivos como negativos en la formación de capital human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os: s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tilizan las escuelas como refugios; se destruyen las escuelas; los niños dejan de estudiar por trabajar en la reconstrucción/ suplir ingresos perdidos en la famil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os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videncia de que en países donde la escuela provee otros servicios como alimentación y salud la tasa de matriculación podría incluso subi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enómenos migratorios, importancia de focalizar la política en zonas más afectad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rovisión de ayuda externa más allá del tiempo necesario podría retrasar la restitución de la actividad normal en la provisión de ciertos bienes y servici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gumento a favor de las ayudas monetar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ificultades al conocer las verdaderas necesidades de la població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rgumento a favor de las ayudas monetar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cilitar el acceso a créditos y garantí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uchos colaterales se pierd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portunidad para fomentar políticas de mitig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mento al consumo de 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cesidad de dar señale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laras de que el manejo del riesgo es una tarea tanto de privados como del gobierno (moral hazar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entivar la competencia y fortalecer la supervisión y fiscalización en el mercado de seguros y rea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 ordenamiento terri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nstruir mej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versificar geográficamente la actividad producti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s más exitosos los procesos de recuperación son liderado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obiernos locales, apoyados por las agencias del gobierno centr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ólo se recomienda el establecimiento de las agencias especiales de reconstrucción en el caso de que los gobiernos locales sean débi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tamaño del desastre sí influy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Lecciones Internacionale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45680" y="141120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cisiones para asegurar la efectividad en los primeros años de reconstr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ilegiar la planificación  sobre la ejecución rápida de proyec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segurar el financiamiento del periodo completo de reconstrucción, evitando un uso desmedido de recursos durante los primeros añ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Énfasis en controles ex ante versus ex po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tar con un Sistema de Monitoreo y Evalu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br>
              <a:rPr sz="4600"/>
            </a:br>
            <a:r>
              <a:rPr b="0" lang="es-ES" sz="1200" spc="-1" strike="noStrike">
                <a:solidFill>
                  <a:srgbClr val="04617b"/>
                </a:solidFill>
                <a:latin typeface="Calibri"/>
              </a:rPr>
              <a:t>Popp, A. (2006). </a:t>
            </a:r>
            <a:r>
              <a:rPr b="0" lang="en-US" sz="1200" spc="-1" strike="noStrike">
                <a:solidFill>
                  <a:srgbClr val="04617b"/>
                </a:solidFill>
                <a:latin typeface="Calibri"/>
              </a:rPr>
              <a:t>“The Effects of Natural Disasters on Long Run Growth.” </a:t>
            </a:r>
            <a:r>
              <a:rPr b="0" i="1" lang="en-US" sz="1200" spc="-1" strike="noStrike">
                <a:solidFill>
                  <a:srgbClr val="04617b"/>
                </a:solidFill>
                <a:latin typeface="Calibri"/>
              </a:rPr>
              <a:t>Major Themes in Economics</a:t>
            </a:r>
            <a:r>
              <a:rPr b="0" lang="en-US" sz="1200" spc="-1" strike="noStrike">
                <a:solidFill>
                  <a:srgbClr val="04617b"/>
                </a:solidFill>
                <a:latin typeface="Calibri"/>
              </a:rPr>
              <a:t>, Spring, pp. 61-82.</a:t>
            </a:r>
            <a:endParaRPr b="0" lang="en-US" sz="1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fectos en el crecimiento económico de largo plaz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un lado existe destrucción del capital físico y huma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tro son una ventana de oportunidad para rearmar mejor la infraestructu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videncia empírica no es concluy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46040" y="155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ay evidencia de que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desastres naturales no geológicos (por ejemplo, sequías), pueden potenciar el crecimiento una vez que pasa el primer shock negativ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evidencia respecto de los terremotos sugiere que, o bien afectan negativamente al crecimiento de largo plazo o no contribuyen a es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6040" y="1555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efectos varían mucho dependiendo de las circunstancias, siendo la institucionalidad de un país y la seriedad de sus políticas económicas un factor clave a la hora de poder transformar una catástrofe natural en una oportunidad económ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rthridge de 1994 y Alaska en 1964 (terremotos)  son ejemplos donde la reconstrucción mejoró la capacidad productiva, asociados a mayor crecimiento e innov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de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46040" y="1555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Quien debe ser responsable 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tigar los efectos de un Desastre Natural (ex 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uar una vez que este haya sucedido (ex pos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En ambos casos estado y privad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do estableciendo normativa, fiscalizando y educando, privados cumpliendo la normativa y adquiriendo seguro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discute lo esencial de la participación del estado en los procesos de reconstrucción, p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Donde debe estar el foco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sta que punto es responsabilidad de los privados y hasta que punto del estado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Justificaciones participación del estad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46040" y="155556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trucción de infraestructura básica 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enes y servicio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seguridad ciudadan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ien públ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de salubridad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externalida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  <a:ea typeface="Arial"/>
              </a:rPr>
              <a:t>Caída en la tasa de escola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externalidades, bienes preferent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trucción de la vivien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  <a:ea typeface="Arial"/>
              </a:rPr>
              <a:t>→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xternalidades, equida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Problemas asociados a la participación del estad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5680" y="1555560"/>
            <a:ext cx="837396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esgo Moral (moral hazar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e refiere a una situación en el cual la persona, es aislada total o parcialmente de las consecuencias de sus acciones, lo que le lleva a tener un comportamiento distinto al que hubiera tenido si fuera plenamente responsable de sus ac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no ser plenamente responsable genera u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entivo para asumir riesgos (riesgo m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ele surgir de los seguros o rescates gubernamenta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 rot="20823600">
            <a:off x="1834920" y="189000"/>
            <a:ext cx="5091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Riesgo Moral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45680" y="1268280"/>
            <a:ext cx="837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entrega de casas a costo cero es una política acertad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1: Sí, se soluciona un problema habitacional de la gente más necesitada y se apoya en los problemas asociados (equidad, externalidades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2: No, que hay de aquellos que gastaron en mantener sus casas / contrataron seguros/ buscaron sitios más seguros donde vivir…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…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¿estamos generando el incentivo para que las personas no hagan esfuerzos por proteger sus viviendas, si al fin y al cabo el estado va a rescatarlos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30T15:12:15Z</dcterms:modified>
  <cp:revision>82</cp:revision>
  <dc:subject/>
  <dc:title>Economía del Sector Público</dc:title>
</cp:coreProperties>
</file>