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8A09B6-15F1-4069-82FB-BAC41E2F39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4B2FE3-9CC3-4D0E-81EC-634BF8F112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9FC-7037-461D-AE1C-7264A657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D28-E39F-45A5-9DE3-3469036A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8AB9E-FC26-41EE-AB9B-1C8ED30E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20B3D-4FD1-4800-AB0A-5FE22FDE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3017F-6288-4E9E-BC4F-2E90F13D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1D1A3-A24D-42A1-90C4-B2576FCE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7DF78-B4C7-4F23-AE3E-443D552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95996-146B-475B-9F52-EC670527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4D100-7250-43E9-AE98-B6554D29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71426-DF6B-4035-AD39-51DA9873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2D5CF-48D0-4889-8131-82692EB4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73BD3-78F4-4173-8C22-551A9B04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BD6-AD19-4B31-9F15-A294DDFD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E307B-153B-4D19-9071-F6E5BA16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3F9CE-B391-4908-AB05-E56E732E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977E8-FB8C-4049-8B56-18E8A4AE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BCD60-3364-47D4-9A93-8870A937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9229C-958F-405B-8007-456801E8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48C00-AAEB-4DB1-BD77-06F9DE3D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E05FC-793F-41A8-B787-2C5C2C34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48FAA-4072-42CB-9585-62FF6AE6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640EE-822E-4BDF-92E7-170BD1CC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0D0DE-6168-4BD6-98C6-1BBC108B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4C5-CA51-4D3B-A213-9BB24FB9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24947-AA41-4C94-8329-FC9D8BBF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C73A8-FE9A-4851-B840-81F22F4D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FCF6F-2A22-4505-A142-28DC30F5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F9141-DD5E-4535-A387-649A6092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83731-1830-4DD1-BD08-285DCCCA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A2F28-0DFD-416D-9E9A-7C03C2A2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C4B77-8B18-4F1A-B34C-FC7BABEA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5C6A3-8995-4AD5-B8FA-148F297C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F0972-36DC-487B-B6CD-FB03901F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A2386-4EBD-4589-BB02-192D1D06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408E-2C47-4C98-98F7-D688AB79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22421-FED8-4B64-8384-6CBC11E2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A9959-4BD1-4CFB-9342-B996FD9B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E0630-1B3D-4981-AA7A-8D2F4DA6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4EC4B-C5B4-4395-84E7-624B11B3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002EF-037E-4E58-AAB1-E9482E50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CAE47-58CF-4BE8-A12E-08B35456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0F18A-B505-4150-9032-8CA17D15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52F2E-6315-432E-9F5D-C9FF5960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2B60C-49FF-4DAC-8C42-D6717214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34A95-9DBA-4E62-898E-0D06A147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6E09-5D90-4E53-9AE9-06D45953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82BF7-5E7A-43B5-8D19-8578A5F3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17E1B-B965-4A0C-B937-FCABA3F0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3B867-426D-4277-840B-F968C557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87B14-6872-4802-A82C-776D1531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C2012-8CC7-4FFB-B079-E0AA877C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18C7-8D1F-47CB-9500-219FDDF5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E1D6-9530-4943-BF0B-84BFCB19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8125-05E5-47A5-8F6F-ED088F64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4A25-7ECA-46EA-9892-82549F49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DF9F-AD27-4404-A2D8-8E31969D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C23-09C9-4C10-A04E-78D295FC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CDD7-946F-4AD3-A0B4-A002D124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62D1-51ED-4100-85D0-282E4B7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CDD9-003E-4EFD-9CBF-B18B4B55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8DB6-CAD7-4469-83CD-70EE4F81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B1BB-8070-48A2-B2E4-119B3E03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3F900-61EE-4E1D-91D4-E57D3FEC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C157-A9DA-402A-8CCE-56362FB5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5353-581F-427F-BB35-BB22AE61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83F3-FAE4-4D0B-A934-CA2DC2CD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B0621-C9EB-4A0B-B909-8A827412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8E4-AE1A-4FD8-8DE7-422D40EF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85E1-0CAB-4EF1-8178-1F45FA3C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0C78-089A-4CBC-8980-29327AAA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795C9-4367-4C9D-9787-645D6FC0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75DE-8EDA-4849-BE1D-4ED616C8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C1A4-AAF3-4E14-8CF0-E78A9F96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87B10-9A22-4F99-994D-D1F0511F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7B35-0190-4EE0-ACB1-E183BCBF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A62D0-D2D7-4B3D-9B83-F2BE1E4F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D4AA7-46D6-48BA-AC66-71D3C763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E0DB-7481-458C-B9B5-78B11122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BDA-97E4-4F0C-9A53-BA0483D6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2C122-BA8D-4588-A74C-8270677E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EFAA8-E550-4EDA-B3B6-53B04A2D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0122C-05E6-4B5C-AC80-56AC9518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C0BD-4148-46BD-97E7-5BB8ADC9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0D983-001E-4ABC-9A3A-C7180EBC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99CBF-4024-4DA3-B9FE-D1EA0D6B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17EBF-1552-4510-A289-0418267C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11DA3-619F-4C2D-B777-E5EE8384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9FECA-11B1-4661-A8F7-2395FDF6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8591B-ECDA-4609-BD48-22054A3A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E69-3FCD-4959-BB9E-C991FAD0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3F8CC-1AA5-4E4C-ABB3-066BCD73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CEE41-64DF-440C-96EB-247B9588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6A7C6-FF00-46E3-A7B7-062482B6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E659A-23D7-40DB-8434-9C7F383A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D8822-A1A9-4AA1-846F-A7D64385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0DD27-AE6B-4377-ABC9-F6511A8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7BA3E-7C23-4961-873A-0599D5B9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EFD28-A4AF-4E65-ABD9-2C373C50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FE438-F26F-4EF5-966E-D6976781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53E8-32D3-4480-8F95-B35AA0E1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C13-783C-4166-B4A8-2C05F1A6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EAE97-9DCA-4496-92B8-5D247A76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E82B-D5AA-4C2C-B180-7D2EC4F5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818E7-8122-4300-B87E-499B132D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C29F3-91A1-4B88-905C-F1FA132F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54155-49E0-4E3B-82AD-4162FAB4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DE144-914E-481B-997B-1D22538B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E11DA-B8C6-4A2E-8509-64322FD3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86C62-7A9F-4D7C-9AAC-48C327FA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87970-C390-4D8C-97D4-0DF66053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F3A3B-E2E9-489D-B5CC-761CD9FC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1F1-14DA-40D3-A875-F001982B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E7938-588A-4DE5-9AEA-E364D0CF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585E6-77DC-46E0-8E75-1D939487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E70A4-40F8-4CF9-8158-C7FBC4E0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24257-DB11-49EB-86EC-B45C90AB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2719A-A0D2-4B88-988E-A83DE9F6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57FE4-07A3-493E-B0E3-8FDCD798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DFFB5-0AAC-4A5E-9501-CAFB6CED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CE369-9E75-4387-8077-35CF628D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D61C7-9079-49EC-BC14-426D7F71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7DDBA-60DA-419E-AAD3-C180442D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1B8-A3DF-46C1-8C4F-DFCAD43F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64BC5-9807-45F1-9D6C-8503B60A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973EF-E8CD-4221-BA41-F43CA0A8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2F2F7-38E6-42DD-8F6C-C05630E3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4721E-057D-4090-9D36-A831BB49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AB8F8-CB3A-46D3-AD2A-7587FD74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F4F6C-2DC9-4D48-94D6-138E0066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56633-FBE9-4E73-B448-062C4EFE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E67C3-0B6D-4358-88A1-4D35340F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A34EF-F1EA-422F-A93A-2FE425CF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6F126-1CD6-4FE2-A86A-92EE2074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507-B89F-47EB-976A-2253EB2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BC5FB-7867-4E97-8FAF-FDA1C7AB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A3588-39EC-44FF-8F55-5CE4302B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65EC6-6841-4275-A7C7-ED76F3D9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AA654-275A-441A-BD31-0B0FEEE3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98B01-F8A2-4A35-AA8F-6BAD6443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0FCA3-6E1D-4F7A-BA93-31262E4F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D6678-9577-4BBC-9036-62D166C2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E9941-DA89-4C1B-99D4-E172A00A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5B955-FA7B-4F3B-B869-43F652DB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97122-CD9B-4E1F-B15D-3E270B68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9E09-778B-4995-AC49-8F8E40FDA3BD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A2D8-E085-4463-88F2-9E064E881BDF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F809-51FC-47F1-ABCF-6FF606C543DD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E0DF-003E-495B-812C-D3F713E5E380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906A-F114-4A88-BF57-3A941861C40B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484B-4F5D-418B-87C0-FC7E56C295D9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0654-9D45-4418-B129-B0B1418D7CCA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4609-5663-4D63-8085-AED9E453D934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4D78-9397-4F3D-A664-439DB06C2913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585-A5A3-4482-A7EE-5B9313C9406B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8461-A9B5-4978-B427-7A58E41D2D7B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7763-80C8-417D-B3E3-76601E61076F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onstantia"/>
              </a:rPr>
              <a:t>Desastres Natural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Consideraciones Macroeconómicas</a:t>
            </a:r>
            <a:br>
              <a:rPr sz="4200"/>
            </a:b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de la reconstr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derar los efectos Crowding Out sobre la inversión privada (mayor gasto puede hacer escasear el capital y subir la tasa de interé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idar la apreciación del tipo de cambi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el financiamiento? Se requieren recursos para la reconstrucción. Pero de ser mediante impuestos, se  puede desestimular la actividad privada (una opción el royalty minero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esupuestos creíbles, transparentes (evitar presiones de grupos de interés) y flexib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rupos de interé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ntro de un proceso de reconstrucción distintos grupos de interés van a enfrentarse por los recursos existentes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o que puede hacer que la asignación de recursos no sea la óptim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ienes son los grupos de interés?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Polític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ntereses económic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Personas comunes y corrient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2340000" y="1916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existir efectos positivos como negativos en la formación de capital human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egativos: s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tilizan las escuelas como refugios; se destruyen las escuelas; los niños dejan de estudiar por trabajar en la reconstrucción/ suplir ingresos perdidos en la famili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itivos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videncia de que en países donde la escuela provee otros servicios como alimentación y salud la tasa de matriculación podría incluso subi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enómenos migratorios, importancia de focalizar la política en zonas más afectad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provisión de ayuda externa más allá del tiempo necesario podría retrasar la restitución de la actividad normal en la provisión de ciertos bienes y servici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rgumento a favor de las ayudas monetar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ificultades al conocer las verdaderas necesidades de la població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rgumento a favor de las ayudas monetar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cilitar el acceso a créditos y garantí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uchos colaterales se pierd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portunidad para fomentar políticas de mitig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omento al consumo de seguro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ecesidad de dar señale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laras de que el manejo del riesgo es una tarea tanto de privados como del gobierno (moral hazard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centivar la competencia y fortalecer la supervisión y fiscalización en el mercado de seguros y reaseguro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 ordenamiento territo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nstruir mej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versificar geográficamente la actividad product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sos más exitosos los procesos de recuperación son liderado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biernos locales, apoyados por las agencias del gobierno centr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ólo se recomienda el establecimiento de las agencias especiales de reconstrucción en el caso de que los gobiernos locales sean débi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tamaño del desastre sí influy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cisiones para asegurar la efectividad en los primeros años de reconstrucció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ivilegiar la planificación  sobre la ejecución rápida de proyec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segurar el financiamiento del periodo completo de reconstrucción, evitando un uso desmedido de recursos durante los primeros añ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Énfasis en controles ex ante versus ex pos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tar con un Sistema de Monitoreo y Evaluació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br>
              <a:rPr sz="4600"/>
            </a:br>
            <a:r>
              <a:rPr b="0" lang="es-ES" sz="1200" spc="-1" strike="noStrike">
                <a:solidFill>
                  <a:srgbClr val="04617b"/>
                </a:solidFill>
                <a:latin typeface="Calibri"/>
              </a:rPr>
              <a:t>Popp, A. (2006). </a:t>
            </a:r>
            <a:r>
              <a:rPr b="0" lang="en-US" sz="1200" spc="-1" strike="noStrike">
                <a:solidFill>
                  <a:srgbClr val="04617b"/>
                </a:solidFill>
                <a:latin typeface="Calibri"/>
              </a:rPr>
              <a:t>“The Effects of Natural Disasters on Long Run Growth.” </a:t>
            </a:r>
            <a:r>
              <a:rPr b="0" i="1" lang="en-US" sz="1200" spc="-1" strike="noStrike">
                <a:solidFill>
                  <a:srgbClr val="04617b"/>
                </a:solidFill>
                <a:latin typeface="Calibri"/>
              </a:rPr>
              <a:t>Major Themes in Economics</a:t>
            </a:r>
            <a:r>
              <a:rPr b="0" lang="en-US" sz="1200" spc="-1" strike="noStrike">
                <a:solidFill>
                  <a:srgbClr val="04617b"/>
                </a:solidFill>
                <a:latin typeface="Calibri"/>
              </a:rPr>
              <a:t>, Spring, pp. 61-82.</a:t>
            </a:r>
            <a:endParaRPr b="0" lang="en-US" sz="1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ectos en el crecimiento económico de largo plaz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un lado existe destrucción del capital físico y huma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otro son una ventana de oportunidad para rearmar mejor la infraestructu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evidencia empírica no es concluy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46040" y="1555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ay evidencia de que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desastres naturales no geológicos (por ejemplo, sequías), pueden potenciar el crecimiento una vez que pasa el primer shock negativ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evidencia respecto de los terremotos sugiere que, o bien afectan negativamente al crecimiento de largo plazo o no contribuyen a es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6040" y="1555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efectos varían mucho dependiendo de las circunstancias, siendo la institucionalidad de un país y la seriedad de sus políticas económicas un factor clave a la hora de poder transformar una catástrofe natural en una oportunidad económ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rthridge de 1994 y Alaska en 1964 (terremotos)  son ejemplos donde la reconstrucción mejoró la capacidad productiva, asociados a mayor crecimiento e innov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sponsabilidad del Est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46040" y="15555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Quien debe ser responsable 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itigar los efectos de un Desastre Natural (ex ant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uar una vez que este haya sucedido (ex pos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: En ambos casos estado y priv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do estableciendo normativa, fiscalizando y educando, privados cumpliendo la normativa y adquiriendo seguro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e discute lo esencial de la participación del estado en los procesos de reconstrucción, per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19960" indent="-2239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Donde debe estar el foco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19960" indent="-2239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Hasta que punto es responsabilidad de los privados y hasta que punto del estado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Justificaciones participación del estad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46040" y="155556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strucción de infraestructura básica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→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ienes y servicios públ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seguridad ciudadana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ien públ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blemas de salubridad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externali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Arial"/>
              </a:rPr>
              <a:t>Caída en la tasa de escolaridad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externalidades, bienes preferent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trucción de la viviend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xternalidades, equida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Problemas asociados a la participación del estad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5680" y="1555560"/>
            <a:ext cx="837396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iesgo Moral (moral hazar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e refiere a una situación en el cual la persona, es aislada total o parcialmente de las consecuencias de sus acciones, lo que le lleva a tener un comportamiento distinto al que hubiera tenido si fuera plenamente responsable de sus ac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no ser plenamente responsable genera un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centivo para asumir riesgos (riesgo mora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uele surgir de los seguros o rescates gubernamenta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 rot="20823600">
            <a:off x="1834920" y="189000"/>
            <a:ext cx="5091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Riesgo Moral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45680" y="126828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entrega de casas a costo cero es una política acertad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1: Sí, se soluciona un problema habitacional de la gente más necesitada y se apoya en los problemas asociados (equidad, externalidades, etc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2: No, que hay de aquellos que gastaron en mantener sus casas / contrataron seguros/ buscaron sitios más seguros donde vivir…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…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¿estamos generando el incentivo para que las personas no hagan esfuerzos por proteger sus viviendas, si al fin y al cabo el estado va a rescatarlos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30T15:12:15Z</dcterms:modified>
  <cp:revision>82</cp:revision>
  <dc:subject/>
  <dc:title>Economía del Sector Público</dc:title>
</cp:coreProperties>
</file>