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dt" idx="3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 type="sldNum" idx="3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FC05D34-EDB5-4F49-ABAD-74FE318E306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A58327E-130F-4E20-B035-1D3AEA48827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D482-F84D-4D6F-8A4E-111BFAD9B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1264-9661-4C16-984F-031F2FD4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880C3-22AA-4E51-98D3-167289AB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163BC-B48A-4EA4-B14D-8961FE78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CB0C3-91BB-433A-BC71-89D655B9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570A5-4690-4C42-BB2D-17CDEB52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B3966-2A18-4683-9C58-0B1AD9FE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311E8-FF26-44D9-A2CD-BCBF5A05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D3FD9-7D3F-4356-AA8A-A936ECCB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14BE2-2030-44DB-AD4D-B409B4C11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1AF68-84AE-4C5F-BA8D-5824975A1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5B466D-97F1-4C71-8C13-C91FAD797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C528-10F4-40A5-9AB6-69A06AD5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F3587-08A9-4249-A445-470B4F4E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14434-9EC1-4565-BAF7-89A8D5EF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F8569-0315-475C-90A5-6A424A27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EF6C8-F189-40F7-93E5-FB3725DF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CED1A-41FA-42A0-865D-1D3B4F44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24F34-9929-4769-98B9-70CEBFF1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582B4-0C86-4B64-9591-FFFFCF71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FE101-5735-4B04-B530-FBDC4CD1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07CB4-6CA4-4185-B5BF-0BFDC443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20174-AF9B-4C05-8DFF-C4BE67270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0BE5-498F-49AB-9859-E3F6CA1AB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6175E9-944C-41D9-B359-368DB7192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CC576-1AB5-43E8-910B-FF9DE3CB7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F55A5-3484-4D9E-B2A5-060B26F0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05D8B-DB57-40EC-828E-F6366720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682AC-FE84-41DF-84CA-4413CAFF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5897E-4FC7-487B-BA6D-EB69FAEA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4DAD7-3EA7-4821-802D-7338E34C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EBDB2-8E23-45A5-A8DF-4DC2948E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EAE5C-26CE-4E61-B276-916DF736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72745-2418-4992-BFEC-7E009A42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6485-A539-479E-8A2E-1DB322960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70945-97BD-416C-BD6E-8B5DED6A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2C7EB-F5D3-4D9E-B662-B01581E76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C22D1-15D4-4AEF-B8C6-86BC585DC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F45B6-292D-4C8A-A8F6-FAEF91533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1E6D0-4AA8-4CFC-AE1B-8EA25900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860C7E-0037-4B79-89D2-13ABAEF6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BB0B2F-7D3C-48EC-AE71-BB3BAD22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508E74-AC93-44A0-9703-4C6DA2AC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DE7FC8-C0A9-4FB7-A199-FD60E628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889C2F-C2DA-4C72-94F9-71BF3DEB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536A-E0E6-4B83-86A7-2D3E3AEC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AD1620-8D4D-4A71-8E18-01A3C9DA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40472-A6D6-4098-A5CF-31709A13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6500C7-0610-4F65-A0B8-8629178C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8D4A63-DA6D-4597-891D-00BE1E3D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9EEBEE-6672-4659-AD25-9325D22A2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287C-6269-4304-9C4F-9E6DBD34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2CA8-0CD0-45D3-A007-1743DF12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9CB2-0B8C-4D4E-8930-4DA4D255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2436-B271-4772-A1FB-3777FAA9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8A82-AAF7-4BAE-9D2F-FF4A239B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3471-73D8-4C46-B5D7-81C5729A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B5BC-12F1-4732-9D78-3731B4A0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34BD-7639-401F-BEFD-9A55AF58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1726-7936-4B7D-939E-86B6C6D9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6991-DBB7-4A56-B445-7C8496FC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DBD6-5FAD-4E5E-833E-FD9F3E33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246F1-369D-4655-89F9-41601D860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AD69E-221E-4A4E-A2F9-AD04B11E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D56DB-29ED-4568-8156-F4C040EA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CE6E4-BBD9-4276-B50D-F9CA1BA1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2F9CF-470D-4F6A-B7E6-10D43D3F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E5FA-F521-40E4-B297-AAF8A943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A9002-1D4F-4FF3-9D82-94F2535F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1102D-128C-4A3E-BB0A-F660A355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85C70-834B-4BFF-A92E-0A30D64D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D8908-1409-4CB3-A45B-BFBFD97E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F3AF2-C6D7-40F7-98A5-2053AA99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40FCE-02ED-4700-837D-82BDD388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290CD-20BC-4D7A-90AA-46676D376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A4012-7952-47F6-BE0E-BF1B14D8A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683E5-52CE-414F-B801-69250A62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D09C7-9919-46B3-A194-88187671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1CA4-4865-4CB9-9B00-67FC020F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B5EAC-18E6-496D-8597-A0419861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59BC8-CA64-412C-A051-CCFCBB0D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793E7-CED0-4809-9AE2-6E3049E2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B9B35-1645-4ABC-A4ED-5B3B04FC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81007-A3E5-4E29-AB16-5C34A2DE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9CB67-2F6B-4937-A132-B1C34169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34394-5A0D-4543-B686-AB6D6E50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AF6EB-3EC4-4EFC-84B6-9DE85A750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D0318-86A8-4F19-9028-B4F183A8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75EA4-4462-4ECE-8812-0536AFD64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CA7F-14DF-48F7-A497-13B21C68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52DAF-06C8-4DB0-9A95-C9954961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90F56-BB4F-49FA-8826-90E4F3E5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4CE64-B660-4B77-BA1B-E390AAB7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992D7-5740-444A-AEBE-823D27A6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6818A-8FB1-4AE3-AFB4-4DD3B718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8D473-3EA0-418D-B526-F04E7B15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88AD8-CA0B-443B-8983-E924236D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4B031-F616-45E5-8667-8FFBB7E3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6966B-5AC9-471D-97D9-BADD7E49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FCFC7-D265-4C03-BCF1-1B5EEE46C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010C-D4E7-4D95-A507-1EAB5B90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1348D-AD88-4A33-8F23-BBC00A953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7F2AB-2B75-4C60-B4B4-52CB5B635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B9D2F-5C72-4BFC-BA48-A40D02BD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60365-5234-4574-B02A-C96A80FF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C1063-E46D-439A-8107-678419E4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A27F0-3E36-4941-BD20-A70C7132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BAA56-B2F9-49D7-B45C-65F52FFE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5B1B7-3AA3-4C7A-AC5B-A45D6208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9B5F3-B3ED-4B14-A62D-B5CB5F72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75AFC-C70E-4E2A-9170-035C180D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10EF-DBAC-45BD-84DE-A875757B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40434-0367-460C-8AAD-192A658F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7E2E2-9A2D-4ACD-AB83-C2993C630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4ED01-CC0A-4A66-B197-A365D37B4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7FDBF-FD78-48ED-AE80-396FA9B8F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7F14B-5297-4F51-B057-BA8FAAEA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68C2D-D168-4B8A-A484-840184E5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DE46E-89A8-4901-9C10-ED145539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643EA-304B-4086-8D77-504F4817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74E85-3C63-47FF-B4F1-BC6AC4D5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56E04-C034-409D-8D7E-00BF0C47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B5FB-170F-409F-9536-D077FFCC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7E88A-D1B2-4EF2-BD28-C3F47D02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205D2-FE8B-4314-8F29-BA040E70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4FCD3-78CA-47F6-8841-D620FD23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9B9BD-C42D-4D06-8146-D807C8E14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5771E-9456-446F-BF91-A3E7B826E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DEE54-AD0B-4FC7-9EFC-EEE8F9E99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42DE1-1295-46F5-9CA9-35B1EAE9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AECB4-520B-4821-9942-E7C71AA2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06A5E-1416-4321-9CDA-F6A8ACDB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D2EE1-02FF-426B-8F3F-05575C73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011E-CA4E-4A64-9292-08D75A12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FAAF1-D803-46E9-AE60-94C15299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BC818-8757-4768-AF01-9CDF0FD4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91F8A-B0AF-4F46-9371-A1C925C4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44037-89BB-4C88-AE8B-786D35D6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6BAB6-0B96-4ECB-A230-5F70B969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17A95-87C6-467F-9127-93D1C60D6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987EE-A8E3-4569-AA9D-90EF00B6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B8B34-F9CF-4DF2-BAA9-341866B3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7C75C-FCC3-4A89-A76E-7597B6BE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35471-CB8D-4299-81A5-AD3ADDA9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D902-A6BD-462A-B8F5-024909A28DA9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7" descr=""/>
          <p:cNvPicPr/>
          <p:nvPr/>
        </p:nvPicPr>
        <p:blipFill>
          <a:blip r:embed="rId3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870B-2AAE-4BC6-BF02-5D2270572981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10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11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4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6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2D71-0A63-4DBC-AB4B-72793721B05A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61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2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65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67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2957-DB58-4427-BB83-E30D74646681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E539-DF51-4891-837F-0C5AA10C10C3}" type="slidenum"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A4F9-6E67-4933-9FC2-1529A4785829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4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C9DE-E062-45F1-B34A-AF639E48BB5C}" type="slidenum"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9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10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3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5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F2C2-4A7B-4C10-825C-30BBB5E4C1F6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60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61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4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6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6CE2-D722-4618-B461-28929817849B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11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12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5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7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D114-BC67-4BA6-8818-B79AE40BB4B9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62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3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6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8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9C07-3A47-41AD-89A3-0524C270C855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1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1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1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9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8715-F618-4799-94A6-37ECE8593DAE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onstantia"/>
              </a:rPr>
              <a:t>Desastres Naturales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95280" y="26964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Consideraciones Macroeconómicas</a:t>
            </a:r>
            <a:br>
              <a:rPr sz="4200"/>
            </a:b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de la reconstr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45680" y="1411200"/>
            <a:ext cx="83739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nsiderar los efectos Crowding Out sobre la inversión privada (mayor gasto puede hacer escasear el capital y subir la tasa de interés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uidar la apreciación del tipo de cambio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el financiamiento? Se requieren recursos para la reconstrucción. Pero de ser mediante impuestos, se  puede desestimular la actividad privada (una opción el royalty minero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esupuestos creíbles, transparentes (evitar presiones de grupos de interés) y flexibl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445680" y="1411200"/>
            <a:ext cx="83739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Grupos de interé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ntro de un proceso de reconstrucción distintos grupos de interés van a enfrentarse por los recursos existentes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Lo que puede hacer que la asignación de recursos no sea la óptima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ienes son los grupos de interés?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Político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Intereses económico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Personas comunes y corrientes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2"/>
          <a:stretch/>
        </p:blipFill>
        <p:spPr>
          <a:xfrm>
            <a:off x="2340000" y="19162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6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Lecciones Internacionales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45680" y="1411200"/>
            <a:ext cx="83739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ueden existir efectos positivos como negativos en la formación de capital human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egativos: se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utilizan las escuelas como refugios; se destruyen las escuelas; los niños dejan de estudiar por trabajar en la reconstrucción/ suplir ingresos perdidos en la familia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sitivos: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videncia de que en países donde la escuela provee otros servicios como alimentación y salud la tasa de matriculación podría incluso subi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enómenos migratorios, importancia de focalizar la política en zonas más afectada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Lecciones Internacionales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45680" y="1411200"/>
            <a:ext cx="83739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provisión de ayuda externa más allá del tiempo necesario podría retrasar la restitución de la actividad normal en la provisión de ciertos bienes y servici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rgumento a favor de las ayudas monetari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ificultades al conocer las verdaderas necesidades de la població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rgumento a favor de las ayudas monetari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acilitar el acceso a créditos y garantí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Muchos colaterales se pierde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Lecciones Internacionales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45680" y="1411200"/>
            <a:ext cx="83739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portunidad para fomentar políticas de mitig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05600" indent="-2714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Fomento al consumo de seguro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05600" indent="-2714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ecesidad de dar señales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laras de que el manejo del riesgo es una tarea tanto de privados como del gobierno (moral hazard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05600" indent="-2714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ncentivar la competencia y fortalecer la supervisión y fiscalización en el mercado de seguros y reaseguro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056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 ordenamiento territor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05600" indent="-2714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construir mej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05600" indent="-2714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iversificar geográficamente la actividad productiv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Lecciones Internacionales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45680" y="1411200"/>
            <a:ext cx="83739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sos más exitosos los procesos de recuperación son liderados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biernos locales, apoyados por las agencias del gobierno centr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ólo se recomienda el establecimiento de las agencias especiales de reconstrucción en el caso de que los gobiernos locales sean débil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tamaño del desastre sí influy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Lecciones Internacionales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45680" y="1411200"/>
            <a:ext cx="83739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ecisiones para asegurar la efectividad en los primeros años de reconstrucció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rivilegiar la planificación  sobre la ejecución rápida de proyect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segurar el financiamiento del periodo completo de reconstrucción, evitando un uso desmedido de recursos durante los primeros añ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Énfasis en controles ex ante versus ex pos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tar con un Sistema de Monitoreo y Evaluació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Crecimiento Económico</a:t>
            </a:r>
            <a:br>
              <a:rPr sz="4600"/>
            </a:br>
            <a:r>
              <a:rPr b="0" lang="es-ES" sz="1200" spc="-1" strike="noStrike">
                <a:solidFill>
                  <a:srgbClr val="04617b"/>
                </a:solidFill>
                <a:latin typeface="Calibri"/>
              </a:rPr>
              <a:t>Popp, A. (2006). </a:t>
            </a:r>
            <a:r>
              <a:rPr b="0" lang="en-US" sz="1200" spc="-1" strike="noStrike">
                <a:solidFill>
                  <a:srgbClr val="04617b"/>
                </a:solidFill>
                <a:latin typeface="Calibri"/>
              </a:rPr>
              <a:t>“The Effects of Natural Disasters on Long Run Growth.” </a:t>
            </a:r>
            <a:r>
              <a:rPr b="0" i="1" lang="en-US" sz="1200" spc="-1" strike="noStrike">
                <a:solidFill>
                  <a:srgbClr val="04617b"/>
                </a:solidFill>
                <a:latin typeface="Calibri"/>
              </a:rPr>
              <a:t>Major Themes in Economics</a:t>
            </a:r>
            <a:r>
              <a:rPr b="0" lang="en-US" sz="1200" spc="-1" strike="noStrike">
                <a:solidFill>
                  <a:srgbClr val="04617b"/>
                </a:solidFill>
                <a:latin typeface="Calibri"/>
              </a:rPr>
              <a:t>, Spring, pp. 61-82.</a:t>
            </a:r>
            <a:endParaRPr b="0" lang="en-US" sz="1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fectos en el crecimiento económico de largo plazo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r un lado existe destrucción del capital físico y human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r otro son una ventana de oportunidad para rearmar mejor la infraestructur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evidencia empírica no es concluyen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recimiento Económ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46040" y="155592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Hay evidencia de que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os desastres naturales no geológicos (por ejemplo, sequías), pueden potenciar el crecimiento una vez que pasa el primer shock negativ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evidencia respecto de los terremotos sugiere que, o bien afectan negativamente al crecimiento de largo plazo o no contribuyen a es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recimiento Económ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46040" y="155592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os efectos varían mucho dependiendo de las circunstancias, siendo la institucionalidad de un país y la seriedad de sus políticas económicas un factor clave a la hora de poder transformar una catástrofe natural en una oportunidad económic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Northridge de 1994 y Alaska en 1964 (terremotos)  son ejemplos donde la reconstrucción mejoró la capacidad productiva, asociados a mayor crecimiento e innovació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esponsabilidad del Estad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46040" y="155556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Quien debe ser responsable 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Mitigar los efectos de un Desastre Natural (ex ant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ctuar una vez que este haya sucedido (ex pos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: En ambos casos estado y privad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tado estableciendo normativa, fiscalizando y educando, privados cumpliendo la normativa y adquiriendo seguro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o se discute lo esencial de la participación del estado en los procesos de reconstrucción, per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19960" indent="-22392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Donde debe estar el foco?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19960" indent="-22392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Hasta que punto es responsabilidad de los privados y hasta que punto del estado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6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Justificaciones participación del estad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46040" y="1555560"/>
            <a:ext cx="822960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estrucción de infraestructura básica 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→ 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ienes y servicios públic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seguridad ciudadana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ien públ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oblemas de salubridad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externalidad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  <a:ea typeface="Arial"/>
              </a:rPr>
              <a:t>Caída en la tasa de escolaridad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  <a:ea typeface="Arial"/>
              </a:rPr>
              <a:t>→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externalidades, bienes preferent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trucción de la vivienda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  <a:ea typeface="Arial"/>
              </a:rPr>
              <a:t>→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xternalidades, equida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95280" y="26964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Problemas asociados a la participación del estado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45680" y="1555560"/>
            <a:ext cx="837396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iesgo Moral (moral hazard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Se refiere a una situación en el cual la persona, es aislada total o parcialmente de las consecuencias de sus acciones, lo que le lleva a tener un comportamiento distinto al que hubiera tenido si fuera plenamente responsable de sus accion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no ser plenamente responsable genera un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ncentivo para asumir riesgos (riesgo moral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uele surgir de los seguros o rescates gubernamental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 rot="20823600">
            <a:off x="1834920" y="189000"/>
            <a:ext cx="50911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Riesgo Moral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45680" y="1268280"/>
            <a:ext cx="83739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entrega de casas a costo cero es una política acertad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R1: Sí, se soluciona un problema habitacional de la gente más necesitada y se apoya en los problemas asociados (equidad, externalidades, etc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R2: No, que hay de aquellos que gastaron en mantener sus casas / contrataron seguros/ buscaron sitios más seguros donde vivir…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    …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¿estamos generando el incentivo para que las personas no hagan esfuerzos por proteger sus viviendas, si al fin y al cabo el estado va a rescatarlos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4:55:32Z</dcterms:created>
  <dc:creator>atomaselli</dc:creator>
  <dc:description/>
  <dc:language>en-US</dc:language>
  <cp:lastModifiedBy>atomaselli</cp:lastModifiedBy>
  <dcterms:modified xsi:type="dcterms:W3CDTF">2010-04-30T15:12:15Z</dcterms:modified>
  <cp:revision>82</cp:revision>
  <dc:subject/>
  <dc:title>Economía del Sector Público</dc:title>
</cp:coreProperties>
</file>