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31203-0520-4BFE-8AC2-6EAED4334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AABD0-89D2-443F-8449-795D5A73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53107B-D428-4974-8055-75CFB052B8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5B94D2-9220-416A-892C-FAF7D43FF3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F65696-C15D-4829-B8D7-E6C33E1048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CA8E48-586A-4856-A821-4D8F41776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A5F73-BB63-4A60-A785-5FD8326876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020734-33BA-427D-B14E-B804F773FE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636CDF-0FE2-4C2A-A185-D84EC6E4CA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2D0B16-A068-4E94-9742-8DF53EEA74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71ED85-6BF1-464D-8E89-01E47933A3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7814D8-D6C7-4AFF-BD83-B919D27D00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3EA19-1D95-4E27-94D4-3745EE025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72657F-850E-4C17-8A55-0B4149E0DB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4DF166-14AA-4A26-AE7B-B2DFE3542D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7F676D-7F2D-4760-9C7E-FDF50959BD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2B1CE6-E792-4A98-A15D-C2D6E9B8D9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A61895-D8FF-4B0F-B697-670104B6ED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8376C1-5060-4184-8ACD-8B77E537E6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455D7A-867A-412C-B026-7107F3DA59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BB2C12-8E9D-4157-A96A-E5191AE463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8D0C65-3081-429D-AD8C-0A784C2D99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2200E4-AEFE-4F44-BF29-BD0F0947C8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2DEC0-46F1-4A93-BAE2-0AD4C2352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528A8F8-C3D9-4C10-B647-B0D2DE69E0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DB5537-0BB3-43C4-AA81-8EACB8C761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684A93-B990-4D94-ACD7-B7C285DC6A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F4B3BC-3060-4B26-AA42-97856169BE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0DB30B-0876-4470-A8A4-8FFE2F9B04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ACD89A-3230-45A9-A750-ACCC615B51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43171A-CC3D-4C22-A25F-0BC882B995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50E7F2-928E-4497-9577-2FB5C4AB0D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FA3EA0-D9CA-4AF4-84C2-3A3DF03209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9B9D8B-7F17-45D8-B3A4-F79FF5F2E2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26BB7-A748-420B-937F-1BB22D841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5C0D15-AEE9-422F-B72C-1D10996C04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89E4CA8-C232-4F01-AFEE-069E6A64ED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F4C7FE-E220-488F-B4AB-13218986FD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F4075D-F4D2-4A9A-9A63-B59AC97661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DF4B0C-28B2-418F-9BFB-18CBE21B80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882454-3031-4EFB-8B1E-F0317CB53E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2BA5EB-9329-4180-8FD9-4BD4944BDD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CA63C0-B291-4B76-ACC7-368C3329D9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793E18-B551-486E-9D77-07548D515F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B95DC8-A279-4A21-9BC3-C088FC68E6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F2A7F-0867-4846-8905-0795DE99B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796BB8-FEEE-4F86-ADCA-DAC64B3EB5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4A5313-949C-4E35-B708-320EFA9D42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977D99-C26C-4ED8-9B14-737ED8D450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695AD37-1EC4-4EC2-8C80-6602BD6830B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436330-DE94-44E5-AAC8-86580BB018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23773-4454-4CBA-8851-883E78D32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C7D28-2630-4890-ACF8-C81CF99E4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D126C-647F-4E20-B5B0-18060EF81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C26C7-D4AE-4E5A-8D66-42DFF8AD1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3AD62-67B4-4978-8157-4521273D2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2A4C2-B111-4C48-94F5-2B96737BD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EA8B8-8950-4BC8-BEFB-E371BF8E2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6C529-F204-4982-B90F-0ED069C7D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5F95F-671F-4144-9EB0-7FC693814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6D628-1855-4BDE-85C7-8EC334FEA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7C75CD-9A1A-469E-8F96-6FB59F3EA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62076-EDD0-480C-A53E-91EEFE15E3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D69A71-6A63-4728-B099-51ADD7C9D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645A1B-3B0D-4F98-9286-9E2DEFC7E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EEAE2-3715-4D9B-9440-EE2F79CD8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9EE05-416C-4A28-AB2A-201F59EA6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55D0-9DD3-43A9-9BE9-79DBA52E8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2748D-7B7F-405F-9903-65DE9B30F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99EEE-992B-4427-AF9B-295F58444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5A035-1C07-4FC2-BD5A-A21905578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FB875-4F66-4B10-A98E-80532CCE4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9AC76D-EE96-49A3-8BD2-FB64196D26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BEC551-C85E-45B8-A4A8-769F3FE180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6CE9CD-E184-4DF2-907E-FA247CC16B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C07EFE-A17E-4B6D-8968-A552FE1087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014EA-C06B-4A96-87A0-D53E335F8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E5678-3828-4EE1-890B-559C55728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19908-44D5-4CC8-A24A-8F4F2305A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BC656-DA26-48E9-B5C7-22714C15E5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F1872-539D-4208-980B-E25F06E0B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5102B6-8E5D-4E04-B935-B969A17F4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C5939-DCE9-435A-ADDB-7CB06E2B5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A06F31-85F1-4C9D-84A6-F167F471B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83648-F99F-467F-8E9E-4E09892033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DA7FF-C1C5-4210-B377-0FA84B4A7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AD6796-41E0-482D-BCF4-00BBC46017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4773D0-A31B-417C-BAE0-3A12CB1544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48DEA9-0E69-405F-99D6-294C8745E8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EA6D1-9443-4142-8E15-ADD7F2CF1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93DFF3-C3D6-4FC2-9295-F7EC04542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750DF1-2629-4394-9174-A7D298765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55D5F6-EB81-4862-B382-CF75591DC5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DBE03F-2314-4593-90F7-A0A1E2299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714AAA-19A6-4A3E-981C-CA5F9CCAC8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17884-749E-4874-87F8-95CA54AF7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FA27DF-8DA3-483F-B14C-58BBE4D845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E3D3B-8B5C-4E93-BDCE-628EFCF00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47B7C1-AC47-42A5-86C2-B7FA768C07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E91CAA-F284-4E65-84FD-C46B338D5C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92A24-9AE6-4098-8C27-6146622C6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ED382F-943F-47B5-89B9-9C6A962D30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0ABAF6-3CFC-4957-80C9-766EDC4996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846D1-121F-4E3E-8476-C6D0A0A5EE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9417EE-BF03-4A98-BA42-F53DEFD8D7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17129F-8CB8-4A5B-A6C4-DE1B83971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0B8A7B-8EA2-40E0-8338-601119C24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D5021E-D678-4CEE-843F-C172DB9B4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AB10C5-B6B1-4D66-963B-80186841E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DB4205-78A2-4511-8BDA-A6C5FDA1F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6816DA-52F4-4C1E-ABAD-D0D7FA4E0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27171-EB82-48C7-B9D0-B0E0455E6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2ADA4A-9B03-4C81-B542-3047ABB75F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24E125-EC78-4F4B-9AA2-BBD826BF3F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07FCC9-958E-42E2-B351-ED38A616C3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E56855-585B-4959-8F79-E84A40B3AE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D4E1F0-C739-4BFC-B7A1-EF29E334BD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824518-9101-47BA-954A-6CDA7CF0C8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D5A37-DF64-405C-A68B-26F8881730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40662B-2074-4FF8-B09F-A03A8CA2C9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E10440-C641-4755-85F1-60128B352D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DB4166-DDA3-494F-BABF-9B75D93CF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AA720-C8AA-4FB0-A4EF-31A41C092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C59611-2C05-487F-9C67-27FF105D0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776E8-EE4B-4A00-B04C-92628B029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758D91-1700-406C-8F83-8361E72950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5B29D3-3D77-458C-A7A6-E25D2902BF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2F8894-4872-47E9-8052-55B0A334A4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28634D-8550-4AC7-AD38-B1184FD306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0367CF-01C2-40A0-9DBC-EA5824DAAD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0EDBFA-DE5C-4F16-B80B-6C8FDC03A4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6482CD-7522-4826-A535-1581A40299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83E61C-2E42-45C9-B4C0-71C68B9E10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9FC7-F4EE-4BA0-AB09-4140432C5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B0B732-4862-442D-9435-940EF03967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1111B-4807-488D-9A42-31F812A68C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AE856-281E-45C7-84BE-6A26CF2E17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2B93FB-27A7-4197-9CDA-18AAB806F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C14D82-A3C6-4AF2-8873-1BAF2DD8F3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DCEC3C-5F31-4BCC-99BB-9C7277A1C1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41DA64-024E-46B2-AC8B-A0E9AF7B9F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40D25F-50C9-49A4-B324-DBCA6B27C4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25D1C7-F8F8-4639-83B9-26291E2BBA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C5A390-4D7D-41DA-A9CB-02550177B2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E22A-83C4-4433-A2F0-CCFBC7BEB773}"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3"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4"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65" name="Picture 7" descr=""/>
          <p:cNvPicPr/>
          <p:nvPr/>
        </p:nvPicPr>
        <p:blipFill>
          <a:blip r:embed="rId3"/>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5A9A-E7F8-45BF-81FA-1ABAC5E4FB8B}"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2753-8778-4CBF-A195-4D525F1C8E4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A2DD-238A-44C6-BC94-CEA94BEC854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D034-F2BB-477D-B258-D4631C2EB6E4}"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9C07-EFDD-4035-9805-3604E7C7C56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7FB0-4223-4712-AD65-E8A88A109E47}"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FF92-8515-47B6-8D8F-BBA15E46A4B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8769-3304-4230-9084-515A977FC8C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726D-006E-4F6D-8279-EE0ACE8545F3}"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E928-7CED-4E02-81D9-816461D17AC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12" name="1 Grupo"/>
          <p:cNvGrpSpPr/>
          <p:nvPr/>
        </p:nvGrpSpPr>
        <p:grpSpPr>
          <a:xfrm>
            <a:off x="-19080" y="203040"/>
            <a:ext cx="9181080" cy="648000"/>
            <a:chOff x="-19080" y="203040"/>
            <a:chExt cx="9181080" cy="648000"/>
          </a:xfrm>
        </p:grpSpPr>
        <p:grpSp>
          <p:nvGrpSpPr>
            <p:cNvPr id="413" name="11 Forma libre"/>
            <p:cNvGrpSpPr/>
            <p:nvPr/>
          </p:nvGrpSpPr>
          <p:grpSpPr>
            <a:xfrm>
              <a:off x="-19080" y="203040"/>
              <a:ext cx="9162720" cy="648000"/>
              <a:chOff x="-19080" y="203040"/>
              <a:chExt cx="9162720" cy="648000"/>
            </a:xfrm>
          </p:grpSpPr>
          <p:pic>
            <p:nvPicPr>
              <p:cNvPr id="414" name="11 Forma libre" descr=""/>
              <p:cNvPicPr/>
              <p:nvPr/>
            </p:nvPicPr>
            <p:blipFill>
              <a:blip r:embed="rId3"/>
              <a:stretch/>
            </p:blipFill>
            <p:spPr>
              <a:xfrm>
                <a:off x="3960" y="203040"/>
                <a:ext cx="9139680" cy="648000"/>
              </a:xfrm>
              <a:prstGeom prst="rect">
                <a:avLst/>
              </a:prstGeom>
              <a:ln w="0">
                <a:noFill/>
              </a:ln>
            </p:spPr>
          </p:pic>
          <p:sp>
            <p:nvSpPr>
              <p:cNvPr id="41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16" name="12 Forma libre"/>
            <p:cNvGrpSpPr/>
            <p:nvPr/>
          </p:nvGrpSpPr>
          <p:grpSpPr>
            <a:xfrm>
              <a:off x="-19080" y="248040"/>
              <a:ext cx="9181080" cy="561600"/>
              <a:chOff x="-19080" y="248040"/>
              <a:chExt cx="9181080" cy="561600"/>
            </a:xfrm>
          </p:grpSpPr>
          <p:pic>
            <p:nvPicPr>
              <p:cNvPr id="417" name="12 Forma libre" descr=""/>
              <p:cNvPicPr/>
              <p:nvPr/>
            </p:nvPicPr>
            <p:blipFill>
              <a:blip r:embed="rId4"/>
              <a:stretch/>
            </p:blipFill>
            <p:spPr>
              <a:xfrm>
                <a:off x="-3240" y="248040"/>
                <a:ext cx="9165240" cy="561600"/>
              </a:xfrm>
              <a:prstGeom prst="rect">
                <a:avLst/>
              </a:prstGeom>
              <a:ln w="0">
                <a:noFill/>
              </a:ln>
            </p:spPr>
          </p:pic>
          <p:sp>
            <p:nvSpPr>
              <p:cNvPr id="41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19" name="Picture 7" descr=""/>
          <p:cNvPicPr/>
          <p:nvPr/>
        </p:nvPicPr>
        <p:blipFill>
          <a:blip r:embed="rId5"/>
          <a:stretch/>
        </p:blipFill>
        <p:spPr>
          <a:xfrm>
            <a:off x="6500880" y="5786280"/>
            <a:ext cx="2352600" cy="876600"/>
          </a:xfrm>
          <a:prstGeom prst="rect">
            <a:avLst/>
          </a:prstGeom>
          <a:ln w="0">
            <a:noFill/>
          </a:ln>
        </p:spPr>
      </p:pic>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EC1A-D603-4B80-9304-6FA57D0C8B45}"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Las Fallas del Estad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3"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las teorías que intentan explicar el proceso de toma de decisiones, se observa que como regla general la participación del estado en la economía tiende a crec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5 explicaciones, </a:t>
            </a:r>
            <a:r>
              <a:rPr b="1" lang="es-CL" sz="2600" spc="-1" strike="noStrike">
                <a:solidFill>
                  <a:srgbClr val="000000"/>
                </a:solidFill>
                <a:latin typeface="Constantia"/>
              </a:rPr>
              <a:t>no exclusivas y no excluyentes</a:t>
            </a:r>
            <a:r>
              <a:rPr b="0" lang="es-CL" sz="2600" spc="-1" strike="noStrike">
                <a:solidFill>
                  <a:srgbClr val="000000"/>
                </a:solidFill>
                <a:latin typeface="Constantia"/>
              </a:rPr>
              <a:t>, que pretenden explicar dicho fenómen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5" name="PlaceHolder 2"/>
          <p:cNvSpPr>
            <a:spLocks noGrp="1"/>
          </p:cNvSpPr>
          <p:nvPr>
            <p:ph/>
          </p:nvPr>
        </p:nvSpPr>
        <p:spPr>
          <a:xfrm>
            <a:off x="457200" y="1213920"/>
            <a:ext cx="8229600" cy="5256360"/>
          </a:xfrm>
          <a:prstGeom prst="rect">
            <a:avLst/>
          </a:prstGeom>
          <a:noFill/>
          <a:ln w="0">
            <a:noFill/>
          </a:ln>
        </p:spPr>
        <p:txBody>
          <a:bodyPr anchor="t">
            <a:normAutofit fontScale="96000"/>
          </a:bodyPr>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urocracia: los burócratas buscan maximizar el tamaño de sus oficinas, obteniendo beneficios (poder, estatus, influencias…)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gobierno central no conoce la estructura de costos de las oficinas públicas.</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funcionarios públicos dedican esfuerzos a actividades que aumenten la percepción por parte de los políticos de los beneficios que se derivan de la actividad realizada.</a:t>
            </a:r>
            <a:endParaRPr b="0" lang="en-US" sz="2200" spc="-1" strike="noStrike">
              <a:solidFill>
                <a:srgbClr val="000000"/>
              </a:solidFill>
              <a:latin typeface="Constantia"/>
            </a:endParaRPr>
          </a:p>
          <a:p>
            <a:pPr lvl="2" marL="8776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ormación del Presupuesto: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instituciones arman su presupuesto en base a un histórico más un delta</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Hacienda recorta estas peticiones proporcionalmente, generalmente en menor medida al delta solicitado</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signación resultante no tiene relación con un óptimo social.</a:t>
            </a:r>
            <a:endParaRPr b="0" lang="en-US" sz="2200" spc="-1" strike="noStrike">
              <a:solidFill>
                <a:srgbClr val="000000"/>
              </a:solidFill>
              <a:latin typeface="Constantia"/>
            </a:endParaRPr>
          </a:p>
          <a:p>
            <a:pPr lvl="2" marL="8776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87768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7768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7" name="PlaceHolder 2"/>
          <p:cNvSpPr>
            <a:spLocks noGrp="1"/>
          </p:cNvSpPr>
          <p:nvPr>
            <p:ph/>
          </p:nvPr>
        </p:nvSpPr>
        <p:spPr>
          <a:xfrm>
            <a:off x="457200" y="1412640"/>
            <a:ext cx="8229600" cy="5040360"/>
          </a:xfrm>
          <a:prstGeom prst="rect">
            <a:avLst/>
          </a:prstGeom>
          <a:noFill/>
          <a:ln w="0">
            <a:noFill/>
          </a:ln>
        </p:spPr>
        <p:txBody>
          <a:bodyPr anchor="t">
            <a:normAutofit/>
          </a:bodyPr>
          <a:p>
            <a:pPr marL="457200" indent="-457200">
              <a:spcBef>
                <a:spcPts val="49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formación Imperfecta: la gente no conoce el verdadero costo de la intervención pública</a:t>
            </a: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costos son difusos: </a:t>
            </a:r>
            <a:endParaRPr b="0" lang="en-US" sz="22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l interior del gobierno: las oficinas púbicas no conocen el costo de oportunidad de los recursos utilizados, reconociendo únicamente sus prioridad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Fuera del gobierno: los beneficios se concentran en pocos usuarios mientras los costos se desagregan en muchos contribuyentes (teoría de la acción colectiva)</a:t>
            </a:r>
            <a:endParaRPr b="0" lang="en-US" sz="1900" spc="-1" strike="noStrike">
              <a:solidFill>
                <a:srgbClr val="000000"/>
              </a:solidFill>
              <a:latin typeface="Constantia"/>
            </a:endParaRPr>
          </a:p>
          <a:p>
            <a:pPr lvl="3" marL="118728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457200" indent="-457200">
              <a:spcBef>
                <a:spcPts val="550"/>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upción: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uncionarios públicos utilizan el gobierno para su propio beneficio</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rivados aprovechan estos espacios para sacar mayores rentas. (captura del regulad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57200" y="1819080"/>
            <a:ext cx="8229600" cy="4824360"/>
          </a:xfrm>
          <a:prstGeom prst="rect">
            <a:avLst/>
          </a:prstGeom>
          <a:noFill/>
          <a:ln w="0">
            <a:noFill/>
          </a:ln>
        </p:spPr>
        <p:txBody>
          <a:bodyPr anchor="t">
            <a:normAutofit/>
          </a:bodyPr>
          <a:p>
            <a:pPr marL="514440" indent="-514440">
              <a:spcBef>
                <a:spcPts val="70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onopolio: el estado es un monopolio, los monopolios no son eficientes.</a:t>
            </a:r>
            <a:endParaRPr b="0" lang="en-US" sz="2800" spc="-1" strike="noStrike">
              <a:solidFill>
                <a:srgbClr val="000000"/>
              </a:solidFill>
              <a:latin typeface="Constantia"/>
            </a:endParaRPr>
          </a:p>
          <a:p>
            <a:pPr marL="514440" indent="-514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39" name="Rectangle 2"/>
          <p:cNvSpPr/>
          <p:nvPr/>
        </p:nvSpPr>
        <p:spPr>
          <a:xfrm>
            <a:off x="457200" y="189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28760" y="29286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Federalismo Fiscal</a:t>
            </a:r>
            <a:br>
              <a:rPr sz="5000"/>
            </a:br>
            <a:r>
              <a:rPr b="0" lang="es-CL" sz="5000" spc="-1" strike="noStrike">
                <a:solidFill>
                  <a:srgbClr val="04617b"/>
                </a:solidFill>
                <a:latin typeface="Calibri"/>
              </a:rPr>
              <a:t>(Descentraliz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mos visto como el proceso de agregación de preferencias puede fallar, además hemos visto como la toma de decisiones puede distar de una sincera búsqueda por alcanzar el bien comú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s fallas del estado pueden, en parte, ser controladas o mitigadas median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 transparencia y accountability en el proceso polít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contar con un grupo más homogéneo de person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4" name=""/>
          <p:cNvSpPr txBox="1"/>
          <p:nvPr/>
        </p:nvSpPr>
        <p:spPr>
          <a:xfrm>
            <a:off x="457200" y="1214280"/>
            <a:ext cx="8229600" cy="482472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rovisión de bienes públicos es inferior a la optima porque las personas no revelan sus preferencias.</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demás existen </a:t>
            </a:r>
            <a:r>
              <a:rPr b="1" lang="es-CL" sz="2600" spc="-1" strike="noStrike">
                <a:solidFill>
                  <a:srgbClr val="000000"/>
                </a:solidFill>
                <a:latin typeface="Constantia"/>
              </a:rPr>
              <a:t>bienes públicos locales, </a:t>
            </a:r>
            <a:r>
              <a:rPr b="0" lang="es-CL" sz="2600" spc="-1" strike="noStrike">
                <a:solidFill>
                  <a:srgbClr val="000000"/>
                </a:solidFill>
                <a:latin typeface="Constantia"/>
              </a:rPr>
              <a:t>aquellos  que solo puede beneficiar a agentes dentro de un área geográfica dada.</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iebout (1956), plantea la hipótesis personas se agrupan de acuerdo a sus preferencias por bienes públicos.</a:t>
            </a:r>
            <a:r>
              <a:rPr b="0" lang="es-CL" sz="2600" spc="-1" strike="noStrike">
                <a:solidFill>
                  <a:srgbClr val="000000"/>
                </a:solidFill>
                <a:latin typeface="Constantia"/>
              </a:rPr>
              <a:t>	</a:t>
            </a:r>
            <a:endParaRPr b="0" lang="en-US" sz="26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ada comunidad se proveen los bienes públicos que las personas demandan.</a:t>
            </a:r>
            <a:endParaRPr b="0" lang="en-US" sz="24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eligen donde vivir para maximizar su utilidad, alcanzando un resultado efici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6"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blemas a la hipóte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pone que las personas pueden moverse entre ciudades sin ningún cost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monetarios (perder el trabajo, mudanza, etc)</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sicológicos (amigos, famili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fecta información respecto a los beneficios que se reciben en cada comunidad y los impuestos que se pag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la provisión de algunos bienes requiere de una escala (ej, hospital de especialidad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sencia de externalidades entre comunidad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8"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hipótesis es usada como argumento a favor de la descentra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su exactitud, entrega una idea acerca de los beneficios de que comunidades pequeñas (probablemente con una menor dispersión de preferencias) se hagan cargo de la provisión de ciertos bienes y servicios.</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gumentos a favor de la descentralización</a:t>
            </a:r>
            <a:endParaRPr b="0" lang="en-US" sz="5000" spc="-1" strike="noStrike">
              <a:solidFill>
                <a:srgbClr val="04617b"/>
              </a:solidFill>
              <a:latin typeface="Calibri"/>
            </a:endParaRPr>
          </a:p>
        </p:txBody>
      </p:sp>
      <p:sp>
        <p:nvSpPr>
          <p:cNvPr id="650"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s preferencias son heterogéneas y un gobierno central implica uniformidad, es mejor descentralizar.</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Gobiernos locales conocen mejor las preferencias de sus ciudadano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necesidades pueden variar de una comunidad a otra.</a:t>
            </a:r>
            <a:endParaRPr b="0" lang="en-US" sz="24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Currículo Escolar</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Vacunación</a:t>
            </a:r>
            <a:endParaRPr b="0" lang="en-US" sz="21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as personas pueden distribuirse de acuerdo a sus preferencias (Tiebou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Accountability, el control es más fácil en grupos reduci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764640"/>
            <a:ext cx="8229600" cy="555948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ía a día vemos varios situaciones en las cuales la política pública falla:</a:t>
            </a:r>
            <a:endParaRPr b="0" lang="en-US" sz="26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nsantiago</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puente a ningún lado (Alaska)</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FE</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P – Gate</a:t>
            </a:r>
            <a:endParaRPr b="0" lang="en-US" sz="2400" spc="-1" strike="noStrike">
              <a:solidFill>
                <a:srgbClr val="000000"/>
              </a:solidFill>
              <a:latin typeface="Constantia"/>
            </a:endParaRPr>
          </a:p>
          <a:p>
            <a:pPr lvl="1"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os explicaciones extremas para explicar dichas fallas:</a:t>
            </a:r>
            <a:endParaRPr b="0" lang="en-US" sz="26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r es difícil</a:t>
            </a:r>
            <a:endParaRPr b="0" lang="en-US" sz="24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estado maximiza sus propios beneficios (Teoría del Public Choise)</a:t>
            </a:r>
            <a:endParaRPr b="0" lang="en-US" sz="2400" spc="-1" strike="noStrike">
              <a:solidFill>
                <a:srgbClr val="000000"/>
              </a:solidFill>
              <a:latin typeface="Constantia"/>
            </a:endParaRPr>
          </a:p>
          <a:p>
            <a:pPr lvl="1" marL="113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centralizar</a:t>
            </a:r>
            <a:endParaRPr b="0" lang="en-US" sz="5000" spc="-1" strike="noStrike">
              <a:solidFill>
                <a:srgbClr val="04617b"/>
              </a:solidFill>
              <a:latin typeface="Calibri"/>
            </a:endParaRPr>
          </a:p>
        </p:txBody>
      </p:sp>
      <p:sp>
        <p:nvSpPr>
          <p:cNvPr id="65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ternalidades entre jurisdiccio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aminación, salud</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cia de economías de esca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es locales heterogénea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unicipio rico vs municipio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eneficios esperados de la Descentralización</a:t>
            </a:r>
            <a:endParaRPr b="0" lang="en-US" sz="5000" spc="-1" strike="noStrike">
              <a:solidFill>
                <a:srgbClr val="04617b"/>
              </a:solidFill>
              <a:latin typeface="Calibri"/>
            </a:endParaRPr>
          </a:p>
        </p:txBody>
      </p:sp>
      <p:sp>
        <p:nvSpPr>
          <p:cNvPr id="65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Mejorar la provisión de servicios públicos originada por un mejor conocimiento de la realidad socio – económica loc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crementar el control ciudadan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scongestionar administrativamente al Gobierno Cent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Ordenar el flujo migratorio int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quisitos</a:t>
            </a:r>
            <a:endParaRPr b="0" lang="en-US" sz="5000" spc="-1" strike="noStrike">
              <a:solidFill>
                <a:srgbClr val="04617b"/>
              </a:solidFill>
              <a:latin typeface="Calibri"/>
            </a:endParaRPr>
          </a:p>
        </p:txBody>
      </p:sp>
      <p:sp>
        <p:nvSpPr>
          <p:cNvPr id="65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obiernos locales elegidos por la pob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utonomía en el uso de los recursos loc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librio fiscal (local y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Costo - Beneficio de descentralizar vs mantener centralizado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o de los hospit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débi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ricos vs gobiernos pobres (migración inter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658" name=""/>
          <p:cNvSpPr txBox="1"/>
          <p:nvPr/>
        </p:nvSpPr>
        <p:spPr>
          <a:xfrm>
            <a:off x="457200" y="1499760"/>
            <a:ext cx="8229600" cy="482436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muestra </a:t>
            </a:r>
            <a:r>
              <a:rPr b="0" lang="es-ES" sz="2600" spc="-1" strike="noStrike">
                <a:solidFill>
                  <a:srgbClr val="000000"/>
                </a:solidFill>
                <a:latin typeface="Constantia"/>
              </a:rPr>
              <a:t>que generalmente se acepta la noción de que aquellas actividades cuyo beneficio se concentra en una localidad sean administradas y controladas por gobiernos locale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alas cuna, atención de salud primaria, casas de asistencia social, saneamiento ambiental, recolección y eliminación de basura, cementerios, mataderos, etc.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culturales  y de esparcimiento como parques, canchas deportivas, museos, galerías de arte, bibliotecas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Todos aquellos servicios cuyo principal o único consumidor sea la población adscrita al territorio controlado por el gobierno local. </a:t>
            </a:r>
            <a:endParaRPr b="0" lang="en-US" sz="2400" spc="-1" strike="noStrike">
              <a:solidFill>
                <a:srgbClr val="000000"/>
              </a:solidFill>
              <a:latin typeface="Constantia"/>
            </a:endParaRPr>
          </a:p>
          <a:p>
            <a:pPr lvl="1" marL="575640" indent="-221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66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riterios encontrados en cuanto a la provisión de servicios cuyos beneficios no puedan ser enteramente concentrados dentro de una localidad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stablecimientos de educación superior, hospitales, la seguridad ciudadana, etc.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que tiene la particularidad de que si bien los mayores beneficiarios son los miembros de la localidad donde se prestan, miembros de otras localidades también pueden hacer uso de los mismos.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inanciamiento de gobiernos locales</a:t>
            </a:r>
            <a:endParaRPr b="0" lang="en-US" sz="5000" spc="-1" strike="noStrike">
              <a:solidFill>
                <a:srgbClr val="04617b"/>
              </a:solidFill>
              <a:latin typeface="Calibri"/>
            </a:endParaRPr>
          </a:p>
        </p:txBody>
      </p:sp>
      <p:sp>
        <p:nvSpPr>
          <p:cNvPr id="66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con mayor poder de recaudación (Iva, Renta) suelen ser manejados a nivel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fuentes de financiamiento locales son limitadas por lo que se requieren de transferencias intergubernamientales para financiar el gasto loc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85480" y="70920"/>
            <a:ext cx="8643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Transferencias Intergubernamentales</a:t>
            </a:r>
            <a:endParaRPr b="0" lang="en-US" sz="4400" spc="-1" strike="noStrike">
              <a:solidFill>
                <a:srgbClr val="04617b"/>
              </a:solidFill>
              <a:latin typeface="Calibri"/>
            </a:endParaRPr>
          </a:p>
        </p:txBody>
      </p:sp>
      <p:sp>
        <p:nvSpPr>
          <p:cNvPr id="664" name=""/>
          <p:cNvSpPr txBox="1"/>
          <p:nvPr/>
        </p:nvSpPr>
        <p:spPr>
          <a:xfrm>
            <a:off x="285840" y="1285560"/>
            <a:ext cx="8572320" cy="5357880"/>
          </a:xfrm>
          <a:prstGeom prst="rect">
            <a:avLst/>
          </a:prstGeom>
          <a:solidFill>
            <a:srgbClr val="ffffff"/>
          </a:solidFill>
          <a:ln w="0">
            <a:noFill/>
          </a:ln>
        </p:spPr>
        <p:txBody>
          <a:bodyPr anchor="t">
            <a:normAutofit fontScale="95000"/>
          </a:bodyPr>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rPr>
              <a:t>Es el traspaso de fondos desde el Gobierno Central hacia los Gobiernos subnacionales</a:t>
            </a:r>
            <a:r>
              <a:rPr b="0" lang="es-CL" sz="2500" spc="-1" strike="noStrike">
                <a:solidFill>
                  <a:srgbClr val="000000"/>
                </a:solidFill>
                <a:latin typeface="Constantia"/>
              </a:rPr>
              <a:t>.</a:t>
            </a:r>
            <a:endParaRPr b="0" lang="en-US" sz="2500" spc="-1" strike="noStrike">
              <a:solidFill>
                <a:srgbClr val="000000"/>
              </a:solidFill>
              <a:latin typeface="Constantia"/>
            </a:endParaRPr>
          </a:p>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bjetivos</a:t>
            </a:r>
            <a:endParaRPr b="0" lang="en-US" sz="25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librio Vertical: equilibrar el las responsabilidades de gasto con las fuentes de ingreso entre gobierno local y nacional</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dad horizontal: reducir las disparidades existentes entre comunidad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ienes y servicios preferentes: fomento y financiamiento del gasto en sectores prioritarios “externalidades positivas, asimetrías de información, etc.”</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eneficios administrativos: mejor capacidad del gobierno central para recaudar (menores distorsion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66"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a:t>
            </a:r>
            <a:r>
              <a:rPr b="0" lang="es-CL" sz="2600" spc="-1" strike="noStrike">
                <a:solidFill>
                  <a:srgbClr val="000000"/>
                </a:solidFill>
                <a:latin typeface="Constantia"/>
              </a:rPr>
              <a:t>: cada peso gastado en la provisión de un bien o servicio particular a nivel local tiene una contraparte( matching) de X pesos d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zado cuando el gobierno central quiere estimular la provisión de ciertos bienes y servicios en las comunidad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muy convenientes cuando las preferencias son muy heterogéneas, a la final se seguiría tomando las decisiones sobre que proveer desde el centr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68"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a:t>
            </a:r>
            <a:r>
              <a:rPr b="0" lang="es-CL" sz="2600" spc="-1" strike="noStrike">
                <a:solidFill>
                  <a:srgbClr val="000000"/>
                </a:solidFill>
                <a:latin typeface="Constantia"/>
              </a:rPr>
              <a:t>Supongamos que hay dos tipos de bienes en la economía, ambos con el mismo precio:</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Y: Educación</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X: Los demás</a:t>
            </a:r>
            <a:endParaRPr b="0" lang="en-US" sz="24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 un Matching Grant para la educación el cual en términos prácticos reduce el precio local del servicio desplazando la restricción presupuesta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70"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atching Grant:</a:t>
            </a:r>
            <a:endParaRPr b="0" lang="en-US" sz="2600" spc="-1" strike="noStrike">
              <a:solidFill>
                <a:srgbClr val="000000"/>
              </a:solidFill>
              <a:latin typeface="Constantia"/>
            </a:endParaRPr>
          </a:p>
        </p:txBody>
      </p:sp>
      <p:cxnSp>
        <p:nvCxnSpPr>
          <p:cNvPr id="671" name="4 Conector recto de flecha"/>
          <p:cNvCxnSpPr/>
          <p:nvPr/>
        </p:nvCxnSpPr>
        <p:spPr>
          <a:xfrm flipV="1">
            <a:off x="1568880" y="2714400"/>
            <a:ext cx="2520" cy="2216880"/>
          </a:xfrm>
          <a:prstGeom prst="straightConnector1">
            <a:avLst/>
          </a:prstGeom>
          <a:ln w="9360">
            <a:solidFill>
              <a:srgbClr val="065093"/>
            </a:solidFill>
            <a:miter/>
            <a:tailEnd len="med" type="arrow" w="med"/>
          </a:ln>
        </p:spPr>
      </p:cxnSp>
      <p:cxnSp>
        <p:nvCxnSpPr>
          <p:cNvPr id="672" name="6 Conector recto de flecha"/>
          <p:cNvCxnSpPr/>
          <p:nvPr/>
        </p:nvCxnSpPr>
        <p:spPr>
          <a:xfrm>
            <a:off x="1571760" y="4928760"/>
            <a:ext cx="2643840" cy="2520"/>
          </a:xfrm>
          <a:prstGeom prst="straightConnector1">
            <a:avLst/>
          </a:prstGeom>
          <a:ln w="9360">
            <a:solidFill>
              <a:srgbClr val="065093"/>
            </a:solidFill>
            <a:miter/>
            <a:tailEnd len="med" type="arrow" w="med"/>
          </a:ln>
        </p:spPr>
      </p:cxnSp>
      <p:sp>
        <p:nvSpPr>
          <p:cNvPr id="673" name="8 Conector recto"/>
          <p:cNvSpPr/>
          <p:nvPr/>
        </p:nvSpPr>
        <p:spPr>
          <a:xfrm>
            <a:off x="15717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4" name="10 Conector recto"/>
          <p:cNvSpPr/>
          <p:nvPr/>
        </p:nvSpPr>
        <p:spPr>
          <a:xfrm>
            <a:off x="1571760" y="3071880"/>
            <a:ext cx="235728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5" name="11 Rectángulo"/>
          <p:cNvSpPr/>
          <p:nvPr/>
        </p:nvSpPr>
        <p:spPr>
          <a:xfrm>
            <a:off x="777960" y="27860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676" name="13 Rectángulo"/>
          <p:cNvSpPr/>
          <p:nvPr/>
        </p:nvSpPr>
        <p:spPr>
          <a:xfrm>
            <a:off x="38311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677" name="15 Conector recto de flecha"/>
          <p:cNvCxnSpPr/>
          <p:nvPr/>
        </p:nvCxnSpPr>
        <p:spPr>
          <a:xfrm flipV="1">
            <a:off x="1857240" y="2856960"/>
            <a:ext cx="286560" cy="500760"/>
          </a:xfrm>
          <a:prstGeom prst="straightConnector1">
            <a:avLst/>
          </a:prstGeom>
          <a:ln w="9360">
            <a:solidFill>
              <a:srgbClr val="065093"/>
            </a:solidFill>
            <a:miter/>
            <a:tailEnd len="med" type="arrow" w="med"/>
          </a:ln>
        </p:spPr>
      </p:cxnSp>
      <p:sp>
        <p:nvSpPr>
          <p:cNvPr id="678" name="16 Rectángulo"/>
          <p:cNvSpPr/>
          <p:nvPr/>
        </p:nvSpPr>
        <p:spPr>
          <a:xfrm>
            <a:off x="20365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679" name="17 Rectángulo"/>
          <p:cNvSpPr/>
          <p:nvPr/>
        </p:nvSpPr>
        <p:spPr>
          <a:xfrm>
            <a:off x="24663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680" name="18 Conector recto de flecha"/>
          <p:cNvCxnSpPr/>
          <p:nvPr/>
        </p:nvCxnSpPr>
        <p:spPr>
          <a:xfrm flipV="1">
            <a:off x="2214360" y="3214440"/>
            <a:ext cx="572040" cy="357840"/>
          </a:xfrm>
          <a:prstGeom prst="straightConnector1">
            <a:avLst/>
          </a:prstGeom>
          <a:ln w="9360">
            <a:solidFill>
              <a:srgbClr val="065093"/>
            </a:solidFill>
            <a:miter/>
            <a:tailEnd len="med" type="arrow" w="med"/>
          </a:ln>
        </p:spPr>
      </p:cxnSp>
      <p:sp>
        <p:nvSpPr>
          <p:cNvPr id="681" name="21 Arco"/>
          <p:cNvSpPr/>
          <p:nvPr/>
        </p:nvSpPr>
        <p:spPr>
          <a:xfrm rot="11394600">
            <a:off x="2249280" y="290016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2" name="22 Arco"/>
          <p:cNvSpPr/>
          <p:nvPr/>
        </p:nvSpPr>
        <p:spPr>
          <a:xfrm rot="11394600">
            <a:off x="2403360" y="275220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3" name="24 Conector recto"/>
          <p:cNvSpPr/>
          <p:nvPr/>
        </p:nvSpPr>
        <p:spPr>
          <a:xfrm flipH="1">
            <a:off x="2712600" y="4002120"/>
            <a:ext cx="18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4" name="25 Conector recto"/>
          <p:cNvSpPr/>
          <p:nvPr/>
        </p:nvSpPr>
        <p:spPr>
          <a:xfrm flipH="1">
            <a:off x="2428920" y="4071960"/>
            <a:ext cx="144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5" name="27 Conector recto"/>
          <p:cNvSpPr/>
          <p:nvPr/>
        </p:nvSpPr>
        <p:spPr>
          <a:xfrm flipH="1" flipV="1">
            <a:off x="15714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6" name="30 Conector recto"/>
          <p:cNvSpPr/>
          <p:nvPr/>
        </p:nvSpPr>
        <p:spPr>
          <a:xfrm flipH="1" flipV="1">
            <a:off x="1571400" y="4000680"/>
            <a:ext cx="11430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7" name="32 CuadroTexto"/>
          <p:cNvSpPr/>
          <p:nvPr/>
        </p:nvSpPr>
        <p:spPr>
          <a:xfrm>
            <a:off x="5357880" y="2000160"/>
            <a:ext cx="3571920" cy="4070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incrementa la provisión de educación a nivel local.</a:t>
            </a:r>
            <a:endParaRPr b="1" lang="en-US" sz="2000" spc="-1" strike="noStrike">
              <a:solidFill>
                <a:srgbClr val="000000"/>
              </a:solidFill>
              <a:latin typeface="Constantia"/>
            </a:endParaRPr>
          </a:p>
          <a:p>
            <a:pPr marL="272880" indent="-2728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reducir el precio de la educación, también incrementa el ingreso total del gobierno local por lo que puede destinar más recursos a “Otros” bienes y servicio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2"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 administrativos e indirectos de regular</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simetrías de información, el regulador actua bajo incertidumbre</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productos son difíciles de medir </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hay un dueño claro de los recursos</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cesos controversiales (la regulación genera ganadores y perd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89"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Lump Sum o Transferencia en bloque no condicionada</a:t>
            </a:r>
            <a:r>
              <a:rPr b="0" lang="es-CL" sz="2600" spc="-1" strike="noStrike">
                <a:solidFill>
                  <a:srgbClr val="000000"/>
                </a:solidFill>
                <a:latin typeface="Constantia"/>
              </a:rPr>
              <a:t>: consiste en la entrega de recursos sin condición alguna.</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eneran únicamente un efecto ingreso.</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alteran los precios relativos de los bienes y servicios provistos por los gobiernos loc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91"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692"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693"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694"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5"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6"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697"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698" name="15 Conector recto de flecha"/>
          <p:cNvCxnSpPr/>
          <p:nvPr/>
        </p:nvCxnSpPr>
        <p:spPr>
          <a:xfrm flipV="1">
            <a:off x="1357920" y="2856960"/>
            <a:ext cx="286200" cy="500760"/>
          </a:xfrm>
          <a:prstGeom prst="straightConnector1">
            <a:avLst/>
          </a:prstGeom>
          <a:ln w="9360">
            <a:solidFill>
              <a:srgbClr val="065093"/>
            </a:solidFill>
            <a:miter/>
            <a:tailEnd len="med" type="arrow" w="med"/>
          </a:ln>
        </p:spPr>
      </p:cxnSp>
      <p:sp>
        <p:nvSpPr>
          <p:cNvPr id="699" name="16 Rectángulo"/>
          <p:cNvSpPr/>
          <p:nvPr/>
        </p:nvSpPr>
        <p:spPr>
          <a:xfrm>
            <a:off x="15379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700" name="17 Rectángulo"/>
          <p:cNvSpPr/>
          <p:nvPr/>
        </p:nvSpPr>
        <p:spPr>
          <a:xfrm>
            <a:off x="19677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701" name="18 Conector recto de flecha"/>
          <p:cNvCxnSpPr/>
          <p:nvPr/>
        </p:nvCxnSpPr>
        <p:spPr>
          <a:xfrm flipV="1">
            <a:off x="1715760" y="3214440"/>
            <a:ext cx="572040" cy="357840"/>
          </a:xfrm>
          <a:prstGeom prst="straightConnector1">
            <a:avLst/>
          </a:prstGeom>
          <a:ln w="9360">
            <a:solidFill>
              <a:srgbClr val="065093"/>
            </a:solidFill>
            <a:miter/>
            <a:tailEnd len="med" type="arrow" w="med"/>
          </a:ln>
        </p:spPr>
      </p:cxnSp>
      <p:sp>
        <p:nvSpPr>
          <p:cNvPr id="702"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3"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4"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5"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6"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7"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8" name="32 CuadroTexto"/>
          <p:cNvSpPr/>
          <p:nvPr/>
        </p:nvSpPr>
        <p:spPr>
          <a:xfrm>
            <a:off x="4786200" y="2071800"/>
            <a:ext cx="4143600" cy="392364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relaja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mite a la comunidad consumir más de ambos biene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gasto en educación aumenta menos que con el Matching Grant (El aporte de la comunidad a la educación es menor)</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10"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enientes cuando las preferencias son muy heterogeneas y no existen razones (políticas o económicas) para buscar un cierto nivel de provisión de algún bien o servicio a nivel local.</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nuestro ejemplo, si el objetivo fuese alcanzar un nivel X de provisión de educación, sería mas costoso el alcanzarlo con la transferencia en bloque que con la transferencia no condicionada.</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12" name=""/>
          <p:cNvSpPr txBox="1"/>
          <p:nvPr/>
        </p:nvSpPr>
        <p:spPr>
          <a:xfrm>
            <a:off x="457200" y="1285560"/>
            <a:ext cx="8229600" cy="500040"/>
          </a:xfrm>
          <a:prstGeom prst="rect">
            <a:avLst/>
          </a:prstGeom>
          <a:noFill/>
          <a:ln w="0">
            <a:noFill/>
          </a:ln>
        </p:spPr>
        <p:txBody>
          <a:bodyPr anchor="t">
            <a:normAutofit fontScale="71000"/>
          </a:bodyPr>
          <a:p>
            <a:pPr marL="365040" indent="-365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vs Matching Grant</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713"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714"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715"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6"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7"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18"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19"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0"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1"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2"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3"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5" name="32 CuadroTexto"/>
          <p:cNvSpPr/>
          <p:nvPr/>
        </p:nvSpPr>
        <p:spPr>
          <a:xfrm>
            <a:off x="4786200" y="2071800"/>
            <a:ext cx="4143600" cy="4619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en bloque genera un mayor bienestar pero el consumo de educación es menor que con la matching grant.</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es mejor? Depende del objetiv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tching para lograr metas</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Bloque para incrementar el bienestar.</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26" name="20 Conector recto"/>
          <p:cNvSpPr/>
          <p:nvPr/>
        </p:nvSpPr>
        <p:spPr>
          <a:xfrm>
            <a:off x="1071720" y="3071880"/>
            <a:ext cx="2214360" cy="185724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7" name="28 Arco"/>
          <p:cNvSpPr/>
          <p:nvPr/>
        </p:nvSpPr>
        <p:spPr>
          <a:xfrm rot="11394600">
            <a:off x="1850760" y="276048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00b05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8" name="29 Conector recto"/>
          <p:cNvSpPr/>
          <p:nvPr/>
        </p:nvSpPr>
        <p:spPr>
          <a:xfrm flipH="1">
            <a:off x="2212560" y="4002120"/>
            <a:ext cx="1800" cy="928800"/>
          </a:xfrm>
          <a:prstGeom prst="line">
            <a:avLst/>
          </a:prstGeom>
          <a:ln w="9360">
            <a:solidFill>
              <a:srgbClr val="00b05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9" name="33 Conector recto"/>
          <p:cNvSpPr/>
          <p:nvPr/>
        </p:nvSpPr>
        <p:spPr>
          <a:xfrm flipH="1" flipV="1">
            <a:off x="1142640" y="4010040"/>
            <a:ext cx="1071720" cy="1440"/>
          </a:xfrm>
          <a:prstGeom prst="line">
            <a:avLst/>
          </a:prstGeom>
          <a:ln w="9360">
            <a:solidFill>
              <a:srgbClr val="00b05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31"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Limitada</a:t>
            </a:r>
            <a:r>
              <a:rPr b="0" lang="es-CL" sz="2600" spc="-1" strike="noStrike">
                <a:solidFill>
                  <a:srgbClr val="000000"/>
                </a:solidFill>
                <a:latin typeface="Constantia"/>
              </a:rPr>
              <a:t>: Es un matchign grant pero solo hasta cierto nivel de gasto.</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32" name="3 Conector recto de flecha"/>
          <p:cNvCxnSpPr/>
          <p:nvPr/>
        </p:nvCxnSpPr>
        <p:spPr>
          <a:xfrm flipV="1">
            <a:off x="1071720" y="2841120"/>
            <a:ext cx="2160" cy="2431440"/>
          </a:xfrm>
          <a:prstGeom prst="straightConnector1">
            <a:avLst/>
          </a:prstGeom>
          <a:ln w="9360">
            <a:solidFill>
              <a:srgbClr val="065093"/>
            </a:solidFill>
            <a:miter/>
            <a:tailEnd len="med" type="arrow" w="med"/>
          </a:ln>
        </p:spPr>
      </p:cxnSp>
      <p:cxnSp>
        <p:nvCxnSpPr>
          <p:cNvPr id="733"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34"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5" name="6 Conector recto"/>
          <p:cNvSpPr/>
          <p:nvPr/>
        </p:nvSpPr>
        <p:spPr>
          <a:xfrm>
            <a:off x="1642320" y="3571920"/>
            <a:ext cx="1430280" cy="16984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6"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37"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38" name="9 Arco"/>
          <p:cNvSpPr/>
          <p:nvPr/>
        </p:nvSpPr>
        <p:spPr>
          <a:xfrm rot="11394600">
            <a:off x="1751040" y="324180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9" name="10 Arco"/>
          <p:cNvSpPr/>
          <p:nvPr/>
        </p:nvSpPr>
        <p:spPr>
          <a:xfrm rot="11394600">
            <a:off x="1904760" y="302220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0" name="12 Conector recto"/>
          <p:cNvSpPr/>
          <p:nvPr/>
        </p:nvSpPr>
        <p:spPr>
          <a:xfrm flipH="1">
            <a:off x="1643040" y="3571920"/>
            <a:ext cx="1440" cy="1714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1" name="15 CuadroTexto"/>
          <p:cNvSpPr/>
          <p:nvPr/>
        </p:nvSpPr>
        <p:spPr>
          <a:xfrm>
            <a:off x="4786200" y="2413080"/>
            <a:ext cx="4143600" cy="4692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el precio de la educación pero solo hasta Eo, luego el precio relativo retorna a su nivel original.</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 el consumo de Educación en regiones que antes gastaban poco</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a las regiones que antes gastaban mucho en educación, es como un aumento del ingres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42" name="22 Conector recto"/>
          <p:cNvSpPr/>
          <p:nvPr/>
        </p:nvSpPr>
        <p:spPr>
          <a:xfrm flipH="1" flipV="1">
            <a:off x="1071360" y="3428640"/>
            <a:ext cx="5713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3" name="13 Rectángulo"/>
          <p:cNvSpPr/>
          <p:nvPr/>
        </p:nvSpPr>
        <p:spPr>
          <a:xfrm>
            <a:off x="1354320" y="52862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o</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45" name=""/>
          <p:cNvSpPr txBox="1"/>
          <p:nvPr/>
        </p:nvSpPr>
        <p:spPr>
          <a:xfrm>
            <a:off x="343080" y="1357200"/>
            <a:ext cx="8229600" cy="47865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condicionada</a:t>
            </a:r>
            <a:r>
              <a:rPr b="0" lang="es-CL" sz="2600" spc="-1" strike="noStrike">
                <a:solidFill>
                  <a:srgbClr val="000000"/>
                </a:solidFill>
                <a:latin typeface="Constantia"/>
              </a:rPr>
              <a:t>: Entrega una cantidad de recursos X condicional a que se utilice en un bien o servicio determinado por 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diferencia con el Matching Grant es que el monto de los recursos no depende del nivel de gasto local.</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47"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48"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749"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50"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1"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2"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53"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54" name="10 Arco"/>
          <p:cNvSpPr/>
          <p:nvPr/>
        </p:nvSpPr>
        <p:spPr>
          <a:xfrm rot="11394600">
            <a:off x="2046240" y="289512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5" name="15 CuadroTexto"/>
          <p:cNvSpPr/>
          <p:nvPr/>
        </p:nvSpPr>
        <p:spPr>
          <a:xfrm>
            <a:off x="4929120" y="2143080"/>
            <a:ext cx="3929040" cy="514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 el consumo en educación pero no altera los precios relativo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ado que es condicionada no permite elegir el consumo a todo lo largo de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elegían un nivel de consumo “C” con la transferencia incondicional, estarán igual con la transferencia condicionada.</a:t>
            </a:r>
            <a:endParaRPr b="1" lang="en-US" sz="2000" spc="-1" strike="noStrike">
              <a:solidFill>
                <a:srgbClr val="000000"/>
              </a:solidFill>
              <a:latin typeface="Constantia"/>
            </a:endParaRPr>
          </a:p>
        </p:txBody>
      </p:sp>
      <p:sp>
        <p:nvSpPr>
          <p:cNvPr id="756"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13 Rectángulo"/>
          <p:cNvSpPr/>
          <p:nvPr/>
        </p:nvSpPr>
        <p:spPr>
          <a:xfrm>
            <a:off x="2165040" y="3805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758"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60"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61"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762"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63"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4"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5"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66"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67" name="10 Arco"/>
          <p:cNvSpPr/>
          <p:nvPr/>
        </p:nvSpPr>
        <p:spPr>
          <a:xfrm rot="11394600">
            <a:off x="1136520" y="183204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8" name="15 CuadroTexto"/>
          <p:cNvSpPr/>
          <p:nvPr/>
        </p:nvSpPr>
        <p:spPr>
          <a:xfrm>
            <a:off x="4929120" y="2143080"/>
            <a:ext cx="392904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hubieran elegido el nivel de consumo  “C’” con la transferencia incondicional, deberán encontrar un nuevo punto en la restricción existente.</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rán su gasto en educación.</a:t>
            </a:r>
            <a:endParaRPr b="1" lang="en-US" sz="2000" spc="-1" strike="noStrike">
              <a:solidFill>
                <a:srgbClr val="000000"/>
              </a:solidFill>
              <a:latin typeface="Constantia"/>
            </a:endParaRPr>
          </a:p>
        </p:txBody>
      </p:sp>
      <p:sp>
        <p:nvSpPr>
          <p:cNvPr id="769"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0" name="13 Rectángulo"/>
          <p:cNvSpPr/>
          <p:nvPr/>
        </p:nvSpPr>
        <p:spPr>
          <a:xfrm>
            <a:off x="1321920" y="27338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771"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3"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Responsabilidades de los municipios</a:t>
            </a:r>
            <a:endParaRPr b="0" lang="en-US" sz="3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ducación pública básica y med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los establecimientos de salud prim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gulación y planificación urbana en las áreas de construc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Fiscalización medio ambient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idado de parques y jardi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colección y tratamiento de res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subsidios (asistencia soc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5"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uentes de ingreso municipales</a:t>
            </a:r>
            <a:endParaRPr b="0" lang="en-US" sz="30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y tasas a nivel local</a:t>
            </a:r>
            <a:endParaRPr b="0" lang="en-US" sz="2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a bienes raíces (impuesto territorial)</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entes comerciale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sos de circulación</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4"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 sociedad abierta e ingeniería social gradual de Popper (1945):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oposición a regímenes autoritarios, democracias sólo pueden decidir de manera abierta, experimental y autocorrectiva. No existe el conocimiento absolu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7" name=""/>
          <p:cNvSpPr txBox="1"/>
          <p:nvPr/>
        </p:nvSpPr>
        <p:spPr>
          <a:xfrm>
            <a:off x="357120" y="1285920"/>
            <a:ext cx="850104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ondo Común Municipal</a:t>
            </a:r>
            <a:endParaRPr b="0" lang="en-US" sz="2800" spc="-1" strike="noStrike">
              <a:solidFill>
                <a:srgbClr val="000000"/>
              </a:solidFill>
              <a:latin typeface="Constantia"/>
            </a:endParaRPr>
          </a:p>
          <a:p>
            <a:pPr lvl="1" marL="851040" indent="-457200">
              <a:spcBef>
                <a:spcPts val="24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60% del impuesto territorial (65% 4 municipalidades mas ricas)</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62.5% permisos de circulación</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Aporte de patentes comerciales de las 4 municipalidades mas ricas </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tros (juzgado policía local, transferencias de vehículo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9" name=""/>
          <p:cNvSpPr txBox="1"/>
          <p:nvPr/>
        </p:nvSpPr>
        <p:spPr>
          <a:xfrm>
            <a:off x="357120" y="1285920"/>
            <a:ext cx="8329680" cy="1000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ondo Común Municipal</a:t>
            </a:r>
            <a:endParaRPr b="0" lang="en-US" sz="2600" spc="-1" strike="noStrike">
              <a:solidFill>
                <a:srgbClr val="000000"/>
              </a:solidFill>
              <a:latin typeface="Constantia"/>
            </a:endParaRPr>
          </a:p>
        </p:txBody>
      </p:sp>
      <p:pic>
        <p:nvPicPr>
          <p:cNvPr id="780" name="Picture 3" descr=""/>
          <p:cNvPicPr/>
          <p:nvPr/>
        </p:nvPicPr>
        <p:blipFill>
          <a:blip r:embed="rId1"/>
          <a:stretch/>
        </p:blipFill>
        <p:spPr>
          <a:xfrm>
            <a:off x="825480" y="2203560"/>
            <a:ext cx="7318440" cy="344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82"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asociadas a salud y educación. </a:t>
            </a:r>
            <a:endParaRPr b="0" lang="en-US" sz="2800" spc="-1" strike="noStrike">
              <a:solidFill>
                <a:srgbClr val="000000"/>
              </a:solidFill>
              <a:latin typeface="Constantia"/>
            </a:endParaRPr>
          </a:p>
          <a:p>
            <a:pPr lvl="1" marL="85104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y regional asociadas a proyectos específic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6" name="PlaceHolder 2"/>
          <p:cNvSpPr>
            <a:spLocks noGrp="1"/>
          </p:cNvSpPr>
          <p:nvPr>
            <p:ph/>
          </p:nvPr>
        </p:nvSpPr>
        <p:spPr>
          <a:xfrm>
            <a:off x="457200" y="1267920"/>
            <a:ext cx="8229600" cy="5256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l incrementalismo</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gobiernos democráticos se desenvuelven en un marco de conflictos, acuerdos y negociaciones, en los que cada cual reivindica su propio ( y legítimo ) interés.</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omo consecuencia, el proceso de decisiones debe fundarse en la interacción y ajuste de posiciones entre los agentes del proceso político</a:t>
            </a:r>
            <a:r>
              <a:rPr b="1" lang="es-ES" sz="2400" spc="-1" strike="noStrike">
                <a:solidFill>
                  <a:srgbClr val="000000"/>
                </a:solidFill>
                <a:latin typeface="Constantia"/>
              </a:rPr>
              <a:t>.</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modelo de decisión es de corte pragmático y se orienta a “salir del paso”…</a:t>
            </a:r>
            <a:endParaRPr b="0" lang="en-US" sz="24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Decisiones se toman en marco incremental y no a partir de un análisis racional.</a:t>
            </a:r>
            <a:endParaRPr b="0" lang="en-US" sz="20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a:t>
            </a:r>
            <a:r>
              <a:rPr b="0" lang="es-ES" sz="2000" spc="-1" strike="noStrike">
                <a:solidFill>
                  <a:srgbClr val="000000"/>
                </a:solidFill>
                <a:latin typeface="Constantia"/>
              </a:rPr>
              <a:t>Opciones de política están limitadas a aquellas que divergen sólo parcialmente de las vigent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18" name="PlaceHolder 2"/>
          <p:cNvSpPr>
            <a:spLocks noGrp="1"/>
          </p:cNvSpPr>
          <p:nvPr>
            <p:ph/>
          </p:nvPr>
        </p:nvSpPr>
        <p:spPr>
          <a:xfrm>
            <a:off x="457200" y="1557360"/>
            <a:ext cx="8229600" cy="476712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 modelo realista de la política pública debe estudiar los objetivos y comportamientos de los individuos que gobiernan.</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os y funcionarios no solo trabajan en búsqueda del bien común, estos también tienen intereses y preferencias personales.</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gentes públicos al igual que cualquier otro individuo son maximizadores de su propia utilidad.</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sonas maximizan el bienestar person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mpresas maximizan ganancia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líticos maximizan posibilidades de ser eleg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20"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regulador maneja agendas propias</a:t>
            </a:r>
            <a:endParaRPr b="0" lang="en-US" sz="22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ueldos del sector público (capacidad técnica)</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burócratas (expandir el presupuest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políticos (maximizar votos)</a:t>
            </a:r>
            <a:endParaRPr b="0" lang="en-US" sz="1900" spc="-1" strike="noStrike">
              <a:solidFill>
                <a:srgbClr val="000000"/>
              </a:solidFill>
              <a:latin typeface="Constantia"/>
            </a:endParaRPr>
          </a:p>
          <a:p>
            <a:pPr lvl="2" marL="87768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aptura del regulador</a:t>
            </a:r>
            <a:endParaRPr b="0" lang="en-US" sz="22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reguladores pueden defender intereses de grupos particulares</a:t>
            </a:r>
            <a:endParaRPr b="0" lang="en-US" sz="20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Grupos pequeños organizados logran beneficios a costa de toda la sociedad.</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olíticas Públicas son suplidas como respuesta a las demandas de grupos de interés que buscan maximizar sus beneficios</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erspectiva de trabajo futur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rrupción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22"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agente político/funcionarios solo maximizan el bienestar personal entonces, como explicamos las reformas que apuntan a maximizar el bienestar social.</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ómo explicar reformas económicas y políticas que disminuyen poder de los políticos y las autoridades públicas? </a:t>
            </a:r>
            <a:endParaRPr b="0" lang="en-US" sz="2600" spc="-1" strike="noStrike">
              <a:solidFill>
                <a:srgbClr val="000000"/>
              </a:solidFill>
              <a:latin typeface="Constantia"/>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l proceso de Toma de Decisiones</a:t>
            </a:r>
            <a:endParaRPr b="0" lang="en-US" sz="4600" spc="-1" strike="noStrike">
              <a:solidFill>
                <a:srgbClr val="04617b"/>
              </a:solidFill>
              <a:latin typeface="Calibri"/>
            </a:endParaRPr>
          </a:p>
        </p:txBody>
      </p:sp>
      <p:sp>
        <p:nvSpPr>
          <p:cNvPr id="624" name="3 Triángulo isósceles"/>
          <p:cNvSpPr/>
          <p:nvPr/>
        </p:nvSpPr>
        <p:spPr>
          <a:xfrm>
            <a:off x="2286000" y="2000160"/>
            <a:ext cx="3929040" cy="27860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5" name="4 CuadroTexto"/>
          <p:cNvSpPr/>
          <p:nvPr/>
        </p:nvSpPr>
        <p:spPr>
          <a:xfrm>
            <a:off x="3429000" y="1603440"/>
            <a:ext cx="157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os</a:t>
            </a:r>
            <a:endParaRPr b="1" lang="en-US" sz="1600" spc="-1" strike="noStrike">
              <a:solidFill>
                <a:srgbClr val="000000"/>
              </a:solidFill>
              <a:latin typeface="Constantia"/>
            </a:endParaRPr>
          </a:p>
        </p:txBody>
      </p:sp>
      <p:sp>
        <p:nvSpPr>
          <p:cNvPr id="626" name="5 CuadroTexto"/>
          <p:cNvSpPr/>
          <p:nvPr/>
        </p:nvSpPr>
        <p:spPr>
          <a:xfrm>
            <a:off x="6215040" y="478620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Funcionarios Públicos</a:t>
            </a:r>
            <a:endParaRPr b="1" lang="en-US" sz="1600" spc="-1" strike="noStrike">
              <a:solidFill>
                <a:srgbClr val="000000"/>
              </a:solidFill>
              <a:latin typeface="Constantia"/>
            </a:endParaRPr>
          </a:p>
        </p:txBody>
      </p:sp>
      <p:sp>
        <p:nvSpPr>
          <p:cNvPr id="627" name="6 CuadroTexto"/>
          <p:cNvSpPr/>
          <p:nvPr/>
        </p:nvSpPr>
        <p:spPr>
          <a:xfrm>
            <a:off x="1071720" y="4786200"/>
            <a:ext cx="157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Grupos de Interés</a:t>
            </a:r>
            <a:endParaRPr b="1" lang="en-US" sz="1600" spc="-1" strike="noStrike">
              <a:solidFill>
                <a:srgbClr val="000000"/>
              </a:solidFill>
              <a:latin typeface="Constantia"/>
            </a:endParaRPr>
          </a:p>
        </p:txBody>
      </p:sp>
      <p:sp>
        <p:nvSpPr>
          <p:cNvPr id="628" name="7 CuadroTexto"/>
          <p:cNvSpPr/>
          <p:nvPr/>
        </p:nvSpPr>
        <p:spPr>
          <a:xfrm>
            <a:off x="3500280" y="3071880"/>
            <a:ext cx="15717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s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úblicas</a:t>
            </a:r>
            <a:endParaRPr b="1" lang="en-US" sz="1600" spc="-1" strike="noStrike">
              <a:solidFill>
                <a:srgbClr val="000000"/>
              </a:solidFill>
              <a:latin typeface="Constantia"/>
            </a:endParaRPr>
          </a:p>
        </p:txBody>
      </p:sp>
      <p:sp>
        <p:nvSpPr>
          <p:cNvPr id="629" name="8 CuadroTexto"/>
          <p:cNvSpPr/>
          <p:nvPr/>
        </p:nvSpPr>
        <p:spPr>
          <a:xfrm>
            <a:off x="5643720" y="242892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Jueces</a:t>
            </a:r>
            <a:endParaRPr b="1" lang="en-US" sz="1600" spc="-1" strike="noStrike">
              <a:solidFill>
                <a:srgbClr val="000000"/>
              </a:solidFill>
              <a:latin typeface="Constantia"/>
            </a:endParaRPr>
          </a:p>
        </p:txBody>
      </p:sp>
      <p:sp>
        <p:nvSpPr>
          <p:cNvPr id="630" name="9 CuadroTexto"/>
          <p:cNvSpPr/>
          <p:nvPr/>
        </p:nvSpPr>
        <p:spPr>
          <a:xfrm>
            <a:off x="1285920" y="242892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pinión Pública</a:t>
            </a:r>
            <a:endParaRPr b="1" lang="en-US" sz="1600" spc="-1" strike="noStrike">
              <a:solidFill>
                <a:srgbClr val="000000"/>
              </a:solidFill>
              <a:latin typeface="Constantia"/>
            </a:endParaRPr>
          </a:p>
        </p:txBody>
      </p:sp>
      <p:sp>
        <p:nvSpPr>
          <p:cNvPr id="631" name="10 CuadroTexto"/>
          <p:cNvSpPr/>
          <p:nvPr/>
        </p:nvSpPr>
        <p:spPr>
          <a:xfrm>
            <a:off x="3714840" y="528624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xpertos</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9"/>
                                        </p:tgtEl>
                                        <p:attrNameLst>
                                          <p:attrName>style.visibility</p:attrName>
                                        </p:attrNameLst>
                                      </p:cBhvr>
                                      <p:to>
                                        <p:strVal val="visible"/>
                                      </p:to>
                                    </p:set>
                                    <p:animEffect filter="box(in)" transition="in">
                                      <p:cBhvr additive="repl">
                                        <p:cTn id="7" dur="500"/>
                                        <p:tgtEl>
                                          <p:spTgt spid="629"/>
                                        </p:tgtEl>
                                      </p:cBhvr>
                                    </p:animEffect>
                                  </p:childTnLst>
                                </p:cTn>
                              </p:par>
                              <p:par>
                                <p:cTn id="8" nodeType="withEffect" fill="hold" presetClass="entr" presetID="4" presetSubtype="16">
                                  <p:stCondLst>
                                    <p:cond delay="0"/>
                                  </p:stCondLst>
                                  <p:childTnLst>
                                    <p:set>
                                      <p:cBhvr>
                                        <p:cTn id="9" dur="1" fill="hold">
                                          <p:stCondLst>
                                            <p:cond delay="0"/>
                                          </p:stCondLst>
                                        </p:cTn>
                                        <p:tgtEl>
                                          <p:spTgt spid="630"/>
                                        </p:tgtEl>
                                        <p:attrNameLst>
                                          <p:attrName>style.visibility</p:attrName>
                                        </p:attrNameLst>
                                      </p:cBhvr>
                                      <p:to>
                                        <p:strVal val="visible"/>
                                      </p:to>
                                    </p:set>
                                    <p:animEffect filter="box(in)" transition="in">
                                      <p:cBhvr additive="repl">
                                        <p:cTn id="10" dur="500"/>
                                        <p:tgtEl>
                                          <p:spTgt spid="630"/>
                                        </p:tgtEl>
                                      </p:cBhvr>
                                    </p:animEffect>
                                  </p:childTnLst>
                                </p:cTn>
                              </p:par>
                              <p:par>
                                <p:cTn id="11" nodeType="withEffect" fill="hold" presetClass="entr" presetID="4" presetSubtype="16">
                                  <p:stCondLst>
                                    <p:cond delay="0"/>
                                  </p:stCondLst>
                                  <p:childTnLst>
                                    <p:set>
                                      <p:cBhvr>
                                        <p:cTn id="12" dur="1" fill="hold">
                                          <p:stCondLst>
                                            <p:cond delay="0"/>
                                          </p:stCondLst>
                                        </p:cTn>
                                        <p:tgtEl>
                                          <p:spTgt spid="631"/>
                                        </p:tgtEl>
                                        <p:attrNameLst>
                                          <p:attrName>style.visibility</p:attrName>
                                        </p:attrNameLst>
                                      </p:cBhvr>
                                      <p:to>
                                        <p:strVal val="visible"/>
                                      </p:to>
                                    </p:set>
                                    <p:animEffect filter="box(in)" transition="in">
                                      <p:cBhvr additive="repl">
                                        <p:cTn id="13"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c</cp:lastModifiedBy>
  <dcterms:modified xsi:type="dcterms:W3CDTF">2010-06-14T21:06:17Z</dcterms:modified>
  <cp:revision>209</cp:revision>
  <dc:subject/>
  <dc:title>Economía del Sector Público</dc:title>
</cp:coreProperties>
</file>