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7E7-E227-4BFA-9792-EEE097A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8FD-B50B-4973-BCD6-2A9E3689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607-C513-45CB-B47F-0679F304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4D5-4F1E-4FDF-B72D-540A6F67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A2C-C2B3-462C-B6FE-8BAA5CF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33F-FB58-45CB-8BE4-12D25F3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9F9-E198-40D2-8E86-419450D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50F-3DAC-4348-8827-64BF5DB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588-8072-4FF4-AA6C-C31E2F0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A4C-48BE-4BBE-B341-6B2DA63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4AD-B785-47F8-9EFD-38613DE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B02-4291-43B6-A331-55589E6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284-BF92-4316-80EF-71218CEFE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Ex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olun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quivale a una prueba pa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ienes lo entreguen tendrán una nota extra de igual valor a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mio a la a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o aquellos que cumplan con una asistencia igual o mayor al 55% pueden partici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 el último día de clases (en la cl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aquina, Arial 11, espacio y medio.  Impresión en ambas c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2000 palabras + Gráficos y Bibl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ox 7 pág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análisis desde lo aprendido en el curso del programa “Levantemos Chile” presentado en el discurso del 21 de mayo.  Deberá contener al me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el programa de gasto con especial énfasis en las fallas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ciones desde la equidad serán menos valo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egir y analizar uno de los 4 impuestos propuestos con especial énfasis en los criterios de equ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cer recomend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riterio de calificación es de 1 a 7, igual nivel de exigencia que en las prue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mala nota no podrá ser bo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considerará en la cal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bliografía uti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ste de opin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o en 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 Levantemos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idios para la construcción de viviendas nuev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ción de viviendas durante este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ga de más de 600 mil soluciones definitivas durante los próximos 4 añ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ir o reparar escuelas y liceos municipales, salas cunas y jardines infant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ner el equipamiento escolar dañ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u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antar o reparar hospitales, consultorios y po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lación de 16 hospitales modu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sicionamiento del equipo médico destrui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estructur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ción o reparación de caminos, puentes, puertos, aeropuertos, tribunales, comisarías, caletas de pescadores, colectores de aguas lluvias y servidas, sistemas de agua potable y edificios públic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rar la infraestructura dañada de nuestras Fuerzas Armad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e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transitorio en el impuesto de primera categoría a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bretasa transitoria a las contribuciones del 5% de las propiedades de mayor val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al royalty a las grandes empresas mine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mento permanente el impuesto a los taba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e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o moderado y responsable de ahorros externos y endeudamient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signaciones del Fondo de la Ley Reservada del Co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tas de activos prescind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minución de la evasión tributar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ley de Don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5:04Z</dcterms:created>
  <dc:creator>atomaselli</dc:creator>
  <dc:description/>
  <dc:language>en-US</dc:language>
  <cp:lastModifiedBy>atomaselli</cp:lastModifiedBy>
  <dcterms:modified xsi:type="dcterms:W3CDTF">2010-05-31T15:44:59Z</dcterms:modified>
  <cp:revision>5</cp:revision>
  <dc:subject/>
  <dc:title>Trabajo Extra</dc:title>
</cp:coreProperties>
</file>