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6CF-1F5C-47D9-A20D-FF7F7674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BCC-D8E7-4FF7-8063-462D9EAE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D07-27D2-40B9-B5FB-76126EE0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727-1671-433A-8411-A805528D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1E6-A1E7-4AF2-8B87-1D7AA42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62D-71A6-4862-AFB0-C133E4F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47B-EEB2-4C87-B07A-90116A7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B23-A355-47FB-ADD5-002A5E78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026-699E-4F4C-8289-7B945FB7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391-4134-472F-B259-7CAC843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68B-4003-4A86-8CE4-33A11B3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9BC-822B-4A73-BF58-89CB1A08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FB1-8FB1-4EA8-B0A5-304B702BF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Ex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olunt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quivale a una prueba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ienes lo entreguen tendrán una nota extra de igual valor a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mio a la a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o aquellos que cumplan con una asistencia igual o mayor al 55% pued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 el último día de clases (en la cl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aquina, Arial 11, espacio y medio.  Impresión en ambas c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2000 palabras + Gráficos y 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ox 7 pág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análisis desde lo aprendido en el curso del programa “Levantemos Chile” presentado en el discurso del 21 de mayo.  Deberá contener al me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el programa de gasto con especial énfasis en las fallas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ciones desde la equidad serán menos val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egir y analizar uno de los 4 impuestos propuestos con especial énfasis en los criterios de equ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recomend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riterio de calificación es de 1 a 7, igual nivel de exigencia que en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mala nota no podrá ser bo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rá en la ca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bliografía uti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ste de opin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o en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evantemos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ien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idios para la construcción de viviendas nue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ción de viviendas durante este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ga de más de 600 mil soluciones definitivas durante los próximos 4 añ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ir o reparar escuelas y liceos municipales, salas cunas y jardines infan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ner el equipamiento escolar dañ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u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antar o reparar hospitales, consultorios y po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ación de 16 hospitales mod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sicionamiento del equipo médico destru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estructur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ción o reparación de caminos, puentes, puertos, aeropuertos, tribunales, comisarías, caletas de pescadores, colectores de aguas lluvias y servidas, sistemas de agua potable y edificios púb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r la infraestructura dañada de nuestras Fuerzas Armad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e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transitorio en el impuesto de primera categoría a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bretasa transitoria a las contribuciones del 5% de las propiedades de mayor val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al royalty a las grandes empresas mine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permanente el impuesto a los taba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e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o moderado y responsable de ahorros externos y endeudamient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signaciones del Fondo de la Ley Reservada del C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s de activos prescind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minución de la evasión tributar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ley de Don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05:04Z</dcterms:created>
  <dc:creator>atomaselli</dc:creator>
  <dc:description/>
  <dc:language>en-US</dc:language>
  <cp:lastModifiedBy>atomaselli</cp:lastModifiedBy>
  <dcterms:modified xsi:type="dcterms:W3CDTF">2010-05-31T15:44:59Z</dcterms:modified>
  <cp:revision>5</cp:revision>
  <dc:subject/>
  <dc:title>Trabajo Extra</dc:title>
</cp:coreProperties>
</file>