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17F-59E5-4EA4-8E21-3646025D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73A-C611-4A5E-BC88-2F2F079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72A-2F14-463B-905C-C1114120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598-7DE4-421C-88B5-8BB93139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9C8-0CEB-45BC-A5A4-8909E1C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E86-E0BC-409E-9E67-3687E16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40A-B8CD-4734-B9B6-25EE7D0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F8D-1DC3-42C9-B09F-065BCD2B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799-8989-4D7C-BA8A-FAC733E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2D5-755C-4E17-A862-DAFE6F3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D3E-D88B-4428-A6DC-BA88EFD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F39-36DC-4C1C-9282-13B4C0E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ECA-9CBA-440C-8FE2-58C35276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x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olun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quivale a una prueba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ienes lo entreguen tendrán una nota extra de igual valor a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mio a la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o aquellos que cumplan con una asistencia igual o mayor al 55% pued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 el último día de clases (en la cl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quina, Arial 11, espacio y medio.  Impresión en ambas c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2000 palabras + Gráficos y 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ox 7 pág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análisis desde lo aprendido en el curso del programa “Levantemos Chile” presentado en el discurso del 21 de mayo.  Deberá contener al me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el programa de gasto con especial énfasis en las falla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ciones desde la equidad serán menos val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egir y analizar uno de los 4 impuestos propuestos con especial énfasis en los criterios de equ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recomend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riterio de calificación es de 1 a 7, igual nivel de exigencia que en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mala nota no podrá ser bo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rá en la ca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bliografía uti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ste de opi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o en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evantemos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idios para la construcción de viviendas nue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ción de viviendas durante este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ga de más de 600 mil soluciones definitivas durante los próximos 4 añ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ir o reparar escuelas y liceos municipales, salas cunas y jardines inf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ner el equipamiento escolar dañ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u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antar o reparar hospitales, consultorios y po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ación de 16 hospitales mod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sicionamiento del equipo médico destru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estructur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ción o reparación de caminos, puentes, puertos, aeropuertos, tribunales, comisarías, caletas de pescadores, colectores de aguas lluvias y servidas, sistemas de agua potable y edificios púb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r la infraestructura dañada de nuestras Fuerzas Arma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e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transitorio en el impuesto de primera categoría a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bretasa transitoria a las contribuciones del 5% de las propiedades de mayor val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al royalty a las grandes empresas min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permanente el impuesto a los taba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e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o moderado y responsable de ahorros externos y endeudamient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signaciones del Fondo de la Ley Reservada del C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s de activos prescind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minución de la evasión tributar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ley de Don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5:04Z</dcterms:created>
  <dc:creator>atomaselli</dc:creator>
  <dc:description/>
  <dc:language>en-US</dc:language>
  <cp:lastModifiedBy>atomaselli</cp:lastModifiedBy>
  <dcterms:modified xsi:type="dcterms:W3CDTF">2010-05-31T15:44:59Z</dcterms:modified>
  <cp:revision>5</cp:revision>
  <dc:subject/>
  <dc:title>Trabajo Extra</dc:title>
</cp:coreProperties>
</file>