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D3ED-4EF9-48D7-8CF5-5F9D11EB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A7A6-F967-47EE-B2D4-A5B513DD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3BA0-A16F-4F3E-AE7C-7B963E3A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D357-B8EC-43EA-BF86-7B6F60A7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55F0-74DC-4BB2-A970-DB6C33A7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1FB9-0C31-402A-9D6E-188D6EF3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8D1-9803-44E5-BCC5-2DEC41F2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C381-B79F-4659-973A-A366FDD3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8E46-5C01-4138-A3EE-6EF9AEBC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907B-E809-47E7-8B53-3244C995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8B05-2418-4967-A6CB-68495B7D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B258-52D0-4C9D-B55A-08F13081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15AF-2D42-4F1E-B49C-84B225C66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rabajo Ex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olunt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quivale a una prueba par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Quienes lo entreguen tendrán una nota extra de igual valor a las prue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mio a la asis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olo aquellos que cumplan con una asistencia igual o mayor al 55% pueden partici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trega el último día de clases (en la cl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maquina, Arial 11, espacio y medio.  Impresión en ambas cari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áximo 2000 palabras + Gráficos y Bibliograf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prox 7 pág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un análisis desde lo aprendido en el curso del programa “Levantemos Chile” presentado en el discurso del 21 de mayo.  Deberá contener al me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ustificar el programa de gasto con especial énfasis en las fallas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ustificaciones desde la equidad serán menos valo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egir y analizar uno de los 4 impuestos propuestos con especial énfasis en los criterios de equidad y efici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acer recomendaciones de po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criterio de calificación es de 1 a 7, igual nivel de exigencia que en las prue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a mala nota no podrá ser bor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considerará en la cal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ibliografía utiliz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aste de opin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oyo en grá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5075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a Levantemos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viend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sidios para la construcción de viviendas nuev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aración de viviendas durante este añ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ega de más de 600 mil soluciones definitivas durante los próximos 4 añ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nstruir o reparar escuelas y liceos municipales, salas cunas y jardines infant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oner el equipamiento escolar dañ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u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antar o reparar hospitales, consultorios y pos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alación de 16 hospitales modu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osicionamiento del equipo médico destrui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estructura 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nstrucción o reparación de caminos, puentes, puertos, aeropuertos, tribunales, comisarías, caletas de pescadores, colectores de aguas lluvias y servidas, sistemas de agua potable y edificios públic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arar la infraestructura dañada de nuestras Fuerzas Armad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ue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remento transitorio en el impuesto de primera categoría a las empre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bretasa transitoria a las contribuciones del 5% de las propiedades de mayor valo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remento al royalty a las grandes empresas mine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remento permanente el impuesto a los tabac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er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o moderado y responsable de ahorros externos y endeudamiento públ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signaciones del Fondo de la Ley Reservada del Cob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ntas de activos prescindi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minución de la evasión tributari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yecto de ley de Don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20:05:04Z</dcterms:created>
  <dc:creator>atomaselli</dc:creator>
  <dc:description/>
  <dc:language>en-US</dc:language>
  <cp:lastModifiedBy>atomaselli</cp:lastModifiedBy>
  <dcterms:modified xsi:type="dcterms:W3CDTF">2010-05-31T15:44:59Z</dcterms:modified>
  <cp:revision>5</cp:revision>
  <dc:subject/>
  <dc:title>Trabajo Extra</dc:title>
</cp:coreProperties>
</file>