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B62E-1055-4B24-B86B-CA433BDE3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E1CA-DBC0-4FDC-B191-F39EB9B99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3D37-4E20-4DB6-9141-EF9C37502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52D2-4A37-4CFE-B340-26C9E2797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4DA9-F39B-43D0-BF4B-99A25755B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D2B3-E5F6-40A4-9668-212600685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6B8B-8FF3-4721-B9FA-7FEEB2E40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71D7-16C5-4263-BE8E-14CC96528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FEE8-9962-4978-BB76-A2FC382F1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B307-8E9E-4DC9-A550-B90403D6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AC26-1665-43B3-AB1B-76B3DBED3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800C-20F5-4534-B40A-CD58FED1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60DD4-15B4-404B-880F-5DADFEC461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rabajo Ext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Voluntari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quivale a una prueba par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Quienes lo entreguen tendrán una nota extra de igual valor a las prueb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emio a la asist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olo aquellos que cumplan con una asistencia igual o mayor al 55% pueden particip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ntrega el último día de clases (en la cla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 maquina, Arial 11, espacio y medio.  Impresión en ambas caril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áximo 2000 palabras + Gráficos y Bibliograf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prox 7 pági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 un análisis desde lo aprendido en el curso del programa “Levantemos Chile” presentado en el discurso del 21 de mayo.  Deberá contener al men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Justificar el programa de gasto con especial énfasis en las fallas de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Justificaciones desde la equidad serán menos valor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legir y analizar uno de los 4 impuestos propuestos con especial énfasis en los criterios de equidad y eficien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Hacer recomendaciones de polí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criterio de calificación es de 1 a 7, igual nivel de exigencia que en las prueb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Una mala nota no podrá ser borr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considerará en la calif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Bibliografía utiliz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traste de opin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poyo en gráf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50752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a Levantemos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as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vienda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bsidios para la construcción de viviendas nueva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paración de viviendas durante este añ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rega de más de 600 mil soluciones definitivas durante los próximos 4 año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u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onstruir o reparar escuelas y liceos municipales, salas cunas y jardines infanti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poner el equipamiento escolar dañad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ud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antar o reparar hospitales, consultorios y post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talación de 16 hospitales modu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posicionamiento del equipo médico destruid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raestructura públ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onstrucción o reparación de caminos, puentes, puertos, aeropuertos, tribunales, comisarías, caletas de pescadores, colectores de aguas lluvias y servidas, sistemas de agua potable y edificios público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parar la infraestructura dañada de nuestras Fuerzas Armada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uest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remento transitorio en el impuesto de primera categoría a las empres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bretasa transitoria a las contribuciones del 5% de las propiedades de mayor valo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remento al royalty a las grandes empresas miner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remento permanente el impuesto a los tabac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er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o moderado y responsable de ahorros externos y endeudamiento públ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signaciones del Fondo de la Ley Reservada del Cob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entas de activos prescindib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minución de la evasión tributari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yecto de ley de Dona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6T20:05:04Z</dcterms:created>
  <dc:creator>atomaselli</dc:creator>
  <dc:description/>
  <dc:language>en-US</dc:language>
  <cp:lastModifiedBy>atomaselli</cp:lastModifiedBy>
  <dcterms:modified xsi:type="dcterms:W3CDTF">2010-05-31T15:44:59Z</dcterms:modified>
  <cp:revision>5</cp:revision>
  <dc:subject/>
  <dc:title>Trabajo Extra</dc:title>
</cp:coreProperties>
</file>