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348-8DBE-4E7E-83D3-63AB7AD7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626-1ACA-4249-82B4-F2B9E7A4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9A755-5663-4A4E-95F8-78923B01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C14E2-3D41-4205-A319-0C0F29B7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CB2C8-2C60-4A72-B272-36F0381A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1CE8A-0C62-442F-887B-A5C2F42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983DC-6BCD-4D2F-8A04-34245599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3B814-7BE5-4DF0-9DC0-B76C8BC8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06DB0-C1FC-4B5E-B8BE-4A5631A7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A5879-BCF2-424E-83F8-C45D614F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DEC27-4A1E-4CB0-88EC-070CEE53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73820-7111-45A4-8344-8ADA9547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B9B-50AA-41D5-AF4B-DA8CBD68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A670F-D7F8-486F-BCB8-243A5A88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91340-3F54-4813-BAB5-67FC3072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7364A-6D99-421B-A141-F3568659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3B7D9-AE9F-4321-ADE3-3BB2C499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5EE91-71EE-4D7A-9712-0EA0A58B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12382-4851-4E90-923F-37EDF372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F8626-B48D-4189-9A2D-E45B77C2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59ECC-A5F8-41CD-A05D-A03FD849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5E8A5-DE07-4220-8C5A-F3FBC6A7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B4E9F-CA1F-4699-82A9-DCB03098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2E9-DCB8-47BA-89FA-144D3A71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3D7D9-F0C7-4E61-9E9B-D3486EA1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94753-17D7-4FA1-B1C4-7D03072F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BF342-9716-4DE6-8E09-CDA17879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6E6F4-8552-4A01-8163-103D7993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CC5D0-8C78-4DA4-8713-8CE58279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C9399-BBE1-4673-89AF-1BC68656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FA6EE-FBEC-4F44-B96B-142E75FD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92B61-0B08-417B-BD1B-5846DEBB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82D5F-27B9-40B8-A374-130AB26A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5F49C-8BA5-46DF-A7E0-15F24420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3B15-AE00-40E4-816E-BD0F899B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B6223-A36F-4081-B4B4-C122E999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DB60C-27BA-4873-B056-333B289B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4A459-052C-4CCB-89CC-F246C020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880F-9592-444C-A938-C4E4B991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FA38-2C3D-49F8-A8E5-62D7C252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963B-628B-4BDF-8602-56D6B7C6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B1E6-5E41-402C-9ECF-946BD2A9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3CB8-9960-4E97-B517-EE1DB4C0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203F-E3A8-42BE-B516-78E76D22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FE4-F1F1-4E2E-8C1C-455FBAD1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0982-DC7C-490C-ADC6-9B6E2349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533B-BADA-49D7-8760-C03A56E9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32CF-6B0F-4885-A407-67FDB870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A12E-280E-4D5D-9B29-4FF3A815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DCB2-7C18-4F71-A7C7-2E4E8834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547F-D2D1-48ED-A871-B37C42B4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71F7-49A6-4009-AFB9-8B42BB0D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948E-7200-47D9-8382-D75F26B0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5FC46-6163-4E0D-A3D6-26AEF803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92C4-9BEB-4FC4-BA78-89FD983D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305-D116-4865-BF2D-5198701F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C224-D93C-444D-B51D-8D35675B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D86B-AB1C-4222-94C5-7AF72B2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2453-F640-4FC3-80A1-41D2A533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66DA-868B-4AA7-8107-DD9662D1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50BCA-FFFF-47D9-A403-E0134D33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5B8D-06A3-436E-9A63-0B43AEF2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A467-0575-4122-B8E4-7EB22C29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0F2DE-B4C3-41AC-88A6-82E089AF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88A58-87B9-4953-9F0C-93FDE30A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5A13-5620-4631-A401-2B80A2C6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485-340A-43BD-AC1B-FB0058B6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6885C-B62A-445D-8023-01093B55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DB354-DA2D-4BE4-A5C3-67D79C9D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EFE5F-3E6B-4BC2-8C34-18464CB8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55960-413C-4B1F-BA09-73DBBAF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F35F-E0D4-4578-BF27-D83335E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8C2B-2527-4BC0-90C2-2F06CFBE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45E77-73C5-49A1-9CD6-865C77E6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23221-8CDF-4234-90D8-FFE520F3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84EAE-31EE-42C6-9327-C5364767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97559-2122-446E-B174-6FAC627D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8FE-DD5F-4949-B23A-146508E4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58ADB-CAD2-45D2-AB7C-82CCC8DF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14FE-B270-43C9-BD3D-CE892699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B1BE7-EDB2-4732-B847-B6291C2A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5502B-643C-4CEC-A661-748FF492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19062-467D-4202-9135-1D1FEE1F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1C481-E584-4245-9F5B-68FB4CE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B5EA3-B22C-4105-AC39-DD35785C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03CB-F782-4634-A033-98FD198D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3BA3E-2B33-4F2B-AC25-C0E5D095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43E46-56E3-427D-8A59-99CDA3AE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ACF-895F-4B13-BEBB-C08E28BE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4D90-0C41-4A7F-92EF-50E27EA1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E8E82-E1C7-4493-861F-B27856E3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C46F9-3409-4051-83EA-B50B5947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A21FB-127A-4843-839F-4E17063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D23BD-BF43-4811-B0A3-AEB6D27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67AF-6129-45EF-BD51-6D18BB7F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84A61-4AEF-496A-8DA7-20013A88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8DCD3-55B4-4C43-8A8C-D8998689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D75FD-6D83-4B47-A37A-0F9560FA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F72A3-8AB0-4E90-9EFF-C166BF02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1A2-448C-4744-B922-C821B4E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C58E-F91E-496C-AB3F-2282CFD9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56B94-A717-4100-AE36-98169A16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FE9D9-94FE-4211-91A9-6AA75C0A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024DA-F49D-4224-94CB-988A80D6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D9116-B93E-4AFE-827B-4E915639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A7951-3CE1-4FB2-9FFF-558ED9D9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E563E-D253-41C3-92C7-2E61DF35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7A0F6-2823-48AC-92A2-2692FACF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99C11-BA95-42D6-97C7-B6662027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10930-251E-4B9B-BE37-3D1F92A3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C9A-AD81-4DAC-9017-4C02F9D6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3FC0B-4FE5-410E-AEC3-DA589A1B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214AF-331D-44A6-9081-E33C8CA7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0C447-ABB5-44C3-8AD0-6DEAE23D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AA965-E6DC-4C88-898F-1DFE2E33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B8203-618F-4AC3-877C-C6526B7E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FC12F-62DD-4E52-A4C1-E0E404B9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40AC4-6903-4A1A-BC5D-BF0DE7E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6735C-325C-49DD-BB7D-CB51D3B1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1ED14-99FC-453D-BE47-1C301526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0665E-FB12-47DD-B689-6227748D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223-E12B-407C-AEB8-D8E4FACD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A0BF2-1112-4D39-9442-5335D4D5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E1071-364A-4492-B7D7-43BC7B0D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175FE-55BE-4F0F-BBFF-2F4781D3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200CD-5DF4-4004-A7BA-84EA7AC8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B2B3C-5566-4C54-BF3F-BBF97681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86C0C-5738-4613-A391-BE7FB8F3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27878-EAA3-41D3-84A6-37EDF364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69F76-8385-4508-9A16-C85D1F04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BC736-2077-4961-8BB4-B239E3C7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3B3B9-1C78-470A-92ED-D0F70E2E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DEA7-7704-4941-98A4-F24B819B2C3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E442-B2BD-4EDC-8E4E-20037FF0AD9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8DE1-C6D2-4813-9247-4FC14E175813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8A1F-EFD1-4769-BE38-55D87FF41255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15E2-A8DA-4AC7-AEA7-59DF72E03E48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49A7-A9C0-4916-9F13-38B086BF4997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0FB0-585F-49AA-A3A4-93818665B64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2DB0-1E57-4078-B6D4-46A54BD5AAC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82FC-7873-447F-A862-B9B5F2738D68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007E-AE36-47A1-9D10-9D2F9E37E4C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1516-AE88-48F5-81CB-392332C805B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rincipios de un sistema tributario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mplic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lexi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1. Su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ben recaudar los ingresos necesarios para financiar el gasto públic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a estructura tributaria insuficiente puede provocar déficits fiscales trayendo como consecuencia una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aída de la inversión e incremento de la infla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Dos modelo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Defino la necesidad de gasto y luego calculo los impuestos que se deben cobrar para financiarl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alizo una proyección de ingresos anuales y ajusto el presupuesto de gastos a esa estimac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onstantia"/>
              </a:rPr>
              <a:t>Regla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: Las reformas tributarias deben emprenderse para alcanzar objetivos de recaudación de largo plaz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ambios frecuentes a la estructura tributaria aumentan los costos de administración y cumplimiento, y crean incertidumbre, afectando las decisiones de invers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ómo aumentar la recaudació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Subir tas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mpliar bases imponib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rear nuevos impuest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ducir evas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2. E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3640" y="1254240"/>
            <a:ext cx="8569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tienen efecto sobre el comportamiento de los ag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an los precios relativos alterando la asignación de recursos.   Las personas sustituyen actividades o productos gravados por otras exentas o menos grava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iempre es malo (impuestos Piguvian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nque en general el cambio de comportamiento no es deseable, al alejarnos de los equilibrios de mercado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lteraciones en la eficiencia económica son conocidas como “Exceso de Gravame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no distorsionador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distorsión generada por los impuestos surge del hecho de que los agentes cambian su comportamiento (alterando las cantidades de equilibrio de merc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impuesto no distorsionador es aquel en el cual las personas no pueden hacer nada para cambiar el monto de impuesto a pag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único impuesto que tiene estas características es el de “Suma Alzada” o “Flat Tax”.  Estos impuestos cobran un monto fijo independientemente de las person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por cabez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que dependen de características de las personas que no pueden ser alterad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problema de los impuestos de Suma Alzada radica en la equida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correctivo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impuestos pueden ser utilizados para corregir fallas de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la asignación del mercado no es la eficiente el impuesto puede generar una asignación eficien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duce la producción/consumo de bienes y servicios con externalidades nega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Impuesto a los cigarrillo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0" algn="just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oneraciones impositivas pueden fomentar el consumo de bienes y servicios con externalidades posi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Deducciones de impuestos a empresas que contratan entrenamiento para el personal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distorsiones más frecuent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uelen alterar las decision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horro versus consu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Trabajo versus oc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Elección en el consumo de bie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Bloqueo de decisiones para realizar ganancias de capit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vasión también incide sobre eficiencia económ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3. Simplic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procurar que la determinación de los impuestos sea lo más simple posibl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simples suelen tener menores cost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a la autoridad (Sii): más fácil administración / fiscaliz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para los contribuyentes: menores costos en contabilidad, auditoría y cálculo del impuesto a pa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que manejan distintas tasas según ingreso o tipo de bien o que establecen exenciones suelen ser más comple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4. Flexibil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deben adaptarse a las circunstancias económ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ejemplo: un impuesto progresivo sobre la renta de las personas debería ajustarse (automáticamente) a la baja durante recesiones o al alza en época de crecimie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5. Transpar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mo contribuyentes tenemos derecho a saber quién está pagando y cuánto; y quién no está pagando lo que debiese y por qué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economistas fiscales recomiendan que el presupuesto público incluya los “gastos tributarios”: cuánto le cuestan al fisco las exoneracio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Gasto Tributario: las exenciones tributarias tienen un costo fiscal equivalente a la menor recaudación tributaria que gener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beneficiarios de exoneraciones siempre argumentan que ellas tienen beneficios sociales, pero rara vez se estima cuánto cues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onstantia"/>
              </a:rPr>
              <a:t>Fuente: Martinez 2009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Gasto tributario en Chi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1192320" y="1676520"/>
            <a:ext cx="6761160" cy="35049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1600" y="5962680"/>
            <a:ext cx="46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Estado de la Hacienda Pública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Maneras de Financiar al Est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ibutari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gresos Operac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osiciones Previs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on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tilidades Empresas Estatales (Cob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enta de ac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deud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misión Inorgá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7921440" cy="62672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113400" y="6524640"/>
            <a:ext cx="51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Tokman, Rodriguez y Marshall(2006)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6. Equidad Imposi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quidad de un sistema tributario puede medirse bajo dos principi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l beneficio: aporto en relación a lo que recibo. Con ello se busca acercar la distribución pública a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 capacidad de pag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horizontal: Cobro lo mismo a igu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vertical: cobro más a quienes más tien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intergenerac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Horizont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dividuos iguales “en aspectos relevantes” debiesen ser tratados de la misma manera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Qué son los aspectos relevantes? Cómo los defino, mido y trato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: Dos personas con exactas habilidades y con idénticos ingresos, pero el uno prefiere ahorrar para consumir luego y el otro consumir ahora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Debemos cobrar más al primero (su ahorro genera renta) luego puede consumir más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Sí, porque gana má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No, estamos castigando un comportamiento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complica cuando analizamos todo el ciclo de vida de una perso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ndividuo que hace su riqueza en pocos años vs individuo que lo hace en varios añ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Verti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quellos que pueden pagar más debiesen contribuir má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ómo determino la capacidad de pag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ingres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habilidad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2"/>
          <a:stretch/>
        </p:blipFill>
        <p:spPr>
          <a:xfrm rot="1276200">
            <a:off x="1979640" y="1379520"/>
            <a:ext cx="4148280" cy="50738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impuesto a los cigarrill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person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empres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mbos lo paga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Legal de los Impuestos: indica quien paga según ley (quien entrega los recurs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Económica de los Impuestos: quien realmente termina pagan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ley no define quien efectivamente paga los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pende de las elasticidades de las curvas de oferta y demand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2"/>
          <a:stretch/>
        </p:blipFill>
        <p:spPr>
          <a:xfrm>
            <a:off x="506520" y="657360"/>
            <a:ext cx="8132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3960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impuesto genera dos prec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paga el consumid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recibe el product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brecha entre ambos precios es el impues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1, impuesto a la produc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Line 5"/>
          <p:cNvSpPr/>
          <p:nvPr/>
        </p:nvSpPr>
        <p:spPr>
          <a:xfrm flipV="1">
            <a:off x="1143000" y="169992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203640" y="14367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Rectangle 27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2, impuesto al consum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Equivalencia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Rectangle 22"/>
          <p:cNvSpPr/>
          <p:nvPr/>
        </p:nvSpPr>
        <p:spPr>
          <a:xfrm>
            <a:off x="252360" y="5157720"/>
            <a:ext cx="8712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irrelevante a quien la ley asigne el impuesto, la distribución de la carga tributaria depende de las elasticidades de oferta y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Line 3"/>
          <p:cNvSpPr/>
          <p:nvPr/>
        </p:nvSpPr>
        <p:spPr>
          <a:xfrm flipV="1">
            <a:off x="4743360" y="153684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474336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Line 5"/>
          <p:cNvSpPr/>
          <p:nvPr/>
        </p:nvSpPr>
        <p:spPr>
          <a:xfrm flipV="1">
            <a:off x="474336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4743360" y="2227320"/>
            <a:ext cx="276408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5942160" y="320976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Line 8"/>
          <p:cNvSpPr/>
          <p:nvPr/>
        </p:nvSpPr>
        <p:spPr>
          <a:xfrm flipH="1">
            <a:off x="4743360" y="320976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428472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741528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676908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7048440" y="39006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557388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428472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6875640" y="148428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Line 7"/>
          <p:cNvSpPr/>
          <p:nvPr/>
        </p:nvSpPr>
        <p:spPr>
          <a:xfrm>
            <a:off x="5649840" y="2924280"/>
            <a:ext cx="180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Line 8"/>
          <p:cNvSpPr/>
          <p:nvPr/>
        </p:nvSpPr>
        <p:spPr>
          <a:xfrm flipH="1">
            <a:off x="4741560" y="3500280"/>
            <a:ext cx="909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Line 8"/>
          <p:cNvSpPr/>
          <p:nvPr/>
        </p:nvSpPr>
        <p:spPr>
          <a:xfrm flipH="1">
            <a:off x="473544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Text Box 14"/>
          <p:cNvSpPr/>
          <p:nvPr/>
        </p:nvSpPr>
        <p:spPr>
          <a:xfrm>
            <a:off x="4307040" y="33796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4307040" y="27082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529272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4737240" y="1723680"/>
            <a:ext cx="221112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Line 46"/>
          <p:cNvSpPr/>
          <p:nvPr/>
        </p:nvSpPr>
        <p:spPr>
          <a:xfrm>
            <a:off x="2050920" y="2924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Line 47"/>
          <p:cNvSpPr/>
          <p:nvPr/>
        </p:nvSpPr>
        <p:spPr>
          <a:xfrm>
            <a:off x="2050920" y="3500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Line 48"/>
          <p:cNvSpPr/>
          <p:nvPr/>
        </p:nvSpPr>
        <p:spPr>
          <a:xfrm>
            <a:off x="2338560" y="3213000"/>
            <a:ext cx="2449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 - Tribu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Incidencia Económica de un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ado del mercado que sea más inelástico paga una mayor proporción de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cord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demanda:  cantidad de sustitutos; importancia en el presupuesto familiar; suntuario o de primera necesidad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oferta: costo y factibilidad de almacenamiento; flexibilidad del proceso productivo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consumid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Line 3"/>
          <p:cNvSpPr/>
          <p:nvPr/>
        </p:nvSpPr>
        <p:spPr>
          <a:xfrm flipV="1">
            <a:off x="114300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Line 4"/>
          <p:cNvSpPr/>
          <p:nvPr/>
        </p:nvSpPr>
        <p:spPr>
          <a:xfrm>
            <a:off x="11430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Line 6"/>
          <p:cNvSpPr/>
          <p:nvPr/>
        </p:nvSpPr>
        <p:spPr>
          <a:xfrm>
            <a:off x="1143000" y="249084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Line 7"/>
          <p:cNvSpPr/>
          <p:nvPr/>
        </p:nvSpPr>
        <p:spPr>
          <a:xfrm>
            <a:off x="2341440" y="347328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68436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3059280" y="337968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3492360" y="426888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197316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Text Box 14"/>
          <p:cNvSpPr/>
          <p:nvPr/>
        </p:nvSpPr>
        <p:spPr>
          <a:xfrm>
            <a:off x="409104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7"/>
          <p:cNvSpPr/>
          <p:nvPr/>
        </p:nvSpPr>
        <p:spPr>
          <a:xfrm>
            <a:off x="2049480" y="318780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706320" y="29718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Text Box 13"/>
          <p:cNvSpPr/>
          <p:nvPr/>
        </p:nvSpPr>
        <p:spPr>
          <a:xfrm>
            <a:off x="16923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Rectangle 22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oferta es total, trasladando todo el peso del impuesto a la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demanda es nula, por lo que la oferta le puede trasladar todo el impuest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474336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Line 4"/>
          <p:cNvSpPr/>
          <p:nvPr/>
        </p:nvSpPr>
        <p:spPr>
          <a:xfrm>
            <a:off x="474336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Line 5"/>
          <p:cNvSpPr/>
          <p:nvPr/>
        </p:nvSpPr>
        <p:spPr>
          <a:xfrm flipV="1">
            <a:off x="4743360" y="253980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Line 8"/>
          <p:cNvSpPr/>
          <p:nvPr/>
        </p:nvSpPr>
        <p:spPr>
          <a:xfrm flipH="1">
            <a:off x="4743360" y="347328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428472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741528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Text Box 11"/>
          <p:cNvSpPr/>
          <p:nvPr/>
        </p:nvSpPr>
        <p:spPr>
          <a:xfrm>
            <a:off x="6804000" y="227664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Text Box 12"/>
          <p:cNvSpPr/>
          <p:nvPr/>
        </p:nvSpPr>
        <p:spPr>
          <a:xfrm>
            <a:off x="5724360" y="18446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557388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6877080" y="1868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4307040" y="278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529272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Line 5"/>
          <p:cNvSpPr/>
          <p:nvPr/>
        </p:nvSpPr>
        <p:spPr>
          <a:xfrm flipV="1">
            <a:off x="4754520" y="208548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1007640" y="133344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Line 48"/>
          <p:cNvSpPr/>
          <p:nvPr/>
        </p:nvSpPr>
        <p:spPr>
          <a:xfrm>
            <a:off x="1154160" y="319104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Line 49"/>
          <p:cNvSpPr/>
          <p:nvPr/>
        </p:nvSpPr>
        <p:spPr>
          <a:xfrm>
            <a:off x="113508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2843280" y="292428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Rectangle 51"/>
          <p:cNvSpPr/>
          <p:nvPr/>
        </p:nvSpPr>
        <p:spPr>
          <a:xfrm>
            <a:off x="4781520" y="133344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Line 52"/>
          <p:cNvSpPr/>
          <p:nvPr/>
        </p:nvSpPr>
        <p:spPr>
          <a:xfrm>
            <a:off x="596268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53"/>
          <p:cNvSpPr/>
          <p:nvPr/>
        </p:nvSpPr>
        <p:spPr>
          <a:xfrm flipH="1">
            <a:off x="4716360" y="29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46836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product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Line 3"/>
          <p:cNvSpPr/>
          <p:nvPr/>
        </p:nvSpPr>
        <p:spPr>
          <a:xfrm flipV="1">
            <a:off x="99864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Line 4"/>
          <p:cNvSpPr/>
          <p:nvPr/>
        </p:nvSpPr>
        <p:spPr>
          <a:xfrm>
            <a:off x="99864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1042920" y="2276280"/>
            <a:ext cx="2521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2197080" y="347328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3964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3276720" y="213372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3132000" y="341136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182880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Text Box 14"/>
          <p:cNvSpPr/>
          <p:nvPr/>
        </p:nvSpPr>
        <p:spPr>
          <a:xfrm>
            <a:off x="430848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Line 7"/>
          <p:cNvSpPr/>
          <p:nvPr/>
        </p:nvSpPr>
        <p:spPr>
          <a:xfrm>
            <a:off x="154764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Text Box 14"/>
          <p:cNvSpPr/>
          <p:nvPr/>
        </p:nvSpPr>
        <p:spPr>
          <a:xfrm>
            <a:off x="466560" y="3860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11145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demanda es total, trasladando todo el peso del impuesto a la ofert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oferta es nula, por lo que la demanda le puede trasladar todo el impuesto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Line 3"/>
          <p:cNvSpPr/>
          <p:nvPr/>
        </p:nvSpPr>
        <p:spPr>
          <a:xfrm flipV="1">
            <a:off x="498780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9878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Line 8"/>
          <p:cNvSpPr/>
          <p:nvPr/>
        </p:nvSpPr>
        <p:spPr>
          <a:xfrm flipH="1">
            <a:off x="4987800" y="3429000"/>
            <a:ext cx="11988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452916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76597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5613480" y="182880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7408800" y="4221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Text Box 13"/>
          <p:cNvSpPr/>
          <p:nvPr/>
        </p:nvSpPr>
        <p:spPr>
          <a:xfrm>
            <a:off x="581832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6616800" y="450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Text Box 14"/>
          <p:cNvSpPr/>
          <p:nvPr/>
        </p:nvSpPr>
        <p:spPr>
          <a:xfrm>
            <a:off x="4551480" y="402912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5371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Rectangle 30"/>
          <p:cNvSpPr/>
          <p:nvPr/>
        </p:nvSpPr>
        <p:spPr>
          <a:xfrm>
            <a:off x="831600" y="133344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Line 32"/>
          <p:cNvSpPr/>
          <p:nvPr/>
        </p:nvSpPr>
        <p:spPr>
          <a:xfrm>
            <a:off x="99072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Rectangle 34"/>
          <p:cNvSpPr/>
          <p:nvPr/>
        </p:nvSpPr>
        <p:spPr>
          <a:xfrm>
            <a:off x="5202000" y="133344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Line 35"/>
          <p:cNvSpPr/>
          <p:nvPr/>
        </p:nvSpPr>
        <p:spPr>
          <a:xfrm>
            <a:off x="620712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Line 36"/>
          <p:cNvSpPr/>
          <p:nvPr/>
        </p:nvSpPr>
        <p:spPr>
          <a:xfrm flipH="1">
            <a:off x="4960800" y="414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2400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Line 6"/>
          <p:cNvSpPr/>
          <p:nvPr/>
        </p:nvSpPr>
        <p:spPr>
          <a:xfrm flipV="1">
            <a:off x="969840" y="1989000"/>
            <a:ext cx="2233800" cy="19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2200320" y="175572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Line 40"/>
          <p:cNvSpPr/>
          <p:nvPr/>
        </p:nvSpPr>
        <p:spPr>
          <a:xfrm flipH="1">
            <a:off x="971640" y="400536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Line 41"/>
          <p:cNvSpPr/>
          <p:nvPr/>
        </p:nvSpPr>
        <p:spPr>
          <a:xfrm>
            <a:off x="4960800" y="2276640"/>
            <a:ext cx="244800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Line 42"/>
          <p:cNvSpPr/>
          <p:nvPr/>
        </p:nvSpPr>
        <p:spPr>
          <a:xfrm>
            <a:off x="4960800" y="2995560"/>
            <a:ext cx="18716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fectos de los impuestos sobre la Eficiencia Económ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Line 3"/>
          <p:cNvSpPr/>
          <p:nvPr/>
        </p:nvSpPr>
        <p:spPr>
          <a:xfrm flipV="1">
            <a:off x="1042920" y="186660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Line 4"/>
          <p:cNvSpPr/>
          <p:nvPr/>
        </p:nvSpPr>
        <p:spPr>
          <a:xfrm>
            <a:off x="1042920" y="40273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Line 5"/>
          <p:cNvSpPr/>
          <p:nvPr/>
        </p:nvSpPr>
        <p:spPr>
          <a:xfrm flipV="1">
            <a:off x="1042920" y="23716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1042920" y="2371680"/>
            <a:ext cx="216072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1979640" y="3090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Line 8"/>
          <p:cNvSpPr/>
          <p:nvPr/>
        </p:nvSpPr>
        <p:spPr>
          <a:xfrm flipH="1">
            <a:off x="1042920" y="30909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684360" y="1724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3132000" y="40212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627280" y="215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Text Box 12"/>
          <p:cNvSpPr/>
          <p:nvPr/>
        </p:nvSpPr>
        <p:spPr>
          <a:xfrm>
            <a:off x="2844720" y="359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1692360" y="40212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684360" y="2868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AutoShape 37"/>
          <p:cNvSpPr/>
          <p:nvPr/>
        </p:nvSpPr>
        <p:spPr>
          <a:xfrm>
            <a:off x="1042920" y="237168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AutoShape 40"/>
          <p:cNvSpPr/>
          <p:nvPr/>
        </p:nvSpPr>
        <p:spPr>
          <a:xfrm rot="5400000">
            <a:off x="1115640" y="301932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Text Box 41"/>
          <p:cNvSpPr/>
          <p:nvPr/>
        </p:nvSpPr>
        <p:spPr>
          <a:xfrm>
            <a:off x="395280" y="4567320"/>
            <a:ext cx="8209080" cy="205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mercado en equilibrio el precio pagado por el consumidor es el mismo que el recibido por el productor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ntidad de equilibrio es igual a la cantidad demandada por los consumidores que es igual a la cantidad ofrecida por los ofer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Text Box 41"/>
          <p:cNvSpPr/>
          <p:nvPr/>
        </p:nvSpPr>
        <p:spPr>
          <a:xfrm>
            <a:off x="971640" y="15080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AutoShape 47"/>
          <p:cNvSpPr/>
          <p:nvPr/>
        </p:nvSpPr>
        <p:spPr>
          <a:xfrm>
            <a:off x="2195640" y="2205000"/>
            <a:ext cx="2305080" cy="1008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Line 3"/>
          <p:cNvSpPr/>
          <p:nvPr/>
        </p:nvSpPr>
        <p:spPr>
          <a:xfrm flipV="1">
            <a:off x="104292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Line 4"/>
          <p:cNvSpPr/>
          <p:nvPr/>
        </p:nvSpPr>
        <p:spPr>
          <a:xfrm>
            <a:off x="104292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Line 5"/>
          <p:cNvSpPr/>
          <p:nvPr/>
        </p:nvSpPr>
        <p:spPr>
          <a:xfrm flipV="1">
            <a:off x="104292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Line 6"/>
          <p:cNvSpPr/>
          <p:nvPr/>
        </p:nvSpPr>
        <p:spPr>
          <a:xfrm>
            <a:off x="1042920" y="198900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Line 7"/>
          <p:cNvSpPr/>
          <p:nvPr/>
        </p:nvSpPr>
        <p:spPr>
          <a:xfrm>
            <a:off x="197964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Line 8"/>
          <p:cNvSpPr/>
          <p:nvPr/>
        </p:nvSpPr>
        <p:spPr>
          <a:xfrm flipH="1">
            <a:off x="1042920" y="270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Text Box 9"/>
          <p:cNvSpPr/>
          <p:nvPr/>
        </p:nvSpPr>
        <p:spPr>
          <a:xfrm>
            <a:off x="684360" y="134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Text Box 10"/>
          <p:cNvSpPr/>
          <p:nvPr/>
        </p:nvSpPr>
        <p:spPr>
          <a:xfrm>
            <a:off x="3132000" y="36385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2627280" y="17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Text Box 12"/>
          <p:cNvSpPr/>
          <p:nvPr/>
        </p:nvSpPr>
        <p:spPr>
          <a:xfrm>
            <a:off x="2844720" y="3213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Text Box 13"/>
          <p:cNvSpPr/>
          <p:nvPr/>
        </p:nvSpPr>
        <p:spPr>
          <a:xfrm>
            <a:off x="1692360" y="3638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Text Box 14"/>
          <p:cNvSpPr/>
          <p:nvPr/>
        </p:nvSpPr>
        <p:spPr>
          <a:xfrm>
            <a:off x="684360" y="2486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AutoShape 37"/>
          <p:cNvSpPr/>
          <p:nvPr/>
        </p:nvSpPr>
        <p:spPr>
          <a:xfrm>
            <a:off x="1042920" y="198900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AutoShape 40"/>
          <p:cNvSpPr/>
          <p:nvPr/>
        </p:nvSpPr>
        <p:spPr>
          <a:xfrm rot="5400000">
            <a:off x="1115640" y="263664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395280" y="4292640"/>
            <a:ext cx="8209080" cy="25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mo habíamos dicho el impuesto genera dos precios, uno relevante para el productor y otro para consumido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incrementar el precio para el consumidor y reducir el precio para el productor genera una caída en las cantidades demandadas/ofrecida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Text Box 41"/>
          <p:cNvSpPr/>
          <p:nvPr/>
        </p:nvSpPr>
        <p:spPr>
          <a:xfrm>
            <a:off x="971640" y="981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AutoShape 37"/>
          <p:cNvSpPr/>
          <p:nvPr/>
        </p:nvSpPr>
        <p:spPr>
          <a:xfrm>
            <a:off x="4788000" y="198900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AutoShape 40"/>
          <p:cNvSpPr/>
          <p:nvPr/>
        </p:nvSpPr>
        <p:spPr>
          <a:xfrm rot="5400000">
            <a:off x="4825080" y="2961360"/>
            <a:ext cx="502920" cy="5745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543564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Line 38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Line 39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2233440" y="2290680"/>
            <a:ext cx="21942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onstantia"/>
              </a:rPr>
              <a:t>Caen los excedentes del productor y del consumidor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Line 48"/>
          <p:cNvSpPr/>
          <p:nvPr/>
        </p:nvSpPr>
        <p:spPr>
          <a:xfrm>
            <a:off x="450072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Line 49"/>
          <p:cNvSpPr/>
          <p:nvPr/>
        </p:nvSpPr>
        <p:spPr>
          <a:xfrm>
            <a:off x="4356000" y="321300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Rectangle 50"/>
          <p:cNvSpPr/>
          <p:nvPr/>
        </p:nvSpPr>
        <p:spPr>
          <a:xfrm>
            <a:off x="4800600" y="251136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AutoShape 51"/>
          <p:cNvSpPr/>
          <p:nvPr/>
        </p:nvSpPr>
        <p:spPr>
          <a:xfrm>
            <a:off x="4859280" y="1413000"/>
            <a:ext cx="1368360" cy="576000"/>
          </a:xfrm>
          <a:prstGeom prst="wedgeRoundRectCallout">
            <a:avLst>
              <a:gd name="adj1" fmla="val -25523"/>
              <a:gd name="adj2" fmla="val 150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Text Box 52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41"/>
          <p:cNvSpPr/>
          <p:nvPr/>
        </p:nvSpPr>
        <p:spPr>
          <a:xfrm>
            <a:off x="395280" y="4292640"/>
            <a:ext cx="8209080" cy="23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te del excedente del consumidor y del productor es apropiado por el estado en la recaudació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ída en la cantidad de equilibrio origina una pérdida social neta conocida como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surge del cambio en el comportamiento de los ag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AutoShape 40"/>
          <p:cNvSpPr/>
          <p:nvPr/>
        </p:nvSpPr>
        <p:spPr>
          <a:xfrm rot="13503600">
            <a:off x="5293800" y="2533320"/>
            <a:ext cx="331920" cy="372960"/>
          </a:xfrm>
          <a:prstGeom prst="rtTriangle">
            <a:avLst/>
          </a:prstGeom>
          <a:solidFill>
            <a:srgbClr val="0668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Line 7"/>
          <p:cNvSpPr/>
          <p:nvPr/>
        </p:nvSpPr>
        <p:spPr>
          <a:xfrm>
            <a:off x="5448240" y="25812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Line 39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Line 40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Text Box 48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Line 3"/>
          <p:cNvSpPr/>
          <p:nvPr/>
        </p:nvSpPr>
        <p:spPr>
          <a:xfrm flipV="1">
            <a:off x="1146240" y="1503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1146240" y="3664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Line 5"/>
          <p:cNvSpPr/>
          <p:nvPr/>
        </p:nvSpPr>
        <p:spPr>
          <a:xfrm flipV="1">
            <a:off x="1146240" y="20080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Line 6"/>
          <p:cNvSpPr/>
          <p:nvPr/>
        </p:nvSpPr>
        <p:spPr>
          <a:xfrm>
            <a:off x="1146240" y="200808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Line 7"/>
          <p:cNvSpPr/>
          <p:nvPr/>
        </p:nvSpPr>
        <p:spPr>
          <a:xfrm>
            <a:off x="2082960" y="272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Line 8"/>
          <p:cNvSpPr/>
          <p:nvPr/>
        </p:nvSpPr>
        <p:spPr>
          <a:xfrm flipH="1">
            <a:off x="1146240" y="272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787320" y="13604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3235320" y="36576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Text Box 11"/>
          <p:cNvSpPr/>
          <p:nvPr/>
        </p:nvSpPr>
        <p:spPr>
          <a:xfrm>
            <a:off x="2730600" y="1792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2948040" y="3232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Text Box 13"/>
          <p:cNvSpPr/>
          <p:nvPr/>
        </p:nvSpPr>
        <p:spPr>
          <a:xfrm>
            <a:off x="1795320" y="3657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Text Box 14"/>
          <p:cNvSpPr/>
          <p:nvPr/>
        </p:nvSpPr>
        <p:spPr>
          <a:xfrm>
            <a:off x="787320" y="2606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8" name="AutoShape 37"/>
          <p:cNvSpPr/>
          <p:nvPr/>
        </p:nvSpPr>
        <p:spPr>
          <a:xfrm>
            <a:off x="1146240" y="200808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AutoShape 40"/>
          <p:cNvSpPr/>
          <p:nvPr/>
        </p:nvSpPr>
        <p:spPr>
          <a:xfrm rot="5400000">
            <a:off x="1182960" y="2980080"/>
            <a:ext cx="503280" cy="57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1074600" y="100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Line 5"/>
          <p:cNvSpPr/>
          <p:nvPr/>
        </p:nvSpPr>
        <p:spPr>
          <a:xfrm flipV="1">
            <a:off x="1146240" y="157644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Text Box 11"/>
          <p:cNvSpPr/>
          <p:nvPr/>
        </p:nvSpPr>
        <p:spPr>
          <a:xfrm>
            <a:off x="2730600" y="138276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Line 7"/>
          <p:cNvSpPr/>
          <p:nvPr/>
        </p:nvSpPr>
        <p:spPr>
          <a:xfrm>
            <a:off x="1793880" y="25113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Text Box 13"/>
          <p:cNvSpPr/>
          <p:nvPr/>
        </p:nvSpPr>
        <p:spPr>
          <a:xfrm>
            <a:off x="1506600" y="36687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Line 39"/>
          <p:cNvSpPr/>
          <p:nvPr/>
        </p:nvSpPr>
        <p:spPr>
          <a:xfrm flipH="1">
            <a:off x="1145880" y="251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6" name="Line 40"/>
          <p:cNvSpPr/>
          <p:nvPr/>
        </p:nvSpPr>
        <p:spPr>
          <a:xfrm flipH="1">
            <a:off x="1145880" y="29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Text Box 14"/>
          <p:cNvSpPr/>
          <p:nvPr/>
        </p:nvSpPr>
        <p:spPr>
          <a:xfrm>
            <a:off x="785880" y="2895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785880" y="229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Rectangle 46"/>
          <p:cNvSpPr/>
          <p:nvPr/>
        </p:nvSpPr>
        <p:spPr>
          <a:xfrm>
            <a:off x="1158840" y="253044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Text Box 48"/>
          <p:cNvSpPr/>
          <p:nvPr/>
        </p:nvSpPr>
        <p:spPr>
          <a:xfrm>
            <a:off x="1290600" y="150336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1219320" y="150336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5211720" y="21636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3" name="Text Box 12"/>
          <p:cNvSpPr/>
          <p:nvPr/>
        </p:nvSpPr>
        <p:spPr>
          <a:xfrm>
            <a:off x="5711760" y="25210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5286240" y="285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1"/>
          <p:cNvSpPr/>
          <p:nvPr/>
        </p:nvSpPr>
        <p:spPr>
          <a:xfrm>
            <a:off x="395280" y="857160"/>
            <a:ext cx="8319960" cy="41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corresponden a pesos que se pierden fruto de la caída en las cantidades de equilibrio ( transacciones que dejan de realizarse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emos del equilibrio social mayor será la pérdid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….  entonces la pérdida de eficiencia dependerá de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elasticidades de la curva de oferta y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impositiva  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hay distorsiones pre existentes 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 Impuestos Pigouvianos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Line 3"/>
          <p:cNvSpPr/>
          <p:nvPr/>
        </p:nvSpPr>
        <p:spPr>
          <a:xfrm flipV="1">
            <a:off x="907920" y="22129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Line 6"/>
          <p:cNvSpPr/>
          <p:nvPr/>
        </p:nvSpPr>
        <p:spPr>
          <a:xfrm>
            <a:off x="907920" y="271764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2709720" y="3941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206676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Line 7"/>
          <p:cNvSpPr/>
          <p:nvPr/>
        </p:nvSpPr>
        <p:spPr>
          <a:xfrm>
            <a:off x="15717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21428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Text Box 14"/>
          <p:cNvSpPr/>
          <p:nvPr/>
        </p:nvSpPr>
        <p:spPr>
          <a:xfrm>
            <a:off x="14292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 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547560" y="300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Text Box 41"/>
          <p:cNvSpPr/>
          <p:nvPr/>
        </p:nvSpPr>
        <p:spPr>
          <a:xfrm>
            <a:off x="4286160" y="1773360"/>
            <a:ext cx="4572000" cy="43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r facilidad gráfica asumimos un impuesto al productor y una oferta perfectamente elástic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demand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caso extremo donde enfrentemos una curva de demand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52 Conector recto"/>
          <p:cNvSpPr/>
          <p:nvPr/>
        </p:nvSpPr>
        <p:spPr>
          <a:xfrm flipH="1">
            <a:off x="228456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Line 6"/>
          <p:cNvSpPr/>
          <p:nvPr/>
        </p:nvSpPr>
        <p:spPr>
          <a:xfrm>
            <a:off x="1143000" y="2500200"/>
            <a:ext cx="1643040" cy="187020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17859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1071720" y="2357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9" name="Text Box 13"/>
          <p:cNvSpPr/>
          <p:nvPr/>
        </p:nvSpPr>
        <p:spPr>
          <a:xfrm>
            <a:off x="156672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´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58 Rectángulo"/>
          <p:cNvSpPr/>
          <p:nvPr/>
        </p:nvSpPr>
        <p:spPr>
          <a:xfrm>
            <a:off x="428760" y="5792760"/>
            <a:ext cx="7786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porque el impuesto no habrá generado ningún cambio en el comportamiento de los mercados, las cantidades no habrán variad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135720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1571760" y="2978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Text Box 13"/>
          <p:cNvSpPr/>
          <p:nvPr/>
        </p:nvSpPr>
        <p:spPr>
          <a:xfrm>
            <a:off x="2071800" y="35496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135720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Text Box 13"/>
          <p:cNvSpPr/>
          <p:nvPr/>
        </p:nvSpPr>
        <p:spPr>
          <a:xfrm>
            <a:off x="156672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Ofert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Line 3"/>
          <p:cNvSpPr/>
          <p:nvPr/>
        </p:nvSpPr>
        <p:spPr>
          <a:xfrm flipV="1">
            <a:off x="900000" y="2205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Line 6"/>
          <p:cNvSpPr/>
          <p:nvPr/>
        </p:nvSpPr>
        <p:spPr>
          <a:xfrm flipH="1">
            <a:off x="890280" y="2421000"/>
            <a:ext cx="2025720" cy="17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Text Box 11"/>
          <p:cNvSpPr/>
          <p:nvPr/>
        </p:nvSpPr>
        <p:spPr>
          <a:xfrm>
            <a:off x="2843280" y="38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Text Box 12"/>
          <p:cNvSpPr/>
          <p:nvPr/>
        </p:nvSpPr>
        <p:spPr>
          <a:xfrm>
            <a:off x="2771640" y="2205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Text Box 13"/>
          <p:cNvSpPr/>
          <p:nvPr/>
        </p:nvSpPr>
        <p:spPr>
          <a:xfrm>
            <a:off x="1763640" y="434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2556000" y="41004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19605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Text Box 13"/>
          <p:cNvSpPr/>
          <p:nvPr/>
        </p:nvSpPr>
        <p:spPr>
          <a:xfrm rot="5400000">
            <a:off x="1552680" y="44438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351000" y="292428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539640" y="3357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Text Box 41"/>
          <p:cNvSpPr/>
          <p:nvPr/>
        </p:nvSpPr>
        <p:spPr>
          <a:xfrm>
            <a:off x="4143240" y="1773360"/>
            <a:ext cx="4714920" cy="33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sumimos un impuesto al consumo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ofert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enfrentemos una curva de ofert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45 Conector recto"/>
          <p:cNvSpPr/>
          <p:nvPr/>
        </p:nvSpPr>
        <p:spPr>
          <a:xfrm>
            <a:off x="900000" y="2779560"/>
            <a:ext cx="1871640" cy="158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49 Conector recto"/>
          <p:cNvSpPr/>
          <p:nvPr/>
        </p:nvSpPr>
        <p:spPr>
          <a:xfrm>
            <a:off x="971640" y="2421000"/>
            <a:ext cx="2054160" cy="174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Line 6"/>
          <p:cNvSpPr/>
          <p:nvPr/>
        </p:nvSpPr>
        <p:spPr>
          <a:xfrm flipH="1">
            <a:off x="1547280" y="1989000"/>
            <a:ext cx="863640" cy="237672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Line 7"/>
          <p:cNvSpPr/>
          <p:nvPr/>
        </p:nvSpPr>
        <p:spPr>
          <a:xfrm flipH="1">
            <a:off x="971640" y="3263760"/>
            <a:ext cx="955440" cy="2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26836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1619280" y="2924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1474920" y="27813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Text Box 13"/>
          <p:cNvSpPr/>
          <p:nvPr/>
        </p:nvSpPr>
        <p:spPr>
          <a:xfrm>
            <a:off x="1763640" y="306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1619280" y="3556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Text Box 13"/>
          <p:cNvSpPr/>
          <p:nvPr/>
        </p:nvSpPr>
        <p:spPr>
          <a:xfrm>
            <a:off x="1474920" y="3429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Line 7"/>
          <p:cNvSpPr/>
          <p:nvPr/>
        </p:nvSpPr>
        <p:spPr>
          <a:xfrm>
            <a:off x="1692360" y="2997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539640" y="314172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Line 7"/>
          <p:cNvSpPr/>
          <p:nvPr/>
        </p:nvSpPr>
        <p:spPr>
          <a:xfrm>
            <a:off x="183528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6" name="Text Box 13"/>
          <p:cNvSpPr/>
          <p:nvPr/>
        </p:nvSpPr>
        <p:spPr>
          <a:xfrm rot="5400000">
            <a:off x="1395360" y="44424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’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Line 7"/>
          <p:cNvSpPr/>
          <p:nvPr/>
        </p:nvSpPr>
        <p:spPr>
          <a:xfrm flipH="1">
            <a:off x="879120" y="314172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Line 7"/>
          <p:cNvSpPr/>
          <p:nvPr/>
        </p:nvSpPr>
        <p:spPr>
          <a:xfrm flipH="1">
            <a:off x="879120" y="355284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Line 7"/>
          <p:cNvSpPr/>
          <p:nvPr/>
        </p:nvSpPr>
        <p:spPr>
          <a:xfrm flipH="1">
            <a:off x="899640" y="342900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Line 7"/>
          <p:cNvSpPr/>
          <p:nvPr/>
        </p:nvSpPr>
        <p:spPr>
          <a:xfrm flipH="1">
            <a:off x="899640" y="304812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1" name="Picture 41" descr=""/>
          <p:cNvPicPr/>
          <p:nvPr/>
        </p:nvPicPr>
        <p:blipFill>
          <a:blip r:embed="rId2"/>
          <a:stretch/>
        </p:blipFill>
        <p:spPr>
          <a:xfrm>
            <a:off x="1908000" y="4724280"/>
            <a:ext cx="1162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3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Line 6"/>
          <p:cNvSpPr/>
          <p:nvPr/>
        </p:nvSpPr>
        <p:spPr>
          <a:xfrm>
            <a:off x="928800" y="1500120"/>
            <a:ext cx="2139840" cy="287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Text Box 41"/>
          <p:cNvSpPr/>
          <p:nvPr/>
        </p:nvSpPr>
        <p:spPr>
          <a:xfrm>
            <a:off x="4286160" y="1285920"/>
            <a:ext cx="4572000" cy="54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elevada es la tasa impositiva may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varía exponencialmente con el nivel de tasa impositiva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4*mal=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amos del óptimo social, mas costosas son las transacciones que dejamos de hacer (mayor es el beneficio y menor es el costo marginal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8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221472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199548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9954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986" name="32 Conector recto de flecha"/>
          <p:cNvCxnSpPr>
            <a:stCxn id="963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7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nstantia"/>
              </a:rPr>
              <a:t>A todos nos gusta recibir bienes y servicios por parte del Estado, pero pocos son los que sonríen al momento de pagar impues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En este mundo nada es seguro salvo la muerte y los impuestos”</a:t>
            </a:r>
            <a:r>
              <a:rPr b="0" i="1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Benjamin Franklin, 1789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El arte de cobrar tributos consiste en desplumar el ganso de forma que se obtenga la mayor cantidad de plumas con la menor cantidad de graznidos”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Jean Baptiste Colbert – Tesorero de Luis XIV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2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Text Box 41"/>
          <p:cNvSpPr/>
          <p:nvPr/>
        </p:nvSpPr>
        <p:spPr>
          <a:xfrm>
            <a:off x="4286160" y="1285920"/>
            <a:ext cx="4572000" cy="26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caso de enfrenarnos a curvas de oferta o demanda no lineales, el efecto de la tasa sobre la eficiencia no se multiplica tanto como cuando enfrentamos curvas lineal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Line 7"/>
          <p:cNvSpPr/>
          <p:nvPr/>
        </p:nvSpPr>
        <p:spPr>
          <a:xfrm>
            <a:off x="207180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85724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Text Box 13"/>
          <p:cNvSpPr/>
          <p:nvPr/>
        </p:nvSpPr>
        <p:spPr>
          <a:xfrm>
            <a:off x="185724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3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014" name="32 Conector recto de flecha"/>
          <p:cNvCxnSpPr>
            <a:stCxn id="992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5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7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8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30 Arco"/>
          <p:cNvSpPr/>
          <p:nvPr/>
        </p:nvSpPr>
        <p:spPr>
          <a:xfrm rot="10636800">
            <a:off x="1665000" y="-70920"/>
            <a:ext cx="3143160" cy="40003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regla de Rams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1" name="Text Box 41"/>
          <p:cNvSpPr/>
          <p:nvPr/>
        </p:nvSpPr>
        <p:spPr>
          <a:xfrm>
            <a:off x="214200" y="1285920"/>
            <a:ext cx="864396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plicar una misma tasa a dos bienes (cuyas elasticidades son distintas) no resulta, por lo general, eficien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puede alcanzar la máxima eficiencia en la recaudación mediante una regla simple:   En la medida que el consumo de los bienes no este relacionado, las tasas impositivas deben ser inversamente proporcionales a las elasticidades de los bienes que grava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decir, mientras más inelástica sea la demanda de un bien, mayor deberá ser la tasa aplicada a es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blemas : Simplicidad,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Buenas prácticas respecto a la eficiencia impositiv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Text Box 41"/>
          <p:cNvSpPr/>
          <p:nvPr/>
        </p:nvSpPr>
        <p:spPr>
          <a:xfrm>
            <a:off x="214200" y="1714680"/>
            <a:ext cx="8643960" cy="54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bases imponibles deben ser lo más amplias posibl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vitar las exencion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debe ser lo más baja posible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mejor una tasa baja aplicada sobre una base amplia que tasas diferenciadas aplicadas sobre distintos segmentos de renta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s marginales muy elevadas incentivan la evasión y la elusió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La experiencia internacional muestra que tasas marginales muy altas suelen ser compensadas con franquicias, las que a su vez crean nuevos espacios de evasión y elusión; y pueden atentar contra los principios de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Impuestos progresivos al aplicar tasas más altas suelen ser menos eficient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5" name="Text Box 41"/>
          <p:cNvSpPr/>
          <p:nvPr/>
        </p:nvSpPr>
        <p:spPr>
          <a:xfrm>
            <a:off x="214200" y="1285920"/>
            <a:ext cx="8643960" cy="425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aumento de la tasa de un impuesto podría hacer que la recaudación caiga en vez de subi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tuición: al subir la tasa cobro más por unidad transada en el mercado, pero a mayor tasa es menor la cantidad que se transa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iste una relación inversa entre la tasa y la base de un impuest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se puede ver gráficamente….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4 Conector recto"/>
          <p:cNvSpPr/>
          <p:nvPr/>
        </p:nvSpPr>
        <p:spPr>
          <a:xfrm flipH="1">
            <a:off x="1498680" y="928800"/>
            <a:ext cx="1440" cy="1500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7" name="6 Conector recto"/>
          <p:cNvSpPr/>
          <p:nvPr/>
        </p:nvSpPr>
        <p:spPr>
          <a:xfrm>
            <a:off x="1498680" y="2428920"/>
            <a:ext cx="2359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8 Conector recto"/>
          <p:cNvSpPr/>
          <p:nvPr/>
        </p:nvSpPr>
        <p:spPr>
          <a:xfrm flipV="1">
            <a:off x="1498680" y="1142640"/>
            <a:ext cx="2287440" cy="1071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10 Conector recto"/>
          <p:cNvSpPr/>
          <p:nvPr/>
        </p:nvSpPr>
        <p:spPr>
          <a:xfrm>
            <a:off x="1500120" y="1000080"/>
            <a:ext cx="235764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11 Conector recto"/>
          <p:cNvSpPr/>
          <p:nvPr/>
        </p:nvSpPr>
        <p:spPr>
          <a:xfrm flipH="1">
            <a:off x="1498680" y="2857680"/>
            <a:ext cx="1440" cy="12855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12 Conector recto"/>
          <p:cNvSpPr/>
          <p:nvPr/>
        </p:nvSpPr>
        <p:spPr>
          <a:xfrm>
            <a:off x="1500120" y="414324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14 Conector recto"/>
          <p:cNvSpPr/>
          <p:nvPr/>
        </p:nvSpPr>
        <p:spPr>
          <a:xfrm>
            <a:off x="1500120" y="2998800"/>
            <a:ext cx="1285920" cy="1144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18 Conector recto"/>
          <p:cNvSpPr/>
          <p:nvPr/>
        </p:nvSpPr>
        <p:spPr>
          <a:xfrm>
            <a:off x="2786040" y="1149480"/>
            <a:ext cx="0" cy="495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25 Rectángulo"/>
          <p:cNvSpPr/>
          <p:nvPr/>
        </p:nvSpPr>
        <p:spPr>
          <a:xfrm>
            <a:off x="1512720" y="1319040"/>
            <a:ext cx="615960" cy="581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26 Conector recto"/>
          <p:cNvSpPr/>
          <p:nvPr/>
        </p:nvSpPr>
        <p:spPr>
          <a:xfrm flipH="1">
            <a:off x="2141640" y="1143000"/>
            <a:ext cx="1440" cy="44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27 Conector recto"/>
          <p:cNvSpPr/>
          <p:nvPr/>
        </p:nvSpPr>
        <p:spPr>
          <a:xfrm flipH="1">
            <a:off x="1498680" y="4857840"/>
            <a:ext cx="1440" cy="1285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28 Conector recto"/>
          <p:cNvSpPr/>
          <p:nvPr/>
        </p:nvSpPr>
        <p:spPr>
          <a:xfrm>
            <a:off x="1500120" y="614376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29 Arco"/>
          <p:cNvSpPr/>
          <p:nvPr/>
        </p:nvSpPr>
        <p:spPr>
          <a:xfrm>
            <a:off x="1500120" y="4572000"/>
            <a:ext cx="1285920" cy="17859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35 Rectángulo"/>
          <p:cNvSpPr/>
          <p:nvPr/>
        </p:nvSpPr>
        <p:spPr>
          <a:xfrm>
            <a:off x="1143000" y="8571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36 Rectángulo"/>
          <p:cNvSpPr/>
          <p:nvPr/>
        </p:nvSpPr>
        <p:spPr>
          <a:xfrm>
            <a:off x="3794760" y="2500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37 Rectángulo"/>
          <p:cNvSpPr/>
          <p:nvPr/>
        </p:nvSpPr>
        <p:spPr>
          <a:xfrm>
            <a:off x="3794760" y="40910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38 Rectángulo"/>
          <p:cNvSpPr/>
          <p:nvPr/>
        </p:nvSpPr>
        <p:spPr>
          <a:xfrm>
            <a:off x="3794760" y="6091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39 Rectángulo"/>
          <p:cNvSpPr/>
          <p:nvPr/>
        </p:nvSpPr>
        <p:spPr>
          <a:xfrm>
            <a:off x="832680" y="278604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as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40 Rectángulo"/>
          <p:cNvSpPr/>
          <p:nvPr/>
        </p:nvSpPr>
        <p:spPr>
          <a:xfrm>
            <a:off x="162720" y="47149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Recaudación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ota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41 Rectángulo"/>
          <p:cNvSpPr/>
          <p:nvPr/>
        </p:nvSpPr>
        <p:spPr>
          <a:xfrm>
            <a:off x="4572000" y="1071720"/>
            <a:ext cx="442908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gunas lecciones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Si: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gt; ∆% Base; Sube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= ∆% Base; No se altera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lt; ∆% Base; Cae la recaudación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5712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Que es un impuesto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l pag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blig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realiza el contribuyente por el cual no recibe una contraprestación direc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compone de una Base que es el hecho gravado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de una Tasa que consiste en la porción de la base que el estado toma para 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bjetivos de los tribut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25160"/>
            <a:ext cx="8362800" cy="52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Financiar el gasto públic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rregir comportamientos (Impuestos Pigouvian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isminuir el consumo de bienes dañinos (externalidades nega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r el consumo de bienes beneficiosos (externalidades posi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fectar la distribución del ingreso (aún en debat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mpuestos como medios de redistribución vs el gasto social como medio de distribu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evidencia muestra que es mejor enfocar a los impuestos a los objetivos 1 y 2 dejando la redistribución al gasto soc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Objetivos de política económic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tección a la industria nacional (barreras arancelar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Una aclaración antes de continua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general de los impuestos: analiza lo que sucede con el mercado donde se aplica el impuesto y sobre el resto de la economí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parcial de los impuestos: analiza lo que sucede en el mercado en donde se aplica el impuesto manteniendo todo lo demás constante “ceteris paribu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urso nos centraremos en un análisis de equilibrio par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sistemas tribu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una relación entre la tasa de un impuesto y la base del mism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gresivo: relación directa entre la tasa porcentual de impuesto y su base (Ej, impuesto a la renta “global complementario”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porcional:  no existe relación entre la tasa porcentual del impuesto y su base (Ej, Iva si se considera el gast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Regresivo: relación inversa entre la tasa porcentual de impuesto y su base. (Ej, Iva si se considera en ingres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Directos: aquellos que afectan directamente los recursos de las person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nta (Global complementario)/Utilidad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iquez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 los ac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Indirectos: aquellos que afectan el uso que se hace de los recurs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nsumo (Iva; a las ventas final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lectivos (A las bencin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mercio exteri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457200" y="-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impuestos</a:t>
            </a:r>
            <a:endParaRPr b="1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5-27T15:30:44Z</dcterms:modified>
  <cp:revision>183</cp:revision>
  <dc:subject/>
  <dc:title>Economía del Sector Público</dc:title>
</cp:coreProperties>
</file>