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ED23-7C58-4E5C-9684-61E9E554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33BE-BE84-49C4-AEBD-172445EC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0BE0B-7201-4E55-B36F-9F4BF6F2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3D84B-1A9E-4F80-8BE7-E7250111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CE00A-5105-4DD6-8BDE-8110F790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679B6-35B0-412D-89E9-7AC852AF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159F3-D583-4CEA-8C46-7C15C02E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E5AFC-A2E2-4A88-80F7-1741B50B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96A99-72DB-4D09-B8CF-4D49A9F2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A0D1A-2E11-4E7D-B507-BEB1B5E10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56E41-4436-4E8E-8972-BA792DB7E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15357-DC2A-4D38-BC86-CC524A914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111A-D4FD-4688-937D-C7DE381E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C60FE-E809-4A21-A214-ABA40F48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F70AA-F70C-4BFE-AADA-F4969290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E328E-2813-4EC4-9E8A-78E9FFB2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A8C0C-9101-4067-94BB-9116C141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842B2-2570-409C-8418-99FE703D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FEBF9-F7F6-4044-B00C-4A60E1E1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C8DAE-D7CA-4031-BB1D-11217112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01D3B-FA9A-4A4E-9DF2-3DB0320A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8E33E-BFBB-40CA-ADFC-A9FFD0CB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BFADD-0C10-4023-B7E1-2AAC9173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CE80-517D-44E4-A55B-30812525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C3501-C270-4EDF-B3C5-75BDB497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8C83B-C1B5-445F-AF93-551C96E0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7A707-ACD7-4F0F-A881-FFEAB5CD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B417C-7B95-4BB2-95E4-678B854F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0FA1E-75E8-42D5-BF88-A2230C10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6344D-5A53-4E4E-A065-3A129CC1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5040F-F00B-48A3-BDAE-649ED225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0D2D3-00D2-46CB-919B-586C41E3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DCCD6-06F4-4BA9-8122-9AA6F0ED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3CEC4-BA3D-4897-BDE2-E6CA28A6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AB26-8CEC-4AAA-AE53-A0AF31DB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C3918-5247-4007-A96C-A9ACF7E3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C69EB-B052-49DA-901C-C5E8BBF3D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D02B4-39B1-42D8-9103-1D041890D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951D-EB9B-43D4-A67E-5FCDAE6A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1D68-37ED-4FF6-953B-C88B90AB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F7E0-EA7F-4342-89F0-8EA1840E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2373-6A44-4A32-AE2F-222FC3D9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8BA0-5424-4524-B953-C40191E5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8C85-C411-455D-B267-A290053B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1125-344B-47F2-A667-D1CED343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7BF8-44CE-4C1E-8DBF-8D144649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0456-A81F-4CAD-A156-27D64BE2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A33E-9AD5-48FF-9C3C-1939B2E9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0C4A-AD9F-4741-BF68-04464477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1B33-F99C-450B-97AA-0DE6F00A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56695-13A4-4B24-91BE-4DFE01C4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C90AB-1322-4150-93A9-D956D3BF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3A9D0-B01E-4687-B012-7344BB15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F9137-1461-4139-8F9C-566D764E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B6161-B875-4A05-AFCA-952A3449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0550-7FE9-4074-AE5A-4B2C63AA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53CC7-E674-45AC-80FA-F12E6296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92C6B-BC6A-4475-B323-875733A7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BCA2D-CAF4-4ECB-9D8F-3B8F3219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84A43-8917-4611-B80D-A57BCD7B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CF770-4736-46D0-9BB4-BBED77B8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BC150-CA5B-4261-BF8B-47C9D7EA7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BA008-8378-4AE6-B9EE-DF06C635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CE446-CB45-462A-A41B-64BCCAFC3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09D0C-2CA1-4ABF-9A94-FF5318F2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B128F-4F83-4929-8498-21855D32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5492-A2EF-4C24-8C57-C7C0997C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683EE-6659-485A-A803-3F1B9957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CC5AE-40B8-4B0E-9E68-A892D649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53E4E-9365-47B8-874E-489748F3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FDCB5-7487-44C5-95BC-331D2903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FAEC1-063F-4E5B-9677-D041F360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9F451-A2F1-4E8C-973C-DB84701F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35BC6-DC3D-434C-99D8-A398E7A7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5D7C9-8CCE-4C56-A7E0-B657021E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10492-8DD7-42D2-97D5-A7FB44DA8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F5BE9-16CA-46E5-831E-C19951A36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8A75-B540-48C9-8E5C-204EE4D2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95FA8-3E84-4C8D-9520-85548334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862DF-D884-43C9-AF26-4C3DFA3F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02322-8CF9-4265-B4F5-2B75C694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4BB56-5905-4D0A-983B-E6AB9CFE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A33E6-FB05-4242-B30F-CE85B3C1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A6B5B-D4DE-41C2-99F2-C51E5933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889A8-9D59-44AE-82EE-F5EDA219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6A36F-2AFD-4C45-BF88-F6AA7AA6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E5733-D052-4FC2-A609-C4A7C986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F50CA-BBFB-4AF9-B323-197DB9BC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B716-1709-476A-93CA-065B7352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CBF0B-60EA-447B-AE66-FA2EB026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C9643-6E65-4BB0-91CA-8CF57B55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FA87C-564E-42A8-BF9A-129A6C3C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274D7-65B2-443C-BA0C-F3057017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FC2D4-689F-4CF2-A553-EC450645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C0B3A-678B-45B9-B37B-2460629C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847BE-FC38-4D27-9AEE-DDDF71E4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FA19F-9A1E-47C0-B010-293CA547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60E00-B281-4FD0-8B67-53EFBE6B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ADE7A-BC06-45C7-AD4D-35021976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A45C-DB76-41B7-9383-08E7DE31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93426-682B-449A-8F0E-1C33FAEA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DBE1E-9853-483A-B8AF-1E8928242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0838E-A877-4663-904A-310755E7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F9F1F-006A-4C86-B581-FD3D6F467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4FE8B-5528-412D-89E8-8B4435DD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7ECF4-114C-4DAF-943C-7535EF7B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CA96C-CFC1-4400-B38C-1ED4CE8B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8B5D0-A55B-4A44-8D2A-50B3A142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04DD7-D291-450F-98ED-43A0CA2B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E326E-BCCC-4D62-AB22-17566B6D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15C7-FD07-466F-A9FC-DE90F84C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2569D-AE22-4FD0-A91F-C85C4EDC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4F694-0E50-4014-B01A-76FC28EB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E3B36-64B6-4A58-9DCC-09704A04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3D8D1-A0F2-4CE2-AB42-1FEBDDAD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B58DE-701C-4428-BB7E-A08549A45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E92D4-3996-4CE5-BC1D-25966155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F4D52-5D63-4B9B-99FA-A6042A99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358BF-C924-4730-8561-8A738E7C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70490-AFA3-470C-B54E-BAA4F850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ECBD5-152E-4FCB-8F5C-04DEF92A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E3E3-9073-4B79-9843-91DDCD98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09D3A-4A88-4338-9B78-C523395B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4AD18-DC7F-40ED-A136-B9BC9A64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83EB6-5029-4422-977A-CCBC964F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A20C3-F584-49E1-AE87-D1D2BE89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5479A-6184-4E67-895F-70504B53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34014-F32F-48FA-9CED-6CFD39F2D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50319-BFDA-4E0F-A670-0141505E9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AB5C4-BD39-44A4-9CCB-DCEFB07CB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036CF-7034-4A41-8C0D-2290E602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A7A12-30ED-4379-87B3-0DB37989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F670-8CF5-48F7-B804-53C977366902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55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6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7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459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60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46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081A-69F4-44EE-8E71-F70E06395B05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0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1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51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FB12-ACCD-4C89-9565-C4BE9C0DE81E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59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36F7-7F6B-4D53-AFEE-EB60D065D275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3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4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5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7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8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110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1C3B-C635-494A-8EE7-72094D1F902C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4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5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6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8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9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161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EBA8-26F1-4E2C-B28D-B0AACF9E7998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5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6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7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9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0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21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016A-7D35-4F07-B5E0-1A948C8251E6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5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6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26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DB9C-1EED-48AD-A9F0-5403DB6709BF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0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314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9308-7618-4ECB-8558-8EDE39A23191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5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9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0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6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3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365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C5FC-00E0-4BA7-90C8-8AA38549C6D9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1" name="Picture 7" descr=""/>
          <p:cNvPicPr/>
          <p:nvPr/>
        </p:nvPicPr>
        <p:blipFill>
          <a:blip r:embed="rId3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0E0E-E101-4ADF-979D-A82C48C63704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YAKG8jmx6C0&amp;feature=related" TargetMode="External"/><Relationship Id="rId3" Type="http://schemas.openxmlformats.org/officeDocument/2006/relationships/hyperlink" Target="http://www.youtube.com/watch?v=YAKG8jmx6C0&amp;feature=related" TargetMode="External"/><Relationship Id="rId4" Type="http://schemas.openxmlformats.org/officeDocument/2006/relationships/hyperlink" Target="http://www.youtube.com/watch?v=YAKG8jmx6C0&amp;feature=related" TargetMode="External"/><Relationship Id="rId5" Type="http://schemas.openxmlformats.org/officeDocument/2006/relationships/hyperlink" Target="http://www.youtube.com/watch?v=YAKG8jmx6C0&amp;feature=related" TargetMode="External"/><Relationship Id="rId6" Type="http://schemas.openxmlformats.org/officeDocument/2006/relationships/hyperlink" Target="http://www.youtube.com/watch?v=YAKG8jmx6C0&amp;feature=related" TargetMode="External"/><Relationship Id="rId7" Type="http://schemas.openxmlformats.org/officeDocument/2006/relationships/hyperlink" Target="http://www.youtube.com/watch?v=YAKG8jmx6C0&amp;feature=related" TargetMode="External"/><Relationship Id="rId8" Type="http://schemas.openxmlformats.org/officeDocument/2006/relationships/hyperlink" Target="http://www.youtube.com/watch?v=YAKG8jmx6C0&amp;feature=related" TargetMode="External"/><Relationship Id="rId9" Type="http://schemas.openxmlformats.org/officeDocument/2006/relationships/hyperlink" Target="http://www.youtube.com/watch?v=YAKG8jmx6C0&amp;feature=related" TargetMode="External"/><Relationship Id="rId10" Type="http://schemas.openxmlformats.org/officeDocument/2006/relationships/hyperlink" Target="http://www.youtube.com/watch?v=YAKG8jmx6C0&amp;feature=related" TargetMode="External"/><Relationship Id="rId11" Type="http://schemas.openxmlformats.org/officeDocument/2006/relationships/hyperlink" Target="http://www.youtube.com/watch?v=YAKG8jmx6C0&amp;feature=related" TargetMode="External"/><Relationship Id="rId12" Type="http://schemas.openxmlformats.org/officeDocument/2006/relationships/hyperlink" Target="http://www.youtube.com/watch?v=hBiiZQNmbc4&amp;NR=1" TargetMode="External"/><Relationship Id="rId13" Type="http://schemas.openxmlformats.org/officeDocument/2006/relationships/hyperlink" Target="http://www.youtube.com/watch?v=hBiiZQNmbc4&amp;NR=1" TargetMode="External"/><Relationship Id="rId14" Type="http://schemas.openxmlformats.org/officeDocument/2006/relationships/hyperlink" Target="http://www.youtube.com/watch?v=hBiiZQNmbc4&amp;NR=1" TargetMode="External"/><Relationship Id="rId15" Type="http://schemas.openxmlformats.org/officeDocument/2006/relationships/hyperlink" Target="http://www.youtube.com/watch?v=hBiiZQNmbc4&amp;NR=1" TargetMode="External"/><Relationship Id="rId16" Type="http://schemas.openxmlformats.org/officeDocument/2006/relationships/hyperlink" Target="http://www.youtube.com/watch?v=hBiiZQNmbc4&amp;NR=1" TargetMode="External"/><Relationship Id="rId17" Type="http://schemas.openxmlformats.org/officeDocument/2006/relationships/hyperlink" Target="http://www.youtube.com/watch?v=hBiiZQNmbc4&amp;NR=1" TargetMode="External"/><Relationship Id="rId18" Type="http://schemas.openxmlformats.org/officeDocument/2006/relationships/hyperlink" Target="http://www.youtube.com/watch?v=hBiiZQNmbc4&amp;NR=1" TargetMode="External"/><Relationship Id="rId1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Para la Prueba Rosen</a:t>
            </a:r>
            <a:br>
              <a:rPr sz="5000"/>
            </a:b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Economía del Bienestar, Cap4</a:t>
            </a:r>
            <a:br>
              <a:rPr sz="3200"/>
            </a:b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Bienes públicos, Cap 5</a:t>
            </a:r>
            <a:br>
              <a:rPr sz="3200"/>
            </a:b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Externalidades, Cap 6</a:t>
            </a:r>
            <a:br>
              <a:rPr sz="3200"/>
            </a:b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Equidad, Cap 8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uando los ingresos son mayores que sus niveles de tendencia esperados, se ahor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uando estos caen por debajo de la tendencia, se desahor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ermitiendo ahorrar                                                       en años buenos y                                                        gastar en períodos                                                            malos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itigando el Cicl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Rectangle 2"/>
          <p:cNvSpPr/>
          <p:nvPr/>
        </p:nvSpPr>
        <p:spPr>
          <a:xfrm>
            <a:off x="457200" y="18900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La Regla del Superávit Estructural</a:t>
            </a:r>
            <a:endParaRPr b="1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74" name="Picture 5" descr=""/>
          <p:cNvPicPr/>
          <p:nvPr/>
        </p:nvPicPr>
        <p:blipFill>
          <a:blip r:embed="rId2"/>
          <a:stretch/>
        </p:blipFill>
        <p:spPr>
          <a:xfrm>
            <a:off x="4067280" y="2852640"/>
            <a:ext cx="489744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esponsabilidad Fisc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prender a distinguir aquellos cambios en los ingresos permanentes de los temporal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Financiar Gasto Corriente únicamente con ingresos permanen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horrar los ingresos temporales o utilizarlos en la adquisición de bienes de capit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recimiento Económ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roblemas Existent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Decrecimient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recimiento Nulo o Escas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recimiento Fluctuant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teoría muestra como determinantes del crecimiento al ahorro, la inversión y la investigación y desarroll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estado potencia el crecimiento económico de largo plazo al estimular estos determinant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Obligando a las personas a ahorrar (AFP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timulando el ahorro con exoneraciones de impuest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analizando y estimulando inversiones (Corf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trayendo capitales (ProChil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Financiando investigación aplicada (InnovaChile, Conicyt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5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5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5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5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5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esemple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s propio de las economías, se reconocen cuatro tipos básic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tructural: cuando existen cambios en la estructura productiv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íclico: propio de los ciclos económic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tacional: asociado a períodos productivos (Ej. Temporeras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Friccional: tasa natural de desemple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Son pocas las herramientas que un estado moderno tiene, los apoyos se centran en facilitar al mercado la solución del problem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olíticas contra cíclic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apacitando al desemplead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ejorando la información (Bolsas de emple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Reconversión Industri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tímulos tributarios a la contratación de grupos objetiv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mpleos temporales de emergencia (en épocas de crisi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5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5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nfl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s el alza sostenida de los precios, inflaciones elevadas distorsionan el papel orientador de los precio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s en esencia un problema monetario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V=PQ (Teoría cuantitativa del diner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Banco Central tiene el monopolio de la emisión monetaria y maneja herramientas para controlar la cantidad de dinero en circulació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misión Primar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Tasa de encaj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Tasa de redescuent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Operaciones de Cambio (Compra-Venta de divis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Operaciones de Mercado Abierto (Compra – venta de papeles financiero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5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5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5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estas clases hemos visto las justificaciones teóricas que dan cabida a la intervención del Estado en una economía de merc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hora veremos como se financian estas intervenciones y porque no siempre es conveniente y/o falla la intervención estat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stabiliz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Para Ilustrarnos; La crisis crediticia visualizada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www.youtube.com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/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watch?v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=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YAKG8jmx6C0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&amp;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feature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0"/>
              </a:rPr>
              <a:t>=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1"/>
              </a:rPr>
              <a:t>relat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2"/>
              </a:rPr>
              <a:t>http://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3"/>
              </a:rPr>
              <a:t>www.youtube.com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4"/>
              </a:rPr>
              <a:t>/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5"/>
              </a:rPr>
              <a:t>watch?v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6"/>
              </a:rPr>
              <a:t>=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7"/>
              </a:rPr>
              <a:t>hBiiZQNmbc4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8"/>
              </a:rPr>
              <a:t>&amp;NR=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iclos Económ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desarrollo económico no es lineal, este está compuesto por ciclos con etapas de crecimiento (auge) y  de decrecimiento (crisis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 ser el Gasto Público uno de los componentes del PIB, este tiende el potencial de ahondar los ciclos o hacer que estos sean menos pronunciados.  Lo mismo sucede con el financiamiento públic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ado la existencia de rendimientos decrecientes, las etapas de crisis generan proporcionalmente mayores caídas en el bienestar que las etapas de au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teoría económica recomienda al estado hacer uso de la política fiscal y de la política monetaria para atenuar los cicl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in embargo, en términos prácticos, los gobiernos tienden a tener políticas pro- ciclic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280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uando aumenta el ingreso nacional (PIB), también lo hacen los ingresos públic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280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demás existe una mayor disposición a prestar por parte de los acreedores cuando las cosas marchan bi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280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r el lado de la política y de la ciudadanía existen presiones para aumentar el gasto y/o para disminuir los impuest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 opuesto ocurre durante las reces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l caer el ingreso nacional, cae la recaud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umentan las presiones por el gasto fiscal: seguros de desempleo, mayor consumo de bienes y servicios provistos por el estad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disposición a prestar por parte de los acreedores se deterior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sí se provocan presiones para que caigan los gastos discrecionales ahondando la recesión, en situaciones extremas incluso pueden caer los gastos habitua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3" descr=""/>
          <p:cNvPicPr/>
          <p:nvPr/>
        </p:nvPicPr>
        <p:blipFill>
          <a:blip r:embed="rId2"/>
          <a:stretch/>
        </p:blipFill>
        <p:spPr>
          <a:xfrm>
            <a:off x="515880" y="-892080"/>
            <a:ext cx="10320480" cy="825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gunos países han aprendido la lección…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hile destaca a nivel mundial por su política anticíclica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..conocida como la Regla del Superávit Estructu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…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n la cual se ahorra en períodos buenos (haciendo que el auge sea menos fuerte) y se gasta en períodos malos (evitando una caída muy pronunciad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Rectangle 2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Balance Fiscal Estructural</a:t>
            </a:r>
            <a:endParaRPr b="1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concepto es gastar únicamente el componente tendencial de los ingres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ingresos (cobre y no cobre) tienen un componente cíclico y de tend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Rectangle 2"/>
          <p:cNvSpPr/>
          <p:nvPr/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La Regla del Superávit Estructural</a:t>
            </a:r>
            <a:endParaRPr b="1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2"/>
          <a:stretch/>
        </p:blipFill>
        <p:spPr>
          <a:xfrm>
            <a:off x="560520" y="3521160"/>
            <a:ext cx="3724200" cy="22842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"/>
          <p:cNvPicPr/>
          <p:nvPr/>
        </p:nvPicPr>
        <p:blipFill>
          <a:blip r:embed="rId3"/>
          <a:stretch/>
        </p:blipFill>
        <p:spPr>
          <a:xfrm>
            <a:off x="4572000" y="3451320"/>
            <a:ext cx="3960720" cy="242568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6"/>
          <p:cNvSpPr/>
          <p:nvPr/>
        </p:nvSpPr>
        <p:spPr>
          <a:xfrm>
            <a:off x="1954080" y="5734080"/>
            <a:ext cx="10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No Cobre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Rectangle 7"/>
          <p:cNvSpPr/>
          <p:nvPr/>
        </p:nvSpPr>
        <p:spPr>
          <a:xfrm>
            <a:off x="6363360" y="5805360"/>
            <a:ext cx="75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Cobre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4:55:32Z</dcterms:created>
  <dc:creator>atomaselli</dc:creator>
  <dc:description/>
  <dc:language>en-US</dc:language>
  <cp:lastModifiedBy>atomaselli</cp:lastModifiedBy>
  <dcterms:modified xsi:type="dcterms:W3CDTF">2010-04-27T22:07:37Z</dcterms:modified>
  <cp:revision>121</cp:revision>
  <dc:subject/>
  <dc:title>Economía del Sector Público</dc:title>
</cp:coreProperties>
</file>