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104D-C173-49BC-8E25-9099D1980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2D09-F930-4E76-803C-34080D43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BC21FE-7C03-415D-AFBA-9C1677938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5875E0-3F7A-468C-A8E0-7AC700E61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B4F19A-52F3-4D3D-B872-E69A95F46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66EB39-A58D-4717-96FE-1F93AFA72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0628A-041C-4B00-A556-DFD98C724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A72EA-0E23-42D7-863B-C5768833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960266-C003-4123-BFB9-35770A91C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F3C5AB-F955-4F4E-9E1A-B6A14B9B42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AE3D27-E58A-4D04-AE45-34374D9AE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CE9A64-8ACA-4B3F-98B6-2185D484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1998-11A9-4A66-88D7-3FEA3285F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39ECF-4C2A-4AEB-87BB-E3E3269A8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EEB606-2EAB-4359-83D9-2DE476FC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5DE24E-7250-43F7-B753-C752FE3F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4D2B3-0E29-46BE-8F27-2363D386B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84533A-DAA9-4AC7-8BE6-037A52E2A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B79E59-20F6-46B1-A162-47CAFDCC9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2C03B6-3414-4C54-8BBA-89826E1D8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02A219-3C11-4271-B02F-C43B063F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FF8C80-7435-4401-AAFD-111D7CD2A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3A61A7-E418-4A26-A81C-F742605C9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DBF6-6AA8-41ED-9FBD-E41A53947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E83F9-9195-417F-A221-ED7D3CAE8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A15ACF-F31D-4F04-B937-FC272F6F8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F7183B-DF83-40F1-A9B9-7C2C83584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EF7C1C-BEC8-4CAB-ACCF-AD4F1741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E2C80B-4858-4188-9FA9-C4657A46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D9E6C3-9C70-4FFF-9F19-59509DEB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C25053-769D-4EB7-A9EA-E9BF28205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CD2B18-47C2-4D07-8BCA-B3107C333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3E650-2F41-4F08-8D04-FF565066C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FF832-3567-48E3-80DD-0D15C1F1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C39D6-7DF6-4B7D-B08D-72C0BE0E6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FFD0B2-8866-49DE-BA45-3A6F7884E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CE567E-44A1-40D6-A705-244F9022D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A8D26CC-E909-4E3A-98AC-86B081D3E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83218-7F20-4526-A2FB-E00024D8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C13A6-D999-4655-8D59-DF8605551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D559D-6CFC-45B2-8B40-45B88802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D232F-4C4F-4EDC-9A3B-512A1076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EDD40-98DE-426F-A0D2-CD87F35BB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81EE1-805C-4905-A123-C0AA222B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12B6-D3FB-4D9A-BB98-D75CE1DC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FEB0E-D13C-41E1-B5BA-16FD0182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2CCD-B011-4BD2-ADC4-92903470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848F3-B7F6-422E-8DA5-29B68DDE5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D7123-FB14-4823-BF0F-F7163527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DE35B-0798-4721-9C47-D5C335DFC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FF7F60-0350-49BF-8651-F2FE4D142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322F5-CFB1-453E-8094-C94430E28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3F66FE-EBAC-46E9-83BC-71C0A66F3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C0068-3756-4E5D-AFE0-98DC86F5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411BB-2F2A-4BD3-8040-F3529377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EFAA-2EB3-477B-862E-6EA4306C1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E0522-9B13-4B19-BA3F-2C33DECF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B9CF3D-5671-4BB0-BC40-11003371D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49427D-272F-4C64-9481-0AED4786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854A4-5A83-48A7-9BD5-7289F84FA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D1D69-0829-4A72-9274-ED1DEF04A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C23E2-B4B7-4768-BC53-EF47C260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10920F-6A4B-477F-B1B1-64D7D5EA1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C6C72D-B811-494F-A61B-6B69A2DC9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4F52D-5E55-4B0B-BF01-151A46FB7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64EC8F-6353-4758-9023-337BF234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ABE1-BF43-4CF8-AD79-8F224D56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98915-D6A3-4ED4-ABBC-4885AAD3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58EEE1-BE12-4E69-A566-BDDC005ED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D061E-4BDB-4F54-874A-639723E1E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807201-E95F-4B79-BEF0-7CB924770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D05F49-9F4B-4F8F-97B5-73619774D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2B165-DC2A-4B3D-A99B-03967296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C0372-BB29-4373-A137-DB30582A8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2A7CA3-4ABB-40F6-9612-059F6064C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1DB932-35C8-41BB-868F-667D8D806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11E57-A719-4CCC-B61E-7D6DA5561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8F57-7901-4F10-BDA5-239116C6F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5AF3A-6BF7-4217-8F8B-EB8E3E031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CF8FB6-04A0-48CF-82D1-D4EF06FB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24289-1D7C-4D31-B400-524B692F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E34F76-897C-4325-B97A-DC34BE54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46159-AA68-412E-BB66-68D73FFBD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7EAB0B-C748-40AD-A4EE-0CAD372B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488FAE-EF1F-4930-937E-49ABA6AC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CEA1B-C340-49CE-A4B1-8716AE03B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4F7240-54AF-46DF-A01F-A1B37196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E8615-A5A2-4637-B4E8-FA8FBC89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38E2-2C6F-4024-9683-6396B8A55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4DA88-428F-4D4D-B6C8-92F236C48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4AC2D7-1D9B-4124-8061-3F231DCC6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671E2-63C5-4DF9-8E74-5CF70D32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E97E29-2295-47E6-9E01-FDB7CE815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F1717F-DDF4-4B2F-9D98-E6DB9AF67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2A7A7C-9746-40F6-9868-9F28700A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555A4C-F040-45EF-8690-F5954B162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A76DFE-2231-4707-96A6-EFC3BF093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4051F5-7C59-423E-99E6-582AAE7B2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4BD9A1-2B39-4E31-8A1B-227D9C77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FE5E-1386-458D-A437-CFC43E8F9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68A2F2-D469-4796-95A5-D040F406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E477E1-574E-4C77-88E6-494F1BCA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E683C7-F551-4DA9-B56F-B96B3958B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2F93D2-BAF8-447E-85F9-7683E99F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BD63E7-9B98-4212-B8FA-E3E8F7C17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F75BDB-2CD0-40E6-B732-AEA58FD47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5467F-983D-4039-A26B-3C56D5134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EEAA1A-0522-4A5F-8B2A-FA9FD9F96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99F2CE-246B-47B9-8752-33BD3761C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A2F864-094B-42F7-B8D1-75DD9E111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737C-0B70-41B4-8C6C-7BD7FC17D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20C479-5C00-44A1-8864-9DDF08E1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851E37-BDA7-4725-9757-05CB47C9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27114-85C9-4EBC-BF61-7E086C17B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3A2B9-D6BA-48FE-980E-71E162A29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87B69C-66F2-4565-962C-5729FC6C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7AAED8-1294-419A-8755-21AEE8AC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74D5C7-CA6D-48B4-BD6A-8CDD282EE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F449ED-354E-4B03-9F2B-E4463B965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2E83A-3B62-4DA4-BDC7-BE4C19E7E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E55641-662C-4C74-9A26-6E163DE19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5AFB-ED96-49B6-821C-39A6C3A9F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FCBF42-DB4E-4BD7-B35D-D8416D4DB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9FC7B2-9BA8-4AB5-82F4-F3B210AB1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8F2755-DC3B-44CC-8474-888B2D689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23EE64-9030-4B11-B94F-5073B585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59E7E2-1B66-4594-A820-640BCB9DA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DA01D0-8412-4C99-9D3D-074C8EC8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2870C6-ADB4-42BA-B6BB-C6E447BE3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A1600-5FF2-4DA5-BDDA-8498378A0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1B5EC8-8346-4D56-ADDA-D54A76F59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EB95AB-AF82-4E10-8004-CABDCEAA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4C284-440F-49D7-98C3-6F1BB241A219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45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5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5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45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6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46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E550B-3048-491E-83A6-CA23E2335042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0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1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1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8C73-AF1C-4673-B174-C7A9A6EF2E77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59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B9486-86C4-4348-B1CF-CB3B2CA27638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3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5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7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8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10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d1eae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5F0C-97A3-42B7-BF6D-7FA6560E55AE}" type="slidenum">
              <a:rPr b="0" lang="es-ES" sz="1200" spc="-1" strike="noStrike">
                <a:solidFill>
                  <a:srgbClr val="d1eae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54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5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6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58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9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161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8E448-5416-4946-B52B-47F4098DC19E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4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05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6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07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09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0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12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B455-9FA7-4ACF-88F3-B33862EF0EA8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6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7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58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260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1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263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85E6-82D9-4368-BDFB-F53F3EEF03FA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0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14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B10EE-E688-4303-B052-6AD75F77C743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7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58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59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60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362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3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6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pic>
        <p:nvPicPr>
          <p:cNvPr id="365" name="Picture 7" descr=""/>
          <p:cNvPicPr/>
          <p:nvPr/>
        </p:nvPicPr>
        <p:blipFill>
          <a:blip r:embed="rId5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C51E-DC54-47AF-A9AF-786EC00ACFB9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9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0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411" name="Picture 7" descr=""/>
          <p:cNvPicPr/>
          <p:nvPr/>
        </p:nvPicPr>
        <p:blipFill>
          <a:blip r:embed="rId3"/>
          <a:stretch/>
        </p:blipFill>
        <p:spPr>
          <a:xfrm>
            <a:off x="6500880" y="5786280"/>
            <a:ext cx="2352600" cy="8766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7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45c75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EFCA2-EA39-469A-BC79-996B83EE199C}" type="slidenum">
              <a:rPr b="0" lang="es-ES" sz="1200" spc="-1" strike="noStrike">
                <a:solidFill>
                  <a:srgbClr val="045c75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youtube.com/watch?v=YAKG8jmx6C0&amp;feature=related" TargetMode="External"/><Relationship Id="rId3" Type="http://schemas.openxmlformats.org/officeDocument/2006/relationships/hyperlink" Target="http://www.youtube.com/watch?v=YAKG8jmx6C0&amp;feature=related" TargetMode="External"/><Relationship Id="rId4" Type="http://schemas.openxmlformats.org/officeDocument/2006/relationships/hyperlink" Target="http://www.youtube.com/watch?v=YAKG8jmx6C0&amp;feature=related" TargetMode="External"/><Relationship Id="rId5" Type="http://schemas.openxmlformats.org/officeDocument/2006/relationships/hyperlink" Target="http://www.youtube.com/watch?v=YAKG8jmx6C0&amp;feature=related" TargetMode="External"/><Relationship Id="rId6" Type="http://schemas.openxmlformats.org/officeDocument/2006/relationships/hyperlink" Target="http://www.youtube.com/watch?v=YAKG8jmx6C0&amp;feature=related" TargetMode="External"/><Relationship Id="rId7" Type="http://schemas.openxmlformats.org/officeDocument/2006/relationships/hyperlink" Target="http://www.youtube.com/watch?v=YAKG8jmx6C0&amp;feature=related" TargetMode="External"/><Relationship Id="rId8" Type="http://schemas.openxmlformats.org/officeDocument/2006/relationships/hyperlink" Target="http://www.youtube.com/watch?v=YAKG8jmx6C0&amp;feature=related" TargetMode="External"/><Relationship Id="rId9" Type="http://schemas.openxmlformats.org/officeDocument/2006/relationships/hyperlink" Target="http://www.youtube.com/watch?v=YAKG8jmx6C0&amp;feature=related" TargetMode="External"/><Relationship Id="rId10" Type="http://schemas.openxmlformats.org/officeDocument/2006/relationships/hyperlink" Target="http://www.youtube.com/watch?v=YAKG8jmx6C0&amp;feature=related" TargetMode="External"/><Relationship Id="rId11" Type="http://schemas.openxmlformats.org/officeDocument/2006/relationships/hyperlink" Target="http://www.youtube.com/watch?v=YAKG8jmx6C0&amp;feature=related" TargetMode="External"/><Relationship Id="rId12" Type="http://schemas.openxmlformats.org/officeDocument/2006/relationships/hyperlink" Target="http://www.youtube.com/watch?v=hBiiZQNmbc4&amp;NR=1" TargetMode="External"/><Relationship Id="rId13" Type="http://schemas.openxmlformats.org/officeDocument/2006/relationships/hyperlink" Target="http://www.youtube.com/watch?v=hBiiZQNmbc4&amp;NR=1" TargetMode="External"/><Relationship Id="rId14" Type="http://schemas.openxmlformats.org/officeDocument/2006/relationships/hyperlink" Target="http://www.youtube.com/watch?v=hBiiZQNmbc4&amp;NR=1" TargetMode="External"/><Relationship Id="rId15" Type="http://schemas.openxmlformats.org/officeDocument/2006/relationships/hyperlink" Target="http://www.youtube.com/watch?v=hBiiZQNmbc4&amp;NR=1" TargetMode="External"/><Relationship Id="rId16" Type="http://schemas.openxmlformats.org/officeDocument/2006/relationships/hyperlink" Target="http://www.youtube.com/watch?v=hBiiZQNmbc4&amp;NR=1" TargetMode="External"/><Relationship Id="rId17" Type="http://schemas.openxmlformats.org/officeDocument/2006/relationships/hyperlink" Target="http://www.youtube.com/watch?v=hBiiZQNmbc4&amp;NR=1" TargetMode="External"/><Relationship Id="rId18" Type="http://schemas.openxmlformats.org/officeDocument/2006/relationships/hyperlink" Target="http://www.youtube.com/watch?v=hBiiZQNmbc4&amp;NR=1" TargetMode="External"/><Relationship Id="rId1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Para la Prueba Rosen</a:t>
            </a:r>
            <a:br>
              <a:rPr sz="50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conomía del Bienestar, Cap4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Bienes públicos, Cap 5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xternalidades, Cap 6</a:t>
            </a:r>
            <a:br>
              <a:rPr sz="3200"/>
            </a:br>
            <a:r>
              <a:rPr b="0" lang="es-CL" sz="3200" spc="-1" strike="noStrike">
                <a:solidFill>
                  <a:srgbClr val="04617b"/>
                </a:solidFill>
                <a:latin typeface="Calibri"/>
              </a:rPr>
              <a:t>Equidad, Cap 8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ando los ingresos son mayores que sus niveles de tendencia esperados, se ahor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uando estos caen por debajo de la tendencia, se desahorr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ermitiendo ahorrar                                                       en años buenos y                                                        gastar en períodos                                                            malos…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Mitigando el Cicl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Rectangle 2"/>
          <p:cNvSpPr/>
          <p:nvPr/>
        </p:nvSpPr>
        <p:spPr>
          <a:xfrm>
            <a:off x="457200" y="18900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La Regla del Superávit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74" name="Picture 5" descr=""/>
          <p:cNvPicPr/>
          <p:nvPr/>
        </p:nvPicPr>
        <p:blipFill>
          <a:blip r:embed="rId2"/>
          <a:stretch/>
        </p:blipFill>
        <p:spPr>
          <a:xfrm>
            <a:off x="4067280" y="2852640"/>
            <a:ext cx="489744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5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500"/>
                                        <p:tgtEl>
                                          <p:spTgt spid="5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Responsabilidad Fiscal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prender a distinguir aquellos cambios en los ingresos permanentes de los temporal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Financiar Gasto Corriente únicamente con ingresos permanent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rar los ingresos temporales o utilizarlos en la adquisición de bienes de capi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" dur="500"/>
                                        <p:tgtEl>
                                          <p:spTgt spid="5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5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36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recimiento Económic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roblemas Existe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Decrecimi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recimiento Nulo o Escas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recimiento Fluctuant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teoría muestra como determinantes del crecimiento al ahorro, la inversión y la investigación y desarroll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8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l estado potencia el crecimiento económico de largo plazo al estimular estos determinante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bligando a las personas a ahorrar (AFP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imulando el ahorro con exoneraciones de impuest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nalizando y estimulando inversiones (Corf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Atrayendo capitales (ProChile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inanciando investigación aplicada (InnovaChile, Conicyt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5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4" dur="500"/>
                                        <p:tgtEl>
                                          <p:spTgt spid="5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5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5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5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5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5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57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7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57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57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Desempleo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propio de las economías, se reconocen cuatro tipos básico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ructural: cuando existen cambios en la estructura producti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íclico: propio de los ciclos económic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acional: asociado a períodos productivos (Ej. Temporeras)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Friccional: tasa natural de desemple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Son pocas las herramientas que un estado moderno tiene, los apoyos se centran en facilitar al mercado la solución del problema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Políticas contra cíclica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Capacitando al desemplead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ejorando la información (Bolsas de emple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Reconversión Industrial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stímulos tributarios a la contratación de grupos objetiv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mpleos temporales de emergencia (en épocas de crisi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2" dur="5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7" dur="500"/>
                                        <p:tgtEl>
                                          <p:spTgt spid="5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2" dur="500"/>
                                        <p:tgtEl>
                                          <p:spTgt spid="5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5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2" dur="500"/>
                                        <p:tgtEl>
                                          <p:spTgt spid="5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5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5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5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5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7" dur="500"/>
                                        <p:tgtEl>
                                          <p:spTgt spid="5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5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Infl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6840" y="1196640"/>
            <a:ext cx="8435880" cy="512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el alza sostenida de los precios, inflaciones elevadas distorsionan el papel orientador de los precios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Es en esencia un problema monetario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MV=PQ (Teoría cuantitativa del dinero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Constantia"/>
              </a:rPr>
              <a:t>Banco Central tiene el monopolio de la emisión monetaria y maneja herramientas para controlar la cantidad de dinero en circulació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Emisión Primari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 de encaj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Tasa de redescuent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peraciones de Cambio (Compra-Venta de divisa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Constantia"/>
              </a:rPr>
              <a:t>Operaciones de Mercado Abierto (Compra – venta de papeles financiero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7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2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5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4" dur="500"/>
                                        <p:tgtEl>
                                          <p:spTgt spid="5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5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estas clases hemos visto las justificaciones teóricas que dan cabida a la intervención del Estado en una economía de merca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veremos como se financian estas intervenciones y porque no siempre es conveniente y/o falla la intervención estat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Estabiliz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600" spc="-1" strike="noStrike">
                <a:solidFill>
                  <a:srgbClr val="04617b"/>
                </a:solidFill>
                <a:latin typeface="Calibri"/>
              </a:rPr>
              <a:t>Para Ilustrarnos; La crisis crediticia visualizada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2"/>
              </a:rPr>
              <a:t>http:/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3"/>
              </a:rPr>
              <a:t>www.youtube.com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4"/>
              </a:rPr>
              <a:t>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5"/>
              </a:rPr>
              <a:t>watch?v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6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7"/>
              </a:rPr>
              <a:t>YAKG8jmx6C0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8"/>
              </a:rPr>
              <a:t>&amp;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9"/>
              </a:rPr>
              <a:t>feature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0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1"/>
              </a:rPr>
              <a:t>relat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2"/>
              </a:rPr>
              <a:t>http:/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3"/>
              </a:rPr>
              <a:t>www.youtube.com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4"/>
              </a:rPr>
              <a:t>/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5"/>
              </a:rPr>
              <a:t>watch?v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6"/>
              </a:rPr>
              <a:t>=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7"/>
              </a:rPr>
              <a:t>hBiiZQNmbc4</a:t>
            </a:r>
            <a:r>
              <a:rPr b="0" lang="es-ES" sz="2400" spc="-1" strike="noStrike" u="sng">
                <a:solidFill>
                  <a:srgbClr val="e2d700"/>
                </a:solidFill>
                <a:uFillTx/>
                <a:latin typeface="Constantia"/>
                <a:hlinkClick r:id="rId18"/>
              </a:rPr>
              <a:t>&amp;NR=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5000" spc="-1" strike="noStrike">
                <a:solidFill>
                  <a:srgbClr val="04617b"/>
                </a:solidFill>
                <a:latin typeface="Calibri"/>
              </a:rPr>
              <a:t>Ciclos Económic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desarrollo económico no es lineal, este está compuesto por ciclos con etapas de crecimiento (auge) y  de decrecimiento (crisis)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 ser el Gasto Público uno de los componentes del PIB, este tiende el potencial de ahondar los ciclos o hacer que estos sean menos pronunciados.  Lo mismo sucede con el financiamiento públ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ado la existencia de rendimientos decrecientes, las etapas de crisis generan proporcionalmente mayores caídas en el bienestar que las etapas de au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5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teoría económica recomienda al estado hacer uso de la política fiscal y de la política monetaria para atenuar los cicl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Sin embargo, en términos prácticos, los gobiernos tienden a tener políticas pro- cicl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uando aumenta el ingreso nacional (PIB), también lo hacen los ingresos públic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demás existe una mayor disposición a prestar por parte de los acreedores cuando las cosas marchan bien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27920" indent="-2800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el lado de la política y de la ciudadanía existen presiones para aumentar el gasto y/o para disminuir los impuesto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7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 opuesto ocurre durante las recesion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l caer el ingreso nacional, cae la recaudació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an las presiones por el gasto fiscal: seguros de desempleo, mayor consumo de bienes y servicios provistos por 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disposición a prestar por parte de los acreedores se deterior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743040" indent="-285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sí se provocan presiones para que caigan los gastos discrecionales ahondando la recesión, en situaciones extremas incluso pueden caer los gastos habitu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5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5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3" descr=""/>
          <p:cNvPicPr/>
          <p:nvPr/>
        </p:nvPicPr>
        <p:blipFill>
          <a:blip r:embed="rId2"/>
          <a:stretch/>
        </p:blipFill>
        <p:spPr>
          <a:xfrm>
            <a:off x="515880" y="-892080"/>
            <a:ext cx="10320480" cy="825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gunos países han aprendido la lección…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hile destaca a nivel mundial por su política anticíclica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  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..conocida como la Regla del Superávit Estructur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…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n la cual se ahorra en períodos buenos (haciendo que el auge sea menos fuerte) y se gasta en períodos malos (evitando una caída muy pronunciada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Rectangle 2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Balance Fiscal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5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5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concepto es gastar únicamente el componente tendencial de los ingres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ingresos (cobre y no cobre) tienen un componente cíclico y de tendenc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Rectangle 2"/>
          <p:cNvSpPr/>
          <p:nvPr/>
        </p:nvSpPr>
        <p:spPr>
          <a:xfrm>
            <a:off x="457200" y="260280"/>
            <a:ext cx="822960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04617b"/>
                </a:solidFill>
                <a:latin typeface="Calibri"/>
              </a:rPr>
              <a:t>La Regla del Superávit Estructural</a:t>
            </a:r>
            <a:endParaRPr b="1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2"/>
          <a:stretch/>
        </p:blipFill>
        <p:spPr>
          <a:xfrm>
            <a:off x="560520" y="3521160"/>
            <a:ext cx="3724200" cy="22842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3"/>
          <a:stretch/>
        </p:blipFill>
        <p:spPr>
          <a:xfrm>
            <a:off x="4572000" y="3451320"/>
            <a:ext cx="3960720" cy="242568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6"/>
          <p:cNvSpPr/>
          <p:nvPr/>
        </p:nvSpPr>
        <p:spPr>
          <a:xfrm>
            <a:off x="1954080" y="5734080"/>
            <a:ext cx="1076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No Cobre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Rectangle 7"/>
          <p:cNvSpPr/>
          <p:nvPr/>
        </p:nvSpPr>
        <p:spPr>
          <a:xfrm>
            <a:off x="6363360" y="5805360"/>
            <a:ext cx="75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nstantia"/>
              </a:rPr>
              <a:t>Cobre</a:t>
            </a:r>
            <a:endParaRPr b="1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5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5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14:55:32Z</dcterms:created>
  <dc:creator>atomaselli</dc:creator>
  <dc:description/>
  <dc:language>en-US</dc:language>
  <cp:lastModifiedBy>atomaselli</cp:lastModifiedBy>
  <dcterms:modified xsi:type="dcterms:W3CDTF">2010-04-27T22:07:37Z</dcterms:modified>
  <cp:revision>121</cp:revision>
  <dc:subject/>
  <dc:title>Economía del Sector Público</dc:title>
</cp:coreProperties>
</file>