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5E5-6A86-40FB-B1CF-FBA15B9E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17F-71CD-44F3-B16D-E4119B6D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92EAF-92AA-468E-8CB0-7F071770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41D68-2985-406C-82D8-B10C7F3B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C027F-5EF4-40DA-890D-95E89127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68264-DB7D-4B05-A383-E007FE73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078E1-CAFC-408C-B57D-95726823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73753-CE49-4436-9A0B-CCDDC2D4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4B4DE-3457-47A9-82ED-95AFB58C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AC688-A2F2-42C5-8569-EC6BD187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153DB-E7F4-469B-9067-05BCD766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78AF7-4511-4192-A2E8-E4F290A4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E93-D5F5-4786-9A49-223EA711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F2D2A-D3E3-4DE7-A7AD-5B8908EE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AB241-0886-4286-92FF-EA393315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99B33-9F88-4DFB-83FD-196BD7E2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C4621-06EF-4CCE-BC0D-17F925BA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8CED7-76E9-458C-882D-0EC1A399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68B3F-1AD2-4CB6-80AA-750FE5E2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2CA33-AA81-42BF-89CA-6A70C81C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80973-CB34-4A2F-9623-2AC42CA5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87E5F-6DBF-4565-8960-DC15AFCC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CD491-3434-4544-A90C-03A8A469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1E1-51E3-4405-89F1-A76E9B4B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EBB09-12AC-46F0-BEFD-BEBA838E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07D77-F3D8-4574-B3DD-6474BCF1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F0C61-D9B0-4B0D-A229-0CE10064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B9A80-9F1C-4822-B55A-02A9381E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03950-25DF-4848-9769-2F397E76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6FF2A-6E87-4235-AADB-F27A6752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F0E38-FBE8-4F5D-BC19-376DC39D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AEC5A-D404-4FD1-9644-CF857B6A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CA55A-CBAD-405B-BF6D-196CD5A9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427FF-699E-4A6E-BB37-B6687785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DBA4-C70E-4E1E-AC28-9DAD54DA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6BD63-F736-41FA-BA0D-24BE4486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2A283-7B18-4206-A4DC-644E433A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3F3C9-11C1-4211-B937-8E176324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1F93-58E4-4600-8122-E2ADCE96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1889-AF5E-476D-822B-5C8606EA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7E97-ADFD-4960-AA7E-95894614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1C0F-4F72-42A3-A2AE-526A992B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B012-7ABE-4EC7-B263-0484E0F7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E436-6199-43F0-80D5-314D48E0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571-BEF2-4889-A4B3-A3FBEF66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0580-5F43-423D-B09D-0AE24821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BA56-C27F-4AAC-AA17-2DCA7BB0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52DE-E524-4C55-B000-E0E1A440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386A-2568-406D-A58E-4B747AB9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44EC-83C6-4B7D-929D-C6ACCCC2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8F191-0588-48F7-AF7C-9A0DB665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3A97F-53B4-4401-8535-3A70D038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BDBF2-F5DC-4548-B0EB-A25AB492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26691-8F21-4A16-901C-72FC9846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6C7CE-D5B3-41FE-846C-55938AD0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EC9-7228-4360-A7AB-A8CB7364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C1BED-7AA7-4D9B-A494-471979CC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10AF3-C3DC-4DE7-B662-7081F125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BE051-B313-4A7A-93DB-E81ABAA9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52A24-3E50-4627-8F2F-E598A0B4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A9BFC-C6F8-4741-B56D-3CDE4D95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AFD62-8EFE-4C32-868F-F51A3FB5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F973D-F844-4EB2-B721-A1E27C7A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73415-2CCB-4FCF-AC2E-836B98BE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BBD0C-E6C9-491B-8774-F0CB4721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C8B97-3B53-43EA-A924-8229901D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2972-C637-484C-A17E-1ACE544F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BC4BD-7BD6-48CB-9181-A96E66AD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72858-F28D-488C-B6C3-CF92E5F4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1ECD6-DE1F-404D-896A-03005F18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83FB8-A88D-4E39-B72F-B9339CE0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205F3-74C9-484F-B69E-686656B1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7A605-A5D5-4FC3-B75B-6D7E37D0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06A1F-42EF-4A13-8F1F-58D1EE91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CCE37-F721-4498-A8D5-9E49FA4D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D3DE5-75C4-4102-A76E-64FD4245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A45A5-15AB-45E1-94EE-626E9446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9FE-49EE-415F-801F-D48469E7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BB3F8-BE66-4B59-9EDC-3B5E802E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BDB7F-AA46-4FDB-84B2-D62E35DF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818A2-A0AB-440A-8999-725F548D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333D2-4F9D-43D2-951B-0B3373B0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994BD-2C15-472F-B70D-A641D28D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03551-016C-43A2-9CD7-89952740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64379-1CAE-41D4-B8AC-CA21E6D0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6BDD8-DE9D-489C-A2CD-EC278CC3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41043-A5D1-4AA7-8319-61562879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6E72A-E452-40D9-957E-CCD040E0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A81-4788-4159-B591-86B9FEF8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60250-8BB3-46CE-A7E7-67EA823C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16727-5162-47FA-9637-103150EB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FB30A-5193-4DB3-B7D1-6CA7690E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699B6-B1DE-4586-AA62-8ED994E9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4DC07-2AE6-44E3-B948-DE1A823F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7DC11-587D-4A48-9B08-8DA611AB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854FE-20E4-42F5-9B0C-729F76F8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79CCE-31D4-49F7-8A67-BAF9FB86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FAD82-8E88-450F-B4DD-6CB5A9B1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7829A-88B8-42CB-8FDF-06298DF1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689-2A26-497E-978F-0B6DC24F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379F3-DDE3-44CA-A57E-AA0F13F3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E9411-59DE-468E-B51E-5F821197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38975-1C28-4C0C-9168-5ECA9419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716FD-72DA-4BAA-86D2-4D3A829C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F4BEF-F1A6-45E8-A0B5-6FC64C24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7D436-497A-4A1E-A04E-6021EB20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27464-536A-4589-94F9-AE535CB9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2B247-A478-4F39-B6FE-B0F00F69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9CD14-ABC3-404C-8EA8-5388BDAF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DF16A-EF59-422D-8073-79446995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2274-2D2C-4D6F-A789-FE1224F8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02422-533B-4932-AC4E-AB857132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C7C8D-63E3-4345-A9E1-4966AF05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699D8-FD0D-48DE-AB44-958CAD51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99A44-5325-4856-BF86-03496984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6474B-E865-4209-833B-DC2E085B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BB7C3-5C24-44D1-9933-90C6C705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CF879-4027-42CA-AE5A-57CD2146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8FCCF-FC10-42FC-8EB7-17064D86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9C7EE-65C0-482B-A061-BB233520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919D5-FC09-4608-9141-BAFB3928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F7E-CE0A-458A-B395-0F50E003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C5D23-DCB4-4A57-8F67-45BEFBD4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A0826-92A7-46DA-9D22-AA0E8C5C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A330B-3F74-4EB3-A7C5-8344B8B6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35D17-DD3C-47C7-968B-B8966BF4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73496-CEA3-403F-A2F1-EC49A635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A6735-72C4-4588-AF91-7EF70878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262CF-6A70-4B89-8562-FE38A724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81958-28D3-41BB-A1E4-1CE88512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4ACD2-09EF-46F8-9BBD-F352C4E2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3656B-7D17-4D03-8939-36B90B6E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B3B4-3B42-49EF-88C8-142B3A826761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5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5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4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D390-CE53-492B-B693-7D43E339304C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5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CEC4-3708-4663-9670-8CA447F5F9EC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C93B-90F1-41BE-9A5E-DFBBBD6CD751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3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5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7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8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10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76FA-427F-434B-9DA7-B3CD37F32D37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4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5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6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8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9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61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FD5A-30AD-42B4-AADE-44DB58934E26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1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5E55-9A68-4679-9436-1F75D1AE7C1B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6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6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ED15-53E0-4633-A4EF-B62B88709DDA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1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2759-B688-4F30-9CB7-6B3A5B41A733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5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6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6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642C-9CBF-4E9E-81B3-81090AC7F93D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05DB-8CC6-4837-ACC7-5B38B5C37D6F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YAKG8jmx6C0&amp;feature=related" TargetMode="External"/><Relationship Id="rId3" Type="http://schemas.openxmlformats.org/officeDocument/2006/relationships/hyperlink" Target="http://www.youtube.com/watch?v=YAKG8jmx6C0&amp;feature=related" TargetMode="External"/><Relationship Id="rId4" Type="http://schemas.openxmlformats.org/officeDocument/2006/relationships/hyperlink" Target="http://www.youtube.com/watch?v=YAKG8jmx6C0&amp;feature=related" TargetMode="External"/><Relationship Id="rId5" Type="http://schemas.openxmlformats.org/officeDocument/2006/relationships/hyperlink" Target="http://www.youtube.com/watch?v=YAKG8jmx6C0&amp;feature=related" TargetMode="External"/><Relationship Id="rId6" Type="http://schemas.openxmlformats.org/officeDocument/2006/relationships/hyperlink" Target="http://www.youtube.com/watch?v=YAKG8jmx6C0&amp;feature=related" TargetMode="External"/><Relationship Id="rId7" Type="http://schemas.openxmlformats.org/officeDocument/2006/relationships/hyperlink" Target="http://www.youtube.com/watch?v=YAKG8jmx6C0&amp;feature=related" TargetMode="External"/><Relationship Id="rId8" Type="http://schemas.openxmlformats.org/officeDocument/2006/relationships/hyperlink" Target="http://www.youtube.com/watch?v=YAKG8jmx6C0&amp;feature=related" TargetMode="External"/><Relationship Id="rId9" Type="http://schemas.openxmlformats.org/officeDocument/2006/relationships/hyperlink" Target="http://www.youtube.com/watch?v=YAKG8jmx6C0&amp;feature=related" TargetMode="External"/><Relationship Id="rId10" Type="http://schemas.openxmlformats.org/officeDocument/2006/relationships/hyperlink" Target="http://www.youtube.com/watch?v=YAKG8jmx6C0&amp;feature=related" TargetMode="External"/><Relationship Id="rId11" Type="http://schemas.openxmlformats.org/officeDocument/2006/relationships/hyperlink" Target="http://www.youtube.com/watch?v=YAKG8jmx6C0&amp;feature=related" TargetMode="External"/><Relationship Id="rId12" Type="http://schemas.openxmlformats.org/officeDocument/2006/relationships/hyperlink" Target="http://www.youtube.com/watch?v=hBiiZQNmbc4&amp;NR=1" TargetMode="External"/><Relationship Id="rId13" Type="http://schemas.openxmlformats.org/officeDocument/2006/relationships/hyperlink" Target="http://www.youtube.com/watch?v=hBiiZQNmbc4&amp;NR=1" TargetMode="External"/><Relationship Id="rId14" Type="http://schemas.openxmlformats.org/officeDocument/2006/relationships/hyperlink" Target="http://www.youtube.com/watch?v=hBiiZQNmbc4&amp;NR=1" TargetMode="External"/><Relationship Id="rId15" Type="http://schemas.openxmlformats.org/officeDocument/2006/relationships/hyperlink" Target="http://www.youtube.com/watch?v=hBiiZQNmbc4&amp;NR=1" TargetMode="External"/><Relationship Id="rId16" Type="http://schemas.openxmlformats.org/officeDocument/2006/relationships/hyperlink" Target="http://www.youtube.com/watch?v=hBiiZQNmbc4&amp;NR=1" TargetMode="External"/><Relationship Id="rId17" Type="http://schemas.openxmlformats.org/officeDocument/2006/relationships/hyperlink" Target="http://www.youtube.com/watch?v=hBiiZQNmbc4&amp;NR=1" TargetMode="External"/><Relationship Id="rId18" Type="http://schemas.openxmlformats.org/officeDocument/2006/relationships/hyperlink" Target="http://www.youtube.com/watch?v=hBiiZQNmbc4&amp;NR=1" TargetMode="External"/><Relationship Id="rId1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ara la Prueba Rosen</a:t>
            </a:r>
            <a:br>
              <a:rPr sz="50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conomía del Bienestar, Cap4</a:t>
            </a:r>
            <a:br>
              <a:rPr sz="32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Bienes públicos, Cap 5</a:t>
            </a:r>
            <a:br>
              <a:rPr sz="32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xternalidades, Cap 6</a:t>
            </a:r>
            <a:br>
              <a:rPr sz="32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quidad, Cap 8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ando los ingresos son mayores que sus niveles de tendencia esperados, se ahor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ando estos caen por debajo de la tendencia, se desahor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mitiendo ahorrar                                                       en años buenos y                                                        gastar en períodos                                                            malos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itigando el Cicl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45720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La Regla del Superávit Estructural</a:t>
            </a:r>
            <a:endParaRPr b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4" name="Picture 5" descr=""/>
          <p:cNvPicPr/>
          <p:nvPr/>
        </p:nvPicPr>
        <p:blipFill>
          <a:blip r:embed="rId2"/>
          <a:stretch/>
        </p:blipFill>
        <p:spPr>
          <a:xfrm>
            <a:off x="4067280" y="2852640"/>
            <a:ext cx="489744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sponsabilidad Fisc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a distinguir aquellos cambios en los ingresos permanentes de los temporal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inanciar Gasto Corriente únicamente con ingresos permanen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horrar los ingresos temporales o utilizarlos en la adquisición de bienes de capit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recimiento Económ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oblemas Existe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ecrecimien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recimiento Nulo o Escas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recimiento Fluctuan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muestra como determinantes del crecimiento al ahorro, la inversión y la investigación y desarroll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estado potencia el crecimiento económico de largo plazo al estimular estos determina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Obligando a las personas a ahorrar (AFP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imulando el ahorro con exoneraciones de impuest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analizando y estimulando inversiones (Corf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trayendo capitales (ProChil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Financiando investigación aplicada (InnovaChile, Conicyt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esemple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 propio de las economías, se reconocen cuatro tipos básic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ructural: cuando existen cambios en la estructura productiv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íclico: propio de los ciclos económic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acional: asociado a períodos productivos (Ej. Temporer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Friccional: tasa natural de desemple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on pocas las herramientas que un estado moderno tiene, los apoyos se centran en facilitar al mercado la solución del proble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olíticas contra cíclic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apacitando al desemplea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ejorando la información (Bolsas de emple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econversión Industri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ímulos tributarios a la contratación de grupos objetiv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mpleos temporales de emergencia (en épocas de crisi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fl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 el alza sostenida de los precios, inflaciones elevadas distorsionan el papel orientador de los precio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 en esencia un problema monetario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V=PQ (Teoría cuantitativa del diner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Banco Central tiene el monopolio de la emisión monetaria y maneja herramientas para controlar la cantidad de dinero en circulació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misión Primar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Tasa de encaj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Tasa de redescuen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Operaciones de Cambio (Compra-Venta de divis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Operaciones de Mercado Abierto (Compra – venta de papeles financier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5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5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5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stas clases hemos visto las justificaciones teóricas que dan cabida a la intervención del Estado en una economía de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hora veremos como se financian estas intervenciones y porque no siempre es conveniente y/o falla la intervención estat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stabiliz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Para Ilustrarnos; La crisis crediticia visualizada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www.youtube.com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watch?v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=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YAKG8jmx6C0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&amp;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feature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=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rel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http:/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www.youtube.com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watch?v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6"/>
              </a:rPr>
              <a:t>=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7"/>
              </a:rPr>
              <a:t>hBiiZQNmbc4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8"/>
              </a:rPr>
              <a:t>&amp;NR=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iclos Económ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desarrollo económico no es lineal, este está compuesto por ciclos con etapas de crecimiento (auge) y  de decrecimiento (crisi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 ser el Gasto Público uno de los componentes del PIB, este tiende el potencial de ahondar los ciclos o hacer que estos sean menos pronunciados.  Lo mismo sucede con el financiamiento públ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ado la existencia de rendimientos decrecientes, las etapas de crisis generan proporcionalmente mayores caídas en el bienestar que las etapas de au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teoría económica recomienda al estado hacer uso de la política fiscal y de la política monetaria para atenuar los cicl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n embargo, en términos prácticos, los gobiernos tienden a tener políticas pro- ciclic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uando aumenta el ingreso nacional (PIB), también lo hacen los ingresos públ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demás existe una mayor disposición a prestar por parte de los acreedores cuando las cosas marchan bi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el lado de la política y de la ciudadanía existen presiones para aumentar el gasto y/o para disminuir los impuest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 opuesto ocurre durante las rece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l caer el ingreso nacional, cae la recaud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mentan las presiones por el gasto fiscal: seguros de desempleo, mayor consumo de bienes y servicios provistos por el esta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disposición a prestar por parte de los acreedores se deterior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sí se provocan presiones para que caigan los gastos discrecionales ahondando la recesión, en situaciones extremas incluso pueden caer los gastos habitu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3" descr=""/>
          <p:cNvPicPr/>
          <p:nvPr/>
        </p:nvPicPr>
        <p:blipFill>
          <a:blip r:embed="rId2"/>
          <a:stretch/>
        </p:blipFill>
        <p:spPr>
          <a:xfrm>
            <a:off x="515880" y="-892080"/>
            <a:ext cx="10320480" cy="82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países han aprendido la lección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hile destaca a nivel mundial por su política anticíclica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..conocida como la Regla del Superávit Estruc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 la cual se ahorra en períodos buenos (haciendo que el auge sea menos fuerte) y se gasta en períodos malos (evitando una caída muy pronunciad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Balance Fiscal Estructural</a:t>
            </a:r>
            <a:endParaRPr b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concepto es gastar únicamente el componente tendencial de los ingres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ngresos (cobre y no cobre) tienen un componente cíclico y de t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Rectangle 2"/>
          <p:cNvSpPr/>
          <p:nvPr/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La Regla del Superávit Estructural</a:t>
            </a:r>
            <a:endParaRPr b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60520" y="3521160"/>
            <a:ext cx="3724200" cy="2284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4572000" y="3451320"/>
            <a:ext cx="3960720" cy="242568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6"/>
          <p:cNvSpPr/>
          <p:nvPr/>
        </p:nvSpPr>
        <p:spPr>
          <a:xfrm>
            <a:off x="1954080" y="573408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No Cobre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6363360" y="580536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Cobre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4-27T22:07:37Z</dcterms:modified>
  <cp:revision>121</cp:revision>
  <dc:subject/>
  <dc:title>Economía del Sector Público</dc:title>
</cp:coreProperties>
</file>