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0968-189B-4033-91FE-522DF345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3F7B-B792-4A59-BBD2-EA86B280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7C4CC-AA19-4216-A3D5-28C5D16F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149DD-DD1D-466A-9FE5-00B1FBE9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F9A33-778B-4D6B-8B24-24948BB0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D60A9-C3AB-4F76-B694-C9C9D402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3CD4E-83FE-4A75-A871-141B0DAE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F2D59-60EC-441D-B699-C455632C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38DD9-CDF7-4807-801A-BA3DA04C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EC1EE-2D70-473A-82B5-A4BD2F0C9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BF2AB3-4BE3-45BA-8AD3-2B32861D1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FE53D-FF9A-4593-814D-51B3AD591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3CA4-34F2-4319-8179-3FA6C7775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67B4F-BBC2-4BE8-B5F7-144F2873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6351C3-6B5A-4383-B2FC-D2884752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86059E-C1A8-498A-9DED-3CCED8B5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AA8700-3262-4BA7-82DD-6F1D0A4E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B4808A-0FC3-4885-A7C1-DFF85369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45E61-AC2A-4E58-B1D7-FE3FF13D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2D8684-C891-4965-B7E7-00E32239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D1DE66-87FF-4C76-B825-AD0CFC7B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0EB30-9367-4771-856D-E7D2D736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D8E54D-F2EE-43CD-A1AA-B8C552554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EBB6-4780-4318-A72A-918FF1F42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6E698A-C5F0-4EF4-9052-35172C0EA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99064-DFA3-4C30-963F-9D7E84998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54003-D02A-4448-8456-9C8B654B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7DC6C-5213-491F-8AC8-1CD38234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8923B-BCEF-4E26-9351-84032123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766AB-6A93-4EF6-A421-49DD14CB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AD99C-1AA7-41A1-A420-EE8504BD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194CE-1B90-4362-921D-8D8DA635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85C29-BC4E-4599-A77F-06985A45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4431E-238B-4187-A2EB-35DB9E29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4809-789F-4464-8541-F96519905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0A520-A200-4C3E-880C-5D839DAC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576B6-CB7E-4718-9948-9CA54121E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FD0389-4DD0-43A3-AC0F-D6812A6D3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E24C-0028-4F74-964E-F7B139DD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89F2-DEEB-43CD-AC44-BCE6D57E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E038-6B30-4344-A768-68446ECA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C2F3-B8F6-4023-961B-584033E0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2D08-2365-47C5-85CC-AD103D49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CA69-16D7-420E-BC04-C4F73E9C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CFCD-4E7D-4125-A962-36DF383A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CFD8-2C68-4975-AB3E-5D01997B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0EB6-FA7D-44AC-BB52-60C783CD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7BBD-2BCC-4B57-8A17-943D8037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6070-92A3-4AFB-8253-F33888880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709C-D12B-43F3-8C72-AE2FEC87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4620C-EA02-4B76-8B62-0E60D1A61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F6CAA-482F-4466-86E6-EAD6B1D9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40FE5-CE24-4303-98E9-F0110A15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53341-2572-4C9D-B768-BCB4BC2F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3EA57-E768-4811-928D-C4858DE4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D969-B2F6-43AA-952E-A65968D2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BC982-40EE-4628-B4AF-5F498F19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46D3B-236C-4A25-BB93-936C86E1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7C55C-B8E0-48F6-A873-185D1C14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17A46-54B3-466D-929A-2AD025B5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3C2BB-8B26-4799-9C2F-28AC6756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81C19-929D-4647-B682-28CB2323E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68F2E-561D-417E-9842-92A39FD25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EA8CC-9401-4891-B9AD-8A015D7F1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5A77C-1814-4149-A6DD-106DA7D8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C294A-B6F6-4851-803C-89172CDE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749E-F592-4186-BB9B-CA1AC3C3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FE0BE-ABC6-4311-8148-435B4342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DA7C0-B691-4033-91AB-1163D7A1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E9670-14A0-4AE3-9AFC-20093EEF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0BBA5-D8CE-47BA-8292-B71F6F69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1A0BF-1AC6-42D8-A666-EC2C4DA3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8226E-7DBB-4836-A471-572E778C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82EA8-8EF3-488B-BCC6-7EE22CE1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6EA5B-1B1D-4B33-896C-3D2E487E0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4B4F6-6FD2-405C-9A18-3E60C7817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96F9E-D01B-4A01-8D70-0AAC4AF77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9E2D-DD2A-4D01-AA65-E209B1B8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85B07-2CAC-457C-A761-67F3F278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1150E-B6C8-4827-9249-18FF0A1C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A3360-B0C5-4988-9F72-8109B921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846D3-CDDA-4E1B-8DAA-48E84F53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7AC32-9CFC-476C-83D8-58C1A247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29B3A-87C0-415B-882E-54346775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71ED3-6F50-42C2-9770-FA0438FB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5B43B-0C33-4293-8D8E-5CF38467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8D78A-258E-4906-92B9-5B4B793B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693B3-73C2-4386-9BF3-9C01A4926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AD74-CE60-45E3-B9EB-C638A916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46884-1880-493B-848E-D009EF426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CBDCE-37B4-4BB0-BF00-E1F648B0E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7A17F-004B-44FB-8FE2-BE373E0B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44DE4-E9AF-42B2-AD07-72BE27FF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6A3AA-9A47-44DB-B5EA-01E59FE4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A1157-383E-4316-9F2B-D5BE8566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B23D4-15A4-48AA-9808-54C1BA4A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A653A-785C-4AC5-9A05-89360CDC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59D86-A1B5-45D8-9D10-792CCD5C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E5942-3CA9-46D2-8211-45B8CBA6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C834-876C-42D1-8104-492C4B69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7F047-98F6-4102-B5FF-CFB7AA10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14EBE-9377-43D3-B816-D04785EB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2F2C0-0A21-41FD-9DF7-AD1257D36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ADC0E-06CE-42F3-A08B-99F9A28D4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8D0B9-19BC-4487-A90F-87CB79F2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99685-45CB-429D-BB67-DC725D3B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445A0-5CD7-4106-9EFB-17FE7700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635BE-0F60-483D-A47A-80BAD9E6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0952F-209E-460F-ADE5-8137A0F6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B3725-A67F-4BAA-81DD-50004FE2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2EEE-31E6-49EF-86F3-BF96FAA2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7F443-5BC5-4A91-B861-09D7EE8B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DC13B-23FC-490E-86DD-A0BDCB21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88C22-42FA-4093-9729-86E46C2B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01556-4582-4758-A55B-7DE1404BC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B3658-F875-4707-8502-B3D906354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D2396-5A62-4259-8987-E2306B664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FF83A-BBD0-4E6E-85E9-6CD80A0B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252BA-D0FE-4966-9B09-740AFB0C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363A9-C3CB-4AFA-8CA8-B3BC919C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AB97E-5CAD-45F5-8DD4-0E1F7EE6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A356-7F8D-41F0-AB4F-CA20CA4E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3FF98-982E-4D69-AEA5-843D9B61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59722-D4E6-4C3E-B4FD-CFA957D4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3F416-D01E-4B39-8A2D-4039644E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8CA4D-AAC3-4A21-B5F4-532B77BA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6C348-1BBD-4FFA-B7A2-7AEED481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4B813-26C4-4993-B709-E3E62E215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D099D-0C8E-4101-99B3-5EF9F78B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2107F-096F-4224-BBCA-93E1929DE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17175-CEC0-4749-9E04-E44C9C14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724E0-B4C8-4006-AB40-A2269C2C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D247-4CE4-4FC2-BEE4-129FE827863A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55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6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7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459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60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462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0F62-51F2-4A77-9D23-3663B583C655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5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06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07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8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10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1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513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0485-811A-41AF-BEDE-7624470721D9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59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C62E-83AF-4038-B6AD-5D23A987BF2E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3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4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5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7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8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110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2B9E-8AE1-4EC4-B020-6574FEF5B8E0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4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5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6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8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9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161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273F-AE98-49E8-8B74-BE5D91A026EF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05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6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7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9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0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212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E265-D45D-4352-9CB9-8C45F3CE14C4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56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7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8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60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1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263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B30F-8417-4172-A404-72E0865A0DED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0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314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9E7B-9F4D-4037-817F-51C19D15C520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58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9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60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62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3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365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526F-BEAB-4CA3-8D94-AD09D2889A31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1" name="Picture 7" descr=""/>
          <p:cNvPicPr/>
          <p:nvPr/>
        </p:nvPicPr>
        <p:blipFill>
          <a:blip r:embed="rId3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2F94-3CE8-4157-A068-07CEE8B2143B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YAKG8jmx6C0&amp;feature=related" TargetMode="External"/><Relationship Id="rId3" Type="http://schemas.openxmlformats.org/officeDocument/2006/relationships/hyperlink" Target="http://www.youtube.com/watch?v=YAKG8jmx6C0&amp;feature=related" TargetMode="External"/><Relationship Id="rId4" Type="http://schemas.openxmlformats.org/officeDocument/2006/relationships/hyperlink" Target="http://www.youtube.com/watch?v=YAKG8jmx6C0&amp;feature=related" TargetMode="External"/><Relationship Id="rId5" Type="http://schemas.openxmlformats.org/officeDocument/2006/relationships/hyperlink" Target="http://www.youtube.com/watch?v=YAKG8jmx6C0&amp;feature=related" TargetMode="External"/><Relationship Id="rId6" Type="http://schemas.openxmlformats.org/officeDocument/2006/relationships/hyperlink" Target="http://www.youtube.com/watch?v=YAKG8jmx6C0&amp;feature=related" TargetMode="External"/><Relationship Id="rId7" Type="http://schemas.openxmlformats.org/officeDocument/2006/relationships/hyperlink" Target="http://www.youtube.com/watch?v=YAKG8jmx6C0&amp;feature=related" TargetMode="External"/><Relationship Id="rId8" Type="http://schemas.openxmlformats.org/officeDocument/2006/relationships/hyperlink" Target="http://www.youtube.com/watch?v=YAKG8jmx6C0&amp;feature=related" TargetMode="External"/><Relationship Id="rId9" Type="http://schemas.openxmlformats.org/officeDocument/2006/relationships/hyperlink" Target="http://www.youtube.com/watch?v=YAKG8jmx6C0&amp;feature=related" TargetMode="External"/><Relationship Id="rId10" Type="http://schemas.openxmlformats.org/officeDocument/2006/relationships/hyperlink" Target="http://www.youtube.com/watch?v=YAKG8jmx6C0&amp;feature=related" TargetMode="External"/><Relationship Id="rId11" Type="http://schemas.openxmlformats.org/officeDocument/2006/relationships/hyperlink" Target="http://www.youtube.com/watch?v=YAKG8jmx6C0&amp;feature=related" TargetMode="External"/><Relationship Id="rId12" Type="http://schemas.openxmlformats.org/officeDocument/2006/relationships/hyperlink" Target="http://www.youtube.com/watch?v=hBiiZQNmbc4&amp;NR=1" TargetMode="External"/><Relationship Id="rId13" Type="http://schemas.openxmlformats.org/officeDocument/2006/relationships/hyperlink" Target="http://www.youtube.com/watch?v=hBiiZQNmbc4&amp;NR=1" TargetMode="External"/><Relationship Id="rId14" Type="http://schemas.openxmlformats.org/officeDocument/2006/relationships/hyperlink" Target="http://www.youtube.com/watch?v=hBiiZQNmbc4&amp;NR=1" TargetMode="External"/><Relationship Id="rId15" Type="http://schemas.openxmlformats.org/officeDocument/2006/relationships/hyperlink" Target="http://www.youtube.com/watch?v=hBiiZQNmbc4&amp;NR=1" TargetMode="External"/><Relationship Id="rId16" Type="http://schemas.openxmlformats.org/officeDocument/2006/relationships/hyperlink" Target="http://www.youtube.com/watch?v=hBiiZQNmbc4&amp;NR=1" TargetMode="External"/><Relationship Id="rId17" Type="http://schemas.openxmlformats.org/officeDocument/2006/relationships/hyperlink" Target="http://www.youtube.com/watch?v=hBiiZQNmbc4&amp;NR=1" TargetMode="External"/><Relationship Id="rId18" Type="http://schemas.openxmlformats.org/officeDocument/2006/relationships/hyperlink" Target="http://www.youtube.com/watch?v=hBiiZQNmbc4&amp;NR=1" TargetMode="External"/><Relationship Id="rId1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052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Para la Prueba Rosen</a:t>
            </a:r>
            <a:br>
              <a:rPr sz="5000"/>
            </a:b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Economía del Bienestar, Cap4</a:t>
            </a:r>
            <a:br>
              <a:rPr sz="3200"/>
            </a:b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Bienes públicos, Cap 5</a:t>
            </a:r>
            <a:br>
              <a:rPr sz="3200"/>
            </a:b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Externalidades, Cap 6</a:t>
            </a:r>
            <a:br>
              <a:rPr sz="3200"/>
            </a:b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Equidad, Cap 8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2296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uando los ingresos son mayores que sus niveles de tendencia esperados, se ahor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uando estos caen por debajo de la tendencia, se desahor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ermitiendo ahorrar                                                       en años buenos y                                                        gastar en períodos                                                            malos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itigando el Cicl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Rectangle 2"/>
          <p:cNvSpPr/>
          <p:nvPr/>
        </p:nvSpPr>
        <p:spPr>
          <a:xfrm>
            <a:off x="457200" y="18900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La Regla del Superávit Estructural</a:t>
            </a:r>
            <a:endParaRPr b="1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74" name="Picture 5" descr=""/>
          <p:cNvPicPr/>
          <p:nvPr/>
        </p:nvPicPr>
        <p:blipFill>
          <a:blip r:embed="rId2"/>
          <a:stretch/>
        </p:blipFill>
        <p:spPr>
          <a:xfrm>
            <a:off x="4067280" y="2852640"/>
            <a:ext cx="489744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esponsabilidad Fisc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prender a distinguir aquellos cambios en los ingresos permanentes de los temporal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Financiar Gasto Corriente únicamente con ingresos permanent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horrar los ingresos temporales o utilizarlos en la adquisición de bienes de capit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recimiento Económ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roblemas Existent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Decrecimient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recimiento Nulo o Escas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recimiento Fluctuant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teoría muestra como determinantes del crecimiento al ahorro, la inversión y la investigación y desarroll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estado potencia el crecimiento económico de largo plazo al estimular estos determinant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Obligando a las personas a ahorrar (AFP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timulando el ahorro con exoneraciones de impuest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analizando y estimulando inversiones (Corf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trayendo capitales (ProChil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Financiando investigación aplicada (InnovaChile, Conicyt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5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5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5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5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5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esemple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s propio de las economías, se reconocen cuatro tipos básic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tructural: cuando existen cambios en la estructura productiv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íclico: propio de los ciclos económic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tacional: asociado a períodos productivos (Ej. Temporeras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Friccional: tasa natural de desemple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Son pocas las herramientas que un estado moderno tiene, los apoyos se centran en facilitar al mercado la solución del problem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olíticas contra cíclic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apacitando al desemplead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Mejorando la información (Bolsas de emple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Reconversión Industri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tímulos tributarios a la contratación de grupos objetiv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mpleos temporales de emergencia (en épocas de crisi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5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5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nfl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s el alza sostenida de los precios, inflaciones elevadas distorsionan el papel orientador de los precio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s en esencia un problema monetario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MV=PQ (Teoría cuantitativa del diner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Banco Central tiene el monopolio de la emisión monetaria y maneja herramientas para controlar la cantidad de dinero en circulació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misión Primari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Tasa de encaj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Tasa de redescuent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Operaciones de Cambio (Compra-Venta de divis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Operaciones de Mercado Abierto (Compra – venta de papeles financiero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5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5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5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estas clases hemos visto las justificaciones teóricas que dan cabida a la intervención del Estado en una economía de merc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hora veremos como se financian estas intervenciones y porque no siempre es conveniente y/o falla la intervención estat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stabiliz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Para Ilustrarnos; La crisis crediticia visualizada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www.youtube.com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/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watch?v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=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YAKG8jmx6C0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&amp;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9"/>
              </a:rPr>
              <a:t>feature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0"/>
              </a:rPr>
              <a:t>=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1"/>
              </a:rPr>
              <a:t>relat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2"/>
              </a:rPr>
              <a:t>http://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3"/>
              </a:rPr>
              <a:t>www.youtube.com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4"/>
              </a:rPr>
              <a:t>/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5"/>
              </a:rPr>
              <a:t>watch?v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6"/>
              </a:rPr>
              <a:t>=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7"/>
              </a:rPr>
              <a:t>hBiiZQNmbc4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8"/>
              </a:rPr>
              <a:t>&amp;NR=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iclos Económ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desarrollo económico no es lineal, este está compuesto por ciclos con etapas de crecimiento (auge) y  de decrecimiento (crisis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 ser el Gasto Público uno de los componentes del PIB, este tiende el potencial de ahondar los ciclos o hacer que estos sean menos pronunciados.  Lo mismo sucede con el financiamiento públic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ado la existencia de rendimientos decrecientes, las etapas de crisis generan proporcionalmente mayores caídas en el bienestar que las etapas de au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teoría económica recomienda al estado hacer uso de la política fiscal y de la política monetaria para atenuar los cicl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in embargo, en términos prácticos, los gobiernos tienden a tener políticas pro- ciclic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27920" indent="-280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uando aumenta el ingreso nacional (PIB), también lo hacen los ingresos públic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27920" indent="-280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demás existe una mayor disposición a prestar por parte de los acreedores cuando las cosas marchan bi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27920" indent="-280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r el lado de la política y de la ciudadanía existen presiones para aumentar el gasto y/o para disminuir los impuest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 opuesto ocurre durante las reces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l caer el ingreso nacional, cae la recaud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umentan las presiones por el gasto fiscal: seguros de desempleo, mayor consumo de bienes y servicios provistos por el estad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disposición a prestar por parte de los acreedores se deterior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sí se provocan presiones para que caigan los gastos discrecionales ahondando la recesión, en situaciones extremas incluso pueden caer los gastos habitua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3" descr=""/>
          <p:cNvPicPr/>
          <p:nvPr/>
        </p:nvPicPr>
        <p:blipFill>
          <a:blip r:embed="rId2"/>
          <a:stretch/>
        </p:blipFill>
        <p:spPr>
          <a:xfrm>
            <a:off x="515880" y="-892080"/>
            <a:ext cx="10320480" cy="825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gunos países han aprendido la lección…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hile destaca a nivel mundial por su política anticíclica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..conocida como la Regla del Superávit Estructu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…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n la cual se ahorra en períodos buenos (haciendo que el auge sea menos fuerte) y se gasta en períodos malos (evitando una caída muy pronunciad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Rectangle 2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Balance Fiscal Estructural</a:t>
            </a:r>
            <a:endParaRPr b="1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2296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concepto es gastar únicamente el componente tendencial de los ingres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ingresos (cobre y no cobre) tienen un componente cíclico y de tend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Rectangle 2"/>
          <p:cNvSpPr/>
          <p:nvPr/>
        </p:nvSpPr>
        <p:spPr>
          <a:xfrm>
            <a:off x="457200" y="26028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La Regla del Superávit Estructural</a:t>
            </a:r>
            <a:endParaRPr b="1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8" name="Picture 4" descr=""/>
          <p:cNvPicPr/>
          <p:nvPr/>
        </p:nvPicPr>
        <p:blipFill>
          <a:blip r:embed="rId2"/>
          <a:stretch/>
        </p:blipFill>
        <p:spPr>
          <a:xfrm>
            <a:off x="560520" y="3521160"/>
            <a:ext cx="3724200" cy="22842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"/>
          <p:cNvPicPr/>
          <p:nvPr/>
        </p:nvPicPr>
        <p:blipFill>
          <a:blip r:embed="rId3"/>
          <a:stretch/>
        </p:blipFill>
        <p:spPr>
          <a:xfrm>
            <a:off x="4572000" y="3451320"/>
            <a:ext cx="3960720" cy="242568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6"/>
          <p:cNvSpPr/>
          <p:nvPr/>
        </p:nvSpPr>
        <p:spPr>
          <a:xfrm>
            <a:off x="1954080" y="5734080"/>
            <a:ext cx="10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No Cobre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Rectangle 7"/>
          <p:cNvSpPr/>
          <p:nvPr/>
        </p:nvSpPr>
        <p:spPr>
          <a:xfrm>
            <a:off x="6363360" y="5805360"/>
            <a:ext cx="75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Cobre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4:55:32Z</dcterms:created>
  <dc:creator>atomaselli</dc:creator>
  <dc:description/>
  <dc:language>en-US</dc:language>
  <cp:lastModifiedBy>atomaselli</cp:lastModifiedBy>
  <dcterms:modified xsi:type="dcterms:W3CDTF">2010-04-27T22:07:37Z</dcterms:modified>
  <cp:revision>121</cp:revision>
  <dc:subject/>
  <dc:title>Economía del Sector Público</dc:title>
</cp:coreProperties>
</file>