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9AC-CFF6-4A35-B4A5-BF0D5D2C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63F-CD52-4FB8-AB0A-21130EB4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0E138-D511-4CF8-8E35-9D1C97EA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EF649-2E02-476D-96FC-5B835302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0E494-EB73-49DA-9024-6CE9B7A3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99EE0-98A3-432C-BFCD-B76386A3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0B7F1-6D15-4BFC-9C8E-CE4EE6F3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AADB1-9755-4841-B8E6-05AF3096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95241-3D2E-491B-89BC-616D9011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19BCF-BDEB-410B-87BA-C2FB0FAF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ED7D9-0621-49D1-9662-71B5AE03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FBEAD-D0B7-44C3-92A3-7D396F5A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765-687F-46F6-8E6D-A4FE03508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7C57B-2AEA-43A3-859E-3DA768EA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E1C2D-CD78-4610-B50C-DCF49997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24517-5C41-4AEC-98FF-A7EAA3D6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58794-56B1-47B9-85DC-C14A5772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88E62-640C-45E6-B1BB-90BCF273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E8C8B-3583-4AE2-A7EE-B85F5C08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6445B-2550-4627-994C-85368070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104BD-BA0A-4107-8336-4BAD6491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37D01-08D5-4CD6-8220-241DCB6D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D4A98-F68D-49A9-9F33-F1967951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F5B-BDD5-4B5A-867C-1EB53697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7CBB7-41D3-4AE0-BF87-692BBA1B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D51B4-3755-44DB-8F12-29C0CF51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9054A-BCF0-464F-9C2A-E66BD5F5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08A66-1DFD-4DF4-BFCD-75A21BD2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92EC6-9192-4280-8117-2257C15B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D3363-A620-431A-9249-C4A01474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28E93-8317-4965-AC6D-B8F08392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48767-07CF-4F8D-BCB7-427FA23C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98DE8-E0EB-4500-AA6D-BBB9BB67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F83FA-6EEA-44B4-91A0-1B276536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C10F-6AE1-41A3-9DFD-40DA81B6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9513C-03F0-46CC-86ED-49690696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E6ECB-DEBD-4B22-9330-7B6B57B8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45454-6788-41B3-B11C-C66F224F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4D17-B9F7-46C8-9AD8-EAC109F2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383F-8099-41AE-8630-F4ED279E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68D6-D968-4E69-B3D4-173871E9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3D5B-B393-4077-BACA-86FE721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607B-7287-45C6-9CE6-D547B5A5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7DB8-D2D0-45A4-91CA-49E706C6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AC4-393B-4C6B-B1EF-EACABC97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AE16-B210-475A-81BA-98BF4308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9E63-B338-470E-85FD-62B0A75E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7BDE-8F3F-47F4-B849-327BFEDB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91C1-A056-454B-9226-D0D6F52A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50B9-D858-45F2-A57C-931B69D0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A7D22-DE79-4EEB-A6EF-1783A079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11DB0-474E-4BE0-8C94-FAEF9271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5765-0D05-4EBE-A0A0-64985559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1215-6785-4FFA-AAA9-D91D99AF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1ECE-4E31-4AC9-ADE0-D73938AE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898-F998-4816-8F3D-A095A239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E1F9-1991-4848-937E-89C714A8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81A5-689C-415E-8C7B-27B4FEE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F2C7-B9B1-4A5F-9F2D-AB32CAB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C942-9809-4B0E-8B74-7C9FB724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3F0E-A3BA-4BEA-98F3-4756D7AE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2911E-8C1D-44BB-A7AD-F90F53BC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4DE19-DD5D-49F1-841B-3EF15BF7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3B8D-B06A-447D-B44E-6276E79A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16007-03B8-4B9B-8E47-B6F55F25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FE975-3A42-44C6-8CBB-F33FB01F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F4A3-1DAC-47C4-AFBA-8B3C6F01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DF4B-87AE-470B-9820-CE721DFA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D5C3F-6713-4243-AC56-C539C6E7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1906D-CC18-42B0-94AF-8F625B61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53FCA-11FA-4770-92D4-EBB91389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5D49F-0177-4C23-997F-1AEDFCDB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F2E8-507F-47EA-9246-D18C3EB6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DD55-2BEF-4DE2-B9CB-E666763C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73BDF-8F4D-4D72-854C-BCE7E265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9A3A-0A03-4FB8-AA06-D23BDFC7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A41F6-CF6F-4859-81C5-4C37C68A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959-2761-4819-A7D3-B83901A1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B3938-6CE2-4CE9-B747-F5824429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3BA75-1658-4C48-8C83-89DA1208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05B2-3A0C-42A9-93B0-2A6B9692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CA931-8936-4D03-853B-8A8C5B5A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E91D7-2634-4AF9-80AB-CF1A1C87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E893-696F-4089-9BEA-FA1CC27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DCB6E-0564-4021-83DA-B31C540E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3EA0D-F826-474C-AEA3-004FEE3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BDEA5-F552-4D00-AA17-50CF42B9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BECC9-90E1-4100-8588-690A906E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17F-3DB1-453E-A4D6-FD81D2BE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28EC5-C461-4E06-B2CC-B8108EC1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10C1-6CFF-44E8-A3B0-B8A9137C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4935F-9F1E-4B5E-9795-41BEA1F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2BFFD-1D22-41B6-8823-FD279D3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130AB-6F86-4591-9406-F790A86C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D3BAA-913C-428D-B816-E06B0DB5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58A59-A4B0-4AF3-A44B-7308A7FA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6E5AA-5A5D-45BF-8A37-89D0D6E1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8AC1D-420C-4727-AAFB-93B0F963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DFA4E-FD82-494C-BBB9-4AF5EC64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EE04-78FB-409B-B254-15C47CE8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DF7E2-216E-44AF-9716-9778C401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E8A7B-D3F4-4DAE-9ADA-40E793EE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E836F-55C3-45EC-A561-7A7A28CC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C9921-6E6C-453E-B60C-29AA355E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2C80-FDEF-42F3-9092-164979C0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5F82B-641D-4ECC-823F-C21965F4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BD9B7-A4B1-4036-B517-023E876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E20A2-1860-433E-9824-D2DC3A47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1F51C-D937-4C85-A767-923ECDBC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E0F69-6722-44F3-ABBA-85DC8D62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8C6B-D6E7-4663-8939-C5E27A13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C7C6C-546F-48F7-9792-7396C3BF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7A454-C7AF-4392-9415-83A78E33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B1FF-2C7E-4F18-9AE6-6D67790A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0ADD6-C764-4376-AF1E-57511E90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703E4-C397-417F-B951-1145A6C4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CCC90-3AA9-4C91-8DFB-D1C78363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298C4-8C39-4FDC-8AE7-D2224195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A5421-29A7-4EAC-AF30-4002AA62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39C1C-71D3-4363-B606-D4166A15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8EFB7-618B-4A27-89A9-FFA162AA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28D-522F-49CF-87BB-DA7BB6F9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A0904-E511-4A2A-A7D3-0A7A67AE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71968-FEED-4010-94FE-FD05B41A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AF701-8FB3-4703-A0EC-56B4DA8B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D847E-A5E3-473A-B84C-389FB091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44B39-4085-4FD8-8483-781A2B87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A53FD-810B-4D12-B8E5-4124B34B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CA76A-8B3B-414B-819E-8BB815DC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BEC78-A730-41DF-896C-4167A51B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EA596-4C51-47A0-94C4-6730C9BD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42AC0-25FC-487F-82E6-E787889F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A8A8-8C6D-4534-B73D-BC63D31AFF4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9176-3BD6-4946-B07F-E926BD17C43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9DA4-FF99-4D9B-A254-7C9594EF1C5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6F4-96D4-4F38-BD56-F49266B38624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21F7-CB15-48DF-B643-5A88C9E405A0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5942-3399-44B5-82F4-04FAC9B0BB4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F269-DAB5-4D93-8DD8-FBE0D0C27AC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942C-4069-4BAB-AC75-0E942157692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8C4F-D02D-4AD6-B00B-B45ABDC15103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7661-77AF-479D-822F-25DE3E23AF6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61A8-8763-413E-81CF-F5EEF7EED11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YAKG8jmx6C0&amp;feature=related" TargetMode="External"/><Relationship Id="rId3" Type="http://schemas.openxmlformats.org/officeDocument/2006/relationships/hyperlink" Target="http://www.youtube.com/watch?v=YAKG8jmx6C0&amp;feature=related" TargetMode="External"/><Relationship Id="rId4" Type="http://schemas.openxmlformats.org/officeDocument/2006/relationships/hyperlink" Target="http://www.youtube.com/watch?v=YAKG8jmx6C0&amp;feature=related" TargetMode="External"/><Relationship Id="rId5" Type="http://schemas.openxmlformats.org/officeDocument/2006/relationships/hyperlink" Target="http://www.youtube.com/watch?v=YAKG8jmx6C0&amp;feature=related" TargetMode="External"/><Relationship Id="rId6" Type="http://schemas.openxmlformats.org/officeDocument/2006/relationships/hyperlink" Target="http://www.youtube.com/watch?v=YAKG8jmx6C0&amp;feature=related" TargetMode="External"/><Relationship Id="rId7" Type="http://schemas.openxmlformats.org/officeDocument/2006/relationships/hyperlink" Target="http://www.youtube.com/watch?v=YAKG8jmx6C0&amp;feature=related" TargetMode="External"/><Relationship Id="rId8" Type="http://schemas.openxmlformats.org/officeDocument/2006/relationships/hyperlink" Target="http://www.youtube.com/watch?v=YAKG8jmx6C0&amp;feature=related" TargetMode="External"/><Relationship Id="rId9" Type="http://schemas.openxmlformats.org/officeDocument/2006/relationships/hyperlink" Target="http://www.youtube.com/watch?v=YAKG8jmx6C0&amp;feature=related" TargetMode="External"/><Relationship Id="rId10" Type="http://schemas.openxmlformats.org/officeDocument/2006/relationships/hyperlink" Target="http://www.youtube.com/watch?v=YAKG8jmx6C0&amp;feature=related" TargetMode="External"/><Relationship Id="rId11" Type="http://schemas.openxmlformats.org/officeDocument/2006/relationships/hyperlink" Target="http://www.youtube.com/watch?v=YAKG8jmx6C0&amp;feature=related" TargetMode="External"/><Relationship Id="rId12" Type="http://schemas.openxmlformats.org/officeDocument/2006/relationships/hyperlink" Target="http://www.youtube.com/watch?v=hBiiZQNmbc4&amp;NR=1" TargetMode="External"/><Relationship Id="rId13" Type="http://schemas.openxmlformats.org/officeDocument/2006/relationships/hyperlink" Target="http://www.youtube.com/watch?v=hBiiZQNmbc4&amp;NR=1" TargetMode="External"/><Relationship Id="rId14" Type="http://schemas.openxmlformats.org/officeDocument/2006/relationships/hyperlink" Target="http://www.youtube.com/watch?v=hBiiZQNmbc4&amp;NR=1" TargetMode="External"/><Relationship Id="rId15" Type="http://schemas.openxmlformats.org/officeDocument/2006/relationships/hyperlink" Target="http://www.youtube.com/watch?v=hBiiZQNmbc4&amp;NR=1" TargetMode="External"/><Relationship Id="rId16" Type="http://schemas.openxmlformats.org/officeDocument/2006/relationships/hyperlink" Target="http://www.youtube.com/watch?v=hBiiZQNmbc4&amp;NR=1" TargetMode="External"/><Relationship Id="rId17" Type="http://schemas.openxmlformats.org/officeDocument/2006/relationships/hyperlink" Target="http://www.youtube.com/watch?v=hBiiZQNmbc4&amp;NR=1" TargetMode="External"/><Relationship Id="rId18" Type="http://schemas.openxmlformats.org/officeDocument/2006/relationships/hyperlink" Target="http://www.youtube.com/watch?v=hBiiZQNmbc4&amp;NR=1" TargetMode="External"/><Relationship Id="rId1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ara la Prueba Rosen</a:t>
            </a:r>
            <a:br>
              <a:rPr sz="50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conomía del Bienestar, Cap4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Bienes públicos, Cap 5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xternalidades, Cap 6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dad, Cap 8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los ingresos son mayores que sus niveles de tendencia esperados, se 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estos caen por debajo de la tendencia, se des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tiendo ahorrar                                                       en años buenos y                                                        gastar en períodos                                                            malo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itigando el Cic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45720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48974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sponsabilidad Fis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a distinguir aquellos cambios en los ingresos permanentes de los tempora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nanciar Gasto Corriente únicamente con ingresos perman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rar los ingresos temporales o utilizarlos en la adquisición de bienes de capi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blemas Exist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crecimi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Nulo o Esca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Fluctua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muestra como determinantes del crecimiento al ahorro, la inversión y la investigación y desar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estado potencia el crecimiento económico de largo plazo al estimular estos determin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bligando a las personas a ahorrar (AF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ndo el ahorro con exoneraciones de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nalizando y estimulando inversiones (Corf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trayendo capitales (ProChil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nanciando investigación aplicada (InnovaChile, Conicy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emple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propio de las economías, se reconocen cuatro tipos bás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ructural: cuando existen cambios en la estructura producti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íclico: propio de los ciclos económic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acional: asociado a períodos productivos (Ej. Temporer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riccional: tasa natural de desempl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on pocas las herramientas que un estado moderno tiene, los apoyos se centran en facilitar al mercado la solución del probl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líticas contra cíclic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pacitando al desemple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jorando la información (Bolsas de emple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conversión Industr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ímulos tributarios a la contratación de grupos obje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pleos temporales de emergencia (en épocas de crisi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fl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l alza sostenida de los precios, inflaciones elevadas distorsionan el papel orientador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n esencia un problema monetario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V=PQ (Teoría cuantitativa del diner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Banco Central tiene el monopolio de la emisión monetaria y maneja herramientas para controlar la cantidad de dinero en circul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isión Prima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enc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redescu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Cambio (Compra-Venta de divis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Mercado Abierto (Compra – venta de papeles financier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as clases hemos visto las justificaciones teóricas que dan cabida a la intervención del Estado en una economía de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veremos como se financian estas intervenciones y porque no siempre es conveniente y/o falla la intervención esta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ara Ilustrarnos; La crisis crediticia visualizad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YAKG8jmx6C0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&amp;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feature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rel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hBiiZQNmbc4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&amp;NR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iclos Económ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desarrollo económico no es lineal, este está compuesto por ciclos con etapas de crecimiento (auge) y  de decrecimiento (crisi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ser el Gasto Público uno de los componentes del PIB, este tiende el potencial de ahondar los ciclos o hacer que estos sean menos pronunciados.  Lo mismo sucede con el financiamiento públ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o la existencia de rendimientos decrecientes, las etapas de crisis generan proporcionalmente mayores caídas en el bienestar que las etapas de au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teoría económica recomienda al estado hacer uso de la política fiscal y de la política monetaria para atenuar los cic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n embargo, en términos prácticos, los gobiernos tienden a tener políticas pro- cicl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ando aumenta el ingreso nacional (PIB), también lo hacen los ingresos públ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emás existe una mayor disposición a prestar por parte de los acreedores cuando las cosas marchan b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el lado de la política y de la ciudadanía existen presiones para aumentar el gasto y/o para disminuir los impues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opuesto ocurre durante las rece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l caer el ingreso nacional, cae la recaud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an las presiones por el gasto fiscal: seguros de desempleo, mayor consumo de bienes y servicios provistos por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disposición a prestar por parte de los acreedores se deterio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í se provocan presiones para que caigan los gastos discrecionales ahondando la recesión, en situaciones extremas incluso pueden caer los gastos habi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515880" y="-892080"/>
            <a:ext cx="10320480" cy="82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países han aprendido la lección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hile destaca a nivel mundial por su política anticíclica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.conocida como la Regla del Superávit Estruc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cual se ahorra en períodos buenos (haciendo que el auge sea menos fuerte) y se gasta en períodos malos (evitando una caída muy pronunci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Balance Fiscal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oncepto es gastar únicamente el componente tendencial de los ingres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ngresos (cobre y no cobre) tienen un componente cíclico y de t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60520" y="3521160"/>
            <a:ext cx="3724200" cy="2284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572000" y="3451320"/>
            <a:ext cx="3960720" cy="24256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1954080" y="573408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No 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6363360" y="580536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27T22:07:37Z</dcterms:modified>
  <cp:revision>121</cp:revision>
  <dc:subject/>
  <dc:title>Economía del Sector Público</dc:title>
</cp:coreProperties>
</file>