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A34544-4E28-4D56-BDED-D55D8D151C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plicar que por la falla de mercado en el óptimo la oferta de mercado no se encuetra con la demanda de mercado y por ello es que existen dos precios.  Cuando veamos la corrección a las externalidades va a quedar mas claro el concep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199-E94F-40E7-8193-6E0F3E5A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2D7-99AA-4B14-877F-0AE6654F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F83E4-F622-48A2-8AB1-F353E6D5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A7AA8-218E-40A7-87E2-AE11F0CE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D60AF-C28E-4698-9AE5-B95ECA21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A1D0F-F942-43C5-9E47-E3F2E6F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DD198-B6E8-4D72-84CE-DEC8BA1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B9458-DB58-4EAB-B016-B4636CA0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15F36-A0B9-4FC1-A8E7-B50F0E5E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1A496-8FAA-451A-8FCC-31018E49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BC397-F28F-4E01-B4A3-84B3C173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DC3FB-B178-4C4A-B803-CB15B505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B9C-F0E9-4F31-9801-6955585A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FB22A-9342-4E95-898F-4108C6A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CA704-F0CE-4322-8FE5-B0F38C93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D207A-D92F-4F47-A8AD-674FDDE2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85C7A-E8DC-4357-A682-910D0058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30E19-A61B-46F3-BA21-93D41150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3650E-54DD-44A2-BBDA-B5686578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2E112-FBAA-406C-ACD3-2895FCA1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B6609-4089-4106-85A1-CECD9F2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54D4C-FCC8-4546-B60B-877D61F7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72EDB-1BF8-47C7-8DE1-77734E83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47B-8975-47AE-A7F6-6FABA606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66CA1-9A00-4CCB-AE9A-7A7FCB37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A22FA-1192-49E2-B2F0-A31AABE1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F3AEE-F383-4B9F-8CAD-D41C66FB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2AC76-ECFC-4AB2-9816-0BC08899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AEA97-2FC8-4488-87B4-9B8B3B40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AFE68-FBF3-4C5F-BD24-374EE794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C5259-9075-4C84-AF70-68DF5886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F6A1A-46BB-4298-B522-A4E38FCF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5FE07-ABDD-4A90-8DEC-90B271B7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112AB-B186-4705-8130-60D8F41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5C18-DCAA-4705-BD65-51D25E10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12933-F7E6-4FC5-803C-91A64160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E5AFF-4606-4311-8F03-415AB3CD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4D24E-4AD4-41C3-8313-3FF5410A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4257-0987-4827-8075-AF64039A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8726-7F27-40C0-91F3-D72E62D9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C931-D464-4C24-BBB6-F649E1C9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05FE-D518-4032-8984-02A46F7E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0521-69AD-4F57-8C8E-03C72882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091C-D806-407E-A0E0-C37D4C58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EF7-2776-4D1E-A206-29C7FED2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94C3-91C1-463C-985C-71A4F3AE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A55B-0BB0-4E6B-8F7C-FC3B8AB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1AF-727F-4AED-B0C2-8A8FAE75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60B2-E565-47D8-B79B-D35D1076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74D7-4053-4CE1-BE5A-60279C7D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D9BB-DBDF-4B40-AB47-99B108D9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4E91-3B97-434C-BB51-E399D132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7A1B-BA94-4A5C-8484-2F41FEEA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8E80-E36E-4713-A3B6-8F990796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8BED-A109-420C-ACBE-5DFFFD73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122-3328-44DC-A068-B485292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5625-9332-4016-8A47-70ABE69E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A043-23BE-49E0-A5B9-562C060F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6B5D-3AFA-4E66-8A64-AFA253EF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4878-1C14-4BF2-B1E9-E4E03D1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295C-A51E-4350-AA7B-03FF344A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6B69-A9FF-44B1-AC77-577983C2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75F6-C669-4E04-B35A-0945C91A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ABD8-5090-4B99-8F6D-7F1F5ADA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E569-1343-4204-9B14-7CF94647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84EB-05DF-4464-B5F8-C526A39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918-8509-438B-9045-4C7E36EC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4BF5E-CFC9-4839-B865-26E4E4D0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6CE8-84BB-43D6-B744-B8BF038A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C3EE-7023-467E-8DA0-3F3510EA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87159-4B35-4072-8D61-FA9E0D45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05232-5B1C-4010-B2B5-0629E913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D799-0C2E-4FE3-BB3E-A7BC640C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9E87-5C62-404A-8780-D7AD49AB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2EF6-E6A4-46FC-868E-17631531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17A0-C31E-4932-B2D6-87C1510C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B829-FAF2-4BAE-83E9-FC9AB7C2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82F-7553-4A21-84B1-FCAFD79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C32AE-21AD-4F93-B55F-87E4A319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0FAF9-B2F4-43AD-9D0C-A09F2871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1E20F-CC9A-4C3B-BEEA-1E0ED5A0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280A-2AFF-4B85-896C-E512EBCF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72A6E-A4DE-4EB0-B6B1-E28C28E9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127EB-E8E5-4632-9650-E4C72B39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E7478-5BE8-4466-93D4-33282FE2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6C9C-08A4-4560-9A9A-18086AE3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DD6F-FD70-453D-B79A-F5CC23E5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ED35-B76C-4061-8FD4-EECA8955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2F0-3901-4816-BD70-F9063294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476C4-B6A8-45CA-8D21-CB29F23C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17C1-51A8-4404-A124-AA7E8600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B537-ED97-40CE-AADC-32988FE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6C650-A15C-4072-B0BE-96D9B024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ACA7-7B15-4620-B688-764DC650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71A3-81E5-49C9-B5BF-901AF833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59FEA-FAD0-46A1-B967-9B61C83B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226AB-43A0-431A-A375-5D12AAF4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3EAD-C659-4B1D-9225-EA7C812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7F1F-66CB-49D6-BBDD-3357AFA5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702-7205-4756-B95C-68C21C69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E0909-3AEC-4CD2-ABD6-3D648950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789AC-A152-4B0C-8481-4CD7EF77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BCFA7-ED22-41DC-B6BD-5C7199BE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2BCD7-D10F-4F79-A100-E5F8B922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26ABF-FC4E-437C-B200-F81B2CE6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1A7A9-2CBF-43B7-BD50-DE89B138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17539-39EC-448B-8433-B1AB006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109F-2D31-46A7-A89D-CFF0DA4E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14990-01D0-4349-B036-06FCB987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D5ED1-08BA-4CFB-B894-F689E2C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3C1-4A9E-48FC-955A-318296D2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7A77E-F74A-44CF-8E82-C0D37BD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9B6A-B983-4C3D-A762-1552977C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BC55F-F8C1-4345-ACE8-C31CD739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DA57-1831-4643-BDCC-9030460A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5B4E3-E152-4758-ABAD-E82E759E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81CB2-977C-4608-B252-1E4B2B31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2DDE8-8B46-4AD6-9685-E5D973F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98959-A7A9-4780-88D9-A7751A7A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9C313-ED65-40A5-A628-0D3AA572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4DD6-069E-46B4-B979-5B5E8554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5E5-9A9A-45FE-9F09-A710E52F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A7CE-DE4F-4E8E-86F8-6EDD1F46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99A26-4120-4F72-9774-18AD76D9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B5D15-A0EE-4492-8A75-479701B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6BBE6-B484-403A-959E-71A76C3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A2967-08FF-480F-B401-45249FE6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A0544-9A02-4899-8B3B-8100A37D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DA5DE-DB0C-4B56-88C2-19FAF2CD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A1591-7009-4756-9347-219AF345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5EFD9-EB3C-4C74-A7A6-D649E96C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A8E55-C054-4BA2-AA56-A2342DEF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68E7-DEF4-4B02-B3D7-ECD3823AEE9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A6ED-A881-44B8-92FB-DB5D5F8234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F36A-952E-4438-AECB-4A9CA78E26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B8B4-D452-4AF7-8229-A7645084E4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3648-C1D8-4398-B5C1-CB5C9017364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372C-92BF-45E5-8191-8367D7FDCB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D71B-5AAF-46EB-B9AF-E2A1133F79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1B53-FC60-42F7-A999-F2DFD434FA4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1292-2D9B-4CC7-B5D3-007116F7F2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5F31-0546-40E4-B37A-958AEFD27BD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08AF-1832-4826-AE8D-11972E7D79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29000" cy="261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9"/>
          <p:cNvSpPr/>
          <p:nvPr/>
        </p:nvSpPr>
        <p:spPr>
          <a:xfrm flipV="1">
            <a:off x="1908000" y="2707920"/>
            <a:ext cx="532944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0"/>
          <p:cNvSpPr/>
          <p:nvPr/>
        </p:nvSpPr>
        <p:spPr>
          <a:xfrm>
            <a:off x="1908000" y="1197000"/>
            <a:ext cx="3132360" cy="1440000"/>
          </a:xfrm>
          <a:prstGeom prst="wedgeRectCallout">
            <a:avLst>
              <a:gd name="adj1" fmla="val 83703"/>
              <a:gd name="adj2" fmla="val 10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sto Marginal Social es igual al costo marginal de la empresa más el costo marginal que genera sobre terceros (DMg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03142 -0.15602 E">
                                      <p:cBhvr>
                                        <p:cTn id="141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485928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9"/>
          <p:cNvSpPr/>
          <p:nvPr/>
        </p:nvSpPr>
        <p:spPr>
          <a:xfrm>
            <a:off x="2195640" y="1916280"/>
            <a:ext cx="2808000" cy="647640"/>
          </a:xfrm>
          <a:prstGeom prst="wedgeRectCallout">
            <a:avLst>
              <a:gd name="adj1" fmla="val 648"/>
              <a:gd name="adj2" fmla="val 160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 socialmente óptimo de producció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7"/>
          <p:cNvSpPr/>
          <p:nvPr/>
        </p:nvSpPr>
        <p:spPr>
          <a:xfrm>
            <a:off x="2195640" y="1773360"/>
            <a:ext cx="2808000" cy="718920"/>
          </a:xfrm>
          <a:prstGeom prst="wedgeRectCallout">
            <a:avLst>
              <a:gd name="adj1" fmla="val 24620"/>
              <a:gd name="adj2" fmla="val 122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3"/>
          <p:cNvSpPr/>
          <p:nvPr/>
        </p:nvSpPr>
        <p:spPr>
          <a:xfrm rot="1803000">
            <a:off x="3890880" y="2730600"/>
            <a:ext cx="1249560" cy="1079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4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2"/>
          <p:cNvSpPr/>
          <p:nvPr/>
        </p:nvSpPr>
        <p:spPr>
          <a:xfrm>
            <a:off x="6156360" y="1557360"/>
            <a:ext cx="27367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minación (ríos, aíre, agua subterranea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gestión vehicu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4641120" y="57564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1076760" y="3774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6948360" y="1197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7599960" y="4911840"/>
            <a:ext cx="13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7956720" y="1989000"/>
            <a:ext cx="107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MgS=CMgP-AM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7"/>
          <p:cNvSpPr/>
          <p:nvPr/>
        </p:nvSpPr>
        <p:spPr>
          <a:xfrm>
            <a:off x="1979640" y="1773360"/>
            <a:ext cx="2808360" cy="718920"/>
          </a:xfrm>
          <a:prstGeom prst="wedgeRectCallout">
            <a:avLst>
              <a:gd name="adj1" fmla="val 11731"/>
              <a:gd name="adj2" fmla="val 173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2"/>
          <p:cNvSpPr/>
          <p:nvPr/>
        </p:nvSpPr>
        <p:spPr>
          <a:xfrm flipH="1">
            <a:off x="1547280" y="342900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1055880" y="3187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3360960" y="5780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2"/>
          <p:cNvSpPr/>
          <p:nvPr/>
        </p:nvSpPr>
        <p:spPr>
          <a:xfrm rot="5400000">
            <a:off x="3551400" y="3441600"/>
            <a:ext cx="1320480" cy="1152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6372360" y="3357720"/>
            <a:ext cx="2592360" cy="1295280"/>
          </a:xfrm>
          <a:prstGeom prst="wedgeRectCallout">
            <a:avLst>
              <a:gd name="adj1" fmla="val 16810"/>
              <a:gd name="adj2" fmla="val -84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a terceros que no esta siendo incorporado en la función de costo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5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1124640" y="26370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547640" y="278136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4356000" y="1268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1845000" y="4941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2"/>
          <p:cNvSpPr/>
          <p:nvPr/>
        </p:nvSpPr>
        <p:spPr>
          <a:xfrm flipH="1">
            <a:off x="684360" y="2997360"/>
            <a:ext cx="136656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3"/>
          <p:cNvSpPr/>
          <p:nvPr/>
        </p:nvSpPr>
        <p:spPr>
          <a:xfrm>
            <a:off x="314640" y="285264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4643280" y="1557360"/>
            <a:ext cx="15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A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2"/>
          <p:cNvSpPr/>
          <p:nvPr/>
        </p:nvSpPr>
        <p:spPr>
          <a:xfrm flipH="1">
            <a:off x="684360" y="2492280"/>
            <a:ext cx="2279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"/>
          <p:cNvSpPr/>
          <p:nvPr/>
        </p:nvSpPr>
        <p:spPr>
          <a:xfrm>
            <a:off x="299880" y="227664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2849760" y="4941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 flipH="1">
            <a:off x="684360" y="3500280"/>
            <a:ext cx="2232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322200" y="33577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2771640" y="2205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2987640" y="357336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212400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ienestar generado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a producción inferi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rrig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mig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aso de las abej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0"/>
          <p:cNvSpPr/>
          <p:nvPr/>
        </p:nvSpPr>
        <p:spPr>
          <a:xfrm>
            <a:off x="4284720" y="3789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313776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"/>
          <p:cNvSpPr/>
          <p:nvPr/>
        </p:nvSpPr>
        <p:spPr>
          <a:xfrm flipH="1">
            <a:off x="1619280" y="3789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6"/>
          <p:cNvSpPr/>
          <p:nvPr/>
        </p:nvSpPr>
        <p:spPr>
          <a:xfrm>
            <a:off x="7601400" y="51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5940360" y="515772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7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5569"/>
              <a:gd name="adj2" fmla="val 20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 flipH="1">
            <a:off x="1619280" y="3429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1055880" y="35733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386424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2"/>
          <p:cNvSpPr/>
          <p:nvPr/>
        </p:nvSpPr>
        <p:spPr>
          <a:xfrm rot="16200000">
            <a:off x="3456720" y="3824640"/>
            <a:ext cx="86364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23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daño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4"/>
          <p:cNvSpPr/>
          <p:nvPr/>
        </p:nvSpPr>
        <p:spPr>
          <a:xfrm>
            <a:off x="241128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6"/>
          <p:cNvSpPr/>
          <p:nvPr/>
        </p:nvSpPr>
        <p:spPr>
          <a:xfrm>
            <a:off x="1117440" y="324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7"/>
          <p:cNvSpPr/>
          <p:nvPr/>
        </p:nvSpPr>
        <p:spPr>
          <a:xfrm>
            <a:off x="1111320" y="407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2"/>
          <p:cNvSpPr/>
          <p:nvPr/>
        </p:nvSpPr>
        <p:spPr>
          <a:xfrm flipH="1">
            <a:off x="1619280" y="4221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cciones de individuos o empresas tienen consecuencias (negativas o positivas) sobre el resto de perso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efectos de nuestras acciones que recaen sobre otras personas son conocidos como externalidad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6"/>
          <p:cNvSpPr/>
          <p:nvPr/>
        </p:nvSpPr>
        <p:spPr>
          <a:xfrm>
            <a:off x="4718520" y="42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213372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314640" y="306216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H="1">
            <a:off x="684360" y="2997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299880" y="335772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17701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322200" y="2708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1979640" y="2637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1908000" y="364500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3"/>
          <p:cNvSpPr/>
          <p:nvPr/>
        </p:nvSpPr>
        <p:spPr>
          <a:xfrm>
            <a:off x="248436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sup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3635280" y="458136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cohol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407412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1618920" y="422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6229800" y="5300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7380360" y="472428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5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17041"/>
              <a:gd name="adj2" fmla="val 14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4284720" y="3716280"/>
            <a:ext cx="0" cy="20178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2"/>
          <p:cNvSpPr/>
          <p:nvPr/>
        </p:nvSpPr>
        <p:spPr>
          <a:xfrm flipH="1">
            <a:off x="1618920" y="3789360"/>
            <a:ext cx="25923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3"/>
          <p:cNvSpPr/>
          <p:nvPr/>
        </p:nvSpPr>
        <p:spPr>
          <a:xfrm>
            <a:off x="1119240" y="3979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"/>
          <p:cNvSpPr/>
          <p:nvPr/>
        </p:nvSpPr>
        <p:spPr>
          <a:xfrm>
            <a:off x="328968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0"/>
          <p:cNvSpPr/>
          <p:nvPr/>
        </p:nvSpPr>
        <p:spPr>
          <a:xfrm rot="5400000">
            <a:off x="3456360" y="3393000"/>
            <a:ext cx="8632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22"/>
          <p:cNvSpPr/>
          <p:nvPr/>
        </p:nvSpPr>
        <p:spPr>
          <a:xfrm>
            <a:off x="104292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4"/>
          <p:cNvSpPr/>
          <p:nvPr/>
        </p:nvSpPr>
        <p:spPr>
          <a:xfrm>
            <a:off x="1117440" y="45021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1111320" y="3573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2"/>
          <p:cNvSpPr/>
          <p:nvPr/>
        </p:nvSpPr>
        <p:spPr>
          <a:xfrm flipH="1">
            <a:off x="1618920" y="4653000"/>
            <a:ext cx="2630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4213440" y="45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170208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314640" y="33498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2"/>
          <p:cNvSpPr/>
          <p:nvPr/>
        </p:nvSpPr>
        <p:spPr>
          <a:xfrm flipH="1">
            <a:off x="684360" y="393372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299880" y="291780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22813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324000" y="3716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3"/>
          <p:cNvSpPr/>
          <p:nvPr/>
        </p:nvSpPr>
        <p:spPr>
          <a:xfrm>
            <a:off x="2484360" y="386064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1908000" y="270828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835280" y="3573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4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z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inf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4500720" y="378936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611280" y="1557360"/>
            <a:ext cx="828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oluciones a 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orema de Co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úbl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 o Subsid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ando y contro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 los derechos de propiedad están bien definidos y no existen costos de transacción para negociar, las negociaciones de los afectados llevarán a un nivel óptimo social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importa quien tenga los derechos (contaminado o contaminan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función del estado es establecer los derechos de propie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7"/>
          <p:cNvSpPr/>
          <p:nvPr/>
        </p:nvSpPr>
        <p:spPr>
          <a:xfrm>
            <a:off x="6156360" y="1268280"/>
            <a:ext cx="27367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0 y Q* el BMgP – CMgP &gt; DMg, lo que da espacio para negociar (el contaminante esta dispuesto a pagar contaminar y el contaminado a aceptar un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Q* y Qm el DMg &gt;BmgP-CMgP, dando espacio para negociar (el contaminado esta dispuesto a pagar por menos contaminación y el contaminante a aceptar el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no suele funcionar en la práctic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os derechos de propiedad no siempre están bien definidos (como estado resulta difícil determinar a quien asignarl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stos de transacción &gt;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iempre se gastarán tiempo y recurs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ograr consensos no es fácil, especialmente en grupos gran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dentificar a los involucrados no es gratuit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Hacer cumplir los acuerdos tampoco es grati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ícil valorar el d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e r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la equidad? (no da lo mismo entregar los derechos al contaminador que al contaminad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us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ste en fusionar en una sola entidad al generador de la externalidad y al perjudicado/beneficiado por el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esta manera esta única gran empresa internalizará dentro de su función de costos el daño/beneficio generado por la externa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. Venta a la fábrica río arriba las piscinas que se encuentran río 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ECUNIARIAS: son aquellas que no producen un fracaso en el mercado.  Estas externalidades son transmitidas  a través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Incremento de la demanda de un bi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TECNOLÓGICAS: aquellas que producen un fracaso en el mercado.  Consisten en daños o beneficios generados a terceros en los cuales no existe una compensación por el daño/beneficio caus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La contaminación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n este curso nos enfocaremos en las externalidades tecnológic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 o 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aplican impuestos o subsidios que modifiquen las funciones de costos/beneficios privadas en una magnitud igual a la distorsión (impuestos piguvian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2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4421160" y="126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=CMgP+Impues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8"/>
          <p:cNvSpPr/>
          <p:nvPr/>
        </p:nvSpPr>
        <p:spPr>
          <a:xfrm>
            <a:off x="3564000" y="213372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9"/>
          <p:cNvSpPr/>
          <p:nvPr/>
        </p:nvSpPr>
        <p:spPr>
          <a:xfrm>
            <a:off x="3708360" y="2133720"/>
            <a:ext cx="142920" cy="93492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5"/>
          <p:cNvSpPr/>
          <p:nvPr/>
        </p:nvSpPr>
        <p:spPr>
          <a:xfrm>
            <a:off x="3848040" y="2414520"/>
            <a:ext cx="173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mpuesto=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impuesto de igual magnitud al daño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impuesto produce dos precios; el de venta relevante para el consumidor (Pc), y un precio que no incluye el impuesto relevante para el productor (P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ayor precio para el consumidor (Pc) reduce la cantidad consumida, mientras que un menor precio para el productor (Pp) reduce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2" name="Text Box 15"/>
          <p:cNvSpPr/>
          <p:nvPr/>
        </p:nvSpPr>
        <p:spPr>
          <a:xfrm>
            <a:off x="4500720" y="119700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"/>
          <p:cNvSpPr/>
          <p:nvPr/>
        </p:nvSpPr>
        <p:spPr>
          <a:xfrm>
            <a:off x="538200" y="1332000"/>
            <a:ext cx="0" cy="3171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"/>
          <p:cNvSpPr/>
          <p:nvPr/>
        </p:nvSpPr>
        <p:spPr>
          <a:xfrm>
            <a:off x="538200" y="45036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5"/>
          <p:cNvSpPr/>
          <p:nvPr/>
        </p:nvSpPr>
        <p:spPr>
          <a:xfrm>
            <a:off x="4994280" y="4503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10980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>
            <a:off x="538200" y="1808280"/>
            <a:ext cx="4195800" cy="24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0"/>
          <p:cNvSpPr/>
          <p:nvPr/>
        </p:nvSpPr>
        <p:spPr>
          <a:xfrm>
            <a:off x="1873080" y="2600280"/>
            <a:ext cx="0" cy="19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1"/>
          <p:cNvSpPr/>
          <p:nvPr/>
        </p:nvSpPr>
        <p:spPr>
          <a:xfrm>
            <a:off x="2284920" y="4459320"/>
            <a:ext cx="3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2"/>
          <p:cNvSpPr/>
          <p:nvPr/>
        </p:nvSpPr>
        <p:spPr>
          <a:xfrm flipH="1">
            <a:off x="550440" y="3260880"/>
            <a:ext cx="132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3805200" y="41590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9"/>
          <p:cNvSpPr/>
          <p:nvPr/>
        </p:nvSpPr>
        <p:spPr>
          <a:xfrm flipV="1">
            <a:off x="550800" y="1461960"/>
            <a:ext cx="3863880" cy="27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5"/>
          <p:cNvSpPr/>
          <p:nvPr/>
        </p:nvSpPr>
        <p:spPr>
          <a:xfrm>
            <a:off x="4572000" y="3860640"/>
            <a:ext cx="4057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=BMgP+Subsidio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0"/>
          <p:cNvSpPr/>
          <p:nvPr/>
        </p:nvSpPr>
        <p:spPr>
          <a:xfrm>
            <a:off x="2433600" y="2840040"/>
            <a:ext cx="0" cy="1679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2"/>
          <p:cNvSpPr/>
          <p:nvPr/>
        </p:nvSpPr>
        <p:spPr>
          <a:xfrm flipH="1">
            <a:off x="550440" y="2900520"/>
            <a:ext cx="1830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3"/>
          <p:cNvSpPr/>
          <p:nvPr/>
        </p:nvSpPr>
        <p:spPr>
          <a:xfrm>
            <a:off x="200520" y="3059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1730520" y="44593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8"/>
          <p:cNvSpPr/>
          <p:nvPr/>
        </p:nvSpPr>
        <p:spPr>
          <a:xfrm>
            <a:off x="550800" y="2527200"/>
            <a:ext cx="32529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4"/>
          <p:cNvSpPr/>
          <p:nvPr/>
        </p:nvSpPr>
        <p:spPr>
          <a:xfrm>
            <a:off x="145440" y="34290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25"/>
          <p:cNvSpPr/>
          <p:nvPr/>
        </p:nvSpPr>
        <p:spPr>
          <a:xfrm>
            <a:off x="141120" y="27446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H="1">
            <a:off x="550800" y="3619440"/>
            <a:ext cx="1857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8"/>
          <p:cNvSpPr/>
          <p:nvPr/>
        </p:nvSpPr>
        <p:spPr>
          <a:xfrm>
            <a:off x="3132000" y="3306600"/>
            <a:ext cx="1800" cy="6987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29"/>
          <p:cNvSpPr/>
          <p:nvPr/>
        </p:nvSpPr>
        <p:spPr>
          <a:xfrm>
            <a:off x="3276720" y="328464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3416400" y="3390840"/>
            <a:ext cx="173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mpuesto=AM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subsidio de igual magnitud al aporte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igual que con los impuestos, el subsidio produce dos precios; el de venta relevante para el productor (Pp), y un precio subsidiado relevante para el consumidor (P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nor precio para el consumidor (Pc) aumenta la cantidad consumida, mientras que un mayor precio para el productor (Pp) aumenta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subs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cción tomada por el estado mediante subsidios y impuestos sirve para complementar e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emplaza o sustituye a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uego de aplicada la regulación el mercado sigue funcionando y logra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ando y Contr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define la cantidad a producir/consumir y fiscaliza para que esta se cump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aso se encuentran los permisos de producción máxima, producción por tamaño de recurso, por tipo de productor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valencia entre los impuestos Pigouvianos y los permisos de contaminació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 Pigouviano:  El estado fija un precio por la contaminación estableciendo un impuesto que nos lleve al punto de equilibrio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sos de Contaminación: El estado fija la cantidad en el óptimo social entregando un numero limitado de permisos de contamin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4" name="Line 4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6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3851280" y="32688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539640" y="4653000"/>
            <a:ext cx="80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* es el optimo social de contamin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descontaminación implica costos superiores a los beneficios de descontamin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5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16"/>
          <p:cNvSpPr/>
          <p:nvPr/>
        </p:nvSpPr>
        <p:spPr>
          <a:xfrm>
            <a:off x="5364000" y="1989000"/>
            <a:ext cx="2376720" cy="1224000"/>
          </a:xfrm>
          <a:prstGeom prst="wedgeRoundRectCallout">
            <a:avLst>
              <a:gd name="adj1" fmla="val -71240"/>
              <a:gd name="adj2" fmla="val 116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BMg Privado por Descontamin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El caso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3"/>
          <p:cNvSpPr/>
          <p:nvPr/>
        </p:nvSpPr>
        <p:spPr>
          <a:xfrm>
            <a:off x="395280" y="4653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un impuesto igual al daño marginal generado por la contaminación iguala el BMgSD y el BMgPS llevandonos al óptimo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ositivas o nega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itivas (economías externas): vacun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gativas (deseconomías externas): contamin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roducidas por consumidores o product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idores: fum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ductores: desechos de fábr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radica en que los productores/ consumidores no consideran los costos o beneficios generados a terceros dentro de su función de costos o beneficios respectiv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Regulación de Cantid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1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395280" y="49165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stado fija la cantidad en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5"/>
          <p:cNvSpPr/>
          <p:nvPr/>
        </p:nvSpPr>
        <p:spPr>
          <a:xfrm flipV="1">
            <a:off x="2268360" y="2133720"/>
            <a:ext cx="0" cy="201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caso de los Impuesto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7"/>
          <p:cNvSpPr/>
          <p:nvPr/>
        </p:nvSpPr>
        <p:spPr>
          <a:xfrm flipV="1">
            <a:off x="1547640" y="1773000"/>
            <a:ext cx="17290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3132000" y="1539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395280" y="48434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Mg de descontaminar el es mismo para todas las fir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9"/>
          <p:cNvSpPr/>
          <p:nvPr/>
        </p:nvSpPr>
        <p:spPr>
          <a:xfrm>
            <a:off x="1979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0"/>
          <p:cNvSpPr/>
          <p:nvPr/>
        </p:nvSpPr>
        <p:spPr>
          <a:xfrm>
            <a:off x="2195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1"/>
          <p:cNvSpPr/>
          <p:nvPr/>
        </p:nvSpPr>
        <p:spPr>
          <a:xfrm>
            <a:off x="154764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2"/>
          <p:cNvSpPr/>
          <p:nvPr/>
        </p:nvSpPr>
        <p:spPr>
          <a:xfrm>
            <a:off x="1836720" y="41324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Regulación de cantidad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6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7"/>
          <p:cNvSpPr/>
          <p:nvPr/>
        </p:nvSpPr>
        <p:spPr>
          <a:xfrm flipV="1">
            <a:off x="1547640" y="1700280"/>
            <a:ext cx="14400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8"/>
          <p:cNvSpPr/>
          <p:nvPr/>
        </p:nvSpPr>
        <p:spPr>
          <a:xfrm>
            <a:off x="1547640" y="35002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2987640" y="1557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95280" y="4843440"/>
            <a:ext cx="856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legar a QS* debo hacer que cada empresa descontamine en QS*/2 (reparto la descontaminación en partes igua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esta cantidad el costo de descontaminar para A es muy elevado, a B le sale más barato que con un impues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9"/>
          <p:cNvSpPr/>
          <p:nvPr/>
        </p:nvSpPr>
        <p:spPr>
          <a:xfrm>
            <a:off x="20509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1"/>
          <p:cNvSpPr/>
          <p:nvPr/>
        </p:nvSpPr>
        <p:spPr>
          <a:xfrm>
            <a:off x="1763640" y="414972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/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 flipV="1">
            <a:off x="2556000" y="19890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/subsidios suelen ser más eficientes que la regulación de la cant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s firmas pueden tener distintos costos de mitig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impuesto logra que todas las firmas tengan el mismo costo marginal de mitig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 se fija la cantidad, todas las firmas deben reducir pero a unas les sale mas costoso que a ot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icionalmente los impuestos generan incentivos para buscar  alternativas más limpias, ya que de reducir la externalidad pagaría menor impuesto, lo que no sucede con la regulación de cant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ulación de cantidad es preferible si desconocemos las funciones de demanda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solución son los permisos trans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Permisos Transable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7" name="Text Box 13"/>
          <p:cNvSpPr/>
          <p:nvPr/>
        </p:nvSpPr>
        <p:spPr>
          <a:xfrm>
            <a:off x="395280" y="569592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le compra permisos a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22"/>
          <p:cNvGrpSpPr/>
          <p:nvPr/>
        </p:nvGrpSpPr>
        <p:grpSpPr>
          <a:xfrm>
            <a:off x="1187280" y="1557360"/>
            <a:ext cx="5689440" cy="3823560"/>
            <a:chOff x="1187280" y="1557360"/>
            <a:chExt cx="5689440" cy="3823560"/>
          </a:xfrm>
        </p:grpSpPr>
        <p:sp>
          <p:nvSpPr>
            <p:cNvPr id="1039" name="Line 3"/>
            <p:cNvSpPr/>
            <p:nvPr/>
          </p:nvSpPr>
          <p:spPr>
            <a:xfrm flipV="1">
              <a:off x="1653840" y="1650960"/>
              <a:ext cx="0" cy="33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4"/>
            <p:cNvSpPr/>
            <p:nvPr/>
          </p:nvSpPr>
          <p:spPr>
            <a:xfrm>
              <a:off x="1653840" y="4979880"/>
              <a:ext cx="335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5"/>
            <p:cNvSpPr/>
            <p:nvPr/>
          </p:nvSpPr>
          <p:spPr>
            <a:xfrm>
              <a:off x="1187280" y="155736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$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6"/>
            <p:cNvSpPr/>
            <p:nvPr/>
          </p:nvSpPr>
          <p:spPr>
            <a:xfrm>
              <a:off x="4170960" y="4979880"/>
              <a:ext cx="270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scontamin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7"/>
            <p:cNvSpPr/>
            <p:nvPr/>
          </p:nvSpPr>
          <p:spPr>
            <a:xfrm flipV="1">
              <a:off x="1653840" y="1746000"/>
              <a:ext cx="1865160" cy="32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8"/>
            <p:cNvSpPr/>
            <p:nvPr/>
          </p:nvSpPr>
          <p:spPr>
            <a:xfrm>
              <a:off x="1653840" y="4122360"/>
              <a:ext cx="307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9"/>
            <p:cNvSpPr/>
            <p:nvPr/>
          </p:nvSpPr>
          <p:spPr>
            <a:xfrm>
              <a:off x="3519000" y="15573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10"/>
            <p:cNvSpPr/>
            <p:nvPr/>
          </p:nvSpPr>
          <p:spPr>
            <a:xfrm>
              <a:off x="3893400" y="3816720"/>
              <a:ext cx="26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S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1"/>
            <p:cNvSpPr/>
            <p:nvPr/>
          </p:nvSpPr>
          <p:spPr>
            <a:xfrm>
              <a:off x="2959920" y="412236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12"/>
            <p:cNvSpPr/>
            <p:nvPr/>
          </p:nvSpPr>
          <p:spPr>
            <a:xfrm>
              <a:off x="2680200" y="507384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4"/>
            <p:cNvSpPr/>
            <p:nvPr/>
          </p:nvSpPr>
          <p:spPr>
            <a:xfrm>
              <a:off x="5131440" y="46717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P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15"/>
            <p:cNvSpPr/>
            <p:nvPr/>
          </p:nvSpPr>
          <p:spPr>
            <a:xfrm flipV="1">
              <a:off x="1653840" y="2221200"/>
              <a:ext cx="2703960" cy="27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16"/>
            <p:cNvSpPr/>
            <p:nvPr/>
          </p:nvSpPr>
          <p:spPr>
            <a:xfrm>
              <a:off x="4078440" y="19155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7"/>
            <p:cNvSpPr/>
            <p:nvPr/>
          </p:nvSpPr>
          <p:spPr>
            <a:xfrm>
              <a:off x="5104440" y="231804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18"/>
            <p:cNvSpPr/>
            <p:nvPr/>
          </p:nvSpPr>
          <p:spPr>
            <a:xfrm flipV="1">
              <a:off x="1653840" y="2602800"/>
              <a:ext cx="3544920" cy="23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19"/>
            <p:cNvSpPr/>
            <p:nvPr/>
          </p:nvSpPr>
          <p:spPr>
            <a:xfrm>
              <a:off x="2305800" y="3076560"/>
              <a:ext cx="0" cy="1900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20"/>
            <p:cNvSpPr/>
            <p:nvPr/>
          </p:nvSpPr>
          <p:spPr>
            <a:xfrm>
              <a:off x="1933560" y="497988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/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1"/>
            <p:cNvSpPr/>
            <p:nvPr/>
          </p:nvSpPr>
          <p:spPr>
            <a:xfrm flipV="1">
              <a:off x="2959920" y="2126880"/>
              <a:ext cx="0" cy="28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Line 23"/>
          <p:cNvSpPr/>
          <p:nvPr/>
        </p:nvSpPr>
        <p:spPr>
          <a:xfrm flipH="1">
            <a:off x="2123640" y="3860640"/>
            <a:ext cx="14436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4"/>
          <p:cNvSpPr/>
          <p:nvPr/>
        </p:nvSpPr>
        <p:spPr>
          <a:xfrm flipV="1">
            <a:off x="2340000" y="4149720"/>
            <a:ext cx="21600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324000" y="1484280"/>
            <a:ext cx="8569080" cy="79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aginemos dos firmas (A y B), cada una produce dos toneladas de contaminan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objetivo de política es reducir las emisiones en dos toneladas, eso implica que cada firma deberá reducir su contaminación en una tonela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osto de mitigación de una tonelada de contaminación es de 60 para la firma A y de 300 para la firma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se hace una regulación por cantidad simple A y B deberán reducir en una tonelada sus emisiones.  El costo para A será de 60 y para B de 300 con lo que el costo total descontaminación ascenderá a 36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permitimos que los permisos se transen en el mercado, A estará dispuesto a venderle a B su permiso por algo más de 60 y B estará dispuesto a pagar algo menos que 3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24000" y="1484280"/>
            <a:ext cx="8569080" cy="80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ongamos que llegan al acuerdo de pagar 150 por el permi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este caso A deberá reducir su contaminación en dos toneladas lo que le cuesta 12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 ya no debe reducir sus emisiones, solo debe pagar 150 a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jo este esquema A gana 30 (150 que recibe de B menos los 120 que le cuesta descontaminar), mientras que B solo paga 150 a A.  Notablemente mejor que los 60 y 300 que antes pagaban A y B respectivam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decir, como sociedad hemos logrado los mismos niveles de contaminación pero a un costo mucho más 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permiso transable tiene también la ventaja de estimular el uso de tecnologías más limpias.  Como vemos en el ejercicio las empresas más limpias ganan cuando se aplican políticas de descontamin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iste una externalidad cuando el punto de equilibrio privado no es el mismo que el punto de equilibrio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. Esto porque no se está internalizando el costo o beneficio generado a otr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nos asegura que el BMg privado = CMg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o una asignación socialmente óptima requiere que el BMg social = CMg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lgunas Defini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P=medición monetaria del beneficio que obtiene una persona al consumir una unidad del bien o servi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= medición monetaria del beneficio que obtienen todos los miembros de la sociedad cuando una persona consum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P=medición monetaria de cuanto le cuesta a un productor la genera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=medición monetaria de cuanto le a todos los miembros de la sociedad la produc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laciones Existe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gt; B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lt; B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gt; C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lt; C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= CMgP y BMgS=BMgP.- entonces no hay externalidades, el mercado asigna eficientement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77080" y="24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7601400" y="45086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1"/>
          <p:cNvSpPr/>
          <p:nvPr/>
        </p:nvSpPr>
        <p:spPr>
          <a:xfrm>
            <a:off x="3635280" y="1557360"/>
            <a:ext cx="2808360" cy="1295280"/>
          </a:xfrm>
          <a:prstGeom prst="wedgeRectCallout">
            <a:avLst>
              <a:gd name="adj1" fmla="val -8675"/>
              <a:gd name="adj2" fmla="val 127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maximiza utilidades en el punto donde CMgP = BMgP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2"/>
          <p:cNvSpPr/>
          <p:nvPr/>
        </p:nvSpPr>
        <p:spPr>
          <a:xfrm>
            <a:off x="395280" y="2997360"/>
            <a:ext cx="3095640" cy="1152360"/>
          </a:xfrm>
          <a:prstGeom prst="wedgeRoundRectCallout">
            <a:avLst>
              <a:gd name="adj1" fmla="val 38152"/>
              <a:gd name="adj2" fmla="val 111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no captura el daño generado a terceros en su función de cos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7308720" y="1700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7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8"/>
          <p:cNvSpPr/>
          <p:nvPr/>
        </p:nvSpPr>
        <p:spPr>
          <a:xfrm>
            <a:off x="6012000" y="2852640"/>
            <a:ext cx="3132000" cy="1295640"/>
          </a:xfrm>
          <a:prstGeom prst="wedgeRectCallout">
            <a:avLst>
              <a:gd name="adj1" fmla="val -38087"/>
              <a:gd name="adj2" fmla="val 83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l daño marginal es constante. Lo que nos genera una curva de daño marginal DM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19T17:35:20Z</dcterms:modified>
  <cp:revision>83</cp:revision>
  <dc:subject/>
  <dc:title>Economía del Sector Público</dc:title>
</cp:coreProperties>
</file>