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0CAE8C-C795-49D4-BB67-5D9A498204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plicar que por la falla de mercado en el óptimo la oferta de mercado no se encuetra con la demanda de mercado y por ello es que existen dos precios.  Cuando veamos la corrección a las externalidades va a quedar mas claro el concep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C6C-49B4-4C46-A51B-2E43E77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60A-35E5-4740-ABFD-D790374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A15D9-086A-4F7E-B44C-CE3E1C87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F9143-BF7C-4E5C-BDD7-EDA7692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EB190-FB83-4E7B-B609-91AB5CB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89B96-F335-48BE-AC6B-0D8A25E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69CF7-879A-4133-B94C-62847D9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06141-6397-417A-BCCD-13F3F5F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15980-F887-43C8-A438-AF60A66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58524-CDAC-4B24-B6E7-FA2BA6A5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BD23-C7DA-4577-AECB-3287D1D8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55852-E9F8-458E-A5B7-7E67CB98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1A2-9A7D-420B-BFF6-EB2FDD4C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8AB31-EBBD-4017-9160-A424A7A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DB7F5-52BC-4982-AD89-0601253D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8CFC-FB7F-4701-ACB7-617D5E1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C0CC5-A7E0-4EA7-92B9-D8D64155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A5E40-B3E9-4000-A00B-7DB98BF7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8442D-A776-4EAE-A4CD-775A5BA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12A52-F568-4D0F-9963-EBB0CB2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7DAF4-F5B6-40FF-B3D8-F779B82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A761E-7285-453B-B683-1433D672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AF385-9440-4A99-9A64-74C6E682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19E-8E49-445E-8211-DFB99906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5C744-0057-43D9-8511-A5A3E960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0819-9089-4ACA-9CD5-09833BF6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373F6-0247-43AD-8EC4-D5D214EB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F6494-FEFC-42FA-B151-B34F984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0996-08CE-48E8-84D6-A278D07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B157-5A11-470D-8D12-952F55E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8A30E-89EF-4886-A98D-6D5FD4E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7C8C6-975F-417A-85DA-145C7B2F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91989-4AB5-4DC5-BCCA-2E37F40F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D309C-D775-44D4-8C4D-AC24F87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EA22-7959-4F38-9420-F7CBE379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18EA-98AB-4DE2-A7B5-B1721B0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FA18E-01F7-47BD-B109-AE5A6004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610E-FC04-4A03-A747-E527381A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1E2D-8C64-41D9-A008-07635A6F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6F5E-390C-4768-BAA1-EE31976B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6D5E-D54B-4DDC-9679-221D9EE9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F80-6D37-4D82-9338-153CE25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8711-83D6-4719-84AD-C86FB82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FB8-0801-475D-9B97-1D8C1D71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87C-8E4C-4D3B-BAAB-5864DB15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CC14-DAE2-431A-A56F-EB5F3BF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02E-39AA-4C21-8717-E411782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8CC-EF5D-4CDA-831C-187980EC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FE4D-C60E-4E3F-8A54-68C2F95B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3A3D-1121-4686-9E26-700CDC72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1B70-EC69-4C3D-B8A7-A332C5DF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7B61-CD6D-44F9-97BB-4A4F70A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6B79-8329-4BA4-A55F-219AFEC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C430-0C32-4653-B709-26C30D1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C267-9532-4C6F-85BE-FC92DA56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93F-F832-480F-A0FB-843361D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47FA-7D18-41FA-BEB5-30A07615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563A-3FF5-48A0-A6F7-03CEF7D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E6CF-EE21-4D70-8355-C68B9A7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8BE1-3A48-46C6-AEA6-47E6429A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8776-58BE-494A-AF1F-ECC44756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FE80-D2C1-4F40-BBCF-DA89BE25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0A3D-089D-4EEA-896A-1258D869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5C23-B6BD-4213-A116-F10B6553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0F1B-EAA8-41D4-89D2-5A3B6377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C35E-B4F9-428B-8742-A35531D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6A0-8A1B-49DB-B9CB-AACD501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7247-5F59-4BAD-B3E2-A4FF4F85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AB23-05F3-4F2A-9D47-F47765B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B181-1DD9-4EF6-96C5-2334C16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3D1F-9A01-4B26-B3C9-3A98723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523E-29F0-4727-9411-5C2BBD4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978D-DD4F-4CA8-8A78-CBD5A6B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1142-9183-4E21-B827-A47EB73C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0D72-F1F3-4DEC-980C-16AF49BA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792F-2757-4D9A-896C-DBECE25C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45B0-A34A-4B0C-BB0A-BC5F72A8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5E4-02C9-430C-B97C-6E9A56D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159F-102D-4A4A-B8EF-50F1C76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E181-5D3A-464B-AF18-333E073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EFF1-FA18-4E12-B043-513237F5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BBEC2-32D3-4CEE-B8B3-00D591A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94D29-2479-456B-B943-CEB1655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6089-8D0A-400F-8EFF-5419848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61B3-561A-4685-9709-DFBEBCC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BEE6-D89B-4CD5-A14C-06D0870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253F-1A74-477F-AFF3-A6503648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1F19-4497-4D86-A3BC-00E869EC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53C-A946-4C73-A156-0567AD6C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22C02-C93C-40E3-9BBB-C6FABFF6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5FB6-9866-4124-AB08-538EF79E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1453-F5BF-48B8-B723-0206C4E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07C5-655F-4790-9665-333631A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25FB-05DB-485E-891C-CBBDADDC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95089-8960-499F-9328-C0B0B612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2BD8-2F85-4297-BDB4-BE0BCADD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5716-8B9B-4B4A-AB3E-A5CFAFC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FBA3-07D4-4685-BDD5-B240626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A73AC-C191-40FA-9B18-F488DE8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2C9-2CB6-4AB5-9491-629B582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8119E-D467-46C7-A8DB-1CE28979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C182-0E42-44F0-BB6A-11C88A69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FAD9E-C9B0-439F-ADB2-6BB2F16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8F3E9-24B5-4F5E-9AF2-E6AA76BB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E865-1EF6-4FA3-8FEC-45C2541B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8008-2E36-4DCC-BBC6-C34FBD9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2D8C-D575-4DE3-A3DE-AFDD93E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DFA56-C3C4-4D36-B3DC-A368FAF2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A492-09F7-4AA2-8133-E19A6EE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22D6-7BC8-4965-83A5-F690D38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643-68B8-44FB-AF6C-C324733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3F1C-83B6-4B6D-B406-3FE7806F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8610-8631-41E8-8C94-E6F345C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ED9B5-AC18-4C00-A5BB-530FA540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32C9-DEA3-41BC-9A18-0250F446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51B8-8ED1-40AF-8701-CE54541A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D705-0AFA-4F32-896A-62826466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B2001-BC40-4EC5-97F6-B4713C03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4FE5-CCB1-4DAD-B9E6-FC3283BD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37CF-C236-408A-B559-6CB54AC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25BBE-9BD7-4F22-B3F0-C2A26D57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33D-984E-4637-9545-156618F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6F022-5148-4052-9BA4-80FCEBB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81FF-1CAE-49D6-9A4E-3254A29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65741-174F-4D11-B9D5-81EFAAF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D49F9-2A60-44FA-B8AC-4DCA870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4B9BC-EA8B-43FF-9052-CEE3CB0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5AB8C-E536-450D-9CC0-CBFBB5F1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884F-1F83-44F9-AB93-E5E8F02F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8BE2A-5FA2-43B6-B31B-8E2994D5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8035F-A549-410A-8DD6-2D10724D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C52BE-41B1-4855-B04C-C3271F7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A35-90B6-4B72-B702-F3835248B9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8A4A-474C-49EC-9513-3F73E5C0E4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626-6635-436F-B6C2-F20CB19A7E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2EDE-AF7F-4AF0-AFE3-CBEE244DD4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6334-09E2-4440-8F3B-185ADC8CCE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AEC-8A70-4F5C-B58E-4E3A58EF59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45D-508B-478B-AA52-182F673411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5E14-FD75-443C-8551-20D1D57B7F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858-307F-43A9-883B-3D10E615DC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C8D9-3819-4EEC-BDD7-F315BEEF9C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06A-F35F-4639-ACF9-3F3C015621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29000" cy="261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"/>
          <p:cNvSpPr/>
          <p:nvPr/>
        </p:nvSpPr>
        <p:spPr>
          <a:xfrm flipV="1">
            <a:off x="1908000" y="2707920"/>
            <a:ext cx="532944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1908000" y="1197000"/>
            <a:ext cx="3132360" cy="1440000"/>
          </a:xfrm>
          <a:prstGeom prst="wedgeRectCallout">
            <a:avLst>
              <a:gd name="adj1" fmla="val 83703"/>
              <a:gd name="adj2" fmla="val 10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Marginal Social es igual al costo marginal de la empresa más el costo marginal que genera sobre terceros (DMg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03142 -0.15602 E">
                                      <p:cBhvr>
                                        <p:cTn id="14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485928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2195640" y="1916280"/>
            <a:ext cx="2808000" cy="647640"/>
          </a:xfrm>
          <a:prstGeom prst="wedgeRectCallout">
            <a:avLst>
              <a:gd name="adj1" fmla="val 648"/>
              <a:gd name="adj2" fmla="val 1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 socialmente óptimo de producció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2195640" y="1773360"/>
            <a:ext cx="2808000" cy="718920"/>
          </a:xfrm>
          <a:prstGeom prst="wedgeRectCallout">
            <a:avLst>
              <a:gd name="adj1" fmla="val 24620"/>
              <a:gd name="adj2" fmla="val 12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3"/>
          <p:cNvSpPr/>
          <p:nvPr/>
        </p:nvSpPr>
        <p:spPr>
          <a:xfrm rot="1803000">
            <a:off x="3890880" y="2730600"/>
            <a:ext cx="1249560" cy="1079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56360" y="1557360"/>
            <a:ext cx="273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minación (ríos, aíre, agua subterranea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gestión vehic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41120" y="575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1076760" y="3774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6948360" y="1197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7599960" y="491184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7956720" y="1989000"/>
            <a:ext cx="107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MgS=CMgP-A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979640" y="1773360"/>
            <a:ext cx="2808360" cy="718920"/>
          </a:xfrm>
          <a:prstGeom prst="wedgeRectCallout">
            <a:avLst>
              <a:gd name="adj1" fmla="val 11731"/>
              <a:gd name="adj2" fmla="val 17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 flipH="1">
            <a:off x="1547280" y="342900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5880" y="3187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3360960" y="578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2"/>
          <p:cNvSpPr/>
          <p:nvPr/>
        </p:nvSpPr>
        <p:spPr>
          <a:xfrm rot="5400000">
            <a:off x="3551400" y="3441600"/>
            <a:ext cx="1320480" cy="115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372360" y="3357720"/>
            <a:ext cx="2592360" cy="1295280"/>
          </a:xfrm>
          <a:prstGeom prst="wedgeRectCallout">
            <a:avLst>
              <a:gd name="adj1" fmla="val 16810"/>
              <a:gd name="adj2" fmla="val -8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a terceros que no esta siendo incorporado en la función de costo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1124640" y="26370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547640" y="278136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4356000" y="126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845000" y="49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 flipH="1">
            <a:off x="684360" y="2997360"/>
            <a:ext cx="136656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14640" y="2852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4643280" y="1557360"/>
            <a:ext cx="15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A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2"/>
          <p:cNvSpPr/>
          <p:nvPr/>
        </p:nvSpPr>
        <p:spPr>
          <a:xfrm flipH="1">
            <a:off x="684360" y="2492280"/>
            <a:ext cx="2279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99880" y="2276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2849760" y="4941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684360" y="3500280"/>
            <a:ext cx="2232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322200" y="3357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771640" y="2205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2987640" y="357336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12400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ienestar generado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a producción inferi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rrig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mig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aso de las abej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4284720" y="3789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313776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"/>
          <p:cNvSpPr/>
          <p:nvPr/>
        </p:nvSpPr>
        <p:spPr>
          <a:xfrm flipH="1">
            <a:off x="1619280" y="3789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7601400" y="51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5940360" y="515772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7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5569"/>
              <a:gd name="adj2" fmla="val 20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 flipH="1">
            <a:off x="1619280" y="3429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1055880" y="35733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386424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rot="16200000">
            <a:off x="3456720" y="382464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3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daño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4"/>
          <p:cNvSpPr/>
          <p:nvPr/>
        </p:nvSpPr>
        <p:spPr>
          <a:xfrm>
            <a:off x="241128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117440" y="324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111132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 flipH="1">
            <a:off x="1619280" y="4221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cciones de individuos o empresas tienen consecuencias (negativas o positivas) sobre el resto de perso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efectos de nuestras acciones que recaen sobre otras personas son conocidos como externalida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4718520" y="42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13372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314640" y="30621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H="1">
            <a:off x="684360" y="2997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299880" y="335772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17701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22200" y="270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1979640" y="2637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908000" y="364500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"/>
          <p:cNvSpPr/>
          <p:nvPr/>
        </p:nvSpPr>
        <p:spPr>
          <a:xfrm>
            <a:off x="248436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sup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635280" y="458136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cohol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7412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1618920" y="422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6229800" y="5300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380360" y="472428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5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17041"/>
              <a:gd name="adj2" fmla="val 1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4284720" y="3716280"/>
            <a:ext cx="0" cy="20178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>
            <a:off x="1618920" y="3789360"/>
            <a:ext cx="25923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1119240" y="3979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28968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0"/>
          <p:cNvSpPr/>
          <p:nvPr/>
        </p:nvSpPr>
        <p:spPr>
          <a:xfrm rot="5400000">
            <a:off x="3456360" y="3393000"/>
            <a:ext cx="8632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2"/>
          <p:cNvSpPr/>
          <p:nvPr/>
        </p:nvSpPr>
        <p:spPr>
          <a:xfrm>
            <a:off x="104292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1117440" y="4502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111320" y="35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H="1">
            <a:off x="1618920" y="4653000"/>
            <a:ext cx="2630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213440" y="45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70208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314640" y="33498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2"/>
          <p:cNvSpPr/>
          <p:nvPr/>
        </p:nvSpPr>
        <p:spPr>
          <a:xfrm flipH="1">
            <a:off x="684360" y="393372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299880" y="291780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22813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32400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2484360" y="386064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908000" y="270828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835280" y="3573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z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inf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4500720" y="378936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611280" y="1557360"/>
            <a:ext cx="828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luciones a 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orema de Co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úbl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 o Subsid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ando y contro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s derechos de propiedad están bien definidos y no existen costos de transacción para negociar, las negociaciones de los afectados llevarán a un nivel óptimo social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importa quien tenga los derechos (contaminado o contamin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función del estado es establecer los derechos de prop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6156360" y="1268280"/>
            <a:ext cx="2736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0 y Q* el BMgP – CMgP &gt; DMg, lo que da espacio para negociar (el contaminante esta dispuesto a pagar contaminar y el contaminado a aceptar un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Q* y Qm el DMg &gt;BmgP-CMgP, dando espacio para negociar (el contaminado esta dispuesto a pagar por menos contaminación y el contaminante a aceptar el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no suele funcionar en la práct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derechos de propiedad no siempre están bien definidos (como estado resulta difícil determinar a quien asignarl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stos de transacción &gt;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iempre se gastarán tiempo y recurs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grar consensos no es fácil, especialmente en grupos gran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dentificar a los involucrados no es gratuit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cer cumplir los acuerdos tampoco es grat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ícil valorar el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e r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la equidad? (no da lo mismo entregar los derechos al contaminador que al contaminad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us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ste en fusionar en una sola entidad al generador de la externalidad y al perjudicado/beneficiado por el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esta manera esta única gran empresa internalizará dentro de su función de costos el daño/beneficio generado por la exter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. Venta a la fábrica río arriba las piscinas que se encuentran río 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ECUNIARIAS: son aquellas que no producen un fracaso en el mercado.  Estas externalidades son transmitidas  a través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Incremento de la demanda de un bi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TECNOLÓGICAS: aquellas que producen un fracaso en el mercado.  Consisten en daños o beneficios generados a terceros en los cuales no existe una compensación por el daño/beneficio caus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La contaminació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n este curso nos enfocaremos en las externalidades tecnológ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 o 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plican impuestos o subsidios que modifiquen las funciones de costos/beneficios privadas en una magnitud igual a la distorsión (impuestos piguvian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421160" y="126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=CMgP+Impue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8"/>
          <p:cNvSpPr/>
          <p:nvPr/>
        </p:nvSpPr>
        <p:spPr>
          <a:xfrm>
            <a:off x="3564000" y="213372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9"/>
          <p:cNvSpPr/>
          <p:nvPr/>
        </p:nvSpPr>
        <p:spPr>
          <a:xfrm>
            <a:off x="3708360" y="213372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3848040" y="2414520"/>
            <a:ext cx="173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uesto=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impuesto de igual magnitud al daño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mpuesto produce dos precios; el de venta relevante para el consumidor (Pc), y un precio que no incluye el impuesto relevante para el productor (P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ayor precio para el consumidor (Pc) reduce la cantidad consumida, mientras que un menor precio para el productor (Pp) reduce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4500720" y="1197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538200" y="1332000"/>
            <a:ext cx="0" cy="31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"/>
          <p:cNvSpPr/>
          <p:nvPr/>
        </p:nvSpPr>
        <p:spPr>
          <a:xfrm>
            <a:off x="538200" y="45036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4994280" y="4503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10980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538200" y="1808280"/>
            <a:ext cx="4195800" cy="24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73080" y="260028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2284920" y="4459320"/>
            <a:ext cx="3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 flipH="1">
            <a:off x="550440" y="32608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3805200" y="41590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9"/>
          <p:cNvSpPr/>
          <p:nvPr/>
        </p:nvSpPr>
        <p:spPr>
          <a:xfrm flipV="1">
            <a:off x="550800" y="1461960"/>
            <a:ext cx="3863880" cy="27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4572000" y="3860640"/>
            <a:ext cx="405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=BMgP+Subsidi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"/>
          <p:cNvSpPr/>
          <p:nvPr/>
        </p:nvSpPr>
        <p:spPr>
          <a:xfrm>
            <a:off x="2433600" y="2840040"/>
            <a:ext cx="0" cy="1679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"/>
          <p:cNvSpPr/>
          <p:nvPr/>
        </p:nvSpPr>
        <p:spPr>
          <a:xfrm flipH="1">
            <a:off x="550440" y="2900520"/>
            <a:ext cx="1830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0520" y="3059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1730520" y="4459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550800" y="2527200"/>
            <a:ext cx="32529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4"/>
          <p:cNvSpPr/>
          <p:nvPr/>
        </p:nvSpPr>
        <p:spPr>
          <a:xfrm>
            <a:off x="145440" y="342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5"/>
          <p:cNvSpPr/>
          <p:nvPr/>
        </p:nvSpPr>
        <p:spPr>
          <a:xfrm>
            <a:off x="141120" y="2744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H="1">
            <a:off x="550800" y="3619440"/>
            <a:ext cx="1857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3132000" y="3306600"/>
            <a:ext cx="1800" cy="698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9"/>
          <p:cNvSpPr/>
          <p:nvPr/>
        </p:nvSpPr>
        <p:spPr>
          <a:xfrm>
            <a:off x="3276720" y="328464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3416400" y="3390840"/>
            <a:ext cx="173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puesto=A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subsidio de igual magnitud al aporte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igual que con los impuestos, el subsidio produce dos precios; el de venta relevante para el productor (Pp), y un precio subsidiado relevante para el consumidor (P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nor precio para el consumidor (Pc) aumenta la cantidad consumida, mientras que un mayor precio para el productor (Pp) aumenta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subs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ción tomada por el estado mediante subsidios y impuestos sirve para complementar e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emplaza o sustituye a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uego de aplicada la regulación el mercado sigue funcionando y logra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ando y Contr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define la cantidad a producir/consumir y fiscaliza para que esta se cump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aso se encuentran los permisos de producción máxima, producción por tamaño de recurso, por tipo de producto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valencia entre los impuestos Pigouvianos y los permisos de contamin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 Pigouviano:  El estado fija un precio por la contaminación estableciendo un impuesto que nos lleve al punto de equilibrio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sos de Contaminación: El estado fija la cantidad en el óptimo social entregando un numero limitado de permisos de contam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Line 4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851280" y="326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539640" y="465300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* es el optimo social de contamin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descontaminación implica costos superiores a los beneficios de descontamin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5364000" y="1989000"/>
            <a:ext cx="2376720" cy="1224000"/>
          </a:xfrm>
          <a:prstGeom prst="wedgeRoundRectCallout">
            <a:avLst>
              <a:gd name="adj1" fmla="val -71240"/>
              <a:gd name="adj2" fmla="val 116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BMg Privado por Descontam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El caso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395280" y="4653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un impuesto igual al daño marginal generado por la contaminación iguala el BMgSD y el BMgPS llevandonos al óptimo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ositivas o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as (economías externas): vacun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as (deseconomías externas): conta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roducidas por consumidores o product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idores: fu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ductores: desechos de fáb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radica en que los productores/ consumidores no consideran los costos o beneficios generados a terceros dentro de su función de costos o beneficios respectiv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Regulación de Cantid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395280" y="49165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stado fija la cantidad en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2268360" y="2133720"/>
            <a:ext cx="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caso de los Impuesto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 flipV="1">
            <a:off x="1547640" y="1773000"/>
            <a:ext cx="1729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3132000" y="1539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395280" y="48434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Mg de descontaminar el es mismo para todas las fi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>
            <a:off x="1979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195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154764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1836720" y="413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Regulación de cantidad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7"/>
          <p:cNvSpPr/>
          <p:nvPr/>
        </p:nvSpPr>
        <p:spPr>
          <a:xfrm flipV="1">
            <a:off x="1547640" y="1700280"/>
            <a:ext cx="14400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1547640" y="35002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987640" y="1557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95280" y="4843440"/>
            <a:ext cx="856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QS* debo hacer que cada empresa descontamine en QS*/2 (reparto la descontaminación en partes igua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esta cantidad el costo de descontaminar para A es muy elevado, a B le sale más barato que con un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9"/>
          <p:cNvSpPr/>
          <p:nvPr/>
        </p:nvSpPr>
        <p:spPr>
          <a:xfrm>
            <a:off x="20509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1763640" y="414972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/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 flipV="1">
            <a:off x="2556000" y="19890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/subsidios suelen ser más eficientes que la regulación de la cant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s firmas pueden tener distintos costos de mitig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impuesto logra que todas las firmas tengan el mismo costo marginal de mitig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e fija la cantidad, todas las firmas deben reducir pero a unas les sale mas costoso que a ot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icionalmente los impuestos generan incentivos para buscar  alternativas más limpias, ya que de reducir la externalidad pagaría menor impuesto, lo que no sucede con la regulación de c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ulación de cantidad es preferible si desconocemos las funciones de demanda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solución son los permisos trans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Permisos Transable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395280" y="56959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le compra permisos a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2"/>
          <p:cNvGrpSpPr/>
          <p:nvPr/>
        </p:nvGrpSpPr>
        <p:grpSpPr>
          <a:xfrm>
            <a:off x="1187280" y="1557360"/>
            <a:ext cx="5689440" cy="3823560"/>
            <a:chOff x="1187280" y="1557360"/>
            <a:chExt cx="5689440" cy="3823560"/>
          </a:xfrm>
        </p:grpSpPr>
        <p:sp>
          <p:nvSpPr>
            <p:cNvPr id="1039" name="Line 3"/>
            <p:cNvSpPr/>
            <p:nvPr/>
          </p:nvSpPr>
          <p:spPr>
            <a:xfrm flipV="1">
              <a:off x="1653840" y="1650960"/>
              <a:ext cx="0" cy="33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"/>
            <p:cNvSpPr/>
            <p:nvPr/>
          </p:nvSpPr>
          <p:spPr>
            <a:xfrm>
              <a:off x="1653840" y="4979880"/>
              <a:ext cx="33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1187280" y="155736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$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6"/>
            <p:cNvSpPr/>
            <p:nvPr/>
          </p:nvSpPr>
          <p:spPr>
            <a:xfrm>
              <a:off x="4170960" y="4979880"/>
              <a:ext cx="270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scontamin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7"/>
            <p:cNvSpPr/>
            <p:nvPr/>
          </p:nvSpPr>
          <p:spPr>
            <a:xfrm flipV="1">
              <a:off x="1653840" y="1746000"/>
              <a:ext cx="186516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1653840" y="4122360"/>
              <a:ext cx="307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3519000" y="15573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3893400" y="3816720"/>
              <a:ext cx="26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S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>
              <a:off x="2959920" y="412236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2"/>
            <p:cNvSpPr/>
            <p:nvPr/>
          </p:nvSpPr>
          <p:spPr>
            <a:xfrm>
              <a:off x="2680200" y="507384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4"/>
            <p:cNvSpPr/>
            <p:nvPr/>
          </p:nvSpPr>
          <p:spPr>
            <a:xfrm>
              <a:off x="5131440" y="4671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P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15"/>
            <p:cNvSpPr/>
            <p:nvPr/>
          </p:nvSpPr>
          <p:spPr>
            <a:xfrm flipV="1">
              <a:off x="1653840" y="2221200"/>
              <a:ext cx="2703960" cy="27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6"/>
            <p:cNvSpPr/>
            <p:nvPr/>
          </p:nvSpPr>
          <p:spPr>
            <a:xfrm>
              <a:off x="4078440" y="19155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7"/>
            <p:cNvSpPr/>
            <p:nvPr/>
          </p:nvSpPr>
          <p:spPr>
            <a:xfrm>
              <a:off x="5104440" y="231804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8"/>
            <p:cNvSpPr/>
            <p:nvPr/>
          </p:nvSpPr>
          <p:spPr>
            <a:xfrm flipV="1">
              <a:off x="1653840" y="2602800"/>
              <a:ext cx="3544920" cy="23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9"/>
            <p:cNvSpPr/>
            <p:nvPr/>
          </p:nvSpPr>
          <p:spPr>
            <a:xfrm>
              <a:off x="2305800" y="3076560"/>
              <a:ext cx="0" cy="1900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0"/>
            <p:cNvSpPr/>
            <p:nvPr/>
          </p:nvSpPr>
          <p:spPr>
            <a:xfrm>
              <a:off x="1933560" y="497988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/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1"/>
            <p:cNvSpPr/>
            <p:nvPr/>
          </p:nvSpPr>
          <p:spPr>
            <a:xfrm flipV="1">
              <a:off x="2959920" y="2126880"/>
              <a:ext cx="0" cy="28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Line 23"/>
          <p:cNvSpPr/>
          <p:nvPr/>
        </p:nvSpPr>
        <p:spPr>
          <a:xfrm flipH="1">
            <a:off x="2123640" y="3860640"/>
            <a:ext cx="14436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4"/>
          <p:cNvSpPr/>
          <p:nvPr/>
        </p:nvSpPr>
        <p:spPr>
          <a:xfrm flipV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324000" y="1484280"/>
            <a:ext cx="8569080" cy="79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aginemos dos firmas (A y B), cada una produce dos toneladas de contaminan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objetivo de política es reducir las emisiones en dos toneladas, eso implica que cada firma deberá reducir su contaminación en una tonela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sto de mitigación de una tonelada de contaminación es de 60 para la firma A y de 300 para la firma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se hace una regulación por cantidad simple A y B deberán reducir en una tonelada sus emisiones.  El costo para A será de 60 y para B de 300 con lo que el costo total descontaminación ascenderá a 36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permitimos que los permisos se transen en el mercado, A estará dispuesto a venderle a B su permiso por algo más de 60 y B estará dispuesto a pagar algo menos que 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24000" y="1484280"/>
            <a:ext cx="8569080" cy="80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ongamos que llegan al acuerdo de pagar 150 por el permi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este caso A deberá reducir su contaminación en dos toneladas lo que le cuesta 1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 ya no debe reducir sus emisiones, solo debe pagar 150 a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jo este esquema A gana 30 (150 que recibe de B menos los 120 que le cuesta descontaminar), mientras que B solo paga 150 a A.  Notablemente mejor que los 60 y 300 que antes pagaban A y B respectiva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decir, como sociedad hemos logrado los mismos niveles de contaminación pero a un costo mucho más 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ermiso transable tiene también la ventaja de estimular el uso de tecnologías más limpias.  Como vemos en el ejercicio las empresas más limpias ganan cuando se aplican políticas de descontamin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iste una externalidad cuando el punto de equilibrio privado no es el mismo que el punto de equilibrio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. Esto porque no se está internalizando el costo o beneficio generado a otr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nos asegura que el BMg privado = CMg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 una asignación socialmente óptima requiere que el BMg social = CMg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lgunas Defini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P=medición monetaria del beneficio que obtiene una persona al consumir una unidad del bien o servi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= medición monetaria del beneficio que obtienen todos los miembros de la sociedad cuando una persona consum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P=medición monetaria de cuanto le cuesta a un productor la genera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=medición monetaria de cuanto le a todos los miembros de la sociedad la produc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laciones Existe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gt; B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lt; B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gt; C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lt; C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= CMgP y BMgS=BMgP.- entonces no hay externalidades, el mercado asigna eficientement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7708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601400" y="45086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3635280" y="1557360"/>
            <a:ext cx="2808360" cy="1295280"/>
          </a:xfrm>
          <a:prstGeom prst="wedgeRectCallout">
            <a:avLst>
              <a:gd name="adj1" fmla="val -8675"/>
              <a:gd name="adj2" fmla="val 127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maximiza utilidades en el punto donde CMgP = BMg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395280" y="2997360"/>
            <a:ext cx="3095640" cy="1152360"/>
          </a:xfrm>
          <a:prstGeom prst="wedgeRoundRectCallout">
            <a:avLst>
              <a:gd name="adj1" fmla="val 38152"/>
              <a:gd name="adj2" fmla="val 111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no captura el daño generado a terceros en su función de co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730872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6012000" y="2852640"/>
            <a:ext cx="3132000" cy="1295640"/>
          </a:xfrm>
          <a:prstGeom prst="wedgeRectCallout">
            <a:avLst>
              <a:gd name="adj1" fmla="val -38087"/>
              <a:gd name="adj2" fmla="val 8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l daño marginal es constante. Lo que nos genera una curva de daño marginal DM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19T17:35:20Z</dcterms:modified>
  <cp:revision>83</cp:revision>
  <dc:subject/>
  <dc:title>Economía del Sector Público</dc:title>
</cp:coreProperties>
</file>