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83F9-8171-48BB-9C5E-4BA2976779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1CE-0DE6-4E5A-9188-A6396127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D47-5CB3-438A-97E6-5471DAEA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AE33F-D92E-4120-973E-D9093F30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07FA4-D8DB-4C37-B75E-05EA99F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0171A-E0F3-4641-83E9-D7D858CA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6EA8B-2280-4952-A67A-B0AAB59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5A4BA-14AF-47EA-9577-5FBA846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926D5-65B5-4F9A-A81C-7CD62FF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E72E5-22CC-4EA6-BA06-443A0EA0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83F7A-EF16-4214-87F2-F8110B6D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62F97-7C08-438C-8BFD-70F79C9F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916DD-C14A-4B55-9046-2670FE03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31E-608A-4485-8DF2-C1CED3DA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0A9A3-EEC3-4FCD-8AD2-4A9D43D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C50BC-7370-4781-9C2A-F4C64115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5B2B1-6520-4C3D-8B8E-BEA31802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91EFC-B9DA-49CC-916D-DB46BB86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83122-57C8-4B59-8971-90FA529C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7B6C0-9317-483D-97DC-238C23F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CE587-64B2-4712-B6C4-BAB4D3C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B4976-DB8C-4785-8671-34E1E6D6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51D5B-10DA-4119-9896-6F7A5BBC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A0FD2-5D62-47C5-8FE3-5569FAF3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E80-C2A4-4DF2-AEA3-76739E1D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9FF8F-CB20-4014-9B28-542B1883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6EDD7-A103-45BC-A052-83D034A0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A44A7-CB39-4FC4-963C-BE88EB64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97CA3-F31C-4EDE-9248-CE523A1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A2F70-BE02-4225-86A9-0AA262E8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17841-46AC-4E15-ABFF-8D32DB4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888E2-6086-4B2D-A364-8BF2E90B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7BB9F-3E9C-4DA4-BEB2-58D62A5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FB223-7686-4FB8-A564-EAB81D6E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49BAC-C5D1-4E4F-A5FD-7530BC6A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79DA-B1D2-4791-BDD3-437C60C7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DF60B-E91E-44F3-8CF6-2C0C1E3F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57D0A-16FE-44AB-B0F9-0235D7D4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CF200-2056-4176-A568-19A0B364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684-9933-424B-8529-41B79F7A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390-62BF-426E-865E-E1A882C3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D4AF-371C-4795-A6FC-6C772649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95F5-0711-47A3-A18C-870F134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3876-9884-4A42-98CA-7362E147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2FCF-0D8C-4B2B-A099-1A9D96B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17B-B132-4E7A-8AA0-48C761CF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4EC1-F1AA-4872-8B44-44CF567C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E542-84FE-4A87-83E9-206C8D2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D46F-00FC-4A07-A9CB-3613AB1A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B61D-D075-44EC-8086-FBC62094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12A-4C43-4DEE-86F0-C244DC89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CDE6-D1EA-4573-99E8-FDA2A959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DA01-AF13-4DEC-BF94-4C7E9CE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9BC8-9279-47BB-AC8F-E0884F9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C676-4887-4F85-B735-3863165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EC9B-4572-4880-A6AE-681A0BBE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F4D-F9EF-450E-9CE6-36DC9A24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448E-6C55-47FA-B176-235566F6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F5FE-D5BD-4E9B-A82B-48A9762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536C-DC4E-44F6-86CF-F3A0331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BC68-EEE9-46C5-AB83-50F9C1B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6E6A-9CD3-474E-AD65-E4FEB150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D994-14B7-470C-8D67-472F0196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C08B-76BC-4E7F-B083-DC548A8F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F1EB3-69FE-4A12-BED1-3EC53FDA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F193-80E5-4D8C-95BE-8A56410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CE38-64B5-43A1-AA19-AB8AC0CF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257-329A-4552-BC16-95DECE6C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14AC-24CD-4B0D-9830-1CDF530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3892-4655-4712-96D4-BA00E4A6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6251-4B6F-45AB-9B19-D4FACD7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6944-A1D3-471A-8BDA-EDAA50F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64CD-7919-4205-8456-FE70AD6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42F0-510E-424B-BBCD-0885B34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17B5-D769-4A22-899E-7F002A3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579B-AE08-4879-A013-18E78CAC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1F5C4-7C20-44C6-87F1-880FA9F5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48BEA-722D-4C7F-8C25-20844B95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9C1-B652-4E2A-BDEF-1643EA7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48FE6-EA26-4475-9B38-8E05E6C8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4C7BC-F96E-475A-A906-2B92435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54C6-CA68-4D72-88D5-13CA6E4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84F56-A68C-467E-97D2-9A33D816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0C70-DE6B-4BAC-9C3A-04ACBC80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5314-5BFA-4BB0-9F58-A747E9E5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2974-AF26-4CE9-888C-716D168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BAD7-C69A-414C-B15D-2F27E9A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84CFF-8850-48C3-ACCF-2DFCA83F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87BC9-B970-4C78-BD46-CBAD0E4E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993-91C5-48AB-9C4C-8607BD96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890D9-94EF-4D20-B5A3-7474CF86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B47C4-28B2-4BA9-BA6F-685BE0B2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CD3C-8672-4F71-8E47-D147BCD2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129AE-10E0-4B75-80EA-88FC1678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CDCF-D663-4502-B1C5-63DC5642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C671F-0E68-4305-9437-9E5A950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42AC-6E76-423D-8E14-4CAA506B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73EBF-E8EB-4ADE-99CC-7A5CDCD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4BE09-B280-4E99-A883-20EE0505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22C14-E8A0-4100-B3C0-B667861D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99C-2459-4D71-9DDE-32A5AF2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77260-E6A6-4EE5-9A86-3190CFC2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5465B-0D89-4FD8-A233-B6F54645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5747-0DB3-456D-8CE5-476DA0FF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C1251-8331-44FA-924F-BD225EDA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1603-3CE6-42E0-A5E8-CB98DBF6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237D3-A9FD-4FC0-A884-DD248146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5E9A5-2329-4621-8EA9-0CF78DD6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E2B3-BE7D-44C2-98F2-3635431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FE20-CC40-4690-91C7-141B2203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132A8-22E9-43F1-8F60-1C4836A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966-37D1-4FD2-93A1-5B46898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84BB-3B29-423D-B97D-527D384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E630E-265E-45ED-AF2E-09B699AE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59F3-F2F7-47C4-A33B-E35B3B8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4F7DD-87E8-421A-B865-C7674193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E713B-FA11-4DD2-8099-2730F0D3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78118-A477-4E85-89BF-7DFE1286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BA51-AC92-437D-9A61-727F7E94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44593-BDB9-40BE-AB53-9FE29A2C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1BC20-A726-4F5A-A579-F56CC1BF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2D7D-85D5-4409-B8BB-A569DF26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506-7CF9-4D71-8519-2E35D4D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4B698-2FC5-4D33-A9AE-AA4625A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5B676-442A-462B-A8EA-B6FB206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575C-BA3A-4D94-BB5A-811A3965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5F561-1595-4A4F-93E2-A7F7658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554F-FF01-4319-9C96-2A6C256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363D-E1F8-49AA-A59A-C19CBD16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84C19-F167-4C82-84ED-00127C50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CD447-B6F4-415A-B28D-072A581A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34A27-820B-4668-B1A4-EFB4528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8F2EC-AE77-40D8-8316-45EED2E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1E2-F1DF-441B-BD41-24FA8587A139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4951-931E-41DF-8AD4-3AF98B6AF7E7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1191-38AE-4DB6-85E5-8A0DB6B1EE2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568F-FA33-454B-B0EF-47F5E41C407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1C5E-108E-4DA3-9A1C-7B3F669D6D73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FD15-986F-4FC0-8456-F5FE4305F922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871-4AFC-4A46-9609-3DEF00514C6C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3353-92B4-44C1-A291-4C0C3AED259C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C94D-B892-4C4E-A695-3573FC6356D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558-AF77-41A3-A5AD-D9AC77D47E4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046E-A2AD-4436-9D27-52AEFF72290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genera una distribución de bienestar económico que puede no ser la dese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De acuerdo a una idea de equidad que tengamos como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encarga al estado el tomar las medidas que produzcan un proceso redistribu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Por ello es que en una economía social de mercado el estado es quien ha tomado a su cargo la solución de la pobre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dad – Justificaciones y principi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el Utilitarismo Simple (Bienestar social = suma del bienestar de sus miembro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spectiva Rawlsiana (maximin) Maximizar el bienestar del que esté en peor situ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jo: utilidad marginal de la renta decrec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bienestar que las personas pueden alcanzar no solo depende de sus propias acciones, también depende del medio que las rod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xisten fluctuaciones de carácter macroeconómico que afectan en uno u otro sentido el bienestar de las person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acción del estado se centra en la mitigación de los problemas macroeconóm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gunos problemas macroeconómicos: desempleo, inflación, crecimiento volátil, decrecimiento, crisis en la balanza de pagos, et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380988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y de Propiedad Común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3"/>
          <a:stretch/>
        </p:blipFill>
        <p:spPr>
          <a:xfrm rot="20767200">
            <a:off x="468360" y="256536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"/>
          <p:cNvPicPr/>
          <p:nvPr/>
        </p:nvPicPr>
        <p:blipFill>
          <a:blip r:embed="rId4"/>
          <a:stretch/>
        </p:blipFill>
        <p:spPr>
          <a:xfrm rot="1010400">
            <a:off x="684000" y="220500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 rot="20055600">
            <a:off x="4057560" y="1545840"/>
            <a:ext cx="42595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 de un Bi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ivalidad: el consumo del bien por parte de una persona limita (o anula ) el disfrute del mismo por parte de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clusión: se puede excluir (mediante un cobro) a una persona del bienestar proporcionado por un bie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lasificación de los Bie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888840" y="2008080"/>
          <a:ext cx="7139160" cy="3229200"/>
        </p:xfrm>
        <a:graphic>
          <a:graphicData uri="http://schemas.openxmlformats.org/drawingml/2006/table">
            <a:tbl>
              <a:tblPr/>
              <a:tblGrid>
                <a:gridCol w="1665360"/>
                <a:gridCol w="755640"/>
                <a:gridCol w="2359080"/>
                <a:gridCol w="2359080"/>
              </a:tblGrid>
              <a:tr h="62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v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lu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riv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"Club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de Propiedad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No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lasificación de un bien (público/privado) no significa que este vaya a ser necesariamente provisto por los sectores público o privado según sea el ca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La salu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Fuegos Artificiales de fin de 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licancias- Bienes Públ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ivalidad: el consumo por una persona adicional tiene coste cero.  CMg=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debemos consumir la misma cantidad del bien, aunque no todos lo valoremos de la misma mane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Incluso algunos ni siquiera valoraran el bi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xclusión: es muy caro o simplemente es imposible impedir el consumo de alguien que no esta dispuesto a pa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ercado para asignar eficientemente los recursos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nto 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para resolver la equidad en la distribució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fomentar un buen funcionamiento de los merc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y mercado se complementan en busca de maximizar el bienestar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estimamos entonces la demanda socia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8360" y="16858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riv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20" name="Group 36"/>
          <p:cNvGrpSpPr/>
          <p:nvPr/>
        </p:nvGrpSpPr>
        <p:grpSpPr>
          <a:xfrm>
            <a:off x="685440" y="2276640"/>
            <a:ext cx="6909480" cy="2306520"/>
            <a:chOff x="685440" y="2276640"/>
            <a:chExt cx="6909480" cy="2306520"/>
          </a:xfrm>
        </p:grpSpPr>
        <p:sp>
          <p:nvSpPr>
            <p:cNvPr id="621" name="Line 5"/>
            <p:cNvSpPr/>
            <p:nvPr/>
          </p:nvSpPr>
          <p:spPr>
            <a:xfrm>
              <a:off x="8985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89856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7"/>
            <p:cNvSpPr/>
            <p:nvPr/>
          </p:nvSpPr>
          <p:spPr>
            <a:xfrm>
              <a:off x="898560" y="3068280"/>
              <a:ext cx="936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"/>
            <p:cNvSpPr/>
            <p:nvPr/>
          </p:nvSpPr>
          <p:spPr>
            <a:xfrm>
              <a:off x="341964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341964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3419640" y="3068280"/>
              <a:ext cx="136836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"/>
            <p:cNvSpPr/>
            <p:nvPr/>
          </p:nvSpPr>
          <p:spPr>
            <a:xfrm>
              <a:off x="57243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2"/>
            <p:cNvSpPr/>
            <p:nvPr/>
          </p:nvSpPr>
          <p:spPr>
            <a:xfrm>
              <a:off x="5724360" y="4292280"/>
              <a:ext cx="17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5724360" y="3068280"/>
              <a:ext cx="158436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4"/>
            <p:cNvSpPr/>
            <p:nvPr/>
          </p:nvSpPr>
          <p:spPr>
            <a:xfrm>
              <a:off x="162108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5"/>
            <p:cNvSpPr/>
            <p:nvPr/>
          </p:nvSpPr>
          <p:spPr>
            <a:xfrm>
              <a:off x="428652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6"/>
            <p:cNvSpPr/>
            <p:nvPr/>
          </p:nvSpPr>
          <p:spPr>
            <a:xfrm>
              <a:off x="6181560" y="2276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+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7"/>
            <p:cNvSpPr/>
            <p:nvPr/>
          </p:nvSpPr>
          <p:spPr>
            <a:xfrm>
              <a:off x="6854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9"/>
            <p:cNvSpPr/>
            <p:nvPr/>
          </p:nvSpPr>
          <p:spPr>
            <a:xfrm>
              <a:off x="32252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0"/>
            <p:cNvSpPr/>
            <p:nvPr/>
          </p:nvSpPr>
          <p:spPr>
            <a:xfrm>
              <a:off x="550980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1"/>
            <p:cNvSpPr/>
            <p:nvPr/>
          </p:nvSpPr>
          <p:spPr>
            <a:xfrm>
              <a:off x="250452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3"/>
            <p:cNvSpPr/>
            <p:nvPr/>
          </p:nvSpPr>
          <p:spPr>
            <a:xfrm>
              <a:off x="502560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4"/>
            <p:cNvSpPr/>
            <p:nvPr/>
          </p:nvSpPr>
          <p:spPr>
            <a:xfrm>
              <a:off x="7328880" y="4235040"/>
              <a:ext cx="2660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6"/>
            <p:cNvSpPr/>
            <p:nvPr/>
          </p:nvSpPr>
          <p:spPr>
            <a:xfrm>
              <a:off x="900000" y="357336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7"/>
            <p:cNvSpPr/>
            <p:nvPr/>
          </p:nvSpPr>
          <p:spPr>
            <a:xfrm>
              <a:off x="68544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8"/>
            <p:cNvSpPr/>
            <p:nvPr/>
          </p:nvSpPr>
          <p:spPr>
            <a:xfrm>
              <a:off x="133200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9"/>
            <p:cNvSpPr/>
            <p:nvPr/>
          </p:nvSpPr>
          <p:spPr>
            <a:xfrm>
              <a:off x="320796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0"/>
            <p:cNvSpPr/>
            <p:nvPr/>
          </p:nvSpPr>
          <p:spPr>
            <a:xfrm>
              <a:off x="550980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1"/>
            <p:cNvSpPr/>
            <p:nvPr/>
          </p:nvSpPr>
          <p:spPr>
            <a:xfrm>
              <a:off x="406728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32"/>
            <p:cNvSpPr/>
            <p:nvPr/>
          </p:nvSpPr>
          <p:spPr>
            <a:xfrm>
              <a:off x="651672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3"/>
            <p:cNvSpPr/>
            <p:nvPr/>
          </p:nvSpPr>
          <p:spPr>
            <a:xfrm>
              <a:off x="1199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4"/>
            <p:cNvSpPr/>
            <p:nvPr/>
          </p:nvSpPr>
          <p:spPr>
            <a:xfrm>
              <a:off x="3863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5"/>
            <p:cNvSpPr/>
            <p:nvPr/>
          </p:nvSpPr>
          <p:spPr>
            <a:xfrm>
              <a:off x="6311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38"/>
          <p:cNvSpPr/>
          <p:nvPr/>
        </p:nvSpPr>
        <p:spPr>
          <a:xfrm>
            <a:off x="374760" y="4869000"/>
            <a:ext cx="82296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pagamos lo mismo, pero consumimos distintas cantidades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04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úbl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746280" y="10098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746280" y="26654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7"/>
          <p:cNvSpPr/>
          <p:nvPr/>
        </p:nvSpPr>
        <p:spPr>
          <a:xfrm>
            <a:off x="746280" y="14414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735120" y="270828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735120" y="43639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0"/>
          <p:cNvSpPr/>
          <p:nvPr/>
        </p:nvSpPr>
        <p:spPr>
          <a:xfrm>
            <a:off x="735120" y="3139920"/>
            <a:ext cx="1368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731880" y="465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2"/>
          <p:cNvSpPr/>
          <p:nvPr/>
        </p:nvSpPr>
        <p:spPr>
          <a:xfrm>
            <a:off x="731880" y="6308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3"/>
          <p:cNvSpPr/>
          <p:nvPr/>
        </p:nvSpPr>
        <p:spPr>
          <a:xfrm>
            <a:off x="731880" y="5084640"/>
            <a:ext cx="1584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4"/>
          <p:cNvSpPr/>
          <p:nvPr/>
        </p:nvSpPr>
        <p:spPr>
          <a:xfrm>
            <a:off x="1981440" y="90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5"/>
          <p:cNvSpPr/>
          <p:nvPr/>
        </p:nvSpPr>
        <p:spPr>
          <a:xfrm>
            <a:off x="1981440" y="292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6"/>
          <p:cNvSpPr/>
          <p:nvPr/>
        </p:nvSpPr>
        <p:spPr>
          <a:xfrm>
            <a:off x="1909440" y="45799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7"/>
          <p:cNvSpPr/>
          <p:nvPr/>
        </p:nvSpPr>
        <p:spPr>
          <a:xfrm>
            <a:off x="532800" y="865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8"/>
          <p:cNvSpPr/>
          <p:nvPr/>
        </p:nvSpPr>
        <p:spPr>
          <a:xfrm>
            <a:off x="540720" y="256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9"/>
          <p:cNvSpPr/>
          <p:nvPr/>
        </p:nvSpPr>
        <p:spPr>
          <a:xfrm>
            <a:off x="54072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2341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74772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4"/>
          <p:cNvSpPr/>
          <p:nvPr/>
        </p:nvSpPr>
        <p:spPr>
          <a:xfrm>
            <a:off x="973080" y="26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1179360" y="1946160"/>
            <a:ext cx="7920" cy="436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6"/>
          <p:cNvSpPr/>
          <p:nvPr/>
        </p:nvSpPr>
        <p:spPr>
          <a:xfrm>
            <a:off x="973080" y="44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7"/>
          <p:cNvSpPr/>
          <p:nvPr/>
        </p:nvSpPr>
        <p:spPr>
          <a:xfrm>
            <a:off x="973080" y="63086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8"/>
          <p:cNvSpPr/>
          <p:nvPr/>
        </p:nvSpPr>
        <p:spPr>
          <a:xfrm>
            <a:off x="1187280" y="35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3"/>
          <p:cNvSpPr/>
          <p:nvPr/>
        </p:nvSpPr>
        <p:spPr>
          <a:xfrm>
            <a:off x="4356000" y="1052640"/>
            <a:ext cx="453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consumimos lo mismo, entonces debemos determinar cuánto vamos a estar dispuestos a pa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no existir exclusión el beneficio social por cada unidad es igual a la suma del beneficio de todos los que lo consu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4"/>
          <p:cNvSpPr/>
          <p:nvPr/>
        </p:nvSpPr>
        <p:spPr>
          <a:xfrm>
            <a:off x="2341080" y="26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5"/>
          <p:cNvSpPr/>
          <p:nvPr/>
        </p:nvSpPr>
        <p:spPr>
          <a:xfrm>
            <a:off x="2360160" y="632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6"/>
          <p:cNvSpPr/>
          <p:nvPr/>
        </p:nvSpPr>
        <p:spPr>
          <a:xfrm>
            <a:off x="75564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7"/>
          <p:cNvSpPr/>
          <p:nvPr/>
        </p:nvSpPr>
        <p:spPr>
          <a:xfrm>
            <a:off x="75564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8"/>
          <p:cNvSpPr/>
          <p:nvPr/>
        </p:nvSpPr>
        <p:spPr>
          <a:xfrm>
            <a:off x="469440" y="18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9"/>
          <p:cNvSpPr/>
          <p:nvPr/>
        </p:nvSpPr>
        <p:spPr>
          <a:xfrm>
            <a:off x="46944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0"/>
          <p:cNvSpPr/>
          <p:nvPr/>
        </p:nvSpPr>
        <p:spPr>
          <a:xfrm>
            <a:off x="4694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rivado cada persona consume un diferente numero de bienes a un precio dado (suma horizont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=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ublico cada persona valora distinto una cantidad dada del bien (suma vertic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+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908000" y="2592360"/>
            <a:ext cx="25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835280" y="424800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as las características de no exclusión y no rivalida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ánto estarían dispuestos a pagar los consumidor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: Nada, al no existir la posibilidad de exclusión las personas van a esperar que alguien más este dispuesto a pagar para así disfrutar gratis del bi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que se conoce como el problema del free rid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onces el bien no será financiado y no será provisto aunque este sí sea valor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es que los consumidores no revelan sus verdaderas preferencias, por lo que no podemos tener las funciones de utilidad y por ende no podemos determinar demanda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 no haber una demanda, tampoco habrá un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demás recordemos al no haber rivalidad el CMg=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, por lo que el precio sería también cero, no obstante la provisión del bien tiene un costo mayor que cer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mercado fracasa en la provisión de este tipo de bienes y el estado asume la función de proveed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ovisión del Bien Públ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gobierno al tener el poder de coerción puede solucionar el problema del free rider (Ej. financiando el bien vía impuest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q de Lindh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da quien paga según el beneficio individual percibi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roblem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terminación de las Preferenc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dición de los costos y benefi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s preferencias de las personas se obtienen a través de las vot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esenta otro tipo de problemas que veremos más adelante en 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ienes donde la exclusión no es factible pero que presentan rivalidad en el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de estos bienes es que existe la tendencia a sobre explotarlos generando una asignación ineficiente de recursos (perdemos el papel orientador de los preci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sobre explotación puede significar el agotamiento de los recursos, algo conocido como La Tragedia de los Comu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se asignara un precio se generaría el incentivo económico para hacer un uso racional de dichos bie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de precio cero, se asocia a que no existen derechos de propiedad sobre el bi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    …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no pertenecen a nadie, nadie los cui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solución ha sido planteada por Coase, y consiste en otorgar derechos de propiedad sobre el uso de los recursos, así el dueño queda capacitado para aplicar la exclus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dueño del bien tiene todos los incentivos para cuidarlo y preocuparse por una explotación eficiente que le permita mantener su riquez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lternativa es que el Estado se haga cargo de la propiedad de dicho bien y así ponga un precio a su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acuícol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rechos de us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ermisos trans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Ojo.. Las clasificaciones pueden cambi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5084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os tecnológ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6836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pacidad Instal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89856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898560" y="429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898560" y="3068640"/>
            <a:ext cx="1009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6"/>
          <p:cNvSpPr/>
          <p:nvPr/>
        </p:nvSpPr>
        <p:spPr>
          <a:xfrm>
            <a:off x="1547640" y="227664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68544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2504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7"/>
          <p:cNvSpPr/>
          <p:nvPr/>
        </p:nvSpPr>
        <p:spPr>
          <a:xfrm>
            <a:off x="2050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2"/>
          <p:cNvSpPr/>
          <p:nvPr/>
        </p:nvSpPr>
        <p:spPr>
          <a:xfrm>
            <a:off x="1865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356220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6"/>
          <p:cNvSpPr/>
          <p:nvPr/>
        </p:nvSpPr>
        <p:spPr>
          <a:xfrm>
            <a:off x="3562200" y="4292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7"/>
          <p:cNvSpPr/>
          <p:nvPr/>
        </p:nvSpPr>
        <p:spPr>
          <a:xfrm>
            <a:off x="3564000" y="2781360"/>
            <a:ext cx="1655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9"/>
          <p:cNvSpPr/>
          <p:nvPr/>
        </p:nvSpPr>
        <p:spPr>
          <a:xfrm>
            <a:off x="334908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0"/>
          <p:cNvSpPr/>
          <p:nvPr/>
        </p:nvSpPr>
        <p:spPr>
          <a:xfrm>
            <a:off x="5168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2"/>
          <p:cNvSpPr/>
          <p:nvPr/>
        </p:nvSpPr>
        <p:spPr>
          <a:xfrm>
            <a:off x="4714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3"/>
          <p:cNvSpPr/>
          <p:nvPr/>
        </p:nvSpPr>
        <p:spPr>
          <a:xfrm>
            <a:off x="4529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4"/>
          <p:cNvSpPr/>
          <p:nvPr/>
        </p:nvSpPr>
        <p:spPr>
          <a:xfrm>
            <a:off x="4211640" y="225108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5"/>
          <p:cNvSpPr/>
          <p:nvPr/>
        </p:nvSpPr>
        <p:spPr>
          <a:xfrm flipH="1" flipV="1">
            <a:off x="197928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6"/>
          <p:cNvSpPr/>
          <p:nvPr/>
        </p:nvSpPr>
        <p:spPr>
          <a:xfrm>
            <a:off x="234000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gestión, no 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7"/>
          <p:cNvSpPr/>
          <p:nvPr/>
        </p:nvSpPr>
        <p:spPr>
          <a:xfrm flipH="1" flipV="1">
            <a:off x="493200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8"/>
          <p:cNvSpPr/>
          <p:nvPr/>
        </p:nvSpPr>
        <p:spPr>
          <a:xfrm>
            <a:off x="529272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y congestión, riv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interviene el estado en la economí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c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is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duc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ol productor del estado ha venido cayendo en el tiemp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piedad mix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vee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disminución del rol productor el rol de proveedor ha tomado mayor releva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umenta la intervención a través del financiamiento necesario para que el sector privado produz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ducación Subvencio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de cárce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el estado deba proveer de un bien o servicio no significa necesariamente que también deba producirl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regula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ol ampliamente utilizado, existen regulaciones en lo económico y en lo leg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económicas más comun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/ Subsid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hibicion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jaciones de Pre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legales establecen las reglas de juego y los límites bajo los cuales puede funcionar el merc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nstitu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ratados Intern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ey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glamen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interviene en el mercado cuando este no es capaz de hacer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o es cuando existen fallas de merc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públicos y de propiedad comú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ternalida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allas en la organización de los merc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ercados incomple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imetrías de inform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rcado sin fallas garantiza una asignación eficiente de los recurs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decir óptima en el Sentido de Par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2449440" y="3327480"/>
            <a:ext cx="4824360" cy="309708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3040200" y="5013360"/>
            <a:ext cx="347652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3708360" y="3395520"/>
            <a:ext cx="0" cy="233856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14"/>
          <p:cNvSpPr/>
          <p:nvPr/>
        </p:nvSpPr>
        <p:spPr>
          <a:xfrm>
            <a:off x="2340000" y="4659480"/>
            <a:ext cx="2125800" cy="154908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16"/>
          <p:cNvSpPr/>
          <p:nvPr/>
        </p:nvSpPr>
        <p:spPr>
          <a:xfrm rot="11009400">
            <a:off x="2873520" y="3698280"/>
            <a:ext cx="2063520" cy="159372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3673440" y="4970520"/>
            <a:ext cx="10944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6481800" y="328464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2841480" y="5703840"/>
            <a:ext cx="3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6692760" y="3298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2521080" y="5819760"/>
            <a:ext cx="54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2808360" y="3284640"/>
            <a:ext cx="43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9"/>
          <p:cNvSpPr/>
          <p:nvPr/>
        </p:nvSpPr>
        <p:spPr>
          <a:xfrm>
            <a:off x="6481800" y="56754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0"/>
          <p:cNvSpPr/>
          <p:nvPr/>
        </p:nvSpPr>
        <p:spPr>
          <a:xfrm rot="16200000">
            <a:off x="1776600" y="440064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1"/>
          <p:cNvSpPr/>
          <p:nvPr/>
        </p:nvSpPr>
        <p:spPr>
          <a:xfrm>
            <a:off x="3978720" y="578160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2"/>
          <p:cNvSpPr/>
          <p:nvPr/>
        </p:nvSpPr>
        <p:spPr>
          <a:xfrm>
            <a:off x="3705480" y="46893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05T16:37:16Z</dcterms:modified>
  <cp:revision>77</cp:revision>
  <dc:subject/>
  <dc:title>Economía del Sector Público</dc:title>
</cp:coreProperties>
</file>