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C75-197E-4674-B878-EA51BCC2B5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ue el bien sea publico o privado no significa que este sea provisto por el estado o por privado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 Salud y vivienda (publico proveyendo bien priv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j. Parque da alguna empresa (privado proveyendo bien publ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976-D1A1-413F-990E-CAEB83E6A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127-6345-49F6-BED6-A6C18FF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7C103-7D48-4AD5-8723-EA91B5A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4732A-CEC1-4721-B0FF-DB4FFDC0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8B277-D687-4928-9495-B46AFA84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C7061-6BB8-44F3-875B-6566666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FE455-EE50-4950-999B-344A24A8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53462-B02D-4095-AFC8-FC2A948B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D9877-AAAF-44B2-A8D6-41D6A514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0F556-FDA1-44A6-A988-BD33E2F0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39D11-12D3-44B5-A8D7-4820F54C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C1A33-81C4-4C5D-9AFE-28A32ED9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CD5-4E9B-4F32-9284-73820913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03181-971D-4E0E-BA22-E938D829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22044-433C-48DC-8E34-57D8865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CD6F7-EFA3-4680-849D-57E40AAB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3B033-5CC1-4558-AF5C-6055C2B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709C9-DE63-4542-A84F-375EEFF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69A6-E76B-4317-A62B-1EA88138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1D593-D0A9-49D1-A077-474095C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B742F-3493-49C1-9417-13BA5AA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35DB8-5616-4DA4-962C-E9388613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3441-465B-4A23-8CF7-7F0D814D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AA-0665-446E-BC26-41F784AD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2E7BA-48C4-4822-9681-E4B5E936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36BEA-7326-4DFE-859B-FB229A08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D8271-CB10-4BF8-A407-63DA6F53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04C38-E6CB-4941-B20A-D9BF5544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984A-0714-4217-A37A-88F7E02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85383-F59E-4144-BCF0-67A7B8A4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88099-FFA9-4534-9A97-C6B4BA2B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AD94C-508A-4096-997E-3696BD4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3F87-34D7-4655-864E-2CD1157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A1EF9-0F6C-4A5B-8442-7360559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CC9-0B0B-42F8-9D11-AF3A459D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AF40A-4CE8-4505-9673-F387ACB8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7587B-CE3F-4B20-8D3B-B3A2BE18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CFB1B-CE03-4D52-B87B-AA0E0914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468C-B5DB-4A82-A150-DE9E232F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B31A-8705-4A86-8A86-C7914CDF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C18E-D884-4D47-9AE3-74866ABB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DCE-EC52-4118-BCA8-3378B258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BCFB-A280-42AC-A388-34A99A1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654F-4D4F-4827-97FF-66FDB85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23B-17C8-4300-BF55-BCFC420F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7877-58D7-4454-8231-FC06AE44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DAC5-2A37-47F4-AA2E-0FBE098D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01ED-F928-4A17-ACE8-A2AA8C83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5AB5-9307-4D90-A50E-F6901E54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285-C117-4D36-9109-7D4593E0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E6FF-EE89-4143-AD09-34A79E21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E9F0A-772D-4FC0-97CE-BB1BC4F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C376E-0E41-465E-BA13-B981BE1F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643E-8895-45C2-B686-C6579D4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95BA-D91D-460E-9EB1-73FC4DE8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2BA-C329-4430-9D59-E87D6460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1838-57BB-406A-A2D4-213682A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9F52-A544-45D9-ADB7-DCF1E31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B89A-EEA2-4DAE-8964-1E5F157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A6AF-3C4F-4F68-8190-3BA8772D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A7EA-0624-4CD1-A0F5-C65C003C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6338-9523-4532-9746-8CE114E8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17B8-FB55-4FF6-8965-A97836F1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8ABD-8FD5-449E-998E-008C8ECC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B4E9-3885-4250-8101-3BD71D92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E817-9320-4B9A-A0BC-A79C20AF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97F-50EB-4DFD-8D27-A35CA94D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ACD3-A963-4708-A0AD-2073073B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99182-AD55-4251-8253-D4029F4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EEDB-2070-46B1-98E2-B533ABE6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D593-7E9D-4395-9D2B-BB8FABD7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9CAF-07B8-400F-9CF2-35EBF5A0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C01B0-3019-4419-97F1-48E9886D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09E1-B139-40A1-8649-AD6DF2EA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06DC-342B-48DE-A8DB-591703C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27B6-3151-4144-90A9-1C03DC57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B033-3BC3-42B5-A1AB-D3EDF8DC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0E3-D39A-48E3-B500-82A49EA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B7B98-453D-4C31-BF81-670CAD2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5DA40-B7A2-4350-B7B4-E7315D1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C0DF-7131-47CD-A922-015D5034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EC0BF-818A-48D5-87ED-051F91B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F94C-4E41-47A6-885A-530FEE33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6CB4F-1B57-4C53-BFC4-9929323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AE8F-D093-4BCD-9068-2CA753B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3892-8284-4651-AF93-0F4F8C64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D3A59-5C66-4887-8ED5-A1B3B82E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E4B00-477C-481A-AD52-761E025F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E65-4A1F-4019-86A0-08FFE94F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F315B-CD4C-42C9-84D9-1EA1F623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11180-4739-4335-9738-3DD368B8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AF70F-FDDF-47FB-847E-C3AF4D05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171FF-5F26-4F27-9F0D-641E95FE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42864-05B6-45F8-888C-8668FA1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B9F1-6CF3-4BF0-8078-EF43318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9B90-7490-464B-8329-55DC8AF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415F-2053-4732-966D-A324FA6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5CA0-E89E-40EF-9A98-C93CA0D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1BAF-C3B7-4421-9D70-8123213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352-B9D6-4DCF-ACD8-A3889394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94A6-B020-4570-A170-E08C4526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BA3F-2608-41A3-8F4B-7BA1D70B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DAF04-E7B9-4D3F-9A14-AB8650FD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D3772-517D-4259-92F3-428BE762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D185F-45D2-4EFD-B63B-61D46AC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F9B7C-8287-451A-BAFA-06908FA5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CD1A2-3BFD-44A4-8711-43A4800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16813-2F8A-45AB-B536-65696514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DAF2-1F86-4026-B630-B0C41F16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EDA2-3337-453A-B418-3F64184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B9B-BFC7-4138-AEE5-3264CD2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BD3E-4A80-4D8C-B7DD-25B4D92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F0E3D-9541-47FB-AD27-F98158D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2037-05DB-491B-8202-565A230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2281E-F818-4D94-A7B0-21DFC2A1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2C921-AA69-4C7C-AAF2-A0837405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16283-B244-4EC1-92C3-ED997859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132C4-CBD0-4C20-90F3-F6FAE394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2B10-AB8C-4F94-A65B-B2CB2FFA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39246-E3C0-439E-AD8F-6F4D3E6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44F1C-6CAB-49CF-ADC1-49FC9DBE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2FC-3BB0-4095-94D4-98C8D5D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02C18-517C-4ACF-9779-CA2CE221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B6E07-3873-4FCC-9333-5BE6B58C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56D9-AFFB-4D40-B570-8C59F1E5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0024-5766-4F8D-94ED-FB03064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54FA-902C-4D1C-8DA8-4BB19959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C940-06AC-4A56-928D-03624DE6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394A-2487-4596-99FE-700DA9B6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28962-E1BE-4EC0-AE22-1AE1DF6A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50107-2B80-4096-A2FE-36D4866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CFD4F-23BE-49FC-973F-C504C8C6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8BA3-3E7C-4884-BC61-2D93D9783227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6174-9C81-4D05-B0F6-D0851D376506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4EE4-8D66-4475-A4F7-561DC5520035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6CAA-54E4-4B53-ACB8-CE1A8E506A4E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EBA-51B4-4F54-9AB1-024CD34FC914}" type="slidenum">
              <a:rPr b="0" lang="es-E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3FED-4120-4A02-9218-CBC73F1DB403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816-ECC5-49AE-93AC-4E007799374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EDF-E0F5-4157-A2A3-1052331E25B7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1D7A-B185-4A5A-A816-4BF7BF4601A0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B981-1E63-4E38-86EC-DD8CB35C6B3B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4FAE-A7A1-43E0-BCA1-B253646B42EC}" type="slidenum">
              <a:rPr b="0" lang="es-E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ibre funcionamiento del mercado genera una distribución de bienestar económico que puede no ser la dese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De acuerdo a una idea de equidad que tengamos como socie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encarga al estado el tomar las medidas que produzcan un proceso redistribut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Por ello es que en una economía social de mercado el estado es quien ha tomado a su cargo la solución de la pobrez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dad – Justificaciones y principi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sde el Utilitarismo Simple (Bienestar social = suma del bienestar de sus miembro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spectiva Rawlsiana (maximin) Maximizar el bienestar del que esté en peor situ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jo: utilidad marginal de la renta decrec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bienestar que las personas pueden alcanzar no solo depende de sus propias acciones, también depende del medio que las rode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xisten fluctuaciones de carácter macroeconómico que afectan en uno u otro sentido el bienestar de las persona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acción del estado se centra en la mitigación de los problemas macroeconóm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gunos problemas macroeconómicos: desempleo, inflación, crecimiento volátil, decrecimiento, crisis en la balanza de pagos, etc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s 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6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380988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y de Propiedad Común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3"/>
          <a:stretch/>
        </p:blipFill>
        <p:spPr>
          <a:xfrm rot="20767200">
            <a:off x="468360" y="2565360"/>
            <a:ext cx="2933640" cy="38098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8" descr=""/>
          <p:cNvPicPr/>
          <p:nvPr/>
        </p:nvPicPr>
        <p:blipFill>
          <a:blip r:embed="rId4"/>
          <a:stretch/>
        </p:blipFill>
        <p:spPr>
          <a:xfrm rot="1010400">
            <a:off x="684000" y="220500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"/>
          <p:cNvPicPr/>
          <p:nvPr/>
        </p:nvPicPr>
        <p:blipFill>
          <a:blip r:embed="rId5"/>
          <a:stretch/>
        </p:blipFill>
        <p:spPr>
          <a:xfrm rot="20055600">
            <a:off x="4057560" y="1545840"/>
            <a:ext cx="42595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aracterísticas de un Bi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ivalidad: el consumo del bien por parte de una persona limita (o anula ) el disfrute del mismo por parte de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xclusión: se puede excluir (mediante un cobro) a una persona del bienestar proporcionado por un bie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lasificación de los Bie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888840" y="2008080"/>
          <a:ext cx="7139160" cy="3229200"/>
        </p:xfrm>
        <a:graphic>
          <a:graphicData uri="http://schemas.openxmlformats.org/drawingml/2006/table">
            <a:tbl>
              <a:tblPr/>
              <a:tblGrid>
                <a:gridCol w="1665360"/>
                <a:gridCol w="755640"/>
                <a:gridCol w="2359080"/>
                <a:gridCol w="2359080"/>
              </a:tblGrid>
              <a:tr h="62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va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clu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riv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"Club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de Propiedad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No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lasificación de un bien (público/privado) no significa que este vaya a ser necesariamente provisto por los sectores público o privado según sea el ca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La salu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j: Fuegos Artificiales de fin de añ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licancias- Bienes Públ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ivalidad: el consumo por una persona adicional tiene coste cero.  CMg=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debemos consumir la misma cantidad del bien, aunque no todos lo valoremos de la misma mane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Incluso algunos ni siquiera valoraran el bi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xclusión: es muy caro o simplemente es imposible impedir el consumo de alguien que no esta dispuesto a pa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La Economía Social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ercado para asignar eficientemente los recursos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junto a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para resolver la equidad en la distribució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fomentar un buen funcionamiento de los merc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do y mercado se complementan en busca de maximizar el bienestar soc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estimamos entonces la demanda social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16858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riv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20" name="Group 36"/>
          <p:cNvGrpSpPr/>
          <p:nvPr/>
        </p:nvGrpSpPr>
        <p:grpSpPr>
          <a:xfrm>
            <a:off x="685440" y="2276640"/>
            <a:ext cx="6909480" cy="2306520"/>
            <a:chOff x="685440" y="2276640"/>
            <a:chExt cx="6909480" cy="2306520"/>
          </a:xfrm>
        </p:grpSpPr>
        <p:sp>
          <p:nvSpPr>
            <p:cNvPr id="621" name="Line 5"/>
            <p:cNvSpPr/>
            <p:nvPr/>
          </p:nvSpPr>
          <p:spPr>
            <a:xfrm>
              <a:off x="8985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89856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7"/>
            <p:cNvSpPr/>
            <p:nvPr/>
          </p:nvSpPr>
          <p:spPr>
            <a:xfrm>
              <a:off x="898560" y="3068280"/>
              <a:ext cx="936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8"/>
            <p:cNvSpPr/>
            <p:nvPr/>
          </p:nvSpPr>
          <p:spPr>
            <a:xfrm>
              <a:off x="341964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9"/>
            <p:cNvSpPr/>
            <p:nvPr/>
          </p:nvSpPr>
          <p:spPr>
            <a:xfrm>
              <a:off x="3419640" y="4292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"/>
            <p:cNvSpPr/>
            <p:nvPr/>
          </p:nvSpPr>
          <p:spPr>
            <a:xfrm>
              <a:off x="3419640" y="3068280"/>
              <a:ext cx="136836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"/>
            <p:cNvSpPr/>
            <p:nvPr/>
          </p:nvSpPr>
          <p:spPr>
            <a:xfrm>
              <a:off x="5724360" y="2636640"/>
              <a:ext cx="0" cy="165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2"/>
            <p:cNvSpPr/>
            <p:nvPr/>
          </p:nvSpPr>
          <p:spPr>
            <a:xfrm>
              <a:off x="5724360" y="4292280"/>
              <a:ext cx="17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3"/>
            <p:cNvSpPr/>
            <p:nvPr/>
          </p:nvSpPr>
          <p:spPr>
            <a:xfrm>
              <a:off x="5724360" y="3068280"/>
              <a:ext cx="1584360" cy="10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4"/>
            <p:cNvSpPr/>
            <p:nvPr/>
          </p:nvSpPr>
          <p:spPr>
            <a:xfrm>
              <a:off x="162108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5"/>
            <p:cNvSpPr/>
            <p:nvPr/>
          </p:nvSpPr>
          <p:spPr>
            <a:xfrm>
              <a:off x="4286520" y="227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6"/>
            <p:cNvSpPr/>
            <p:nvPr/>
          </p:nvSpPr>
          <p:spPr>
            <a:xfrm>
              <a:off x="6181560" y="2276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A+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7"/>
            <p:cNvSpPr/>
            <p:nvPr/>
          </p:nvSpPr>
          <p:spPr>
            <a:xfrm>
              <a:off x="6854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322524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0"/>
            <p:cNvSpPr/>
            <p:nvPr/>
          </p:nvSpPr>
          <p:spPr>
            <a:xfrm>
              <a:off x="5509800" y="249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1"/>
            <p:cNvSpPr/>
            <p:nvPr/>
          </p:nvSpPr>
          <p:spPr>
            <a:xfrm>
              <a:off x="250452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3"/>
            <p:cNvSpPr/>
            <p:nvPr/>
          </p:nvSpPr>
          <p:spPr>
            <a:xfrm>
              <a:off x="5025600" y="4235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4"/>
            <p:cNvSpPr/>
            <p:nvPr/>
          </p:nvSpPr>
          <p:spPr>
            <a:xfrm>
              <a:off x="7328880" y="4235040"/>
              <a:ext cx="2660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6"/>
            <p:cNvSpPr/>
            <p:nvPr/>
          </p:nvSpPr>
          <p:spPr>
            <a:xfrm>
              <a:off x="900000" y="357336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7"/>
            <p:cNvSpPr/>
            <p:nvPr/>
          </p:nvSpPr>
          <p:spPr>
            <a:xfrm>
              <a:off x="68544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8"/>
            <p:cNvSpPr/>
            <p:nvPr/>
          </p:nvSpPr>
          <p:spPr>
            <a:xfrm>
              <a:off x="133200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9"/>
            <p:cNvSpPr/>
            <p:nvPr/>
          </p:nvSpPr>
          <p:spPr>
            <a:xfrm>
              <a:off x="320796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0"/>
            <p:cNvSpPr/>
            <p:nvPr/>
          </p:nvSpPr>
          <p:spPr>
            <a:xfrm>
              <a:off x="5509800" y="3357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31"/>
            <p:cNvSpPr/>
            <p:nvPr/>
          </p:nvSpPr>
          <p:spPr>
            <a:xfrm>
              <a:off x="406728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32"/>
            <p:cNvSpPr/>
            <p:nvPr/>
          </p:nvSpPr>
          <p:spPr>
            <a:xfrm>
              <a:off x="6516720" y="3573360"/>
              <a:ext cx="0" cy="71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3"/>
            <p:cNvSpPr/>
            <p:nvPr/>
          </p:nvSpPr>
          <p:spPr>
            <a:xfrm>
              <a:off x="1199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4"/>
            <p:cNvSpPr/>
            <p:nvPr/>
          </p:nvSpPr>
          <p:spPr>
            <a:xfrm>
              <a:off x="3863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5"/>
            <p:cNvSpPr/>
            <p:nvPr/>
          </p:nvSpPr>
          <p:spPr>
            <a:xfrm>
              <a:off x="6311520" y="43066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38"/>
          <p:cNvSpPr/>
          <p:nvPr/>
        </p:nvSpPr>
        <p:spPr>
          <a:xfrm>
            <a:off x="374760" y="4869000"/>
            <a:ext cx="82296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pagamos lo mismo, pero consumimos distintas cantidades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7704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so de los bienes públ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746280" y="10098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746280" y="26654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>
            <a:off x="746280" y="1441440"/>
            <a:ext cx="936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>
            <a:off x="735120" y="2708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>
            <a:off x="735120" y="43639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>
            <a:off x="735120" y="3139920"/>
            <a:ext cx="1368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731880" y="4653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2"/>
          <p:cNvSpPr/>
          <p:nvPr/>
        </p:nvSpPr>
        <p:spPr>
          <a:xfrm>
            <a:off x="731880" y="630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3"/>
          <p:cNvSpPr/>
          <p:nvPr/>
        </p:nvSpPr>
        <p:spPr>
          <a:xfrm>
            <a:off x="731880" y="5084640"/>
            <a:ext cx="158436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1981440" y="906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5"/>
          <p:cNvSpPr/>
          <p:nvPr/>
        </p:nvSpPr>
        <p:spPr>
          <a:xfrm>
            <a:off x="1981440" y="292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6"/>
          <p:cNvSpPr/>
          <p:nvPr/>
        </p:nvSpPr>
        <p:spPr>
          <a:xfrm>
            <a:off x="1909440" y="45799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7"/>
          <p:cNvSpPr/>
          <p:nvPr/>
        </p:nvSpPr>
        <p:spPr>
          <a:xfrm>
            <a:off x="532800" y="865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540720" y="256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9"/>
          <p:cNvSpPr/>
          <p:nvPr/>
        </p:nvSpPr>
        <p:spPr>
          <a:xfrm>
            <a:off x="54072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1"/>
          <p:cNvSpPr/>
          <p:nvPr/>
        </p:nvSpPr>
        <p:spPr>
          <a:xfrm>
            <a:off x="23410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747720" y="198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4"/>
          <p:cNvSpPr/>
          <p:nvPr/>
        </p:nvSpPr>
        <p:spPr>
          <a:xfrm>
            <a:off x="973080" y="26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1179360" y="1946160"/>
            <a:ext cx="7920" cy="436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6"/>
          <p:cNvSpPr/>
          <p:nvPr/>
        </p:nvSpPr>
        <p:spPr>
          <a:xfrm>
            <a:off x="973080" y="4437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7"/>
          <p:cNvSpPr/>
          <p:nvPr/>
        </p:nvSpPr>
        <p:spPr>
          <a:xfrm>
            <a:off x="973080" y="63086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28"/>
          <p:cNvSpPr/>
          <p:nvPr/>
        </p:nvSpPr>
        <p:spPr>
          <a:xfrm>
            <a:off x="118728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3"/>
          <p:cNvSpPr/>
          <p:nvPr/>
        </p:nvSpPr>
        <p:spPr>
          <a:xfrm>
            <a:off x="435600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odos consumimos lo mismo, entonces debemos determinar cuánto vamos a estar dispuestos a pa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 Demanda Social =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Σ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no existir exclusión el beneficio social por cada unidad es igual a la suma del beneficio de todos los que lo cons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4"/>
          <p:cNvSpPr/>
          <p:nvPr/>
        </p:nvSpPr>
        <p:spPr>
          <a:xfrm>
            <a:off x="2341080" y="26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35"/>
          <p:cNvSpPr/>
          <p:nvPr/>
        </p:nvSpPr>
        <p:spPr>
          <a:xfrm>
            <a:off x="2360160" y="6323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6"/>
          <p:cNvSpPr/>
          <p:nvPr/>
        </p:nvSpPr>
        <p:spPr>
          <a:xfrm>
            <a:off x="75564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7"/>
          <p:cNvSpPr/>
          <p:nvPr/>
        </p:nvSpPr>
        <p:spPr>
          <a:xfrm>
            <a:off x="75564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8"/>
          <p:cNvSpPr/>
          <p:nvPr/>
        </p:nvSpPr>
        <p:spPr>
          <a:xfrm>
            <a:off x="469440" y="184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9"/>
          <p:cNvSpPr/>
          <p:nvPr/>
        </p:nvSpPr>
        <p:spPr>
          <a:xfrm>
            <a:off x="469440" y="3284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0"/>
          <p:cNvSpPr/>
          <p:nvPr/>
        </p:nvSpPr>
        <p:spPr>
          <a:xfrm>
            <a:off x="469440" y="5157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rivado cada persona consume un diferente numero de bienes a un precio dado (suma horizont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=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bien publico cada persona valora distinto una cantidad dada del bien (suma vertical de las curvas de demanda individual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MS  +   RMS     =  RM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1908000" y="2592360"/>
            <a:ext cx="25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1835280" y="4248000"/>
            <a:ext cx="259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                       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m                       h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as las características de no exclusión y no rivalidad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ánto estarían dispuestos a pagar los consumidor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: Nada, al no existir la posibilidad de exclusión las personas van a esperar que alguien más este dispuesto a pagar para así disfrutar gratis del bien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que se conoce como el problema del free rid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tonces el bien no será financiado y no será provisto aunque este sí sea valor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Bienes Públicos – Cuanto Produci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es que los consumidores no revelan sus verdaderas preferencias, por lo que no podemos tener las funciones de utilidad y por ende no podemos determinar demanda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l no haber una demanda, tampoco habrá un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demás recordemos al no haber rivalidad el CMg=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, por lo que el precio sería también cero, no obstante la provisión del bien tiene un costo mayor que cer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mercado fracasa en la provisión de este tipo de bienes y el estado asume la función de proveed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rovisión del Bien Públ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gobierno al tener el poder de coerción puede solucionar el problema del free rider (Ej. financiando el bien vía impuest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q de Lindha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da quien paga según el beneficio individual percibi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Problem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terminación de las Preferenci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dición de los costos y benefi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s preferencias de las personas se obtienen a través de las votacion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esenta otro tipo de problemas que veremos más adelante en el curs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6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6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6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6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6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Bienes donde la exclusión no es factible pero que presentan rivalidad en el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roblema de estos bienes es que existe la tendencia a sobre explotarlos generando una asignación ineficiente de recursos (perdemos el papel orientador de los preci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sobre explotación puede significar el agotamiento de los recursos, algo conocido como La Tragedia de los Comu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se asignara un precio se generaría el incentivo económico para hacer un uso racional de dichos bie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problema de precio cero, se asocia a que no existen derechos de propiedad sobre el bi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    …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no pertenecen a nadie, nadie los cuid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a solución ha sido planteada por Coase, y consiste en otorgar derechos de propiedad sobre el uso de los recursos, así el dueño queda capacitado para aplicar la exclusió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dueño del bien tiene todos los incentivos para cuidarlo y preocuparse por una explotación eficiente que le permita mantener su riquez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Bienes de Propiedad Comú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lternativa es que el Estado se haga cargo de la propiedad de dicho bien y así ponga un precio a su consum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acuícol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rechos de us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ermisos transab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Ojo.. Las clasificaciones pueden cambi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508428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os tecnológ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6836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pacidad Instal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7"/>
          <p:cNvSpPr/>
          <p:nvPr/>
        </p:nvSpPr>
        <p:spPr>
          <a:xfrm>
            <a:off x="89856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8"/>
          <p:cNvSpPr/>
          <p:nvPr/>
        </p:nvSpPr>
        <p:spPr>
          <a:xfrm>
            <a:off x="898560" y="429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9"/>
          <p:cNvSpPr/>
          <p:nvPr/>
        </p:nvSpPr>
        <p:spPr>
          <a:xfrm>
            <a:off x="898560" y="3068640"/>
            <a:ext cx="10094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>
            <a:off x="1547640" y="227664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68544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2"/>
          <p:cNvSpPr/>
          <p:nvPr/>
        </p:nvSpPr>
        <p:spPr>
          <a:xfrm>
            <a:off x="2504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7"/>
          <p:cNvSpPr/>
          <p:nvPr/>
        </p:nvSpPr>
        <p:spPr>
          <a:xfrm>
            <a:off x="2050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2"/>
          <p:cNvSpPr/>
          <p:nvPr/>
        </p:nvSpPr>
        <p:spPr>
          <a:xfrm>
            <a:off x="1865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3562200" y="2637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6"/>
          <p:cNvSpPr/>
          <p:nvPr/>
        </p:nvSpPr>
        <p:spPr>
          <a:xfrm>
            <a:off x="3562200" y="4292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7"/>
          <p:cNvSpPr/>
          <p:nvPr/>
        </p:nvSpPr>
        <p:spPr>
          <a:xfrm>
            <a:off x="3564000" y="2781360"/>
            <a:ext cx="165564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39"/>
          <p:cNvSpPr/>
          <p:nvPr/>
        </p:nvSpPr>
        <p:spPr>
          <a:xfrm>
            <a:off x="3349080" y="249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0"/>
          <p:cNvSpPr/>
          <p:nvPr/>
        </p:nvSpPr>
        <p:spPr>
          <a:xfrm>
            <a:off x="5168520" y="4235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42"/>
          <p:cNvSpPr/>
          <p:nvPr/>
        </p:nvSpPr>
        <p:spPr>
          <a:xfrm>
            <a:off x="4714920" y="2852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43"/>
          <p:cNvSpPr/>
          <p:nvPr/>
        </p:nvSpPr>
        <p:spPr>
          <a:xfrm>
            <a:off x="4529160" y="43070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44"/>
          <p:cNvSpPr/>
          <p:nvPr/>
        </p:nvSpPr>
        <p:spPr>
          <a:xfrm>
            <a:off x="4211640" y="225108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pac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ó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5"/>
          <p:cNvSpPr/>
          <p:nvPr/>
        </p:nvSpPr>
        <p:spPr>
          <a:xfrm flipH="1" flipV="1">
            <a:off x="197928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6"/>
          <p:cNvSpPr/>
          <p:nvPr/>
        </p:nvSpPr>
        <p:spPr>
          <a:xfrm>
            <a:off x="234000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o hay congestión, no 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7"/>
          <p:cNvSpPr/>
          <p:nvPr/>
        </p:nvSpPr>
        <p:spPr>
          <a:xfrm flipH="1" flipV="1">
            <a:off x="4932000" y="436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8"/>
          <p:cNvSpPr/>
          <p:nvPr/>
        </p:nvSpPr>
        <p:spPr>
          <a:xfrm>
            <a:off x="5292720" y="450864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ay congestión, riv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Como interviene el estado en la economí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c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isión de Bienes y Servi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duc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rol productor del estado ha venido cayendo en el tiemp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piedad mix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provee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507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disminución del rol productor el rol de proveedor ha tomado mayor releva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umenta la intervención a través del financiamiento necesario para que el sector privado produz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ducación Subvencion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cesiones de cárce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el estado deba proveer de un bien o servicio no significa necesariamente que también deba producir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estado regulad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ol ampliamente utilizado, existen regulaciones en lo económico y en lo legal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económicas más comun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/ Subsid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hibicion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uot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jaciones de Prec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Regulaciones legales establecen las reglas de juego y los límites bajo los cuales puede funcionar el merca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nstitu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ratados Intern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ey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glamen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Recordemos, las razones que dan lugar a la existencia del estado.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 Macroeconóm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0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allas de Merc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estado interviene en el mercado cuando este no es capaz de hacer una asignación eficiente de los recurs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o es cuando existen fallas de merc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públicos y de propiedad comú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ternalidad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allas en la organización de los mercad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ercados incomple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imetrías de inform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mercado sin fallas garantiza una asignación eficiente de los recurs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         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 es decir óptima en el Sentido de Par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2449440" y="3327480"/>
            <a:ext cx="4824360" cy="309708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009960" y="3381480"/>
            <a:ext cx="3543120" cy="2322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5"/>
          <p:cNvSpPr/>
          <p:nvPr/>
        </p:nvSpPr>
        <p:spPr>
          <a:xfrm>
            <a:off x="3040200" y="5013360"/>
            <a:ext cx="347652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3708360" y="3395520"/>
            <a:ext cx="0" cy="233856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rc 14"/>
          <p:cNvSpPr/>
          <p:nvPr/>
        </p:nvSpPr>
        <p:spPr>
          <a:xfrm>
            <a:off x="2340000" y="4659480"/>
            <a:ext cx="2125800" cy="154908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rc 16"/>
          <p:cNvSpPr/>
          <p:nvPr/>
        </p:nvSpPr>
        <p:spPr>
          <a:xfrm rot="11009400">
            <a:off x="2873520" y="3698280"/>
            <a:ext cx="2063520" cy="159372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3673440" y="4970520"/>
            <a:ext cx="10944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4"/>
          <p:cNvSpPr/>
          <p:nvPr/>
        </p:nvSpPr>
        <p:spPr>
          <a:xfrm>
            <a:off x="6481800" y="328464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5"/>
          <p:cNvSpPr/>
          <p:nvPr/>
        </p:nvSpPr>
        <p:spPr>
          <a:xfrm>
            <a:off x="2841480" y="5703840"/>
            <a:ext cx="32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6692760" y="329868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7"/>
          <p:cNvSpPr/>
          <p:nvPr/>
        </p:nvSpPr>
        <p:spPr>
          <a:xfrm>
            <a:off x="2521080" y="5819760"/>
            <a:ext cx="54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8"/>
          <p:cNvSpPr/>
          <p:nvPr/>
        </p:nvSpPr>
        <p:spPr>
          <a:xfrm>
            <a:off x="2808360" y="3284640"/>
            <a:ext cx="43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6481800" y="56754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0"/>
          <p:cNvSpPr/>
          <p:nvPr/>
        </p:nvSpPr>
        <p:spPr>
          <a:xfrm rot="16200000">
            <a:off x="1776600" y="4400640"/>
            <a:ext cx="20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1"/>
          <p:cNvSpPr/>
          <p:nvPr/>
        </p:nvSpPr>
        <p:spPr>
          <a:xfrm>
            <a:off x="3978720" y="578160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2"/>
          <p:cNvSpPr/>
          <p:nvPr/>
        </p:nvSpPr>
        <p:spPr>
          <a:xfrm>
            <a:off x="3705480" y="46893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05T16:37:16Z</dcterms:modified>
  <cp:revision>77</cp:revision>
  <dc:subject/>
  <dc:title>Economía del Sector Público</dc:title>
</cp:coreProperties>
</file>