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6706-26D6-415B-A51D-C0269062F2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C39-454C-44C0-84BC-F8BEBBDF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E45-3C60-453A-B453-2095B163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88C75-E918-4A34-93DA-52C3602C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144BC-4378-44A9-9FF1-BE5328DA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D7430-0660-4196-A67C-6533A27B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4A636-613C-43E1-83B2-5D88BE8C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26FD1-0CB9-44FA-991E-87A7FCD3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B7649-6997-4E89-8B72-1C9DD882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C5384-44A2-43AD-9CE3-FF75359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1A635-CFDE-4A8C-A75D-D696EE88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84771-6BA8-4429-A3C9-0C2A91F3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CEE37-079D-45F5-A9A2-EEB21A7D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2F9-9C1E-4DE7-8434-1B04FE93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5F289-DE06-4AD6-AB51-1EFE0029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E53C7-77A0-4570-B8BC-AF0BF1BF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B3E5D-BF10-49D6-82A7-955D800D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7F0E1-7FF4-4B7F-9E64-DBA6B18D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6C675-6176-475D-9012-17172AD4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F6BAD-233C-4906-9B86-2B6B08BB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AB9F5-FAAF-466A-848C-98A69315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F5A21-A676-4359-859A-E285510E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35A06-100A-4C59-A386-A1ADB111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41850-C151-4E11-A9B5-32F08BDD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212-75EE-42C8-BF0D-B431C768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960C9-BD0E-4730-A38E-8FF14B3E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CDDAF-C908-4B7F-A386-24A7B576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93619-F30F-42B7-96A2-A547685A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644CD-51BA-4A5C-BFD5-AE721F9F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CAEA9-7D09-4AB7-8BAE-AC560ADC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AAA00-9C57-4B19-9083-5EF231F5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BDE46-7CBD-4C9C-B8EE-0A1C340E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952ED-2660-42DC-A885-9432FC8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D9221-7AF6-486F-B36E-B561BAEC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640F7-BB70-4930-960E-EEA72877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0C2E-129C-4399-88E6-950CC551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C440-89E4-4C83-9F1C-70C70364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D3E5E-501A-4457-B70D-5B9DD059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33505-2574-414D-B1B1-A35F6C22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616C-3BA1-40F3-9EE5-53CC4C26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E3D0-6526-49DB-A495-C189354E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0BE1-D5FF-4449-A5C5-4AB943FA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334C-0FD9-4101-B83B-724B320E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C16C-1EF0-4500-89FC-FA5C6AF7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370D-78F2-4D87-A514-E6E90C3F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DB5-4CFD-433A-92CB-480C27FA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A844-41BE-44F4-98CB-ACC6CC18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C140-A657-476C-8F86-34F34672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6775-878F-404A-858F-7C6F3157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014E-A3D4-4560-8409-E766B025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B65B-4B76-4452-BE4F-F3821523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83451-FD13-4AC4-A1F5-32F183AF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6138-8748-4AD2-806A-397B920B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82380-061C-4FB6-BFF5-58C21ECE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4392-5228-4702-B303-B92C0304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E68A-0C7A-41D1-A577-EFEB7EBB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C4E-E190-4BF5-A00E-BD02001F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591B-2C99-475C-85CF-AF34506C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FEA4-ECA8-441D-9127-82E0A130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39281-2CC5-4E58-ACB5-71CDDB27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C749-7B92-4605-B277-22E821B2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ABE4-ADF2-415D-A3EE-EABE9046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358B-F9CE-4BFC-85C5-9BA19D53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77B0-5A13-4BCC-9D79-0041EACB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CB0B-53B0-4159-A56A-A5D23296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53AE-62C9-49C7-8AEE-79B42671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FF6BE-FFA3-4E4C-BE17-E58258C8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810-E8F8-4AC4-ADD6-D35D3BCC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9FE8D-8D0C-4B44-951A-3F14F910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E7D7F-71D6-4CE7-88C4-5119D24A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602B9-2BF6-4ABF-9081-5DA22AC1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D467-5904-422F-93F9-9B3A72CD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79EB-1234-4A84-BBD1-01B04735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2322-E0AE-40DD-9FA7-14D428BA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F0623-549E-4FB5-A5C9-F625DEE2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2C35A-0A57-4AD7-9ED0-5E74D57C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E3028-A6E0-4E90-963E-76DBDEEB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E6F49-75AE-4E28-AF5E-BA445966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F95-6670-4AC7-9F17-B3CA6D70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A3D25-4E43-429C-A65D-9C85FC85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D9F4C-8CCF-4961-91DC-C4F3D234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DD8E7-B14E-48E0-B34B-34616C8F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ECA64-6F55-4973-BC58-CE1DD410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5779-34C7-4BEF-8D7B-E7A10BCB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78D48-1145-4D31-B325-795098F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9D83A-065D-4E1E-BB67-ED20228A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9B505-7CC7-41BE-BAC1-2762C02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01F51-EFF2-4C29-834A-6E58663C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4C723-20B5-4648-B5FE-79EF6035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505-C494-4EFE-953D-92C2D4E5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753E1-C851-4603-8D5E-DB8963AA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E2DD3-3333-4543-8B06-0B21360D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3471B-BA6C-47A6-8CFF-5BD5B323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1A8F0-C5D9-43E3-B306-ECBE1DEB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44C61-113E-4CD1-A369-FB7029FB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B1BCB-8A0D-487F-9E53-658C8704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68E70-AA48-4FC8-8067-655E586E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E70E5-63BF-430A-AD9B-4A3C904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EBC89-582E-494B-9EBA-FA3FB732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CA9D0-2F57-45CE-AFA9-1DA82012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1A3-9CF2-49CC-8272-866E463E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ABDB1-B792-474A-B0DB-F5FB905E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8EE5-FF10-46EF-BD5A-136C9319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98377-2D39-4EF1-87C3-8C1A9CE2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CDD5B-1CB3-4023-9AF0-E561EFDE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CE5EA-087F-44CD-942B-E2A826B6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F6C46-A5B5-439D-825E-3B1A2646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83E7B-9B14-4D5E-B854-455FE2F7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9C656-BE3C-4628-8AA1-0EAA63F0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14A0C-A68B-45C9-A7F4-20398851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609E2-C8E9-48DC-A589-A251427B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01D-74E7-4686-96CA-8D8D269A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56A06-A4A4-4EC1-9EE4-37EF32B1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24E7B-ABE9-42F9-85EC-D85F0350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E1A39-BECF-4544-A12D-66B91D15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F1EDA-83E3-4B04-8423-F6E625D3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A2F7B-692E-4C51-9DD2-E98D7FBB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7F876-BA31-490C-A46D-2DF71B79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544FF-7937-4F99-ABAC-5F9FA0F7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F6FE1-F8D1-4445-B356-3B57B2EF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832C9-C52A-4327-A449-7F03987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F3D3F-2884-459D-9B86-A67569ED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9E7-5F88-4BF8-81A9-A02C4087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167CC-BA6C-48B2-A0CF-0FBA4FD1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7AB83-4A65-4441-ACF3-41EAC7EA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8E874-1F94-4E63-99BE-546CF341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09D26-C2BC-40E8-BF6C-351706E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FD1E7-2173-46A4-A18F-F7AAAEB3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3F6C7-AC59-4881-8B3D-F1CE483F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3C5F4-A8FC-4204-89CF-8B5E8606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0B740-E82D-435B-B368-86E6A09F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4EF0D-5F8A-4A8B-98CB-55DE44E4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581CB-64A6-4C04-B9D3-ACD341A0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7912-2974-4766-8570-1E296971C358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7716-CA40-4419-838C-D13902DC8590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0199-A9BA-4B75-8B54-51E9E3898555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CD1B-96F4-4CC8-BF14-4BF857572CC9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F539-2535-4C7B-8A39-69B220696326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52E2-4DEE-4670-A5B9-A9EF415FA0ED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4C3F-F35A-4834-9CB9-081AADEFE18F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C119-44A2-4029-B8EA-7CA1ED7C0024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8A4D-F3F5-4AFF-A0D6-F564F66453B7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FD52-95F7-467C-9C37-6E9EC388B644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C4D6-508A-4357-9EC2-7C1F785031A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 economía social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ibre funcionamiento del mercado genera una distribución de bienestar económico que puede no ser la dese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De acuerdo a una idea de equidad que tengamos como socie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encarga al estado el tomar las medidas que produzcan un proceso redistribu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Por ello es que en una economía social de mercado el estado es quien ha tomado a su cargo la solución de la pobre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Equidad – Justificaciones y principi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el Utilitarismo Simple (Bienestar social = suma del bienestar de sus miembro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spectiva Rawlsiana (maximin) Maximizar el bienestar del que esté en peor situ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jo: utilidad marginal de la renta decreci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tabiliz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3009960" y="3381480"/>
            <a:ext cx="3543120" cy="2322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bienestar que las personas pueden alcanzar no solo depende de sus propias acciones, también depende del medio que las rode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xisten fluctuaciones de carácter macroeconómico que afectan en uno u otro sentido el bienestar de las person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 acción del estado se centra en la mitigación de los problemas macroeconóm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lgunos problemas macroeconómicos: desempleo, inflación, crecimiento volátil, decrecimiento, crisis en la balanza de pagos, etc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Recordemos, las razones que dan lugar a la existencia del estado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 Macroeconóm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Fallas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6" descr=""/>
          <p:cNvPicPr/>
          <p:nvPr/>
        </p:nvPicPr>
        <p:blipFill>
          <a:blip r:embed="rId2"/>
          <a:stretch/>
        </p:blipFill>
        <p:spPr>
          <a:xfrm>
            <a:off x="5508720" y="836640"/>
            <a:ext cx="3000240" cy="380988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y de Propiedad Común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3"/>
          <a:stretch/>
        </p:blipFill>
        <p:spPr>
          <a:xfrm rot="20767200">
            <a:off x="468360" y="2565360"/>
            <a:ext cx="2933640" cy="38098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"/>
          <p:cNvPicPr/>
          <p:nvPr/>
        </p:nvPicPr>
        <p:blipFill>
          <a:blip r:embed="rId4"/>
          <a:stretch/>
        </p:blipFill>
        <p:spPr>
          <a:xfrm rot="1010400">
            <a:off x="684000" y="2205000"/>
            <a:ext cx="4762440" cy="2857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5"/>
          <a:stretch/>
        </p:blipFill>
        <p:spPr>
          <a:xfrm rot="20055600">
            <a:off x="4057560" y="1545840"/>
            <a:ext cx="42595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 de un Bi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ivalidad: el consumo del bien por parte de una persona limita (o anula ) el disfrute del mismo por parte de o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clusión: se puede excluir (mediante un cobro) a una persona del bienestar proporcionado por un bien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lasificación de los Bie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888840" y="2008080"/>
          <a:ext cx="7139160" cy="3229200"/>
        </p:xfrm>
        <a:graphic>
          <a:graphicData uri="http://schemas.openxmlformats.org/drawingml/2006/table">
            <a:tbl>
              <a:tblPr/>
              <a:tblGrid>
                <a:gridCol w="1665360"/>
                <a:gridCol w="755640"/>
                <a:gridCol w="2359080"/>
                <a:gridCol w="2359080"/>
              </a:tblGrid>
              <a:tr h="62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v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lu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Priv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"Club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de Propiedad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No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lasificación de un bien (público/privado) no significa que este vaya a ser necesariamente provisto por los sectores público o privado según sea el ca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La salu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Fuegos Artificiales de fin de 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licancias- Bienes Públ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ivalidad: el consumo por una persona adicional tiene coste cero.  CMg=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debemos consumir la misma cantidad del bien, aunque no todos lo valoremos de la misma mane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Incluso algunos ni siquiera valoraran el bi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xclusión: es muy caro o simplemente es imposible impedir el consumo de alguien que no esta dispuesto a pa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 Economía Social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ercado para asignar eficientemente los recursos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nto a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para resolver la equidad en la distribució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fomentar un buen funcionamiento de los merc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y mercado se complementan en busca de maximizar el bienestar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Como estimamos entonces la demanda socia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68360" y="16858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so de los bienes priv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20" name="Group 36"/>
          <p:cNvGrpSpPr/>
          <p:nvPr/>
        </p:nvGrpSpPr>
        <p:grpSpPr>
          <a:xfrm>
            <a:off x="685440" y="2276640"/>
            <a:ext cx="6909480" cy="2306520"/>
            <a:chOff x="685440" y="2276640"/>
            <a:chExt cx="6909480" cy="2306520"/>
          </a:xfrm>
        </p:grpSpPr>
        <p:sp>
          <p:nvSpPr>
            <p:cNvPr id="621" name="Line 5"/>
            <p:cNvSpPr/>
            <p:nvPr/>
          </p:nvSpPr>
          <p:spPr>
            <a:xfrm>
              <a:off x="89856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6"/>
            <p:cNvSpPr/>
            <p:nvPr/>
          </p:nvSpPr>
          <p:spPr>
            <a:xfrm>
              <a:off x="898560" y="4292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7"/>
            <p:cNvSpPr/>
            <p:nvPr/>
          </p:nvSpPr>
          <p:spPr>
            <a:xfrm>
              <a:off x="898560" y="3068280"/>
              <a:ext cx="936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8"/>
            <p:cNvSpPr/>
            <p:nvPr/>
          </p:nvSpPr>
          <p:spPr>
            <a:xfrm>
              <a:off x="341964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3419640" y="4292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3419640" y="3068280"/>
              <a:ext cx="136836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"/>
            <p:cNvSpPr/>
            <p:nvPr/>
          </p:nvSpPr>
          <p:spPr>
            <a:xfrm>
              <a:off x="572436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2"/>
            <p:cNvSpPr/>
            <p:nvPr/>
          </p:nvSpPr>
          <p:spPr>
            <a:xfrm>
              <a:off x="5724360" y="4292280"/>
              <a:ext cx="17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5724360" y="3068280"/>
              <a:ext cx="158436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4"/>
            <p:cNvSpPr/>
            <p:nvPr/>
          </p:nvSpPr>
          <p:spPr>
            <a:xfrm>
              <a:off x="1621080" y="227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5"/>
            <p:cNvSpPr/>
            <p:nvPr/>
          </p:nvSpPr>
          <p:spPr>
            <a:xfrm>
              <a:off x="4286520" y="227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6"/>
            <p:cNvSpPr/>
            <p:nvPr/>
          </p:nvSpPr>
          <p:spPr>
            <a:xfrm>
              <a:off x="6181560" y="22766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+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7"/>
            <p:cNvSpPr/>
            <p:nvPr/>
          </p:nvSpPr>
          <p:spPr>
            <a:xfrm>
              <a:off x="68544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9"/>
            <p:cNvSpPr/>
            <p:nvPr/>
          </p:nvSpPr>
          <p:spPr>
            <a:xfrm>
              <a:off x="322524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0"/>
            <p:cNvSpPr/>
            <p:nvPr/>
          </p:nvSpPr>
          <p:spPr>
            <a:xfrm>
              <a:off x="550980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1"/>
            <p:cNvSpPr/>
            <p:nvPr/>
          </p:nvSpPr>
          <p:spPr>
            <a:xfrm>
              <a:off x="2504520" y="4235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3"/>
            <p:cNvSpPr/>
            <p:nvPr/>
          </p:nvSpPr>
          <p:spPr>
            <a:xfrm>
              <a:off x="5025600" y="4235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4"/>
            <p:cNvSpPr/>
            <p:nvPr/>
          </p:nvSpPr>
          <p:spPr>
            <a:xfrm>
              <a:off x="7328880" y="4235040"/>
              <a:ext cx="26604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6"/>
            <p:cNvSpPr/>
            <p:nvPr/>
          </p:nvSpPr>
          <p:spPr>
            <a:xfrm>
              <a:off x="900000" y="357336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7"/>
            <p:cNvSpPr/>
            <p:nvPr/>
          </p:nvSpPr>
          <p:spPr>
            <a:xfrm>
              <a:off x="68544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8"/>
            <p:cNvSpPr/>
            <p:nvPr/>
          </p:nvSpPr>
          <p:spPr>
            <a:xfrm>
              <a:off x="133200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9"/>
            <p:cNvSpPr/>
            <p:nvPr/>
          </p:nvSpPr>
          <p:spPr>
            <a:xfrm>
              <a:off x="320796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0"/>
            <p:cNvSpPr/>
            <p:nvPr/>
          </p:nvSpPr>
          <p:spPr>
            <a:xfrm>
              <a:off x="550980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31"/>
            <p:cNvSpPr/>
            <p:nvPr/>
          </p:nvSpPr>
          <p:spPr>
            <a:xfrm>
              <a:off x="406728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32"/>
            <p:cNvSpPr/>
            <p:nvPr/>
          </p:nvSpPr>
          <p:spPr>
            <a:xfrm>
              <a:off x="651672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33"/>
            <p:cNvSpPr/>
            <p:nvPr/>
          </p:nvSpPr>
          <p:spPr>
            <a:xfrm>
              <a:off x="1199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34"/>
            <p:cNvSpPr/>
            <p:nvPr/>
          </p:nvSpPr>
          <p:spPr>
            <a:xfrm>
              <a:off x="3863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35"/>
            <p:cNvSpPr/>
            <p:nvPr/>
          </p:nvSpPr>
          <p:spPr>
            <a:xfrm>
              <a:off x="6311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38"/>
          <p:cNvSpPr/>
          <p:nvPr/>
        </p:nvSpPr>
        <p:spPr>
          <a:xfrm>
            <a:off x="374760" y="4869000"/>
            <a:ext cx="82296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pagamos lo mismo, pero consumimos distintas cantidades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 Demanda Social =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7704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so de los bienes públ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746280" y="10098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6"/>
          <p:cNvSpPr/>
          <p:nvPr/>
        </p:nvSpPr>
        <p:spPr>
          <a:xfrm>
            <a:off x="746280" y="26654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7"/>
          <p:cNvSpPr/>
          <p:nvPr/>
        </p:nvSpPr>
        <p:spPr>
          <a:xfrm>
            <a:off x="746280" y="1441440"/>
            <a:ext cx="936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8"/>
          <p:cNvSpPr/>
          <p:nvPr/>
        </p:nvSpPr>
        <p:spPr>
          <a:xfrm>
            <a:off x="735120" y="270828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9"/>
          <p:cNvSpPr/>
          <p:nvPr/>
        </p:nvSpPr>
        <p:spPr>
          <a:xfrm>
            <a:off x="735120" y="43639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0"/>
          <p:cNvSpPr/>
          <p:nvPr/>
        </p:nvSpPr>
        <p:spPr>
          <a:xfrm>
            <a:off x="735120" y="3139920"/>
            <a:ext cx="1368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1"/>
          <p:cNvSpPr/>
          <p:nvPr/>
        </p:nvSpPr>
        <p:spPr>
          <a:xfrm>
            <a:off x="731880" y="465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2"/>
          <p:cNvSpPr/>
          <p:nvPr/>
        </p:nvSpPr>
        <p:spPr>
          <a:xfrm>
            <a:off x="731880" y="6308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3"/>
          <p:cNvSpPr/>
          <p:nvPr/>
        </p:nvSpPr>
        <p:spPr>
          <a:xfrm>
            <a:off x="731880" y="5084640"/>
            <a:ext cx="1584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4"/>
          <p:cNvSpPr/>
          <p:nvPr/>
        </p:nvSpPr>
        <p:spPr>
          <a:xfrm>
            <a:off x="1981440" y="90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5"/>
          <p:cNvSpPr/>
          <p:nvPr/>
        </p:nvSpPr>
        <p:spPr>
          <a:xfrm>
            <a:off x="1981440" y="292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6"/>
          <p:cNvSpPr/>
          <p:nvPr/>
        </p:nvSpPr>
        <p:spPr>
          <a:xfrm>
            <a:off x="1909440" y="45799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7"/>
          <p:cNvSpPr/>
          <p:nvPr/>
        </p:nvSpPr>
        <p:spPr>
          <a:xfrm>
            <a:off x="532800" y="865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8"/>
          <p:cNvSpPr/>
          <p:nvPr/>
        </p:nvSpPr>
        <p:spPr>
          <a:xfrm>
            <a:off x="540720" y="256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9"/>
          <p:cNvSpPr/>
          <p:nvPr/>
        </p:nvSpPr>
        <p:spPr>
          <a:xfrm>
            <a:off x="54072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1"/>
          <p:cNvSpPr/>
          <p:nvPr/>
        </p:nvSpPr>
        <p:spPr>
          <a:xfrm>
            <a:off x="2341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3"/>
          <p:cNvSpPr/>
          <p:nvPr/>
        </p:nvSpPr>
        <p:spPr>
          <a:xfrm>
            <a:off x="747720" y="198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4"/>
          <p:cNvSpPr/>
          <p:nvPr/>
        </p:nvSpPr>
        <p:spPr>
          <a:xfrm>
            <a:off x="973080" y="2637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5"/>
          <p:cNvSpPr/>
          <p:nvPr/>
        </p:nvSpPr>
        <p:spPr>
          <a:xfrm>
            <a:off x="1179360" y="1946160"/>
            <a:ext cx="7920" cy="436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6"/>
          <p:cNvSpPr/>
          <p:nvPr/>
        </p:nvSpPr>
        <p:spPr>
          <a:xfrm>
            <a:off x="973080" y="4437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7"/>
          <p:cNvSpPr/>
          <p:nvPr/>
        </p:nvSpPr>
        <p:spPr>
          <a:xfrm>
            <a:off x="973080" y="63086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8"/>
          <p:cNvSpPr/>
          <p:nvPr/>
        </p:nvSpPr>
        <p:spPr>
          <a:xfrm>
            <a:off x="1187280" y="350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3"/>
          <p:cNvSpPr/>
          <p:nvPr/>
        </p:nvSpPr>
        <p:spPr>
          <a:xfrm>
            <a:off x="4356000" y="1052640"/>
            <a:ext cx="453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consumimos lo mismo, entonces debemos determinar cuánto vamos a estar dispuestos a pa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 Demanda Social =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no existir exclusión el beneficio social por cada unidad es igual a la suma del beneficio de todos los que lo consu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4"/>
          <p:cNvSpPr/>
          <p:nvPr/>
        </p:nvSpPr>
        <p:spPr>
          <a:xfrm>
            <a:off x="2341080" y="26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35"/>
          <p:cNvSpPr/>
          <p:nvPr/>
        </p:nvSpPr>
        <p:spPr>
          <a:xfrm>
            <a:off x="2360160" y="632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6"/>
          <p:cNvSpPr/>
          <p:nvPr/>
        </p:nvSpPr>
        <p:spPr>
          <a:xfrm>
            <a:off x="75564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7"/>
          <p:cNvSpPr/>
          <p:nvPr/>
        </p:nvSpPr>
        <p:spPr>
          <a:xfrm>
            <a:off x="75564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8"/>
          <p:cNvSpPr/>
          <p:nvPr/>
        </p:nvSpPr>
        <p:spPr>
          <a:xfrm>
            <a:off x="469440" y="184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9"/>
          <p:cNvSpPr/>
          <p:nvPr/>
        </p:nvSpPr>
        <p:spPr>
          <a:xfrm>
            <a:off x="46944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0"/>
          <p:cNvSpPr/>
          <p:nvPr/>
        </p:nvSpPr>
        <p:spPr>
          <a:xfrm>
            <a:off x="46944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bien privado cada persona consume un diferente numero de bienes a un precio dado (suma horizontal de las curvas de demanda individua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MS  =   RMS     =  RM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bien publico cada persona valora distinto una cantidad dada del bien (suma vertical de las curvas de demanda individua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MS  +   RMS     =  RM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1908000" y="2592360"/>
            <a:ext cx="25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                       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m                       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1835280" y="424800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                       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m                       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das las características de no exclusión y no rivalidad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ánto estarían dispuestos a pagar los consumidor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: Nada, al no existir la posibilidad de exclusión las personas van a esperar que alguien más este dispuesto a pagar para así disfrutar gratis del bie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 que se conoce como el problema del free rid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tonces el bien no será financiado y no será provisto aunque este sí sea valor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problema es que los consumidores no revelan sus verdaderas preferencias, por lo que no podemos tener las funciones de utilidad y por ende no podemos determinar demanda de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l no haber una demanda, tampoco habrá un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demás recordemos al no haber rivalidad el CMg=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, por lo que el precio sería también cero, no obstante la provisión del bien tiene un costo mayor que cer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mercado fracasa en la provisión de este tipo de bienes y el estado asume la función de proveedo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ovisión del Bien Públ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gobierno al tener el poder de coerción puede solucionar el problema del free rider (Ej. financiando el bien vía impuest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q de Lindha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da quien paga según el beneficio individual percibi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roblem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terminación de las Preferenci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edición de los costos y benefic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s preferencias de las personas se obtienen a través de las votaci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esenta otro tipo de problemas que veremos más adelante en el curs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6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6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ienes donde la exclusión no es factible pero que presentan rivalidad en el consu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blema de estos bienes es que existe la tendencia a sobre explotarlos generando una asignación ineficiente de recursos (perdemos el papel orientador de los preci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sobre explotación puede significar el agotamiento de los recursos, algo conocido como La Tragedia de los Comu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se asignara un precio se generaría el incentivo económico para hacer un uso racional de dichos bien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problema de precio cero, se asocia a que no existen derechos de propiedad sobre el bi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       …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no pertenecen a nadie, nadie los cuid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 solución ha sido planteada por Coase, y consiste en otorgar derechos de propiedad sobre el uso de los recursos, así el dueño queda capacitado para aplicar la exclusió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dueño del bien tiene todos los incentivos para cuidarlo y preocuparse por una explotación eficiente que le permita mantener su riquez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lternativa es que el Estado se haga cargo de la propiedad de dicho bien y así ponga un precio a su consu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 acuícol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rechos de us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uo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ermisos trans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Ojo.. Las clasificaciones pueden cambia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508428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os tecnológ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68360" y="1557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pacidad Instal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7"/>
          <p:cNvSpPr/>
          <p:nvPr/>
        </p:nvSpPr>
        <p:spPr>
          <a:xfrm>
            <a:off x="898560" y="2637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898560" y="429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9"/>
          <p:cNvSpPr/>
          <p:nvPr/>
        </p:nvSpPr>
        <p:spPr>
          <a:xfrm>
            <a:off x="898560" y="3068640"/>
            <a:ext cx="1009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6"/>
          <p:cNvSpPr/>
          <p:nvPr/>
        </p:nvSpPr>
        <p:spPr>
          <a:xfrm>
            <a:off x="1547640" y="2276640"/>
            <a:ext cx="9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pac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ó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685440" y="249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22"/>
          <p:cNvSpPr/>
          <p:nvPr/>
        </p:nvSpPr>
        <p:spPr>
          <a:xfrm>
            <a:off x="2504520" y="423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7"/>
          <p:cNvSpPr/>
          <p:nvPr/>
        </p:nvSpPr>
        <p:spPr>
          <a:xfrm>
            <a:off x="205092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2"/>
          <p:cNvSpPr/>
          <p:nvPr/>
        </p:nvSpPr>
        <p:spPr>
          <a:xfrm>
            <a:off x="1865160" y="4307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5"/>
          <p:cNvSpPr/>
          <p:nvPr/>
        </p:nvSpPr>
        <p:spPr>
          <a:xfrm>
            <a:off x="3562200" y="2637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6"/>
          <p:cNvSpPr/>
          <p:nvPr/>
        </p:nvSpPr>
        <p:spPr>
          <a:xfrm>
            <a:off x="3562200" y="4292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7"/>
          <p:cNvSpPr/>
          <p:nvPr/>
        </p:nvSpPr>
        <p:spPr>
          <a:xfrm>
            <a:off x="3564000" y="2781360"/>
            <a:ext cx="16556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39"/>
          <p:cNvSpPr/>
          <p:nvPr/>
        </p:nvSpPr>
        <p:spPr>
          <a:xfrm>
            <a:off x="3349080" y="249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0"/>
          <p:cNvSpPr/>
          <p:nvPr/>
        </p:nvSpPr>
        <p:spPr>
          <a:xfrm>
            <a:off x="5168520" y="423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42"/>
          <p:cNvSpPr/>
          <p:nvPr/>
        </p:nvSpPr>
        <p:spPr>
          <a:xfrm>
            <a:off x="471492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3"/>
          <p:cNvSpPr/>
          <p:nvPr/>
        </p:nvSpPr>
        <p:spPr>
          <a:xfrm>
            <a:off x="4529160" y="4307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4"/>
          <p:cNvSpPr/>
          <p:nvPr/>
        </p:nvSpPr>
        <p:spPr>
          <a:xfrm>
            <a:off x="4211640" y="225108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pac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ó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5"/>
          <p:cNvSpPr/>
          <p:nvPr/>
        </p:nvSpPr>
        <p:spPr>
          <a:xfrm flipH="1" flipV="1">
            <a:off x="1979280" y="436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6"/>
          <p:cNvSpPr/>
          <p:nvPr/>
        </p:nvSpPr>
        <p:spPr>
          <a:xfrm>
            <a:off x="2340000" y="4508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hay congestión, no 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7"/>
          <p:cNvSpPr/>
          <p:nvPr/>
        </p:nvSpPr>
        <p:spPr>
          <a:xfrm flipH="1" flipV="1">
            <a:off x="4932000" y="436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8"/>
          <p:cNvSpPr/>
          <p:nvPr/>
        </p:nvSpPr>
        <p:spPr>
          <a:xfrm>
            <a:off x="5292720" y="4508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y congestión, riv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Como interviene el estado en la economí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ción de Bienes y Servi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visión de Bienes y Servi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gul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produc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rol productor del estado ha venido cayendo en el tiemp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piedad mix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cita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proveed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507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 la disminución del rol productor el rol de proveedor ha tomado mayor releva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umenta la intervención a través del financiamiento necesario para que el sector privado produz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ducación Subvencion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 de cárce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el estado deba proveer de un bien o servicio no significa necesariamente que también deba producirl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regulad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ol ampliamente utilizado, existen regulaciones en lo económico y en lo leg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egulaciones económicas más comun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mpuestos / Subsid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hibicion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uot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ijaciones de Prec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egulaciones legales establecen las reglas de juego y los límites bajo los cuales puede funcionar el merca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nstitu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ratados Internacion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ey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glamen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Recordemos, las razones que dan lugar a la existencia del estado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 Macroeconóm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0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as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stado interviene en el mercado cuando este no es capaz de hacer una asignación eficiente d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o es cuando existen fallas de mercad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enes públicos y de propiedad comú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xternalidad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allas en la organización de los merc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ercados incomple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simetrías de inform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ercado sin fallas garantiza una asignación eficiente de los recurs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decir óptima en el Sentido de Par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2449440" y="3327480"/>
            <a:ext cx="4824360" cy="309708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3009960" y="3381480"/>
            <a:ext cx="3543120" cy="2322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5"/>
          <p:cNvSpPr/>
          <p:nvPr/>
        </p:nvSpPr>
        <p:spPr>
          <a:xfrm>
            <a:off x="3040200" y="5013360"/>
            <a:ext cx="347652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3708360" y="3395520"/>
            <a:ext cx="0" cy="233856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rc 14"/>
          <p:cNvSpPr/>
          <p:nvPr/>
        </p:nvSpPr>
        <p:spPr>
          <a:xfrm>
            <a:off x="2340000" y="4659480"/>
            <a:ext cx="2125800" cy="154908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16"/>
          <p:cNvSpPr/>
          <p:nvPr/>
        </p:nvSpPr>
        <p:spPr>
          <a:xfrm rot="11009400">
            <a:off x="2873520" y="3698280"/>
            <a:ext cx="2063520" cy="159372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1"/>
          <p:cNvSpPr/>
          <p:nvPr/>
        </p:nvSpPr>
        <p:spPr>
          <a:xfrm>
            <a:off x="3673440" y="4970520"/>
            <a:ext cx="10944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4"/>
          <p:cNvSpPr/>
          <p:nvPr/>
        </p:nvSpPr>
        <p:spPr>
          <a:xfrm>
            <a:off x="6481800" y="328464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5"/>
          <p:cNvSpPr/>
          <p:nvPr/>
        </p:nvSpPr>
        <p:spPr>
          <a:xfrm>
            <a:off x="2841480" y="5703840"/>
            <a:ext cx="3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6"/>
          <p:cNvSpPr/>
          <p:nvPr/>
        </p:nvSpPr>
        <p:spPr>
          <a:xfrm>
            <a:off x="6692760" y="3298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7"/>
          <p:cNvSpPr/>
          <p:nvPr/>
        </p:nvSpPr>
        <p:spPr>
          <a:xfrm>
            <a:off x="2521080" y="5819760"/>
            <a:ext cx="54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8"/>
          <p:cNvSpPr/>
          <p:nvPr/>
        </p:nvSpPr>
        <p:spPr>
          <a:xfrm>
            <a:off x="2808360" y="3284640"/>
            <a:ext cx="43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9"/>
          <p:cNvSpPr/>
          <p:nvPr/>
        </p:nvSpPr>
        <p:spPr>
          <a:xfrm>
            <a:off x="6481800" y="56754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0"/>
          <p:cNvSpPr/>
          <p:nvPr/>
        </p:nvSpPr>
        <p:spPr>
          <a:xfrm rot="16200000">
            <a:off x="1776600" y="4400640"/>
            <a:ext cx="20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1"/>
          <p:cNvSpPr/>
          <p:nvPr/>
        </p:nvSpPr>
        <p:spPr>
          <a:xfrm>
            <a:off x="3978720" y="578160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2"/>
          <p:cNvSpPr/>
          <p:nvPr/>
        </p:nvSpPr>
        <p:spPr>
          <a:xfrm>
            <a:off x="3705480" y="468936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E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05T16:37:16Z</dcterms:modified>
  <cp:revision>77</cp:revision>
  <dc:subject/>
  <dc:title>Economía del Sector Público</dc:title>
</cp:coreProperties>
</file>