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914C-2ECA-4446-9818-9CED3EAD8B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975-A47F-43F2-976C-0B2A9751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F19-1F2C-4CED-942B-1526311A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38F99-780B-40AA-9755-47F53694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FE81F-4665-417B-8828-A1123A7E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3A5C9-C0CC-417E-8390-666D5A41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6325F-3CB9-4E15-B5C7-A061FE0F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1A3F7-6F21-4708-A3E0-FF4ACAC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965F0-874C-4745-A125-7573DF0D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2C5BB-129D-4A29-82BE-A9774407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8A580-01A6-47F2-93E7-2B9DC444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48AEB-0CA9-4263-A0FD-FA1B041E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E9D3C-9F27-4D91-BEAD-8A55D13B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188-1530-4D1B-BF37-B1EACD83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8F544-C694-4B5C-9625-1B79765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8CAD7-5F72-418F-B8B4-0C619EB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7128A-1C2B-4577-82B7-7B0F588F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3CA40-35FE-4B92-AA80-F59F9F9C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01E9F-243D-4E29-89FA-E66A1E1B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59C16-86A1-44D6-8F44-39E94726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A111B-E32E-496E-BB2C-A4822D8F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AF34B-4A4F-4C89-8620-DE72B39F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01C4E-38E9-4D08-B18B-22C0821C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191B0-DA44-47C3-A0D9-3EA68DA9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AE9-0E6A-44AC-90A6-CA4EFB30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D4C28-3DB6-4F76-A071-79DB22E5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A52F7-DA49-4245-A1AE-503FEFFD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FE274-7F44-4187-9E3A-997AC4AF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804C0-1E2A-425B-91CD-E0068B4B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AA3FA-0EB8-4500-8BAA-0389437E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E1441-31EE-4EC4-A62F-04015459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5F31F-E73B-4755-9741-DE6BA9FE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96636-BC24-4C9A-9A38-7C88564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1AC30-C35F-4CF3-9496-BD390B92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908A-1C35-4798-9AB3-FC6720D7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71D4-BBCD-411B-A2EF-3470C0C4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C132B-18C0-4186-B932-590C4682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8D39D-196E-4AB3-8388-C576C695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20BD8-E5C3-47D1-975A-9BFC8D34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FA2B-1CC8-4592-BE64-19FFF5A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AB9E-5015-4401-A68C-79A33D77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64CE-71D4-477C-846F-5711C9CD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CB6A-A4FE-4E2E-843F-275E5A7C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378C-74F4-4774-9B0A-8BCE7D60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85E9-9620-4241-A120-52CACBA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BFC-48EF-4B37-9D18-6B8EC714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50C-5943-4C03-8FD9-4C2EE6DC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074F-8D03-4DCF-B849-69FC26C1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7AFA-E39B-4A19-8EC3-C59340DC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B807-D561-4DE3-BDF9-41812199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B293-A497-42DF-AF4E-70036872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7057-91A8-4457-B26D-A3EB2954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E13C-228D-43CB-ADED-4316DDE8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7160-1EED-4059-BAA4-429C2655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2076-1F13-4BE7-B805-8B2FFC3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FB18-19F9-460D-A593-F53E6484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C78-2C51-439E-8803-FBD2CD00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506D-59C9-4841-BB1D-6103DC26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E2BB-3454-4869-80D1-EF15F8B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DFF0-EF4B-4E4E-8746-DA8A95E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B5F0-AEF2-4DAF-9BCD-6C48B6E3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7C12-8F19-4A93-B902-54C91335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C565-2BB7-43B1-96A3-4E980F59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56E5-B5C2-45EF-861D-96624A50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D2B9-DEA1-4E7A-B91F-69B7A7A9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414D-5B11-4C65-88BE-8837660A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014F-36ED-4066-A519-F42C876B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DEA-A919-4466-9B3A-30BD504B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D281-1BF8-4895-8794-E9ADD403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91C0-7D47-4EB8-884E-DEEBA213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4BDCA-15EF-437D-9198-C6ADF46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8B3F-43CE-45D8-B03A-CCDC5C9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EDA0-D1D3-4D58-B846-8684441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64FD-E043-47BB-8391-D70AE34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26DCB-6B65-4757-A366-13FAFEED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5EC03-CD03-4A38-9AFA-885A3456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2EE1-8B54-403C-93D0-68B51944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A690-56AA-4E2B-A9DA-241ED107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209-F946-41CA-8BE4-2E7A3D5F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0537-64C2-427B-9F84-F9059826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64F1-6FDC-4F15-BB2B-697867E0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22B32-5205-427B-A4F2-AA2AA49D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1B2D-9D03-4E91-B581-C4954AC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90CE1-5A07-4757-9F61-11EB08C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9516-80FA-446D-8EEB-837CD34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6BA8-C759-4653-80FA-27E1DF2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A300-07CF-41EA-A90E-8B5432A9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C85D-FF52-4F25-A921-B276DBA0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FA31-2380-422C-8296-EBCF0642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FA4-7AB9-443D-AC97-3E5D0513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A56DB-BC45-4720-A92B-E7AC18F3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0CB0B-63D3-45D8-B00C-140B2105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577A-9FF0-4788-BEEC-F20FE776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8481-6B2E-49AE-B6B4-80BE8CF7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E781-9DDF-4B9F-A367-4DF63847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F2FDB-A97A-48B9-A4E4-26178827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8BA0F-6F07-426E-B11B-0D505C9B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185CA-AAFC-4EBB-A3B3-C05E206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B44D3-E758-41CC-AA4E-A3810B9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D788B-539D-47ED-BB3A-772FF05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4AF-AA36-4A44-A09F-D217B8A6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6E92-B686-424C-9E54-50D7B978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F718A-CBA9-4F54-8ACE-9B7819D7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AB9AC-BE17-465C-B087-F695A2C7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135A-AEF4-46A1-9989-8C3F657C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748DB-B5C6-4C63-93E8-FC51E10A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BB952-6E1A-4906-8801-E2163F44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3AA5-8169-4916-A3E3-3F1CDCF0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32CB-84B8-4CC2-B0A2-27D87580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7C83F-35BB-42DB-BB83-0ABE66BB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D804F-CDEC-4726-A6A1-89555CB5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271-5217-43B0-BEC9-59F207D9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FC96-7466-4B7E-BD84-F63F64A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07A3A-9F04-4247-93D2-22932FC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EB210-5011-4ED8-AC25-6981AAED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A8F74-8A29-4244-969E-A0D961F4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5156E-A7CA-4FDB-8E46-DFF4AA8B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5AF00-B396-4D4F-B974-9B3E3FDD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69CA1-5B61-4D14-AAC7-FAE5D224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744E6-A848-4396-89A0-BC73650B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5580-AC00-4B34-94B3-EB3CD4E9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2BA6C-F337-4F11-9B0C-91B7FF0D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F4A-9942-431F-88DD-FE0BCEF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98277-E255-4E98-9750-C8269BFD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48315-9B52-4059-AD16-CB68854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B4E5F-481C-4801-937F-6727401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ABDE9-78D3-4129-AEDB-293B1DE6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A780B-4D95-449C-AA19-642E9EA5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4195D-0177-4C04-9D42-022C0BC8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3268-43F5-4B06-B6B8-3D4C8D87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D4EC8-B1AF-49E3-8BA3-820134C9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52BB6-4C38-487D-94AA-C608D2A4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3EA6B-EB71-49E8-8B17-D76A3908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5D2B-C9B2-42B5-A6EC-EF9E43B0C696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BDE6-8898-40FA-993E-5111B2510B20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F144-9E25-4408-8EE4-670D0E846AB0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E3D1-FB3A-4A0F-B915-698F58704472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7572-CB8B-411C-AAD6-61240565C3F7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EE73-246C-4749-BD8B-49043004ADD6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CFAB-7CAA-43D9-BF75-1A30118C782C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1987-10F7-4624-8F96-6DE4A5CE34F6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0538-A851-4879-99D3-61AC2A5676A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AAB-E264-4C7F-88EB-0B15A7C0AE62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4815-BA07-4D02-BC18-1FF3668C3801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economía social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genera una distribución de bienestar económico que puede no ser la dese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De acuerdo a una idea de equidad que tengamos como socie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encarga al estado el tomar las medidas que produzcan un proceso redistribu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Por ello es que en una economía social de mercado el estado es quien ha tomado a su cargo la solución de la pobre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dad – Justificaciones y principi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el Utilitarismo Simple (Bienestar social = suma del bienestar de sus miembro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spectiva Rawlsiana (maximin) Maximizar el bienestar del que esté en peor situ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jo: utilidad marginal de la renta decrec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009960" y="3381480"/>
            <a:ext cx="3543120" cy="2322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bienestar que las personas pueden alcanzar no solo depende de sus propias acciones, también depende del medio que las rode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xisten fluctuaciones de carácter macroeconómico que afectan en uno u otro sentido el bienestar de las person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 acción del estado se centra en la mitigación de los problemas macroeconóm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lgunos problemas macroeconómicos: desempleo, inflación, crecimiento volátil, decrecimiento, crisis en la balanza de pagos, et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Recordemos, las razones que dan lugar a la existencia del estado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 Macroeconóm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Fallas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6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000240" cy="380988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y de Propiedad Común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3"/>
          <a:stretch/>
        </p:blipFill>
        <p:spPr>
          <a:xfrm rot="20767200">
            <a:off x="468360" y="256536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"/>
          <p:cNvPicPr/>
          <p:nvPr/>
        </p:nvPicPr>
        <p:blipFill>
          <a:blip r:embed="rId4"/>
          <a:stretch/>
        </p:blipFill>
        <p:spPr>
          <a:xfrm rot="1010400">
            <a:off x="684000" y="220500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 rot="20055600">
            <a:off x="4057560" y="1545840"/>
            <a:ext cx="42595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 de un Bi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ivalidad: el consumo del bien por parte de una persona limita (o anula ) el disfrute del mismo por parte de o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clusión: se puede excluir (mediante un cobro) a una persona del bienestar proporcionado por un bie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lasificación de los Bie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888840" y="2008080"/>
          <a:ext cx="7139160" cy="3229200"/>
        </p:xfrm>
        <a:graphic>
          <a:graphicData uri="http://schemas.openxmlformats.org/drawingml/2006/table">
            <a:tbl>
              <a:tblPr/>
              <a:tblGrid>
                <a:gridCol w="1665360"/>
                <a:gridCol w="755640"/>
                <a:gridCol w="2359080"/>
                <a:gridCol w="2359080"/>
              </a:tblGrid>
              <a:tr h="62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v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lu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Priv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"Club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de Propiedad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No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lasificación de un bien (público/privado) no significa que este vaya a ser necesariamente provisto por los sectores público o privado según sea el ca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La salu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Fuegos Artificiales de fin de 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licancias- Bienes Públ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ivalidad: el consumo por una persona adicional tiene coste cero.  CMg=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debemos consumir la misma cantidad del bien, aunque no todos lo valoremos de la misma mane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Incluso algunos ni siquiera valoraran el bi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xclusión: es muy caro o simplemente es imposible impedir el consumo de alguien que no esta dispuesto a pa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Economía Social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ercado para asignar eficientemente los recursos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nto 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para resolver la equidad en la distribució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fomentar un buen funcionamiento de los merc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y mercado se complementan en busca de maximizar el bienestar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omo estimamos entonces la demanda socia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8360" y="16858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 de los bienes priv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20" name="Group 36"/>
          <p:cNvGrpSpPr/>
          <p:nvPr/>
        </p:nvGrpSpPr>
        <p:grpSpPr>
          <a:xfrm>
            <a:off x="685440" y="2276640"/>
            <a:ext cx="6909480" cy="2306520"/>
            <a:chOff x="685440" y="2276640"/>
            <a:chExt cx="6909480" cy="2306520"/>
          </a:xfrm>
        </p:grpSpPr>
        <p:sp>
          <p:nvSpPr>
            <p:cNvPr id="621" name="Line 5"/>
            <p:cNvSpPr/>
            <p:nvPr/>
          </p:nvSpPr>
          <p:spPr>
            <a:xfrm>
              <a:off x="89856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898560" y="429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7"/>
            <p:cNvSpPr/>
            <p:nvPr/>
          </p:nvSpPr>
          <p:spPr>
            <a:xfrm>
              <a:off x="898560" y="3068280"/>
              <a:ext cx="936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"/>
            <p:cNvSpPr/>
            <p:nvPr/>
          </p:nvSpPr>
          <p:spPr>
            <a:xfrm>
              <a:off x="341964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3419640" y="429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3419640" y="3068280"/>
              <a:ext cx="136836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"/>
            <p:cNvSpPr/>
            <p:nvPr/>
          </p:nvSpPr>
          <p:spPr>
            <a:xfrm>
              <a:off x="572436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2"/>
            <p:cNvSpPr/>
            <p:nvPr/>
          </p:nvSpPr>
          <p:spPr>
            <a:xfrm>
              <a:off x="5724360" y="4292280"/>
              <a:ext cx="17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5724360" y="3068280"/>
              <a:ext cx="158436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4"/>
            <p:cNvSpPr/>
            <p:nvPr/>
          </p:nvSpPr>
          <p:spPr>
            <a:xfrm>
              <a:off x="1621080" y="227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5"/>
            <p:cNvSpPr/>
            <p:nvPr/>
          </p:nvSpPr>
          <p:spPr>
            <a:xfrm>
              <a:off x="4286520" y="227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6"/>
            <p:cNvSpPr/>
            <p:nvPr/>
          </p:nvSpPr>
          <p:spPr>
            <a:xfrm>
              <a:off x="6181560" y="22766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+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7"/>
            <p:cNvSpPr/>
            <p:nvPr/>
          </p:nvSpPr>
          <p:spPr>
            <a:xfrm>
              <a:off x="68544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9"/>
            <p:cNvSpPr/>
            <p:nvPr/>
          </p:nvSpPr>
          <p:spPr>
            <a:xfrm>
              <a:off x="322524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0"/>
            <p:cNvSpPr/>
            <p:nvPr/>
          </p:nvSpPr>
          <p:spPr>
            <a:xfrm>
              <a:off x="550980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1"/>
            <p:cNvSpPr/>
            <p:nvPr/>
          </p:nvSpPr>
          <p:spPr>
            <a:xfrm>
              <a:off x="2504520" y="4235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3"/>
            <p:cNvSpPr/>
            <p:nvPr/>
          </p:nvSpPr>
          <p:spPr>
            <a:xfrm>
              <a:off x="5025600" y="4235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4"/>
            <p:cNvSpPr/>
            <p:nvPr/>
          </p:nvSpPr>
          <p:spPr>
            <a:xfrm>
              <a:off x="7328880" y="4235040"/>
              <a:ext cx="2660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6"/>
            <p:cNvSpPr/>
            <p:nvPr/>
          </p:nvSpPr>
          <p:spPr>
            <a:xfrm>
              <a:off x="900000" y="357336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7"/>
            <p:cNvSpPr/>
            <p:nvPr/>
          </p:nvSpPr>
          <p:spPr>
            <a:xfrm>
              <a:off x="68544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8"/>
            <p:cNvSpPr/>
            <p:nvPr/>
          </p:nvSpPr>
          <p:spPr>
            <a:xfrm>
              <a:off x="133200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9"/>
            <p:cNvSpPr/>
            <p:nvPr/>
          </p:nvSpPr>
          <p:spPr>
            <a:xfrm>
              <a:off x="320796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0"/>
            <p:cNvSpPr/>
            <p:nvPr/>
          </p:nvSpPr>
          <p:spPr>
            <a:xfrm>
              <a:off x="550980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1"/>
            <p:cNvSpPr/>
            <p:nvPr/>
          </p:nvSpPr>
          <p:spPr>
            <a:xfrm>
              <a:off x="406728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32"/>
            <p:cNvSpPr/>
            <p:nvPr/>
          </p:nvSpPr>
          <p:spPr>
            <a:xfrm>
              <a:off x="651672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3"/>
            <p:cNvSpPr/>
            <p:nvPr/>
          </p:nvSpPr>
          <p:spPr>
            <a:xfrm>
              <a:off x="1199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4"/>
            <p:cNvSpPr/>
            <p:nvPr/>
          </p:nvSpPr>
          <p:spPr>
            <a:xfrm>
              <a:off x="3863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5"/>
            <p:cNvSpPr/>
            <p:nvPr/>
          </p:nvSpPr>
          <p:spPr>
            <a:xfrm>
              <a:off x="6311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38"/>
          <p:cNvSpPr/>
          <p:nvPr/>
        </p:nvSpPr>
        <p:spPr>
          <a:xfrm>
            <a:off x="374760" y="4869000"/>
            <a:ext cx="82296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pagamos lo mismo, pero consumimos distintas cantidades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 Demanda Social =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04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 de los bienes públ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746280" y="10098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746280" y="26654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7"/>
          <p:cNvSpPr/>
          <p:nvPr/>
        </p:nvSpPr>
        <p:spPr>
          <a:xfrm>
            <a:off x="746280" y="14414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735120" y="270828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9"/>
          <p:cNvSpPr/>
          <p:nvPr/>
        </p:nvSpPr>
        <p:spPr>
          <a:xfrm>
            <a:off x="735120" y="43639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0"/>
          <p:cNvSpPr/>
          <p:nvPr/>
        </p:nvSpPr>
        <p:spPr>
          <a:xfrm>
            <a:off x="735120" y="3139920"/>
            <a:ext cx="1368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731880" y="465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2"/>
          <p:cNvSpPr/>
          <p:nvPr/>
        </p:nvSpPr>
        <p:spPr>
          <a:xfrm>
            <a:off x="731880" y="6308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3"/>
          <p:cNvSpPr/>
          <p:nvPr/>
        </p:nvSpPr>
        <p:spPr>
          <a:xfrm>
            <a:off x="731880" y="5084640"/>
            <a:ext cx="1584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4"/>
          <p:cNvSpPr/>
          <p:nvPr/>
        </p:nvSpPr>
        <p:spPr>
          <a:xfrm>
            <a:off x="1981440" y="90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5"/>
          <p:cNvSpPr/>
          <p:nvPr/>
        </p:nvSpPr>
        <p:spPr>
          <a:xfrm>
            <a:off x="1981440" y="292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6"/>
          <p:cNvSpPr/>
          <p:nvPr/>
        </p:nvSpPr>
        <p:spPr>
          <a:xfrm>
            <a:off x="1909440" y="45799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7"/>
          <p:cNvSpPr/>
          <p:nvPr/>
        </p:nvSpPr>
        <p:spPr>
          <a:xfrm>
            <a:off x="532800" y="865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8"/>
          <p:cNvSpPr/>
          <p:nvPr/>
        </p:nvSpPr>
        <p:spPr>
          <a:xfrm>
            <a:off x="540720" y="256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9"/>
          <p:cNvSpPr/>
          <p:nvPr/>
        </p:nvSpPr>
        <p:spPr>
          <a:xfrm>
            <a:off x="54072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1"/>
          <p:cNvSpPr/>
          <p:nvPr/>
        </p:nvSpPr>
        <p:spPr>
          <a:xfrm>
            <a:off x="2341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74772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4"/>
          <p:cNvSpPr/>
          <p:nvPr/>
        </p:nvSpPr>
        <p:spPr>
          <a:xfrm>
            <a:off x="973080" y="2637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1179360" y="1946160"/>
            <a:ext cx="7920" cy="436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6"/>
          <p:cNvSpPr/>
          <p:nvPr/>
        </p:nvSpPr>
        <p:spPr>
          <a:xfrm>
            <a:off x="973080" y="4437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7"/>
          <p:cNvSpPr/>
          <p:nvPr/>
        </p:nvSpPr>
        <p:spPr>
          <a:xfrm>
            <a:off x="973080" y="63086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8"/>
          <p:cNvSpPr/>
          <p:nvPr/>
        </p:nvSpPr>
        <p:spPr>
          <a:xfrm>
            <a:off x="1187280" y="35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3"/>
          <p:cNvSpPr/>
          <p:nvPr/>
        </p:nvSpPr>
        <p:spPr>
          <a:xfrm>
            <a:off x="4356000" y="1052640"/>
            <a:ext cx="453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consumimos lo mismo, entonces debemos determinar cuánto vamos a estar dispuestos a pa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 Demanda Social =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no existir exclusión el beneficio social por cada unidad es igual a la suma del beneficio de todos los que lo consu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4"/>
          <p:cNvSpPr/>
          <p:nvPr/>
        </p:nvSpPr>
        <p:spPr>
          <a:xfrm>
            <a:off x="2341080" y="26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5"/>
          <p:cNvSpPr/>
          <p:nvPr/>
        </p:nvSpPr>
        <p:spPr>
          <a:xfrm>
            <a:off x="2360160" y="632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6"/>
          <p:cNvSpPr/>
          <p:nvPr/>
        </p:nvSpPr>
        <p:spPr>
          <a:xfrm>
            <a:off x="75564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7"/>
          <p:cNvSpPr/>
          <p:nvPr/>
        </p:nvSpPr>
        <p:spPr>
          <a:xfrm>
            <a:off x="75564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8"/>
          <p:cNvSpPr/>
          <p:nvPr/>
        </p:nvSpPr>
        <p:spPr>
          <a:xfrm>
            <a:off x="469440" y="18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9"/>
          <p:cNvSpPr/>
          <p:nvPr/>
        </p:nvSpPr>
        <p:spPr>
          <a:xfrm>
            <a:off x="46944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0"/>
          <p:cNvSpPr/>
          <p:nvPr/>
        </p:nvSpPr>
        <p:spPr>
          <a:xfrm>
            <a:off x="4694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bien privado cada persona consume un diferente numero de bienes a un precio dado (suma horizontal de las curvas de demanda individu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MS  =   RMS     =  RM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bien publico cada persona valora distinto una cantidad dada del bien (suma vertical de las curvas de demanda individu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MS  +   RMS     =  RM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1908000" y="2592360"/>
            <a:ext cx="25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                       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m                       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835280" y="424800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                       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m                       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as las características de no exclusión y no rivalida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ánto estarían dispuestos a pagar los consumidor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: Nada, al no existir la posibilidad de exclusión las personas van a esperar que alguien más este dispuesto a pagar para así disfrutar gratis del bi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que se conoce como el problema del free rid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onces el bien no será financiado y no será provisto aunque este sí sea valor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problema es que los consumidores no revelan sus verdaderas preferencias, por lo que no podemos tener las funciones de utilidad y por ende no podemos determinar demanda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l no haber una demanda, tampoco habrá un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demás recordemos al no haber rivalidad el CMg=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, por lo que el precio sería también cero, no obstante la provisión del bien tiene un costo mayor que cer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mercado fracasa en la provisión de este tipo de bienes y el estado asume la función de proveed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ovisión del Bien Públ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gobierno al tener el poder de coerción puede solucionar el problema del free rider (Ej. financiando el bien vía impuest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q de Lindha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da quien paga según el beneficio individual percibi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roblem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terminación de las Preferenc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dición de los costos y benefic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s preferencias de las personas se obtienen a través de las vot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esenta otro tipo de problemas que veremos más adelante en 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ienes donde la exclusión no es factible pero que presentan rivalidad en el consu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de estos bienes es que existe la tendencia a sobre explotarlos generando una asignación ineficiente de recursos (perdemos el papel orientador de los preci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sobre explotación puede significar el agotamiento de los recursos, algo conocido como La Tragedia de los Comu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se asignara un precio se generaría el incentivo económico para hacer un uso racional de dichos bie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problema de precio cero, se asocia a que no existen derechos de propiedad sobre el bi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       …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no pertenecen a nadie, nadie los cuid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 solución ha sido planteada por Coase, y consiste en otorgar derechos de propiedad sobre el uso de los recursos, así el dueño queda capacitado para aplicar la exclus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dueño del bien tiene todos los incentivos para cuidarlo y preocuparse por una explotación eficiente que le permita mantener su riquez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lternativa es que el Estado se haga cargo de la propiedad de dicho bien y así ponga un precio a su consu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 acuícol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rechos de us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o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ermisos trans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Ojo.. Las clasificaciones pueden cambi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5084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os tecnológ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6836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pacidad Instal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89856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898560" y="429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898560" y="3068640"/>
            <a:ext cx="1009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6"/>
          <p:cNvSpPr/>
          <p:nvPr/>
        </p:nvSpPr>
        <p:spPr>
          <a:xfrm>
            <a:off x="1547640" y="2276640"/>
            <a:ext cx="9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ó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68544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2504520" y="423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7"/>
          <p:cNvSpPr/>
          <p:nvPr/>
        </p:nvSpPr>
        <p:spPr>
          <a:xfrm>
            <a:off x="205092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2"/>
          <p:cNvSpPr/>
          <p:nvPr/>
        </p:nvSpPr>
        <p:spPr>
          <a:xfrm>
            <a:off x="1865160" y="430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356220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6"/>
          <p:cNvSpPr/>
          <p:nvPr/>
        </p:nvSpPr>
        <p:spPr>
          <a:xfrm>
            <a:off x="3562200" y="4292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7"/>
          <p:cNvSpPr/>
          <p:nvPr/>
        </p:nvSpPr>
        <p:spPr>
          <a:xfrm>
            <a:off x="3564000" y="2781360"/>
            <a:ext cx="1655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9"/>
          <p:cNvSpPr/>
          <p:nvPr/>
        </p:nvSpPr>
        <p:spPr>
          <a:xfrm>
            <a:off x="334908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0"/>
          <p:cNvSpPr/>
          <p:nvPr/>
        </p:nvSpPr>
        <p:spPr>
          <a:xfrm>
            <a:off x="5168520" y="423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2"/>
          <p:cNvSpPr/>
          <p:nvPr/>
        </p:nvSpPr>
        <p:spPr>
          <a:xfrm>
            <a:off x="471492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3"/>
          <p:cNvSpPr/>
          <p:nvPr/>
        </p:nvSpPr>
        <p:spPr>
          <a:xfrm>
            <a:off x="4529160" y="430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4"/>
          <p:cNvSpPr/>
          <p:nvPr/>
        </p:nvSpPr>
        <p:spPr>
          <a:xfrm>
            <a:off x="4211640" y="225108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ó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5"/>
          <p:cNvSpPr/>
          <p:nvPr/>
        </p:nvSpPr>
        <p:spPr>
          <a:xfrm flipH="1" flipV="1">
            <a:off x="1979280" y="436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6"/>
          <p:cNvSpPr/>
          <p:nvPr/>
        </p:nvSpPr>
        <p:spPr>
          <a:xfrm>
            <a:off x="2340000" y="4508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gestión, no 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7"/>
          <p:cNvSpPr/>
          <p:nvPr/>
        </p:nvSpPr>
        <p:spPr>
          <a:xfrm flipH="1" flipV="1">
            <a:off x="4932000" y="436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8"/>
          <p:cNvSpPr/>
          <p:nvPr/>
        </p:nvSpPr>
        <p:spPr>
          <a:xfrm>
            <a:off x="5292720" y="4508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y congestión, riv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omo interviene el estado en la economí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ción de Bienes y Servi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isión de Bienes y Servi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produc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ol productor del estado ha venido cayendo en el tiemp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piedad mix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proveed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disminución del rol productor el rol de proveedor ha tomado mayor releva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umenta la intervención a través del financiamiento necesario para que el sector privado produz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ducación Subvencio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 de cárce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el estado deba proveer de un bien o servicio no significa necesariamente que también deba producirl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regulad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ol ampliamente utilizado, existen regulaciones en lo económico y en lo leg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egulaciones económicas más comun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/ Subsid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hibicion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uot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jaciones de Prec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egulaciones legales establecen las reglas de juego y los límites bajo los cuales puede funcionar el merc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nstitu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ratados Internacion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ey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glamen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Recordemos, las razones que dan lugar a la existencia del estado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 Macroeconóm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as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interviene en el mercado cuando este no es capaz de hacer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o es cuando existen fallas de merc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públicos y de propiedad comú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ternalidad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allas en la organización de los merc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ercados incomple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imetrías de inform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rcado sin fallas garantiza una asignación eficiente de los recurs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decir óptima en el Sentido de Par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2449440" y="3327480"/>
            <a:ext cx="4824360" cy="309708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009960" y="3381480"/>
            <a:ext cx="3543120" cy="2322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3040200" y="5013360"/>
            <a:ext cx="347652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3708360" y="3395520"/>
            <a:ext cx="0" cy="233856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rc 14"/>
          <p:cNvSpPr/>
          <p:nvPr/>
        </p:nvSpPr>
        <p:spPr>
          <a:xfrm>
            <a:off x="2340000" y="4659480"/>
            <a:ext cx="2125800" cy="154908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16"/>
          <p:cNvSpPr/>
          <p:nvPr/>
        </p:nvSpPr>
        <p:spPr>
          <a:xfrm rot="11009400">
            <a:off x="2873520" y="3698280"/>
            <a:ext cx="2063520" cy="159372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3673440" y="4970520"/>
            <a:ext cx="10944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6481800" y="328464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2841480" y="5703840"/>
            <a:ext cx="3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6692760" y="3298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7"/>
          <p:cNvSpPr/>
          <p:nvPr/>
        </p:nvSpPr>
        <p:spPr>
          <a:xfrm>
            <a:off x="2521080" y="5819760"/>
            <a:ext cx="54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8"/>
          <p:cNvSpPr/>
          <p:nvPr/>
        </p:nvSpPr>
        <p:spPr>
          <a:xfrm>
            <a:off x="2808360" y="3284640"/>
            <a:ext cx="43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9"/>
          <p:cNvSpPr/>
          <p:nvPr/>
        </p:nvSpPr>
        <p:spPr>
          <a:xfrm>
            <a:off x="6481800" y="56754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0"/>
          <p:cNvSpPr/>
          <p:nvPr/>
        </p:nvSpPr>
        <p:spPr>
          <a:xfrm rot="16200000">
            <a:off x="1776600" y="440064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1"/>
          <p:cNvSpPr/>
          <p:nvPr/>
        </p:nvSpPr>
        <p:spPr>
          <a:xfrm>
            <a:off x="3978720" y="578160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2"/>
          <p:cNvSpPr/>
          <p:nvPr/>
        </p:nvSpPr>
        <p:spPr>
          <a:xfrm>
            <a:off x="3705480" y="468936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E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05T16:37:16Z</dcterms:modified>
  <cp:revision>77</cp:revision>
  <dc:subject/>
  <dc:title>Economía del Sector Público</dc:title>
</cp:coreProperties>
</file>