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58BC-2458-453B-982A-9B7D11C19C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3CEB-8BB2-4E93-9B97-09C1B0CE46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E3F-5004-44E8-A894-B8691BBD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57C-C36E-46A2-A9A9-5CF41D98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426F7-8FD1-4469-91AD-2CB6A80E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47A44-1A6D-4DE1-9854-5EAFAC16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67F64-E16F-46FB-B607-CFEBD095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E9FF9-9625-4E53-B65E-567F613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51CE0-2654-43EC-9415-8A06D127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FFF60-D3AF-4008-8697-8A67BC2E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71D8E-CB5C-4937-A556-0939E292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BF6DD-BE65-4EE5-A1DC-BA5F1519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4316D-A5EB-43BD-8EE8-DBFCC72A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652D5-874B-4C40-86C0-37B885F6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C17-00F5-4EAB-9B4B-6B42A94C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E3BE7-8952-4934-85E3-A6A14C17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D0CA2-BE2A-44CF-AB05-75D77A20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9F6B1-9337-4E7A-880F-02E2E558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54D42-1A19-44BC-8189-C105C8DC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1A6AD-AC7D-43AE-9435-4B1DA7A7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A4D2C-BD6F-49C2-85CB-78E92DA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98463-5881-4B3A-B01C-0EBDF914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B9CDA-BF0C-4AEB-A76E-893FA06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B141A-7165-4F92-9A97-647471DD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B3962-316B-43E7-AC5B-DB7F6275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C0B-5879-48A7-885C-59978CDB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84787-FA19-4647-84BE-E9F20BFC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CBEC8-0ECB-41B4-B388-34A75A79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FB299-E725-4B10-BE01-B0AF66AB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C9E33-5418-48C3-BF98-5A6A788B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D6894-4573-45C6-AFB8-95F7BE64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BECE6-5CB8-4245-9F60-3E2652F6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E1957-3042-464C-9F41-5FA38742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56001-B214-403D-A6AB-159F083C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6D3EA-D5AF-4E0D-8A7A-33FF02FD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73B8D-4F1A-4E3A-9DFC-5DC898A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0D2E-0BB9-4161-8302-F5071CB1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A4C1E-2CEC-4FBD-817C-F201115B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9CFA1-280F-4CD3-B788-2C680E16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D5730-C89D-4BD7-8C37-86649D59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6AD32-2E98-4D13-97B2-3D714EA7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9AB92-2B56-41B6-A773-588558F2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6B4A6-67B0-4143-B69E-260F755B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07EA1-6957-4186-A1CD-57EE27D4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55496-4DF6-4794-A4B4-38D3A41E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A6ABF-51BD-4F23-9015-4436AE6D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DA971-E999-4EE2-AD43-7EA7F9FC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94D6-3D06-43CC-93CE-A29B5FD2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C5530-05D3-4CE2-B170-6D15CE5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5D462-4FDE-4BE4-9A9F-3E7A42B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C483B-BB23-4296-9FC8-6F7ACDB4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60741-31D6-4F36-AB20-54C8FBE5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0BA86-327A-4AB1-9E05-5D514095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704D-7F7C-437F-8175-5E6304EC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4CC7-2EB3-4651-AB97-501F2588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64F1-8B8E-4E56-A9FF-CD48AA60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1032-6BF4-4DF6-97E1-04E8BD50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03D2-1557-4F22-94DF-A05094CF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542-CBE9-4EF4-83DC-C917B6C5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C6B8-0F7E-4A16-A92F-5D6CD048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4A81-D42D-4F01-926B-EB61F17B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1F3C-F999-4673-996A-F1D6F726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45CB-9AAB-4A47-BF86-CADF99C9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ED61-45E4-49E1-8AAF-270488CE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7DFE-6FE8-463F-B69D-94A93017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53BD-8C20-4565-BB4F-3124CE0F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315C-A4A8-463A-BD5F-7774AF32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7DE6-65C1-4911-9840-011E0652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7161E-7DDB-4E13-AF06-D676A822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752-6993-4104-B137-A5ABF8DE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F88C-9E8A-4E27-9AD8-E4C68D20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6A6A-347B-493D-AA34-0AE5B42A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E714D-6263-4F77-964E-6D412DC4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98FF-25F2-47E4-9946-5501B3FD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F76C-79B5-40DD-9CA4-2C8CD2C3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A981D-AFDC-4C5E-8B57-A8E16ACC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6F942-F3D2-4FD1-88C7-FB7327BD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53C4-2B00-49DF-BF9F-4CA1A46A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5B21-C3BD-48EC-8A2B-2B0BFD34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AAB5-3DF2-4F66-9605-62BA4971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658-8A28-4673-8415-585077EB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1DB03-5EED-438B-B078-3611C8AE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91F57-CFFA-4C9C-A2AE-983A9401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58E45-911B-4F15-982D-47264B2F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1719-E86F-4BE4-B479-B591D528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1280-58E7-4B7F-AAB6-F9A1E8D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DF298-D004-4178-9EDD-019ED6D4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5754-00D6-476F-9F62-EF226AE3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4DDA-B00D-4D72-A617-58ADA54D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F18AC-EA18-4F8F-B1F1-8B98F173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3957A-15D8-4931-8352-6FF2C18D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6AA-B6DF-4905-8B86-2896EFE9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59A27-0865-403F-8509-032FDDAB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563D7-3726-4800-A8A8-BBD7777E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87A6B-6646-45F8-B378-2FDF14BF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F1B06-7D8F-4E80-A9B6-EE44A6AB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C9BF4-ED00-48A2-B746-95A97C68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42DF6-AAA7-4DFA-A2CD-D645A9DB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8ACE-4E11-4E7C-B164-5BD655D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26378-C66B-4859-830B-497465BD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8E1A7-A770-4BE4-B410-F6A45790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B64C9-E8D7-411E-8642-54BEDD47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9BD-4CE2-436F-873C-FD6DBA4C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2A705-3DB8-4914-9436-BBC3574B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AF5BA-0168-4548-8C19-6F0FB990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CB021-0885-4B7C-8D03-CDAE67E8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44332-C805-49EF-8E46-CA78594A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5D822-E214-40C6-A6EE-D2ACA2D9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EE01A-3FC6-4B80-86A2-6F7B38CE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C068C-FED9-4220-A804-AE6C898F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BB2B8-7F9E-4F1C-9BBA-E2BC55DB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8DC10-7B70-457D-AC50-E9FD0297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E075-6419-4447-911D-F8D2C2F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A2D-8A05-4447-804F-5251F99B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A6418-48DD-4D87-A9D4-928FF635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5E0B9-DA81-4B56-AAF9-BF8CF889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5944A-B15F-45B9-8676-703A81EF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5EC79-10F7-4300-A16C-A762CF06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69DB6-CD72-4489-8EC3-E6971259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C53B4-68DB-454E-87B3-52CC6FC1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AE49B-027F-490E-A721-8614F8BC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6AACF-558B-46A2-A9E6-F8D8E251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A49D4-7262-46A8-96EF-59EC5DE3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6075-D9A0-4FE7-A564-247BAD24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ECC-01BC-41CD-A8F8-6D31734B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E1D32-F58E-468A-B2B9-0F66C40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CF137-0126-4883-A50B-1B56E2A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F72D8-4950-4077-876E-870962D8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F543C-84BC-4DC8-A953-DA00C9E0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25F90-CC52-46D1-BA15-DA6AAF69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1ED41-DF69-40BD-8EC0-EEC34DD0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71E3C-FCF0-41CB-80AE-DE00344B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E4BB3-DEBC-4948-9202-E91DEDC3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E8ABF-86AE-4138-8B88-C998B4B4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07F4A-93C2-4430-9E77-A6825E1A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E07-2676-4070-AC44-1E258182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38381-2827-4CE5-A232-B7516038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6496-FBA0-4963-B506-1F51F795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AA78A-FE9B-40CA-9279-11DFD06E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591AA-8D16-4CF1-AED6-FE24162E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37D6D-B03F-4681-BAFE-01AA5E23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63A1B-0F90-4DC9-A9D6-C8F2635D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9F5B8-9366-421C-86CA-AE3EF75D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22AC0-7211-4D3C-85F0-707FD3B3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0AF6B-E7BE-4FC9-A0E3-D53D651D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9B726-F8CC-4D49-AAAD-7C3EED8D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21CC-4452-4377-BFF6-3C5BAD0D582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8E20-980F-4D98-88A6-65174226694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8381-32C1-42ED-9FF0-71E3BC56B5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6F0B-7F5A-4952-A615-B23A0DDA057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B4B0-2B8D-4B3F-A187-CCDB6636FC9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1C73-BED1-4492-B4D6-B228BF82906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4A46-93FA-44B2-857C-4E16F0D4922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E987-C688-4747-85B9-C12FEC5219A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23E0-AB4D-43CD-9D25-F9E9D98730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B3EC-2AE1-4F75-8C42-4D26D42AED5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1C68-A56B-4B0E-811F-4487507E5C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2DE9-7843-4401-911F-93C62A9061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onstantia"/>
              </a:rPr>
              <a:t>Mercados Competitivo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Precio de equilibri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alor que tiene para la sociedad la última unidad producida = costo que tiene para la sociedad producirl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Si la producción es mayor (menor) que la de equilibrio competitivo, el costo social de producirla es mayor (menor) al beneficio que reporta a la sociedad, y por lo tanto es ineficiente producirla (no producirla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15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337440" cy="40212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y bienestar so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2268360" y="1628640"/>
            <a:ext cx="56185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unto donde se maximiza el excedente social (valoración de última unidad producida es igual a valoración de los bienes y servicios que se pierden por producir esa un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6"/>
          <p:cNvSpPr/>
          <p:nvPr/>
        </p:nvSpPr>
        <p:spPr>
          <a:xfrm flipH="1">
            <a:off x="4500720" y="2492280"/>
            <a:ext cx="35856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competitiv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e minimizan costos (eficiencia produc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e producen los bienes y servicios (en la cantidad y calidad) que la gente valora (eficiencia asigna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chas unidades son consumidas por quienes las valoran más (eficiencia asigna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Eficiencia asigna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4"/>
          <p:cNvSpPr/>
          <p:nvPr/>
        </p:nvSpPr>
        <p:spPr>
          <a:xfrm rot="17833800">
            <a:off x="3242520" y="1236960"/>
            <a:ext cx="326880" cy="3322800"/>
          </a:xfrm>
          <a:custGeom>
            <a:avLst/>
            <a:gdLst>
              <a:gd name="textAreaLeft" fmla="*/ 0 w 326880"/>
              <a:gd name="textAreaRight" fmla="*/ 118080 w 326880"/>
              <a:gd name="textAreaTop" fmla="*/ 86400 h 3322800"/>
              <a:gd name="textAreaBottom" fmla="*/ 3236400 h 332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3200400" y="17845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o aquellos que valoran el bien en más que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o cons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5925600" y="3699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roduce la ca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7"/>
          <p:cNvSpPr/>
          <p:nvPr/>
        </p:nvSpPr>
        <p:spPr>
          <a:xfrm flipH="1">
            <a:off x="5105520" y="411480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Eficiencia produc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5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4"/>
          <p:cNvSpPr/>
          <p:nvPr/>
        </p:nvSpPr>
        <p:spPr>
          <a:xfrm>
            <a:off x="6399000" y="251460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5"/>
          <p:cNvSpPr/>
          <p:nvPr/>
        </p:nvSpPr>
        <p:spPr>
          <a:xfrm flipV="1">
            <a:off x="1600200" y="2133720"/>
            <a:ext cx="37339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6"/>
          <p:cNvSpPr/>
          <p:nvPr/>
        </p:nvSpPr>
        <p:spPr>
          <a:xfrm>
            <a:off x="5331600" y="1752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7"/>
          <p:cNvSpPr/>
          <p:nvPr/>
        </p:nvSpPr>
        <p:spPr>
          <a:xfrm flipH="1">
            <a:off x="1600200" y="3505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8"/>
          <p:cNvSpPr/>
          <p:nvPr/>
        </p:nvSpPr>
        <p:spPr>
          <a:xfrm>
            <a:off x="1079640" y="3276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9"/>
          <p:cNvSpPr/>
          <p:nvPr/>
        </p:nvSpPr>
        <p:spPr>
          <a:xfrm>
            <a:off x="3594240" y="5715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0"/>
          <p:cNvSpPr/>
          <p:nvPr/>
        </p:nvSpPr>
        <p:spPr>
          <a:xfrm>
            <a:off x="3886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1"/>
          <p:cNvSpPr/>
          <p:nvPr/>
        </p:nvSpPr>
        <p:spPr>
          <a:xfrm>
            <a:off x="6076080" y="3622680"/>
            <a:ext cx="29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encia garant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2"/>
          <p:cNvSpPr/>
          <p:nvPr/>
        </p:nvSpPr>
        <p:spPr>
          <a:xfrm flipH="1">
            <a:off x="525744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4617b"/>
                </a:solidFill>
                <a:latin typeface="Calibri"/>
              </a:rPr>
              <a:t>Efectos de un precio/cantidad diferentes al equilibrio (precio mínimo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Line 3"/>
          <p:cNvSpPr/>
          <p:nvPr/>
        </p:nvSpPr>
        <p:spPr>
          <a:xfrm>
            <a:off x="825480" y="1538280"/>
            <a:ext cx="0" cy="268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4"/>
          <p:cNvSpPr/>
          <p:nvPr/>
        </p:nvSpPr>
        <p:spPr>
          <a:xfrm>
            <a:off x="825480" y="4227480"/>
            <a:ext cx="4516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521352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396720" y="148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610920" y="42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8"/>
          <p:cNvSpPr/>
          <p:nvPr/>
        </p:nvSpPr>
        <p:spPr>
          <a:xfrm>
            <a:off x="825480" y="1914480"/>
            <a:ext cx="4194360" cy="20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9"/>
          <p:cNvSpPr/>
          <p:nvPr/>
        </p:nvSpPr>
        <p:spPr>
          <a:xfrm flipV="1">
            <a:off x="825480" y="2290680"/>
            <a:ext cx="3710160" cy="19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0"/>
          <p:cNvSpPr/>
          <p:nvPr/>
        </p:nvSpPr>
        <p:spPr>
          <a:xfrm>
            <a:off x="3137040" y="304308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1"/>
          <p:cNvSpPr/>
          <p:nvPr/>
        </p:nvSpPr>
        <p:spPr>
          <a:xfrm>
            <a:off x="2973600" y="4255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2"/>
          <p:cNvSpPr/>
          <p:nvPr/>
        </p:nvSpPr>
        <p:spPr>
          <a:xfrm flipH="1">
            <a:off x="825120" y="3043080"/>
            <a:ext cx="2311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460440" y="285588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4214880" y="19684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=C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 flipH="1">
            <a:off x="825120" y="2664000"/>
            <a:ext cx="29098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459000" y="250668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2233800" y="42274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411280" y="2666880"/>
            <a:ext cx="0" cy="156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1"/>
          <p:cNvSpPr/>
          <p:nvPr/>
        </p:nvSpPr>
        <p:spPr>
          <a:xfrm>
            <a:off x="4573800" y="3716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536920" y="45975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447840" y="27237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24360" y="1452600"/>
            <a:ext cx="3168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fecto Producto: Menor al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fecto Redistributivo: Productores se apropian de parte del excedente del consumidor; área 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b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de eficiencia: pérdida social neta equivalente al triángulo 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20920" y="2357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22360" y="2862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93640" y="3294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384280" y="2724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95280" y="4869000"/>
            <a:ext cx="8424720" cy="17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umidor solo va a estar dispuesto a consumir hasta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; consumir más le reportaría una pérdida neta en su bienestar (P&gt;Benefi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precio 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oferente va a estar dispuesto a vender la cantidad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pero no hay nadie que le com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l mercado laboral la distancia entre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conoce como des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20"/>
          <p:cNvSpPr/>
          <p:nvPr/>
        </p:nvSpPr>
        <p:spPr>
          <a:xfrm>
            <a:off x="3708360" y="2666880"/>
            <a:ext cx="0" cy="156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3570480" y="4221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n resum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economía competitiva genera asignaciones eficientes en el sentido de Pareto (Nadie puede mejorar sin perjudicar a otr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conomía competitiva maximiza la eficiencia productiva (permite tener la más grande posible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equiere de intervención pública algu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recios orientan las asignaciones, haciendo que los recursos sean utilizados de la mejor manera posi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Intercambio Pur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aginémonos una economía simple formada por dos individuos Juan y Ana, que consumen dos bienes ( h, m) cuya oferta es fija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mo habrían de distribuirse estos bi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aja de Edgeworth refleja la distribución de los bienes h y m entre nuestros dos individu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Object 2"/>
          <p:cNvGraphicFramePr/>
          <p:nvPr/>
        </p:nvGraphicFramePr>
        <p:xfrm>
          <a:off x="7151760" y="1844640"/>
          <a:ext cx="22860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51760" y="1844640"/>
                    <a:ext cx="228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Rectangle 3"/>
          <p:cNvSpPr/>
          <p:nvPr/>
        </p:nvSpPr>
        <p:spPr>
          <a:xfrm>
            <a:off x="1258920" y="1052640"/>
            <a:ext cx="6372360" cy="518472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2340000" y="1917720"/>
            <a:ext cx="4680000" cy="38876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5219280" y="4791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6"/>
          <p:cNvSpPr/>
          <p:nvPr/>
        </p:nvSpPr>
        <p:spPr>
          <a:xfrm>
            <a:off x="2340000" y="5157720"/>
            <a:ext cx="287964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7"/>
          <p:cNvSpPr/>
          <p:nvPr/>
        </p:nvSpPr>
        <p:spPr>
          <a:xfrm>
            <a:off x="5219640" y="5229360"/>
            <a:ext cx="0" cy="57600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5219640" y="5157720"/>
            <a:ext cx="1800360" cy="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5219640" y="1917720"/>
            <a:ext cx="0" cy="331164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0"/>
          <p:cNvSpPr/>
          <p:nvPr/>
        </p:nvSpPr>
        <p:spPr>
          <a:xfrm>
            <a:off x="5148360" y="50864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 rot="16200000">
            <a:off x="670680" y="3726000"/>
            <a:ext cx="26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2"/>
          <p:cNvSpPr/>
          <p:nvPr/>
        </p:nvSpPr>
        <p:spPr>
          <a:xfrm>
            <a:off x="324360" y="160200"/>
            <a:ext cx="41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Arial"/>
              </a:rPr>
              <a:t>La 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3"/>
          <p:cNvSpPr/>
          <p:nvPr/>
        </p:nvSpPr>
        <p:spPr>
          <a:xfrm>
            <a:off x="3349440" y="5877000"/>
            <a:ext cx="27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s de m en el añ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4"/>
          <p:cNvSpPr/>
          <p:nvPr/>
        </p:nvSpPr>
        <p:spPr>
          <a:xfrm>
            <a:off x="1477800" y="5805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5"/>
          <p:cNvSpPr/>
          <p:nvPr/>
        </p:nvSpPr>
        <p:spPr>
          <a:xfrm>
            <a:off x="7053120" y="134136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6"/>
          <p:cNvSpPr/>
          <p:nvPr/>
        </p:nvSpPr>
        <p:spPr>
          <a:xfrm>
            <a:off x="2053440" y="5756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7"/>
          <p:cNvSpPr/>
          <p:nvPr/>
        </p:nvSpPr>
        <p:spPr>
          <a:xfrm>
            <a:off x="6948360" y="1628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8"/>
          <p:cNvSpPr/>
          <p:nvPr/>
        </p:nvSpPr>
        <p:spPr>
          <a:xfrm>
            <a:off x="2126160" y="16527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9"/>
          <p:cNvSpPr/>
          <p:nvPr/>
        </p:nvSpPr>
        <p:spPr>
          <a:xfrm>
            <a:off x="6951600" y="5684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 – s es la cantidad total del bien m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 – r es la cantidad total del bien h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cantidades consumidas por Juan se miden desde el punto O y las de Ana desde el punto 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aja contiene todas las distribuciones posibles de m y h entre Juan y 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deremos ahora las curvas de indi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Problema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 el uso eficaz de los recursos limitados para satisfacer las aspiraciones ilimitadas de la socieda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539640" y="3645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¿Podemos maximizar en bienestar soci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¿Cómo asignamos estos recursos limitad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2736720" y="1413000"/>
            <a:ext cx="6372360" cy="518472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708360" y="1989000"/>
            <a:ext cx="4680000" cy="388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4"/>
          <p:cNvSpPr/>
          <p:nvPr/>
        </p:nvSpPr>
        <p:spPr>
          <a:xfrm>
            <a:off x="665928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"/>
          <p:cNvSpPr/>
          <p:nvPr/>
        </p:nvSpPr>
        <p:spPr>
          <a:xfrm>
            <a:off x="3708360" y="5300640"/>
            <a:ext cx="287964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6"/>
          <p:cNvSpPr/>
          <p:nvPr/>
        </p:nvSpPr>
        <p:spPr>
          <a:xfrm>
            <a:off x="6588000" y="5300640"/>
            <a:ext cx="0" cy="57636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7"/>
          <p:cNvSpPr/>
          <p:nvPr/>
        </p:nvSpPr>
        <p:spPr>
          <a:xfrm>
            <a:off x="6588000" y="5300640"/>
            <a:ext cx="1800360" cy="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8"/>
          <p:cNvSpPr/>
          <p:nvPr/>
        </p:nvSpPr>
        <p:spPr>
          <a:xfrm>
            <a:off x="6588000" y="1989000"/>
            <a:ext cx="0" cy="331164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9"/>
          <p:cNvSpPr/>
          <p:nvPr/>
        </p:nvSpPr>
        <p:spPr>
          <a:xfrm>
            <a:off x="6516720" y="522936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rc 10"/>
          <p:cNvSpPr/>
          <p:nvPr/>
        </p:nvSpPr>
        <p:spPr>
          <a:xfrm>
            <a:off x="5435640" y="213372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rc 11"/>
          <p:cNvSpPr/>
          <p:nvPr/>
        </p:nvSpPr>
        <p:spPr>
          <a:xfrm>
            <a:off x="5076720" y="2421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rc 12"/>
          <p:cNvSpPr/>
          <p:nvPr/>
        </p:nvSpPr>
        <p:spPr>
          <a:xfrm>
            <a:off x="4643280" y="278136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rc 13"/>
          <p:cNvSpPr/>
          <p:nvPr/>
        </p:nvSpPr>
        <p:spPr>
          <a:xfrm>
            <a:off x="4284720" y="306864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rc 14"/>
          <p:cNvSpPr/>
          <p:nvPr/>
        </p:nvSpPr>
        <p:spPr>
          <a:xfrm>
            <a:off x="3851280" y="3429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rc 15"/>
          <p:cNvSpPr/>
          <p:nvPr/>
        </p:nvSpPr>
        <p:spPr>
          <a:xfrm rot="11009400">
            <a:off x="3780000" y="2997000"/>
            <a:ext cx="280800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rc 16"/>
          <p:cNvSpPr/>
          <p:nvPr/>
        </p:nvSpPr>
        <p:spPr>
          <a:xfrm rot="11009400">
            <a:off x="3995280" y="2852280"/>
            <a:ext cx="280836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rc 17"/>
          <p:cNvSpPr/>
          <p:nvPr/>
        </p:nvSpPr>
        <p:spPr>
          <a:xfrm rot="11009400">
            <a:off x="4355640" y="2707920"/>
            <a:ext cx="280836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rc 18"/>
          <p:cNvSpPr/>
          <p:nvPr/>
        </p:nvSpPr>
        <p:spPr>
          <a:xfrm rot="11009400">
            <a:off x="4500720" y="2349000"/>
            <a:ext cx="280800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rc 19"/>
          <p:cNvSpPr/>
          <p:nvPr/>
        </p:nvSpPr>
        <p:spPr>
          <a:xfrm>
            <a:off x="3564000" y="3645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0"/>
          <p:cNvSpPr/>
          <p:nvPr/>
        </p:nvSpPr>
        <p:spPr>
          <a:xfrm>
            <a:off x="4284720" y="3284640"/>
            <a:ext cx="2663640" cy="237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1"/>
          <p:cNvSpPr/>
          <p:nvPr/>
        </p:nvSpPr>
        <p:spPr>
          <a:xfrm>
            <a:off x="5364000" y="4221000"/>
            <a:ext cx="1447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2"/>
          <p:cNvSpPr/>
          <p:nvPr/>
        </p:nvSpPr>
        <p:spPr>
          <a:xfrm>
            <a:off x="250920" y="1341360"/>
            <a:ext cx="216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na economía donde hay mercados para “todo”, donde no existen costos de transacción y todo el mundo es un tomador de precios con información perfecta genera una asignación eficiente de recursos en el sentido de Par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23"/>
          <p:cNvGrpSpPr/>
          <p:nvPr/>
        </p:nvGrpSpPr>
        <p:grpSpPr>
          <a:xfrm>
            <a:off x="2843280" y="1413000"/>
            <a:ext cx="6265800" cy="4969440"/>
            <a:chOff x="2843280" y="1413000"/>
            <a:chExt cx="6265800" cy="4969440"/>
          </a:xfrm>
        </p:grpSpPr>
        <p:sp>
          <p:nvSpPr>
            <p:cNvPr id="809" name="Rectangle 24"/>
            <p:cNvSpPr/>
            <p:nvPr/>
          </p:nvSpPr>
          <p:spPr>
            <a:xfrm>
              <a:off x="8388360" y="17017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O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5"/>
            <p:cNvSpPr/>
            <p:nvPr/>
          </p:nvSpPr>
          <p:spPr>
            <a:xfrm>
              <a:off x="3419640" y="582912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26"/>
            <p:cNvSpPr/>
            <p:nvPr/>
          </p:nvSpPr>
          <p:spPr>
            <a:xfrm>
              <a:off x="8532720" y="1413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7"/>
            <p:cNvSpPr/>
            <p:nvPr/>
          </p:nvSpPr>
          <p:spPr>
            <a:xfrm>
              <a:off x="2843280" y="604512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Ju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28"/>
            <p:cNvSpPr/>
            <p:nvPr/>
          </p:nvSpPr>
          <p:spPr>
            <a:xfrm>
              <a:off x="3564000" y="170172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29"/>
            <p:cNvSpPr/>
            <p:nvPr/>
          </p:nvSpPr>
          <p:spPr>
            <a:xfrm>
              <a:off x="8388360" y="587844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30"/>
            <p:cNvSpPr/>
            <p:nvPr/>
          </p:nvSpPr>
          <p:spPr>
            <a:xfrm rot="16200000">
              <a:off x="2207160" y="373104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Existencias de h en el año 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31"/>
            <p:cNvSpPr/>
            <p:nvPr/>
          </p:nvSpPr>
          <p:spPr>
            <a:xfrm>
              <a:off x="4568400" y="587844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Existencias de h en el año 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Text Box 32"/>
          <p:cNvSpPr/>
          <p:nvPr/>
        </p:nvSpPr>
        <p:spPr>
          <a:xfrm>
            <a:off x="5455800" y="4005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8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9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2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3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signación como en el punto E’ e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ficiente en el sentido de Pare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a que no es posible mejorar la situación de uno sin empeorar la situación del ot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signación no eficiente en el sentido de Pareto se considera “despilfarradora” ya que se podría mejorar la situación de uno sin dañar al ot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 en el sentido de Pareto: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asignación de recursos que implica un aumento en el bienestar de una persona sin perjudicar a o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Entonces,</a:t>
            </a:r>
            <a:br>
              <a:rPr sz="4600"/>
            </a:b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¿Porque existe el estado?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4617b"/>
                </a:solidFill>
                <a:latin typeface="Times New Roman"/>
              </a:rPr>
              <a:t>Racionalidad económica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tulado básico de teoría económica: agentes económicos actúan racionalmente, realizando acciones consistentes con el mejor logro de sus obje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jetivos varían según tipo de agent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sonas y hogares optimizan bienestar (utilida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mpresas optimizan gananci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rganizaciones sin fines de lucro tienen objetivos propios: aliviar  pobreza; desarrollo comunitario; medio ambiente limpio; 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licable a nivel de grupos o agregados; a nivel individual siempre puede haber comportamientos irracion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rcados competi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irmas y consumidores son tomadoras de pre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personas maximizan su bienestar cundo consumen a un nivel tal que el beneficio marginal es igual al precio del b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 firma maximiza sus beneficios cuando produce una cantidad tal que el costo marginal de  es igual al precio del b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560" y="333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Demand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1600200" y="2362320"/>
            <a:ext cx="2286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2971800" y="4267080"/>
            <a:ext cx="2286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743200" y="3962520"/>
            <a:ext cx="2286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9"/>
          <p:cNvSpPr/>
          <p:nvPr/>
        </p:nvSpPr>
        <p:spPr>
          <a:xfrm>
            <a:off x="2514600" y="3657600"/>
            <a:ext cx="22860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0"/>
          <p:cNvSpPr/>
          <p:nvPr/>
        </p:nvSpPr>
        <p:spPr>
          <a:xfrm>
            <a:off x="2286000" y="3429000"/>
            <a:ext cx="228600" cy="22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2057400" y="3048120"/>
            <a:ext cx="22860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1828800" y="2743200"/>
            <a:ext cx="22860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3200400" y="4572000"/>
            <a:ext cx="228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4"/>
          <p:cNvSpPr/>
          <p:nvPr/>
        </p:nvSpPr>
        <p:spPr>
          <a:xfrm>
            <a:off x="3429000" y="4876920"/>
            <a:ext cx="2286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3657600" y="5105520"/>
            <a:ext cx="228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3886200" y="541008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916200" y="2590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2987640" y="184464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y individuos para quienes el beneficio marginal es 500; están dispuestos a pagar hasta $500 por consumi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0"/>
          <p:cNvSpPr/>
          <p:nvPr/>
        </p:nvSpPr>
        <p:spPr>
          <a:xfrm flipH="1">
            <a:off x="2133720" y="259092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916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2"/>
          <p:cNvSpPr/>
          <p:nvPr/>
        </p:nvSpPr>
        <p:spPr>
          <a:xfrm flipH="1">
            <a:off x="3048120" y="365760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3"/>
          <p:cNvSpPr/>
          <p:nvPr/>
        </p:nvSpPr>
        <p:spPr>
          <a:xfrm>
            <a:off x="1160640" y="545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5"/>
          <p:cNvSpPr/>
          <p:nvPr/>
        </p:nvSpPr>
        <p:spPr>
          <a:xfrm>
            <a:off x="3494520" y="3325680"/>
            <a:ext cx="442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y otros cuyo beneficio es 3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no están dispuestos a pagar más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300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240" y="404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Dema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Curva de demanda describe la cantidad que consumidores querrían comprar para distintos precios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a demanda de la industria es la suma de las demandas individuales, satisface la condición de que el beneficio marginal de cada consumidor sea igual al preci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Refleja las preferencias de los consumidores (valor que se le da al bien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Generalmente tiene pendiente negativ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Utilidad marginal decreciente: Los individuos valoran unidades adicionales del mismo bien en forma decreci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Costos (Ofert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2514600" y="4267080"/>
            <a:ext cx="2286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2743200" y="3962520"/>
            <a:ext cx="2286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2971800" y="3657600"/>
            <a:ext cx="22860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3200400" y="3429000"/>
            <a:ext cx="228600" cy="22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3429000" y="3048120"/>
            <a:ext cx="22860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1"/>
          <p:cNvSpPr/>
          <p:nvPr/>
        </p:nvSpPr>
        <p:spPr>
          <a:xfrm>
            <a:off x="2286000" y="4572000"/>
            <a:ext cx="228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2"/>
          <p:cNvSpPr/>
          <p:nvPr/>
        </p:nvSpPr>
        <p:spPr>
          <a:xfrm>
            <a:off x="2057400" y="4876920"/>
            <a:ext cx="2286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3"/>
          <p:cNvSpPr/>
          <p:nvPr/>
        </p:nvSpPr>
        <p:spPr>
          <a:xfrm>
            <a:off x="1828800" y="5105520"/>
            <a:ext cx="228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4"/>
          <p:cNvSpPr/>
          <p:nvPr/>
        </p:nvSpPr>
        <p:spPr>
          <a:xfrm>
            <a:off x="1600200" y="541008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916200" y="2590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7"/>
          <p:cNvSpPr/>
          <p:nvPr/>
        </p:nvSpPr>
        <p:spPr>
          <a:xfrm>
            <a:off x="3021840" y="230040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de producir las primeras 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8"/>
          <p:cNvSpPr/>
          <p:nvPr/>
        </p:nvSpPr>
        <p:spPr>
          <a:xfrm flipH="1">
            <a:off x="1904760" y="2590920"/>
            <a:ext cx="99036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916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0"/>
          <p:cNvSpPr/>
          <p:nvPr/>
        </p:nvSpPr>
        <p:spPr>
          <a:xfrm>
            <a:off x="1160640" y="545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1"/>
          <p:cNvSpPr/>
          <p:nvPr/>
        </p:nvSpPr>
        <p:spPr>
          <a:xfrm flipV="1">
            <a:off x="3809880" y="3733560"/>
            <a:ext cx="381240" cy="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4249440" y="3325680"/>
            <a:ext cx="43761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de producir 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icionales generalmente va en au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La excepción son los monopolios natur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Costos (Ofert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Curva de oferta representa cantidad que productores desean vender a distintos precio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oferta de la industria, es la suma de las ofertas individuales, satisface la condición que el costo marginal de cada empresa sea igual al preci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¿Que es un costo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s el valor de los recursos utilizados en proveer el bien o servic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Por valor se entiende lo que las personas (en la sociedad) valoran los bienes y servicios que podrían haberse producido si esos recursos no se hubieran destinado a esa industria (al final dependen de las preferencias): Costo de Oport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y bienestar so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2052360" y="198108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manda (valor social de las unida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1600200" y="2819160"/>
            <a:ext cx="556272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3576600" y="51814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marginal (costo de oportun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 flipH="1" flipV="1">
            <a:off x="3581280" y="48769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 flipH="1">
            <a:off x="3276360" y="2438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76392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763200" y="5410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1600200" y="2514600"/>
            <a:ext cx="152280" cy="3200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1600200" y="5638680"/>
            <a:ext cx="152280" cy="76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18"/>
          <p:cNvSpPr/>
          <p:nvPr/>
        </p:nvSpPr>
        <p:spPr>
          <a:xfrm>
            <a:off x="1905120" y="2819520"/>
            <a:ext cx="75960" cy="2514600"/>
          </a:xfrm>
          <a:custGeom>
            <a:avLst/>
            <a:gdLst>
              <a:gd name="textAreaLeft" fmla="*/ 0 w 75960"/>
              <a:gd name="textAreaRight" fmla="*/ 27360 w 759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2129400" y="3657600"/>
            <a:ext cx="381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nancia ne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producir la primera 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3-30T13:34:30Z</dcterms:modified>
  <cp:revision>76</cp:revision>
  <dc:subject/>
  <dc:title>Economía del Sector Público</dc:title>
</cp:coreProperties>
</file>