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wmf" ContentType="image/x-wmf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B802A-F4EE-426A-B654-DDCE04DBED5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631E-24F2-4B9D-8777-C7EA94029C4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8AD9-F9D8-405B-862B-A1C493EA0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841E-DD20-4DB4-8183-356B12FA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30F462-8ADB-44E3-BA79-88E1C422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08E0DF-D5DE-4BEB-BF2F-7FA9A3F4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F8A732-780C-4D08-853B-AE44F6E88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1CC108-41D3-4C01-B72A-BAE1FD8C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E7F84C-6EED-4A43-812A-2E7EE475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87427-7A72-4C48-B047-BB60F3EB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E7789-2112-45BB-9007-499E62FB7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C6129-0F05-4C29-8209-1F2200F23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459E7-0E1E-4BB8-B47F-789A0210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39C20A-BFBA-454C-A934-FC29F78CB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CBD1-3356-42BE-9F23-FA56068C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742C83-6BEF-49CD-8FD3-111071B5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E6D066-6052-47B4-A728-05EB6D87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1564E5-6833-4D61-9867-1CAEA880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CA5247-F45A-42B9-B594-41FFDB5C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1C0921-B18F-44C3-8D78-C94DA1FC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B377A7-A23B-4C37-ACF5-09E3D4C1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6302C1-7370-4DF0-B237-C1578F67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D41556-F0FC-44FD-B544-2DA29B2E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41DCC9-C0F1-4341-B54E-594CCC1E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89F1C-5EE9-4C2C-AFF7-46C8592A6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54D0-35A8-446F-BE7C-C798C382D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8F32C4-C48C-407F-B84E-BB486446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E8A784-950C-416B-9CF4-5D1E261D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B2C2C-B1BC-45FF-BC57-1CAA9C936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C93FF-240D-4E80-93E0-9F7BBDE2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3144FC-A335-4088-BD13-CA1E224F0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ADEF6C-292B-47D7-95D0-0AA04901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ECDA37-97A4-4460-90C5-B111E474C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B23E1D-2405-4D8E-989A-D21F7E6A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A7CB00-7D03-4A78-B162-138EF301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6ED80-A533-4C57-ABE9-1AEBA8A9F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3A150-4051-445D-8DBE-CEF69EC7A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AEC14-CCFC-4447-9E67-D5904067F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94E837-3696-4EF0-862E-852822C09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BBBB07-B1B0-4232-A334-C8F09774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999971-72BB-42EE-B52A-2AE3EAC69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945D1E-95AA-4D24-A195-9B8E7080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35B7D9-08EE-4D08-A917-5C91CC66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D5A3B2-6FC9-45A4-B707-8BE539726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0FA2E-624C-4465-AA78-F68F1D7E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587828-2ED7-458B-8B49-927C7D364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F184FD-FACD-4E17-8C0D-4BDE649B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82F52-9718-4655-9A22-CDD4A8CD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94C7D5-54C3-4ED1-B713-84363BFF1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BEF580-EA99-490D-9636-97F8D4D1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7E2ED1-61C8-4523-A10D-AF86F4DA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BC9788-B270-4ABC-BCA4-8BFC76FD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3FD4FB-8F26-4AF5-97EF-FBB862F43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65298-33B6-4C20-AAA2-013D6F45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DFE-913D-4BDE-B112-4E66084ED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ED6F3-034B-4150-B934-E21294D21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A0F4-12CF-4465-A4B1-44E3D3EAE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6EDC-3BB1-4F66-A91B-ABE0F69C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A91-D180-4488-8AE0-7E73BEE9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7C00-6666-453A-AF41-323ADAA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5E77-C6B9-4C2F-BE11-F8DBE19C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B2D4-A084-4142-A0AC-6AB52994D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E22D6-4E4A-4E1F-B19A-A022814D4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9FA4-5BF3-40C4-BB91-21CC9772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68B23-4BC2-419F-8E28-B1D90EC2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B88B-2DFB-4920-8532-4EEA0317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2623-026B-4CF0-BABE-65FEECB8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A4BD0-17C8-4449-AC65-1825B3CBC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15FEF-E45C-4DB2-990D-FF3443A0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7AEF-4434-454D-802B-D96A2BD52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A7534-69F7-4A6B-B691-E2F978BB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E9EA7-B28E-4EDB-81B4-29BEE154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66C87D-ADC7-4961-81DB-1E80B824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D6C9F-A5BD-4D20-A217-3CA56ACD3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16B14-214E-44B0-A638-87BD5200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A0852-DA78-4820-9F81-318B9D83A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A66C7-C55B-426F-B876-165F7C73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78241-9D61-42E6-B78C-9D8FEE236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289EE-2C91-498A-83B7-B7F4FC6D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8CE155-F298-47DB-9C83-0B8E5426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6917-DB3E-4827-ADC2-EB07AA517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9C9D51-ACDE-43E4-AD6F-FAE5CE135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FE39-8DB5-4413-BE2C-13BD1034C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8BD1-9858-4D68-88B3-E810ACE6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F6157-EA05-46C1-8D57-FE9FA60F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5C18F-C72F-4ADD-B015-8EC92C65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97387-801E-4CE0-A463-1A0078EAA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E5028-DF86-4FAE-A1F0-7959E7C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5573A-FF3E-4C28-B6BE-84914E15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EC0081-81CB-4DF6-A620-6221080D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34BD-B4D9-43F3-82F0-CB4C8EC8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62F-60D8-46A5-B92A-AB4B0EDDC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473B8E-50F0-4933-9721-741C0380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4C7638-F985-4F8F-A4A1-A233A194C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4F86-FD80-4320-BB4F-26972626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4DCE7-7F75-4752-9F5B-947EE3086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CBFCE-0D7E-4271-8512-62C45850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7AC7E-5F6A-41F7-95A0-34E6BDE8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D94B4-0927-4B2F-841D-03801FB8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662955-D2E5-4607-8DA5-F082EA3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B3463-EEE5-44B1-B83E-8C88C9A76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E6722-7E4D-42D6-ADCC-39601CBFD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2FEE-2D69-4EA4-AECE-1AA99B4E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CABC6-C0B7-4607-A4FD-0414F15CF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62EA9-DE3A-485E-B422-71428B72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3928-FAB0-460B-950F-B64A3F9D6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960F3-21DB-495F-9F12-623168103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E9E66-B467-42A8-BDC2-34ABEE8F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B8E4C-FD1C-412E-90AC-4DEFC6BCB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C7A9A-F373-4327-93E7-033F841E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819AE-A5B8-4506-BD4A-744F76BE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78883-EFC2-414A-9B65-D9CDC522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3490A-A146-45B2-BE55-EAE90C63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3B78-1EC2-4EA0-AD9E-6DE75AE89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765A2-19F5-4305-8943-74B99A266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78D4BC-EC7C-482B-96FF-98A8A28A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E0CF95-C2DB-42CC-8B95-FC4E4CA9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0134C8-BF12-4EC3-8196-473975C42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A4074-4286-4A4F-80CF-E88AE93FC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A937A0-91F9-4771-BA4E-9674F681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18814-B9DE-4C1F-8E93-50BCA6931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71C380-B149-4473-AFE3-0739B86C6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37A683-1920-48D5-A344-6B46C374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CB5AC0-09D0-4986-BEF9-506A6B97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4EAC-3705-4523-BB0B-32184B7E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4CD4B-52B9-4136-B73E-BA19371E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BF8D6-545B-4EA0-B588-6E4B753A4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EAC289-F24B-4AA5-B079-6E12EC12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2C8B9-4CA4-453D-AC70-4598DC0A9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C0EDF-3829-4304-A465-16BE14801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44310-CA19-4B43-90CB-DFDA876F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4F9196-2EA0-4208-93E1-F88760A75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0E93E-B65D-4F6D-A288-7F34A9245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2704C2-BB4D-4964-B29B-B7383655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4C144-AF07-41EF-918E-BFF5EE317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43A1-BA04-44EC-B5FB-4F1F3F8C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9484-E9CC-455A-8408-3ED1E35A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08ABC7-75B2-46E6-9995-1E26CC75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B24C36-ED96-46F9-A5F3-AFADEB96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19D8E-C31E-499C-B2F2-36622ECE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9E09A-C5CF-41E3-B12B-B7A30C14B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BD1F1C-2910-4241-B000-B43547C4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5B576-9AB7-40A0-8801-2815F434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1C3566-D6CD-4DA0-B31C-3ABB9466D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DBE1E-15ED-4295-BDAB-526BD369E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47C8B4-3A03-45BA-B682-5D792CB2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D983-B1D8-4ADA-A75B-51BBCF91A1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6219-1B87-47C7-B19A-A7B4EB4DF97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1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8062-5177-4AEA-8363-17DCD1C26F5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6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6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EA8F0-E5AD-44AA-9F2A-CA5D5507B59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E63E-3366-4227-B441-349CB0C36802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A4C7-5695-43EE-9109-0529C5DBD7D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3D055-F052-42FA-AB47-69C68300981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1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F57EC-BEB2-4E01-A67C-EA6AE32E53A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0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61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3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4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6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71B7-A713-4318-94C4-E0C5172379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11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12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4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5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7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2252D-701E-4F33-B2F4-D75B6EFE1A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2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3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6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8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1702-4C6E-4CCE-A9F6-BBF9492070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1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A5EA-3591-4C91-9F5F-C89689F0F09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ff"/>
                </a:solidFill>
                <a:latin typeface="Constantia"/>
              </a:rPr>
              <a:t>Mercados Competitivos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Precio de equilibrio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valor que tiene para la sociedad la última unidad producida = costo que tiene para la sociedad producirl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Constantia"/>
              </a:rPr>
              <a:t>Si la producción es mayor (menor) que la de equilibrio competitivo, el costo social de producirla es mayor (menor) al beneficio que reporta a la sociedad, y por lo tanto es ineficiente producirla (no producirla</a:t>
            </a: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6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6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15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6337440" cy="40212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Text Box 12"/>
          <p:cNvSpPr/>
          <p:nvPr/>
        </p:nvSpPr>
        <p:spPr>
          <a:xfrm>
            <a:off x="2268360" y="1628640"/>
            <a:ext cx="56185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unto donde se maximiza el excedente social (valoración de última unidad producida es igual a valoración de los bienes y servicios que se pierden por producir esa unid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6"/>
          <p:cNvSpPr/>
          <p:nvPr/>
        </p:nvSpPr>
        <p:spPr>
          <a:xfrm flipH="1">
            <a:off x="4500720" y="2492280"/>
            <a:ext cx="358560" cy="151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competitiv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minimizan costos (eficiencia produc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Se producen los bienes y servicios (en la cantidad y calidad) que la gente valora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Dichas unidades son consumidas por quienes las valoran más (eficiencia asignativ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asigna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9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14"/>
          <p:cNvSpPr/>
          <p:nvPr/>
        </p:nvSpPr>
        <p:spPr>
          <a:xfrm rot="17833800">
            <a:off x="3242520" y="1236960"/>
            <a:ext cx="326880" cy="3322800"/>
          </a:xfrm>
          <a:custGeom>
            <a:avLst/>
            <a:gdLst>
              <a:gd name="textAreaLeft" fmla="*/ 0 w 326880"/>
              <a:gd name="textAreaRight" fmla="*/ 118080 w 326880"/>
              <a:gd name="textAreaTop" fmla="*/ 86400 h 3322800"/>
              <a:gd name="textAreaBottom" fmla="*/ 3236400 h 332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5"/>
          <p:cNvSpPr/>
          <p:nvPr/>
        </p:nvSpPr>
        <p:spPr>
          <a:xfrm>
            <a:off x="3200400" y="1784520"/>
            <a:ext cx="5029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olo aquellos que valoran el bien en más que 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lo consu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6"/>
          <p:cNvSpPr/>
          <p:nvPr/>
        </p:nvSpPr>
        <p:spPr>
          <a:xfrm>
            <a:off x="5925600" y="369900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e produce la cant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decu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17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Eficiencia productiv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7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9"/>
          <p:cNvSpPr/>
          <p:nvPr/>
        </p:nvSpPr>
        <p:spPr>
          <a:xfrm flipV="1">
            <a:off x="1600200" y="2971800"/>
            <a:ext cx="525780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0"/>
          <p:cNvSpPr/>
          <p:nvPr/>
        </p:nvSpPr>
        <p:spPr>
          <a:xfrm>
            <a:off x="4876920" y="403848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11"/>
          <p:cNvSpPr/>
          <p:nvPr/>
        </p:nvSpPr>
        <p:spPr>
          <a:xfrm>
            <a:off x="4645440" y="57564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Line 12"/>
          <p:cNvSpPr/>
          <p:nvPr/>
        </p:nvSpPr>
        <p:spPr>
          <a:xfrm flipH="1">
            <a:off x="16002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3"/>
          <p:cNvSpPr/>
          <p:nvPr/>
        </p:nvSpPr>
        <p:spPr>
          <a:xfrm>
            <a:off x="1081080" y="377496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4"/>
          <p:cNvSpPr/>
          <p:nvPr/>
        </p:nvSpPr>
        <p:spPr>
          <a:xfrm>
            <a:off x="6399000" y="2514600"/>
            <a:ext cx="225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15"/>
          <p:cNvSpPr/>
          <p:nvPr/>
        </p:nvSpPr>
        <p:spPr>
          <a:xfrm flipV="1">
            <a:off x="1600200" y="2133720"/>
            <a:ext cx="373392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6"/>
          <p:cNvSpPr/>
          <p:nvPr/>
        </p:nvSpPr>
        <p:spPr>
          <a:xfrm>
            <a:off x="5331600" y="1752480"/>
            <a:ext cx="24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efic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17"/>
          <p:cNvSpPr/>
          <p:nvPr/>
        </p:nvSpPr>
        <p:spPr>
          <a:xfrm flipH="1">
            <a:off x="1600200" y="35053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18"/>
          <p:cNvSpPr/>
          <p:nvPr/>
        </p:nvSpPr>
        <p:spPr>
          <a:xfrm>
            <a:off x="1079640" y="3276720"/>
            <a:ext cx="48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19"/>
          <p:cNvSpPr/>
          <p:nvPr/>
        </p:nvSpPr>
        <p:spPr>
          <a:xfrm>
            <a:off x="3594240" y="57150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0"/>
          <p:cNvSpPr/>
          <p:nvPr/>
        </p:nvSpPr>
        <p:spPr>
          <a:xfrm>
            <a:off x="3886200" y="3505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Text Box 21"/>
          <p:cNvSpPr/>
          <p:nvPr/>
        </p:nvSpPr>
        <p:spPr>
          <a:xfrm>
            <a:off x="6076080" y="3622680"/>
            <a:ext cx="29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mpetencia garant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e resul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22"/>
          <p:cNvSpPr/>
          <p:nvPr/>
        </p:nvSpPr>
        <p:spPr>
          <a:xfrm flipH="1">
            <a:off x="5257440" y="4038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04617b"/>
                </a:solidFill>
                <a:latin typeface="Calibri"/>
              </a:rPr>
              <a:t>Efectos de un precio/cantidad diferentes al equilibrio (precio mínimo)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Line 3"/>
          <p:cNvSpPr/>
          <p:nvPr/>
        </p:nvSpPr>
        <p:spPr>
          <a:xfrm>
            <a:off x="825480" y="1538280"/>
            <a:ext cx="0" cy="26892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4"/>
          <p:cNvSpPr/>
          <p:nvPr/>
        </p:nvSpPr>
        <p:spPr>
          <a:xfrm>
            <a:off x="825480" y="4227480"/>
            <a:ext cx="4516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5213520" y="42274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396720" y="1484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610920" y="4281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Line 8"/>
          <p:cNvSpPr/>
          <p:nvPr/>
        </p:nvSpPr>
        <p:spPr>
          <a:xfrm>
            <a:off x="825480" y="1914480"/>
            <a:ext cx="4194360" cy="20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Line 9"/>
          <p:cNvSpPr/>
          <p:nvPr/>
        </p:nvSpPr>
        <p:spPr>
          <a:xfrm flipV="1">
            <a:off x="825480" y="2290680"/>
            <a:ext cx="3710160" cy="193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Line 10"/>
          <p:cNvSpPr/>
          <p:nvPr/>
        </p:nvSpPr>
        <p:spPr>
          <a:xfrm>
            <a:off x="3137040" y="3043080"/>
            <a:ext cx="0" cy="118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1"/>
          <p:cNvSpPr/>
          <p:nvPr/>
        </p:nvSpPr>
        <p:spPr>
          <a:xfrm>
            <a:off x="2973600" y="425592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2"/>
          <p:cNvSpPr/>
          <p:nvPr/>
        </p:nvSpPr>
        <p:spPr>
          <a:xfrm flipH="1">
            <a:off x="825120" y="3043080"/>
            <a:ext cx="2311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3"/>
          <p:cNvSpPr/>
          <p:nvPr/>
        </p:nvSpPr>
        <p:spPr>
          <a:xfrm>
            <a:off x="460440" y="28558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4"/>
          <p:cNvSpPr/>
          <p:nvPr/>
        </p:nvSpPr>
        <p:spPr>
          <a:xfrm>
            <a:off x="4214880" y="1968480"/>
            <a:ext cx="9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=C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7"/>
          <p:cNvSpPr/>
          <p:nvPr/>
        </p:nvSpPr>
        <p:spPr>
          <a:xfrm flipH="1">
            <a:off x="825120" y="2664000"/>
            <a:ext cx="29098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459000" y="2506680"/>
            <a:ext cx="4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2233800" y="4227480"/>
            <a:ext cx="44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20"/>
          <p:cNvSpPr/>
          <p:nvPr/>
        </p:nvSpPr>
        <p:spPr>
          <a:xfrm>
            <a:off x="241128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21"/>
          <p:cNvSpPr/>
          <p:nvPr/>
        </p:nvSpPr>
        <p:spPr>
          <a:xfrm>
            <a:off x="4573800" y="3716280"/>
            <a:ext cx="99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=B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 flipH="1">
            <a:off x="2536920" y="45975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H="1" flipV="1">
            <a:off x="447840" y="2723760"/>
            <a:ext cx="14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5724360" y="1452600"/>
            <a:ext cx="316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Producto: Menor al equilib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fecto Redistributivo: Productores se apropian de parte del excedente del consumidor; área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b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e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érdida de eficiencia: pérdida social neta equivalente al triángulo 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320920" y="2357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3222360" y="2862360"/>
            <a:ext cx="28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393640" y="329400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384280" y="2724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395280" y="4869000"/>
            <a:ext cx="8424720" cy="175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umidor solo va a estar dispuesto a consumir hasta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; consumir más le reportaría una pérdida neta en su bienestar (P&gt;Benefi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l precio P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el oferente va a estar dispuesto a vender la cantidad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, pero no hay nadie que le comp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el mercado laboral la distancia entre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i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y Q</a:t>
            </a:r>
            <a:r>
              <a:rPr b="0" lang="es-CL" sz="1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se conoce como des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20"/>
          <p:cNvSpPr/>
          <p:nvPr/>
        </p:nvSpPr>
        <p:spPr>
          <a:xfrm>
            <a:off x="3708360" y="2666880"/>
            <a:ext cx="0" cy="1560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1"/>
          <p:cNvSpPr/>
          <p:nvPr/>
        </p:nvSpPr>
        <p:spPr>
          <a:xfrm>
            <a:off x="3570480" y="4221000"/>
            <a:ext cx="41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n resume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economía competitiva genera asignaciones eficientes en el sentido de Pareto (Nadie puede mejorar sin perjudicar a otro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economía competitiva maximiza la eficiencia productiva (permite tener la más grande posible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o requiere de intervención pública algun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precios orientan las asignaciones, haciendo que los recursos sean utilizados de la mejor manera posibl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6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Intercambio Pu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07552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Imaginémonos una economía simple formada por dos individuos Juan y Ana, que consumen dos bienes ( h, m) cuya oferta es fija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mo habrían de distribuirse estos bie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de Edgeworth refleja la distribución de los bienes h y m entre nuestros dos individu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7" name="Object 2"/>
          <p:cNvGraphicFramePr/>
          <p:nvPr/>
        </p:nvGraphicFramePr>
        <p:xfrm>
          <a:off x="7151760" y="1844640"/>
          <a:ext cx="22860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51760" y="1844640"/>
                    <a:ext cx="22860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9" name="Rectangle 3"/>
          <p:cNvSpPr/>
          <p:nvPr/>
        </p:nvSpPr>
        <p:spPr>
          <a:xfrm>
            <a:off x="1258920" y="105264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4"/>
          <p:cNvSpPr/>
          <p:nvPr/>
        </p:nvSpPr>
        <p:spPr>
          <a:xfrm>
            <a:off x="2340000" y="1917720"/>
            <a:ext cx="4680000" cy="38876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5219280" y="4791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6"/>
          <p:cNvSpPr/>
          <p:nvPr/>
        </p:nvSpPr>
        <p:spPr>
          <a:xfrm>
            <a:off x="2340000" y="515772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7"/>
          <p:cNvSpPr/>
          <p:nvPr/>
        </p:nvSpPr>
        <p:spPr>
          <a:xfrm>
            <a:off x="5219640" y="5229360"/>
            <a:ext cx="0" cy="57600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8"/>
          <p:cNvSpPr/>
          <p:nvPr/>
        </p:nvSpPr>
        <p:spPr>
          <a:xfrm>
            <a:off x="5219640" y="515772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9"/>
          <p:cNvSpPr/>
          <p:nvPr/>
        </p:nvSpPr>
        <p:spPr>
          <a:xfrm>
            <a:off x="5219640" y="191772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0"/>
          <p:cNvSpPr/>
          <p:nvPr/>
        </p:nvSpPr>
        <p:spPr>
          <a:xfrm>
            <a:off x="5148360" y="50864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1"/>
          <p:cNvSpPr/>
          <p:nvPr/>
        </p:nvSpPr>
        <p:spPr>
          <a:xfrm rot="16200000">
            <a:off x="670680" y="3726000"/>
            <a:ext cx="26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h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2"/>
          <p:cNvSpPr/>
          <p:nvPr/>
        </p:nvSpPr>
        <p:spPr>
          <a:xfrm>
            <a:off x="324360" y="160200"/>
            <a:ext cx="419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4617b"/>
                </a:solidFill>
                <a:latin typeface="Arial"/>
              </a:rPr>
              <a:t>La Caja de Edgew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3"/>
          <p:cNvSpPr/>
          <p:nvPr/>
        </p:nvSpPr>
        <p:spPr>
          <a:xfrm>
            <a:off x="3349440" y="5877000"/>
            <a:ext cx="272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xistencias de m en el año 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4"/>
          <p:cNvSpPr/>
          <p:nvPr/>
        </p:nvSpPr>
        <p:spPr>
          <a:xfrm>
            <a:off x="1477800" y="58053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5"/>
          <p:cNvSpPr/>
          <p:nvPr/>
        </p:nvSpPr>
        <p:spPr>
          <a:xfrm>
            <a:off x="7053120" y="134136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6"/>
          <p:cNvSpPr/>
          <p:nvPr/>
        </p:nvSpPr>
        <p:spPr>
          <a:xfrm>
            <a:off x="2053440" y="5756400"/>
            <a:ext cx="33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7"/>
          <p:cNvSpPr/>
          <p:nvPr/>
        </p:nvSpPr>
        <p:spPr>
          <a:xfrm>
            <a:off x="6948360" y="1628640"/>
            <a:ext cx="43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O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8"/>
          <p:cNvSpPr/>
          <p:nvPr/>
        </p:nvSpPr>
        <p:spPr>
          <a:xfrm>
            <a:off x="2126160" y="165276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9"/>
          <p:cNvSpPr/>
          <p:nvPr/>
        </p:nvSpPr>
        <p:spPr>
          <a:xfrm>
            <a:off x="6951600" y="56847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s es la cantidad total del bien m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O – r es la cantidad total del bien h en el tiempo 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cantidades consumidas por Juan se miden desde el punto O y las de Ana desde el punto O’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caja contiene todas las distribuciones posibles de m y h entre Juan y 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sideremos ahora las curvas de indifer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l Problema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s el uso eficaz de los recursos limitados para satisfacer las aspiraciones ilimitadas de la socieda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Rectangle 4"/>
          <p:cNvSpPr/>
          <p:nvPr/>
        </p:nvSpPr>
        <p:spPr>
          <a:xfrm>
            <a:off x="539640" y="364500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Podemos maximizar en bienestar socia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¿Cómo asignamos estos recursos limitados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2736720" y="1413000"/>
            <a:ext cx="6372360" cy="5184720"/>
          </a:xfrm>
          <a:prstGeom prst="rect">
            <a:avLst/>
          </a:prstGeom>
          <a:solidFill>
            <a:srgbClr val="0f6fc6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3"/>
          <p:cNvSpPr/>
          <p:nvPr/>
        </p:nvSpPr>
        <p:spPr>
          <a:xfrm>
            <a:off x="3708360" y="1989000"/>
            <a:ext cx="4680000" cy="38880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4"/>
          <p:cNvSpPr/>
          <p:nvPr/>
        </p:nvSpPr>
        <p:spPr>
          <a:xfrm>
            <a:off x="6659280" y="4941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5"/>
          <p:cNvSpPr/>
          <p:nvPr/>
        </p:nvSpPr>
        <p:spPr>
          <a:xfrm>
            <a:off x="3708360" y="5300640"/>
            <a:ext cx="2879640" cy="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6"/>
          <p:cNvSpPr/>
          <p:nvPr/>
        </p:nvSpPr>
        <p:spPr>
          <a:xfrm>
            <a:off x="6588000" y="5300640"/>
            <a:ext cx="0" cy="576360"/>
          </a:xfrm>
          <a:prstGeom prst="line">
            <a:avLst/>
          </a:prstGeom>
          <a:ln w="9360">
            <a:solidFill>
              <a:srgbClr val="cc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7"/>
          <p:cNvSpPr/>
          <p:nvPr/>
        </p:nvSpPr>
        <p:spPr>
          <a:xfrm>
            <a:off x="6588000" y="5300640"/>
            <a:ext cx="1800360" cy="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8"/>
          <p:cNvSpPr/>
          <p:nvPr/>
        </p:nvSpPr>
        <p:spPr>
          <a:xfrm>
            <a:off x="6588000" y="1989000"/>
            <a:ext cx="0" cy="3311640"/>
          </a:xfrm>
          <a:prstGeom prst="line">
            <a:avLst/>
          </a:prstGeom>
          <a:ln w="9360">
            <a:solidFill>
              <a:srgbClr val="85dfd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9"/>
          <p:cNvSpPr/>
          <p:nvPr/>
        </p:nvSpPr>
        <p:spPr>
          <a:xfrm>
            <a:off x="6516720" y="522936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Arc 10"/>
          <p:cNvSpPr/>
          <p:nvPr/>
        </p:nvSpPr>
        <p:spPr>
          <a:xfrm>
            <a:off x="5435640" y="213372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Arc 11"/>
          <p:cNvSpPr/>
          <p:nvPr/>
        </p:nvSpPr>
        <p:spPr>
          <a:xfrm>
            <a:off x="5076720" y="2421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rc 12"/>
          <p:cNvSpPr/>
          <p:nvPr/>
        </p:nvSpPr>
        <p:spPr>
          <a:xfrm>
            <a:off x="4643280" y="278136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rc 13"/>
          <p:cNvSpPr/>
          <p:nvPr/>
        </p:nvSpPr>
        <p:spPr>
          <a:xfrm>
            <a:off x="4284720" y="306864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Arc 14"/>
          <p:cNvSpPr/>
          <p:nvPr/>
        </p:nvSpPr>
        <p:spPr>
          <a:xfrm>
            <a:off x="3851280" y="3429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Arc 15"/>
          <p:cNvSpPr/>
          <p:nvPr/>
        </p:nvSpPr>
        <p:spPr>
          <a:xfrm rot="11009400">
            <a:off x="3780000" y="2997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rc 16"/>
          <p:cNvSpPr/>
          <p:nvPr/>
        </p:nvSpPr>
        <p:spPr>
          <a:xfrm rot="11009400">
            <a:off x="3995280" y="285228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rc 17"/>
          <p:cNvSpPr/>
          <p:nvPr/>
        </p:nvSpPr>
        <p:spPr>
          <a:xfrm rot="11009400">
            <a:off x="4355640" y="2707920"/>
            <a:ext cx="280836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Arc 18"/>
          <p:cNvSpPr/>
          <p:nvPr/>
        </p:nvSpPr>
        <p:spPr>
          <a:xfrm rot="11009400">
            <a:off x="4500720" y="2349000"/>
            <a:ext cx="2808000" cy="2592360"/>
          </a:xfrm>
          <a:prstGeom prst="pie">
            <a:avLst/>
          </a:prstGeom>
          <a:noFill/>
          <a:ln w="1908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Arc 19"/>
          <p:cNvSpPr/>
          <p:nvPr/>
        </p:nvSpPr>
        <p:spPr>
          <a:xfrm>
            <a:off x="3564000" y="3645000"/>
            <a:ext cx="2808360" cy="2592360"/>
          </a:xfrm>
          <a:prstGeom prst="pie">
            <a:avLst/>
          </a:prstGeom>
          <a:noFill/>
          <a:ln w="19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0"/>
          <p:cNvSpPr/>
          <p:nvPr/>
        </p:nvSpPr>
        <p:spPr>
          <a:xfrm>
            <a:off x="4284720" y="3284640"/>
            <a:ext cx="2663640" cy="2376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1"/>
          <p:cNvSpPr/>
          <p:nvPr/>
        </p:nvSpPr>
        <p:spPr>
          <a:xfrm>
            <a:off x="5364000" y="4221000"/>
            <a:ext cx="14472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22"/>
          <p:cNvSpPr/>
          <p:nvPr/>
        </p:nvSpPr>
        <p:spPr>
          <a:xfrm>
            <a:off x="250920" y="1341360"/>
            <a:ext cx="21603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Una economía donde hay mercados para “todo”, donde no existen costos de transacción y todo el mundo es un tomador de precios con información perfecta genera una asignación eficiente de recursos en el sentido de Pa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Group 23"/>
          <p:cNvGrpSpPr/>
          <p:nvPr/>
        </p:nvGrpSpPr>
        <p:grpSpPr>
          <a:xfrm>
            <a:off x="2843280" y="1413000"/>
            <a:ext cx="6265800" cy="4969440"/>
            <a:chOff x="2843280" y="1413000"/>
            <a:chExt cx="6265800" cy="4969440"/>
          </a:xfrm>
        </p:grpSpPr>
        <p:sp>
          <p:nvSpPr>
            <p:cNvPr id="809" name="Rectangle 24"/>
            <p:cNvSpPr/>
            <p:nvPr/>
          </p:nvSpPr>
          <p:spPr>
            <a:xfrm>
              <a:off x="8388360" y="170172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25"/>
            <p:cNvSpPr/>
            <p:nvPr/>
          </p:nvSpPr>
          <p:spPr>
            <a:xfrm>
              <a:off x="3419640" y="582912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26"/>
            <p:cNvSpPr/>
            <p:nvPr/>
          </p:nvSpPr>
          <p:spPr>
            <a:xfrm>
              <a:off x="8532720" y="141300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An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27"/>
            <p:cNvSpPr/>
            <p:nvPr/>
          </p:nvSpPr>
          <p:spPr>
            <a:xfrm>
              <a:off x="2843280" y="6045120"/>
              <a:ext cx="72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Jua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Rectangle 28"/>
            <p:cNvSpPr/>
            <p:nvPr/>
          </p:nvSpPr>
          <p:spPr>
            <a:xfrm>
              <a:off x="3564000" y="170172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Rectangle 29"/>
            <p:cNvSpPr/>
            <p:nvPr/>
          </p:nvSpPr>
          <p:spPr>
            <a:xfrm>
              <a:off x="8388360" y="5878440"/>
              <a:ext cx="5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Rectangle 30"/>
            <p:cNvSpPr/>
            <p:nvPr/>
          </p:nvSpPr>
          <p:spPr>
            <a:xfrm rot="16200000">
              <a:off x="2207160" y="37310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Rectangle 31"/>
            <p:cNvSpPr/>
            <p:nvPr/>
          </p:nvSpPr>
          <p:spPr>
            <a:xfrm>
              <a:off x="4568400" y="5878440"/>
              <a:ext cx="2666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Existencias de h en el año 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Text Box 32"/>
          <p:cNvSpPr/>
          <p:nvPr/>
        </p:nvSpPr>
        <p:spPr>
          <a:xfrm>
            <a:off x="5455800" y="400536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E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1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7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0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3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6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1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85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9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93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7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09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3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22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6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430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4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9" dur="5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2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8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como en el punto E’ es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eficiente en el sentido de Pareto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, ya que no es posible mejorar la situación de uno sin empeorar la situación de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asignación no eficiente en el sentido de Pareto se considera “despilfarradora” ya que se podría mejorar la situación de uno sin dañar al otr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ejora en el sentido de Pareto: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reasignación de recursos que implica un aumento en el bienestar de una persona sin perjudicar a ot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63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Entonces,</a:t>
            </a:r>
            <a:br>
              <a:rPr sz="4600"/>
            </a:b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¿Porque existe el estado?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2207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allas de merc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Que hay con la equida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0" dur="500"/>
                                        <p:tgtEl>
                                          <p:spTgt spid="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5" dur="500"/>
                                        <p:tgtEl>
                                          <p:spTgt spid="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0" dur="500"/>
                                        <p:tgtEl>
                                          <p:spTgt spid="8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4617b"/>
                </a:solidFill>
                <a:latin typeface="Times New Roman"/>
              </a:rPr>
              <a:t>Racionalidad económica</a:t>
            </a:r>
            <a:endParaRPr b="0" lang="en-US" sz="3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ostulado básico de teoría económica: agentes económicos actúan racionalmente, realizando acciones consistentes con el mejor logro de sus objetiv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bjetivos varían según tipo de agente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ersonas y hogares optimizan bienestar (utilidad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mpresas optimizan ganancia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5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Organizaciones sin fines de lucro tienen objetivos propios: aliviar  pobreza; desarrollo comunitario; medio ambiente limpio; etc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plicable a nivel de grupos o agregados; a nivel individual siempre puede haber comportamientos irracional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Mercados competi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irmas y consumidores son tomadoras de prec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s personas maximizan su bienestar cundo consumen a un nivel tal que el beneficio marginal es igual al precio del bi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Una firma maximiza sus beneficios cuando produce una cantidad tal que el costo marginal de  es igual al precio del bie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4560" y="333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 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1600200" y="2362320"/>
            <a:ext cx="228600" cy="3352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29718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9"/>
          <p:cNvSpPr/>
          <p:nvPr/>
        </p:nvSpPr>
        <p:spPr>
          <a:xfrm>
            <a:off x="25146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0"/>
          <p:cNvSpPr/>
          <p:nvPr/>
        </p:nvSpPr>
        <p:spPr>
          <a:xfrm>
            <a:off x="22860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20574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12"/>
          <p:cNvSpPr/>
          <p:nvPr/>
        </p:nvSpPr>
        <p:spPr>
          <a:xfrm>
            <a:off x="1828800" y="2743200"/>
            <a:ext cx="228600" cy="297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3"/>
          <p:cNvSpPr/>
          <p:nvPr/>
        </p:nvSpPr>
        <p:spPr>
          <a:xfrm>
            <a:off x="32004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14"/>
          <p:cNvSpPr/>
          <p:nvPr/>
        </p:nvSpPr>
        <p:spPr>
          <a:xfrm>
            <a:off x="34290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15"/>
          <p:cNvSpPr/>
          <p:nvPr/>
        </p:nvSpPr>
        <p:spPr>
          <a:xfrm>
            <a:off x="36576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16"/>
          <p:cNvSpPr/>
          <p:nvPr/>
        </p:nvSpPr>
        <p:spPr>
          <a:xfrm>
            <a:off x="3886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2987640" y="1844640"/>
            <a:ext cx="583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individuos para quienes el beneficio marginal es 500; están dispuestos a pagar hasta $500 por consumi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20"/>
          <p:cNvSpPr/>
          <p:nvPr/>
        </p:nvSpPr>
        <p:spPr>
          <a:xfrm flipH="1">
            <a:off x="2133720" y="259092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21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22"/>
          <p:cNvSpPr/>
          <p:nvPr/>
        </p:nvSpPr>
        <p:spPr>
          <a:xfrm flipH="1">
            <a:off x="3048120" y="3657600"/>
            <a:ext cx="4572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23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25"/>
          <p:cNvSpPr/>
          <p:nvPr/>
        </p:nvSpPr>
        <p:spPr>
          <a:xfrm>
            <a:off x="3494520" y="3325680"/>
            <a:ext cx="442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ay otros cuyo beneficio es 300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que no están dispuestos a pagar más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$300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28240" y="404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Dema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demanda describe la cantidad que consumidores querrían comprar para distintos precios. 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La demanda de la industria es la suma de las demandas individuales, satisface la condición de que el beneficio marginal de cada consumidor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Refleja las preferencias de los consumidores (valor que se le da al bien)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Generalmente tiene pendiente negativ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3240" indent="-24336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Utilidad marginal decreciente: Los individuos valoran unidades adicionales del mismo bien en forma decrecie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2" marL="905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939960"/>
            <a:ext cx="8229600" cy="607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0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6"/>
          <p:cNvSpPr/>
          <p:nvPr/>
        </p:nvSpPr>
        <p:spPr>
          <a:xfrm>
            <a:off x="2514600" y="4267080"/>
            <a:ext cx="22860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7"/>
          <p:cNvSpPr/>
          <p:nvPr/>
        </p:nvSpPr>
        <p:spPr>
          <a:xfrm>
            <a:off x="2743200" y="3962520"/>
            <a:ext cx="228600" cy="1752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2971800" y="3657600"/>
            <a:ext cx="228600" cy="20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"/>
          <p:cNvSpPr/>
          <p:nvPr/>
        </p:nvSpPr>
        <p:spPr>
          <a:xfrm>
            <a:off x="3200400" y="3429000"/>
            <a:ext cx="228600" cy="2286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0"/>
          <p:cNvSpPr/>
          <p:nvPr/>
        </p:nvSpPr>
        <p:spPr>
          <a:xfrm>
            <a:off x="3429000" y="3048120"/>
            <a:ext cx="228600" cy="266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1"/>
          <p:cNvSpPr/>
          <p:nvPr/>
        </p:nvSpPr>
        <p:spPr>
          <a:xfrm>
            <a:off x="2286000" y="4572000"/>
            <a:ext cx="22860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2"/>
          <p:cNvSpPr/>
          <p:nvPr/>
        </p:nvSpPr>
        <p:spPr>
          <a:xfrm>
            <a:off x="2057400" y="4876920"/>
            <a:ext cx="228600" cy="838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3"/>
          <p:cNvSpPr/>
          <p:nvPr/>
        </p:nvSpPr>
        <p:spPr>
          <a:xfrm>
            <a:off x="1828800" y="5105520"/>
            <a:ext cx="228600" cy="609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14"/>
          <p:cNvSpPr/>
          <p:nvPr/>
        </p:nvSpPr>
        <p:spPr>
          <a:xfrm>
            <a:off x="1600200" y="5410080"/>
            <a:ext cx="22860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15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6"/>
          <p:cNvSpPr/>
          <p:nvPr/>
        </p:nvSpPr>
        <p:spPr>
          <a:xfrm>
            <a:off x="916200" y="259092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17"/>
          <p:cNvSpPr/>
          <p:nvPr/>
        </p:nvSpPr>
        <p:spPr>
          <a:xfrm>
            <a:off x="3021840" y="2300400"/>
            <a:ext cx="42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las primeras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Line 18"/>
          <p:cNvSpPr/>
          <p:nvPr/>
        </p:nvSpPr>
        <p:spPr>
          <a:xfrm flipH="1">
            <a:off x="1904760" y="2590920"/>
            <a:ext cx="990360" cy="22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19"/>
          <p:cNvSpPr/>
          <p:nvPr/>
        </p:nvSpPr>
        <p:spPr>
          <a:xfrm>
            <a:off x="916200" y="36990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20"/>
          <p:cNvSpPr/>
          <p:nvPr/>
        </p:nvSpPr>
        <p:spPr>
          <a:xfrm>
            <a:off x="1160640" y="5454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21"/>
          <p:cNvSpPr/>
          <p:nvPr/>
        </p:nvSpPr>
        <p:spPr>
          <a:xfrm flipV="1">
            <a:off x="3809880" y="3733560"/>
            <a:ext cx="381240" cy="759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22"/>
          <p:cNvSpPr/>
          <p:nvPr/>
        </p:nvSpPr>
        <p:spPr>
          <a:xfrm>
            <a:off x="4249440" y="3325680"/>
            <a:ext cx="43761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sto de producir un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icionales generalmente va en au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(La excepción son los monopolios natur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Costos (Ofert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28680" y="1557360"/>
            <a:ext cx="82087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Constantia"/>
              </a:rPr>
              <a:t>Curva de oferta representa cantidad que productores desean vender a distintos precios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5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oferta de la industria, es la suma de las ofertas individuales, satisface la condición que el costo marginal de cada empresa sea igual al preci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¿Que es un costo?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Es el valor de los recursos utilizados en proveer el bien o servici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nstantia"/>
              </a:rPr>
              <a:t>Por valor se entiende lo que las personas (en la sociedad) valoran los bienes y servicios que podrían haberse producido si esos recursos no se hubieran destinado a esa industria (al final dependen de las preferencias): Costo de Oportunidad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228240" y="76212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000" spc="-1" strike="noStrike">
                <a:solidFill>
                  <a:srgbClr val="04617b"/>
                </a:solidFill>
                <a:latin typeface="Calibri"/>
              </a:rPr>
              <a:t>Mercado y bienestar soci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Line 3"/>
          <p:cNvSpPr/>
          <p:nvPr/>
        </p:nvSpPr>
        <p:spPr>
          <a:xfrm>
            <a:off x="1600200" y="1905120"/>
            <a:ext cx="0" cy="3809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4"/>
          <p:cNvSpPr/>
          <p:nvPr/>
        </p:nvSpPr>
        <p:spPr>
          <a:xfrm>
            <a:off x="1600200" y="5715000"/>
            <a:ext cx="6400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5562000" y="571500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dades demand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6"/>
          <p:cNvSpPr/>
          <p:nvPr/>
        </p:nvSpPr>
        <p:spPr>
          <a:xfrm>
            <a:off x="992520" y="182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7"/>
          <p:cNvSpPr/>
          <p:nvPr/>
        </p:nvSpPr>
        <p:spPr>
          <a:xfrm>
            <a:off x="2052360" y="198108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manda (valor social de las unidad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8"/>
          <p:cNvSpPr/>
          <p:nvPr/>
        </p:nvSpPr>
        <p:spPr>
          <a:xfrm>
            <a:off x="1297080" y="579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9"/>
          <p:cNvSpPr/>
          <p:nvPr/>
        </p:nvSpPr>
        <p:spPr>
          <a:xfrm>
            <a:off x="1600200" y="2438280"/>
            <a:ext cx="5943600" cy="2895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Line 10"/>
          <p:cNvSpPr/>
          <p:nvPr/>
        </p:nvSpPr>
        <p:spPr>
          <a:xfrm flipV="1">
            <a:off x="1600200" y="2819160"/>
            <a:ext cx="5562720" cy="2895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11"/>
          <p:cNvSpPr/>
          <p:nvPr/>
        </p:nvSpPr>
        <p:spPr>
          <a:xfrm>
            <a:off x="3576600" y="5181480"/>
            <a:ext cx="48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 marginal (costo de oportunid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12"/>
          <p:cNvSpPr/>
          <p:nvPr/>
        </p:nvSpPr>
        <p:spPr>
          <a:xfrm flipH="1" flipV="1">
            <a:off x="3581280" y="4876920"/>
            <a:ext cx="5335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Line 13"/>
          <p:cNvSpPr/>
          <p:nvPr/>
        </p:nvSpPr>
        <p:spPr>
          <a:xfrm flipH="1">
            <a:off x="3276360" y="24382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4"/>
          <p:cNvSpPr/>
          <p:nvPr/>
        </p:nvSpPr>
        <p:spPr>
          <a:xfrm>
            <a:off x="763920" y="236232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5"/>
          <p:cNvSpPr/>
          <p:nvPr/>
        </p:nvSpPr>
        <p:spPr>
          <a:xfrm>
            <a:off x="763200" y="54100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16"/>
          <p:cNvSpPr/>
          <p:nvPr/>
        </p:nvSpPr>
        <p:spPr>
          <a:xfrm>
            <a:off x="1600200" y="2514600"/>
            <a:ext cx="1522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17"/>
          <p:cNvSpPr/>
          <p:nvPr/>
        </p:nvSpPr>
        <p:spPr>
          <a:xfrm>
            <a:off x="1600200" y="5638680"/>
            <a:ext cx="152280" cy="7632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AutoShape 18"/>
          <p:cNvSpPr/>
          <p:nvPr/>
        </p:nvSpPr>
        <p:spPr>
          <a:xfrm>
            <a:off x="1905120" y="2819520"/>
            <a:ext cx="75960" cy="2514600"/>
          </a:xfrm>
          <a:custGeom>
            <a:avLst/>
            <a:gdLst>
              <a:gd name="textAreaLeft" fmla="*/ 0 w 75960"/>
              <a:gd name="textAreaRight" fmla="*/ 27360 w 7596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19"/>
          <p:cNvSpPr/>
          <p:nvPr/>
        </p:nvSpPr>
        <p:spPr>
          <a:xfrm>
            <a:off x="2129400" y="3657600"/>
            <a:ext cx="3810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anancia ne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 producir la primera un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3-30T13:34:30Z</dcterms:modified>
  <cp:revision>76</cp:revision>
  <dc:subject/>
  <dc:title>Economía del Sector Público</dc:title>
</cp:coreProperties>
</file>