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15F4-96A5-4644-8811-A7CE8AB6F6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C0FA-D36E-4198-9F8B-2F9F370500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B27-C0A1-4A78-B7A3-5CF4D3DC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514-759C-43CD-AEF6-9688634E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E39E2-2456-4F32-B0C1-E23C9CCF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50616-87EA-46DF-AE93-CD3AE1CD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A289B-D68F-4614-AC71-CBCE1E19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9944C-5CC8-449E-AE7C-8E9AE54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9A3D0-752D-444E-B191-AF61FA88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B7770-E024-4471-829A-C50222D8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EF788-C9C2-40FE-9A75-091E24CC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A5620-8E96-4B06-9E3D-8302EC19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C36FD-93B5-4B76-B4F4-ADA3C4A3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CF9E5-64A8-4F07-858F-6440CC7C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82F6-59A4-4CC2-9E83-4A0BA539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B6BA7-1DB4-4C08-8EFE-7A7A1C4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D744C-31B1-4670-992A-EDE21441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73A86-4AEC-4964-BAC8-99F9650E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D1842-5957-4171-97CD-1FC1F922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DD786-C135-4311-9FAD-782892CE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E2799-AC71-463F-9575-F41A4DE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4F6EF-BF60-40AD-A9EB-A291571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A436B-68D2-4BBF-ABC3-C27DE8D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D606E-C397-46EA-BB57-71AFB785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3DE87-1B0C-4D5C-BF09-2732E4B9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578-6043-44BF-A907-6129D99D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B3707-0E87-44EC-9F76-A0721851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30D9E-0782-4F31-9BCA-74CD76C6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D5402-F4B7-423A-A973-52CAA8F9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3F9B2-8DD3-4229-ACF4-730F3671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284A6-3501-4B00-8BD3-8AC721B0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EF83F-9B16-463E-BAE6-01187C51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30AA3-3CE8-416E-9612-A50A3E5B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F03A5-D6F5-4DB9-9AE0-26FD792E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8F6E0-9BBD-4DE6-B91D-B2805200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7844E-E181-4963-B40A-E907417A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3CA2-AA97-40CB-9E6A-FD8A124B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12636-3532-4B5F-82A7-6F38DAAC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9D8BC-6A35-4F82-9BB2-481AE0E9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64738-15DD-417B-BB6C-E9F65FF1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B3345-3466-4B8E-88EA-3A8C3601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32F33-5804-4AE9-A30B-CD640EE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6A0B3-0AC5-482F-908A-C4E0238E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A2AA1-DC49-4AC5-952B-20D8427C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2D69D-B599-4C4A-98F8-8D79CC33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E48F7-436F-4388-9767-93A521A4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82F22-406E-4D60-99CF-1AF06436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D302-BBE6-42CA-9DAA-4C01D3B0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29B3F-0842-4436-9AD7-979D8F01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610A3-0FED-4793-9F45-934BFA10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67D6E-33DD-4C6D-AEF6-E2A0D240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5AAC0-CBC2-4B8F-A096-4E9E2EE7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48464-3C45-4A5A-BF31-8EE04BA3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E791-38E6-4444-A42C-FA153890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FC47-308D-4257-9637-A07981CC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7DD0-5CF3-4B45-8522-56812409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6553-B2CE-40BF-872B-1787F83E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FB9F-F3B6-4B0B-B812-00F2D968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FFC-DCF4-48FF-8B22-898B4AF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9E39-A306-4318-9A60-22AA6CA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DB16-0447-4DCD-991F-111BF0B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E03A-6D48-46CB-988E-5F7323D5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6EE4-50D2-44DC-9D36-5196E5EC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58F7-3E74-4EFA-8B7F-5FA4C097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3D0C-3BFD-4AE9-B1C6-167F0ECE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356E-4DB0-4F58-A285-BD4D5D5E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DF7A-0205-468C-9F73-B151CE73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291C1-CB24-4ABD-AAD9-4DD814AE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F124-E90E-4A9D-A4ED-4B03D549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DD9-D4E6-41FD-84A4-9D6686EA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1453-D43A-4F39-BF9D-4FB089B2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3218-22A1-4A89-B7BE-6AB0C30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9B43-7364-4D25-937F-AF431FF3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924E-F0C2-4946-B354-8C99A17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1240-D9F7-40D3-AEB7-A331D568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82F9D-8F8E-422E-8961-B1424EFE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E135-DF52-4424-AC6D-37669DF6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63BAB-8D8E-4112-A19C-34F0EECC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5672-4882-4D05-B1B3-E03E720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0535-F045-49EE-99DE-E27B9C02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C72-0E34-4CBB-B643-131346F4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D28A-7444-42FF-A3D6-ECD9FC1C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67A81-A317-4945-9D05-320DBFD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5010-B81E-484D-AE3B-3A6DC2DD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6F6C-862A-45F9-A2D8-6C89950F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6D53-1C23-4EF7-9055-AD58089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E6BD-89AB-44CD-94BD-9177EED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FD44-359E-43F5-8DAE-4791245B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8809-7BEF-4BA4-8D39-A4D0158B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EC7E1-F0A9-479B-A89D-56D73B11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774B1-EB74-402C-AFF7-1C811090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0D1-0E4F-4514-9900-1415FD8E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87EB0-512D-44B2-9577-2FFC5415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2C612-D78B-46E9-BB20-D3A120C2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045E6-50B2-4AB3-88F7-078A83D1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A64AF-46BB-44AA-BFC1-76C6D84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B5BE-8657-4B4F-A76C-928DEBA7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56AF6-FC63-4D5E-AEB1-A2C535CF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4DB66-EBC9-4FE6-B35B-89431E36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291D1-4436-41EF-ACF8-C7ABB61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D4B76-2016-4412-8228-4DC0902C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0A9A-884B-410D-B19A-EA45150F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567-482A-4BCC-AB8A-CC7A5297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27745-530B-4303-8D89-F4DD9F0D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7479-9542-44DD-A0D7-19202B01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82E1B-4C32-4298-B567-D3827F1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494A-9DAB-40BD-A21B-631A42E9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B97B5-4EE2-4529-A8EB-BFB18482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DC6BF-B94F-4CC7-907A-CC24A30C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0799-0984-4616-BA87-A499C110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5DD0-C2BC-49FB-892F-621D4369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5A28D-467B-4851-9742-63672589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B011-29B0-4D47-95AA-E6AA591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FCA-5724-4116-8375-9125B18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9B73-F274-47AE-87E3-5E3A81EE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454F3-B921-42CB-8180-9056DCB8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83EA9-4E52-48A9-B768-D668957C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7143F-2CBF-4057-9BC8-C655842A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3F1C2-6448-41E0-8FA7-CC1DA1A0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F5A0B-557B-4A79-A7CE-BE8C8F0D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F2D7D-48E9-470E-8E6D-397E4AB9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4DFD5-E6C6-482D-840F-C619B5DD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5D4A2-66B0-4244-93ED-59C684D8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82386-E8A2-4006-9CD0-69AD1E7D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817-43E3-4652-B9BB-C97C80E8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0DAD0-25FB-42AA-B9E0-31F8E048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95DB4-2127-4B75-9347-E9CAF17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6D20B-A62B-4FE6-A215-5FD1CC94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74ADF-E9D7-40FC-A8B8-4D26D66F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88C38-B787-4B91-AA2A-B00A31F4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EED5B-EC46-445C-A80E-15B94569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72F39-8239-485E-989A-EEE9691E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AEFA0-A8E2-4D3E-B41A-BB943CFC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899D-38B4-4DDB-AE0F-31746282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948A5-5BA7-4CE0-B8CF-40DC0996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48F-71C5-46ED-BF5A-B9EB250A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338A6-94D4-46B0-BC25-88441EE4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D0A52-8267-46C3-A6C9-6C075A2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9B4E-D8A2-48EF-AFE3-B772C122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4164F-92D0-48E7-9CCE-12401288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4E4EB-139A-450D-BDF7-A56BCC5C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CE035-FE84-4FEC-8867-9F12C19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C686F-1BC2-45CA-8122-C8DC06AC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F1735-6412-4222-B646-4B6D16DB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6D46C-A6BF-4343-8D45-DFDD9370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07FC4-B126-4C6E-8ADE-5CC2B78A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1966-115E-4879-A301-D1BCBF67C4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DB64-23BF-49DB-AC99-63F03E1F7A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7CEB-A082-49BD-94ED-E59CEF1B0D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8693-4783-41EC-BEF4-E9AED5DA79C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A65-6FF3-4824-8756-31D8564E909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9EE8-534C-4744-BF75-1402C0B786E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3F5E-DEF0-4111-996B-CBE76C5D59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68AC-0563-42F7-B2C9-35F85EA5ED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3FA0-187C-476F-AEA9-A7CBC855C9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3BAA-BA1D-4230-BD30-00298A878B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EEA8-ADB4-4867-AC7B-BBA2B76024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ADFB-2DFF-449E-87AC-F8A346EFB3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onstantia"/>
              </a:rPr>
              <a:t>Mercados Competitiv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Precio de equilibri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alor que tiene para la sociedad la última unidad producida = costo que tiene para la sociedad producirl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Si la producción es mayor (menor) que la de equilibrio competitivo, el costo social de producirla es mayor (menor) al beneficio que reporta a la sociedad, y por lo tanto es ineficiente producirla (no producirla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5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337440" cy="40212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y bienestar so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2268360" y="1628640"/>
            <a:ext cx="5618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unto donde se maximiza el excedente social (valoración de última unidad producida es igual a valoración de los bienes y servicios que se pierden por producir esa un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6"/>
          <p:cNvSpPr/>
          <p:nvPr/>
        </p:nvSpPr>
        <p:spPr>
          <a:xfrm flipH="1">
            <a:off x="4500720" y="2492280"/>
            <a:ext cx="35856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competitiv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e minimizan costos (eficiencia produc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e producen los bienes y servicios (en la cantidad y calidad) que la gente valora (eficiencia asigna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chas unidades son consumidas por quienes las valoran más (eficiencia asigna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Eficiencia asigna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4"/>
          <p:cNvSpPr/>
          <p:nvPr/>
        </p:nvSpPr>
        <p:spPr>
          <a:xfrm rot="17833800">
            <a:off x="3242520" y="1236960"/>
            <a:ext cx="326880" cy="3322800"/>
          </a:xfrm>
          <a:custGeom>
            <a:avLst/>
            <a:gdLst>
              <a:gd name="textAreaLeft" fmla="*/ 0 w 326880"/>
              <a:gd name="textAreaRight" fmla="*/ 118080 w 326880"/>
              <a:gd name="textAreaTop" fmla="*/ 86400 h 3322800"/>
              <a:gd name="textAreaBottom" fmla="*/ 3236400 h 332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3200400" y="1784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o aquellos que valoran el bien en más que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o cons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5925600" y="3699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oduce la ca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 flipH="1">
            <a:off x="5105520" y="411480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Eficiencia produc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4"/>
          <p:cNvSpPr/>
          <p:nvPr/>
        </p:nvSpPr>
        <p:spPr>
          <a:xfrm>
            <a:off x="6399000" y="25146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 flipV="1">
            <a:off x="1600200" y="2133720"/>
            <a:ext cx="37339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6"/>
          <p:cNvSpPr/>
          <p:nvPr/>
        </p:nvSpPr>
        <p:spPr>
          <a:xfrm>
            <a:off x="5331600" y="1752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7"/>
          <p:cNvSpPr/>
          <p:nvPr/>
        </p:nvSpPr>
        <p:spPr>
          <a:xfrm flipH="1">
            <a:off x="160020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8"/>
          <p:cNvSpPr/>
          <p:nvPr/>
        </p:nvSpPr>
        <p:spPr>
          <a:xfrm>
            <a:off x="1079640" y="3276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3594240" y="5715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0"/>
          <p:cNvSpPr/>
          <p:nvPr/>
        </p:nvSpPr>
        <p:spPr>
          <a:xfrm>
            <a:off x="3886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1"/>
          <p:cNvSpPr/>
          <p:nvPr/>
        </p:nvSpPr>
        <p:spPr>
          <a:xfrm>
            <a:off x="6076080" y="3622680"/>
            <a:ext cx="29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 garant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2"/>
          <p:cNvSpPr/>
          <p:nvPr/>
        </p:nvSpPr>
        <p:spPr>
          <a:xfrm flipH="1">
            <a:off x="525744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4617b"/>
                </a:solidFill>
                <a:latin typeface="Calibri"/>
              </a:rPr>
              <a:t>Efectos de un precio/cantidad diferentes al equilibrio (precio mínimo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Line 3"/>
          <p:cNvSpPr/>
          <p:nvPr/>
        </p:nvSpPr>
        <p:spPr>
          <a:xfrm>
            <a:off x="825480" y="1538280"/>
            <a:ext cx="0" cy="268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825480" y="4227480"/>
            <a:ext cx="4516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521352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396720" y="148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610920" y="42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8"/>
          <p:cNvSpPr/>
          <p:nvPr/>
        </p:nvSpPr>
        <p:spPr>
          <a:xfrm>
            <a:off x="825480" y="1914480"/>
            <a:ext cx="4194360" cy="20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9"/>
          <p:cNvSpPr/>
          <p:nvPr/>
        </p:nvSpPr>
        <p:spPr>
          <a:xfrm flipV="1">
            <a:off x="825480" y="2290680"/>
            <a:ext cx="3710160" cy="19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0"/>
          <p:cNvSpPr/>
          <p:nvPr/>
        </p:nvSpPr>
        <p:spPr>
          <a:xfrm>
            <a:off x="3137040" y="304308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2973600" y="4255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2"/>
          <p:cNvSpPr/>
          <p:nvPr/>
        </p:nvSpPr>
        <p:spPr>
          <a:xfrm flipH="1">
            <a:off x="825120" y="3043080"/>
            <a:ext cx="2311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460440" y="285588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4214880" y="19684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=C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825120" y="2664000"/>
            <a:ext cx="29098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459000" y="250668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2233800" y="42274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411280" y="2666880"/>
            <a:ext cx="0" cy="156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4573800" y="3716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536920" y="45975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447840" y="27237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24360" y="1452600"/>
            <a:ext cx="3168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Producto: Menor al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Redistributivo: Productores se apropian de parte del excedente del consumidor; área 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b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de eficiencia: pérdida social neta equivalente al triángulo 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20920" y="2357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22360" y="2862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93640" y="3294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84280" y="272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5280" y="4869000"/>
            <a:ext cx="8424720" cy="17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umidor solo va a estar dispuesto a consumir hasta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; consumir más le reportaría una pérdida neta en su bienestar (P&gt;Benefi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precio 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oferente va a estar dispuesto a vender la cantidad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pero no hay nadie que le co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l mercado laboral la distancia entre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conoce como des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0"/>
          <p:cNvSpPr/>
          <p:nvPr/>
        </p:nvSpPr>
        <p:spPr>
          <a:xfrm>
            <a:off x="3708360" y="2666880"/>
            <a:ext cx="0" cy="156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3570480" y="4221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resu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economía competitiva genera asignaciones eficientes en el sentido de Pareto (Nadie puede mejorar sin perjudicar a otr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conomía competitiva maximiza la eficiencia productiva (permite tener la más grande posible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quiere de intervención pública algu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ecios orientan las asignaciones, haciendo que los recursos sean utilizados de la mejor manera po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Intercambio Pur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aginémonos una economía simple formada por dos individuos Juan y Ana, que consumen dos bienes ( h, m) cuya oferta es fija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mo habrían de distribuirse estos bi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ja de Edgeworth refleja la distribución de los bienes h y m entre nuestros dos individu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Object 2"/>
          <p:cNvGraphicFramePr/>
          <p:nvPr/>
        </p:nvGraphicFramePr>
        <p:xfrm>
          <a:off x="7151760" y="1844640"/>
          <a:ext cx="22860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51760" y="1844640"/>
                    <a:ext cx="228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Rectangle 3"/>
          <p:cNvSpPr/>
          <p:nvPr/>
        </p:nvSpPr>
        <p:spPr>
          <a:xfrm>
            <a:off x="1258920" y="1052640"/>
            <a:ext cx="6372360" cy="518472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2340000" y="1917720"/>
            <a:ext cx="4680000" cy="38876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5219280" y="4791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6"/>
          <p:cNvSpPr/>
          <p:nvPr/>
        </p:nvSpPr>
        <p:spPr>
          <a:xfrm>
            <a:off x="2340000" y="5157720"/>
            <a:ext cx="287964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5219640" y="5229360"/>
            <a:ext cx="0" cy="57600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5219640" y="5157720"/>
            <a:ext cx="1800360" cy="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5219640" y="1917720"/>
            <a:ext cx="0" cy="331164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0"/>
          <p:cNvSpPr/>
          <p:nvPr/>
        </p:nvSpPr>
        <p:spPr>
          <a:xfrm>
            <a:off x="5148360" y="50864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 rot="16200000">
            <a:off x="670680" y="3726000"/>
            <a:ext cx="26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324360" y="16020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Arial"/>
              </a:rPr>
              <a:t>La 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3349440" y="5877000"/>
            <a:ext cx="27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s de m en el añ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4"/>
          <p:cNvSpPr/>
          <p:nvPr/>
        </p:nvSpPr>
        <p:spPr>
          <a:xfrm>
            <a:off x="1477800" y="5805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5"/>
          <p:cNvSpPr/>
          <p:nvPr/>
        </p:nvSpPr>
        <p:spPr>
          <a:xfrm>
            <a:off x="7053120" y="134136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6"/>
          <p:cNvSpPr/>
          <p:nvPr/>
        </p:nvSpPr>
        <p:spPr>
          <a:xfrm>
            <a:off x="2053440" y="5756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7"/>
          <p:cNvSpPr/>
          <p:nvPr/>
        </p:nvSpPr>
        <p:spPr>
          <a:xfrm>
            <a:off x="6948360" y="1628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8"/>
          <p:cNvSpPr/>
          <p:nvPr/>
        </p:nvSpPr>
        <p:spPr>
          <a:xfrm>
            <a:off x="2126160" y="16527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9"/>
          <p:cNvSpPr/>
          <p:nvPr/>
        </p:nvSpPr>
        <p:spPr>
          <a:xfrm>
            <a:off x="6951600" y="5684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 – s es la cantidad total del bien m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 – r es la cantidad total del bien h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cantidades consumidas por Juan se miden desde el punto O y las de Ana desde el punto 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ja contiene todas las distribuciones posibles de m y h entre Juan y 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deremos ahora las curvas de indi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Problema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 el uso eficaz de los recursos limitados para satisfacer las aspiraciones ilimitadas de la socieda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539640" y="3645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¿Podemos maximizar en bienestar soc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¿Cómo asignamos estos recursos limitad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2736720" y="1413000"/>
            <a:ext cx="6372360" cy="518472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708360" y="1989000"/>
            <a:ext cx="4680000" cy="388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"/>
          <p:cNvSpPr/>
          <p:nvPr/>
        </p:nvSpPr>
        <p:spPr>
          <a:xfrm>
            <a:off x="665928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>
            <a:off x="3708360" y="5300640"/>
            <a:ext cx="287964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6"/>
          <p:cNvSpPr/>
          <p:nvPr/>
        </p:nvSpPr>
        <p:spPr>
          <a:xfrm>
            <a:off x="6588000" y="5300640"/>
            <a:ext cx="0" cy="57636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7"/>
          <p:cNvSpPr/>
          <p:nvPr/>
        </p:nvSpPr>
        <p:spPr>
          <a:xfrm>
            <a:off x="6588000" y="5300640"/>
            <a:ext cx="1800360" cy="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8"/>
          <p:cNvSpPr/>
          <p:nvPr/>
        </p:nvSpPr>
        <p:spPr>
          <a:xfrm>
            <a:off x="6588000" y="1989000"/>
            <a:ext cx="0" cy="331164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9"/>
          <p:cNvSpPr/>
          <p:nvPr/>
        </p:nvSpPr>
        <p:spPr>
          <a:xfrm>
            <a:off x="6516720" y="522936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rc 10"/>
          <p:cNvSpPr/>
          <p:nvPr/>
        </p:nvSpPr>
        <p:spPr>
          <a:xfrm>
            <a:off x="5435640" y="213372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rc 11"/>
          <p:cNvSpPr/>
          <p:nvPr/>
        </p:nvSpPr>
        <p:spPr>
          <a:xfrm>
            <a:off x="5076720" y="2421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rc 12"/>
          <p:cNvSpPr/>
          <p:nvPr/>
        </p:nvSpPr>
        <p:spPr>
          <a:xfrm>
            <a:off x="4643280" y="278136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rc 13"/>
          <p:cNvSpPr/>
          <p:nvPr/>
        </p:nvSpPr>
        <p:spPr>
          <a:xfrm>
            <a:off x="4284720" y="306864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rc 14"/>
          <p:cNvSpPr/>
          <p:nvPr/>
        </p:nvSpPr>
        <p:spPr>
          <a:xfrm>
            <a:off x="3851280" y="3429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rc 15"/>
          <p:cNvSpPr/>
          <p:nvPr/>
        </p:nvSpPr>
        <p:spPr>
          <a:xfrm rot="11009400">
            <a:off x="3780000" y="2997000"/>
            <a:ext cx="280800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rc 16"/>
          <p:cNvSpPr/>
          <p:nvPr/>
        </p:nvSpPr>
        <p:spPr>
          <a:xfrm rot="11009400">
            <a:off x="3995280" y="2852280"/>
            <a:ext cx="280836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rc 17"/>
          <p:cNvSpPr/>
          <p:nvPr/>
        </p:nvSpPr>
        <p:spPr>
          <a:xfrm rot="11009400">
            <a:off x="4355640" y="2707920"/>
            <a:ext cx="280836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rc 18"/>
          <p:cNvSpPr/>
          <p:nvPr/>
        </p:nvSpPr>
        <p:spPr>
          <a:xfrm rot="11009400">
            <a:off x="4500720" y="2349000"/>
            <a:ext cx="280800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rc 19"/>
          <p:cNvSpPr/>
          <p:nvPr/>
        </p:nvSpPr>
        <p:spPr>
          <a:xfrm>
            <a:off x="3564000" y="3645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0"/>
          <p:cNvSpPr/>
          <p:nvPr/>
        </p:nvSpPr>
        <p:spPr>
          <a:xfrm>
            <a:off x="4284720" y="3284640"/>
            <a:ext cx="2663640" cy="23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1"/>
          <p:cNvSpPr/>
          <p:nvPr/>
        </p:nvSpPr>
        <p:spPr>
          <a:xfrm>
            <a:off x="5364000" y="4221000"/>
            <a:ext cx="1447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2"/>
          <p:cNvSpPr/>
          <p:nvPr/>
        </p:nvSpPr>
        <p:spPr>
          <a:xfrm>
            <a:off x="250920" y="1341360"/>
            <a:ext cx="216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na economía donde hay mercados para “todo”, donde no existen costos de transacción y todo el mundo es un tomador de precios con información perfecta genera una asignación eficiente de recursos en el sentido de Par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23"/>
          <p:cNvGrpSpPr/>
          <p:nvPr/>
        </p:nvGrpSpPr>
        <p:grpSpPr>
          <a:xfrm>
            <a:off x="2843280" y="1413000"/>
            <a:ext cx="6265800" cy="4969440"/>
            <a:chOff x="2843280" y="1413000"/>
            <a:chExt cx="6265800" cy="4969440"/>
          </a:xfrm>
        </p:grpSpPr>
        <p:sp>
          <p:nvSpPr>
            <p:cNvPr id="809" name="Rectangle 24"/>
            <p:cNvSpPr/>
            <p:nvPr/>
          </p:nvSpPr>
          <p:spPr>
            <a:xfrm>
              <a:off x="8388360" y="17017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O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5"/>
            <p:cNvSpPr/>
            <p:nvPr/>
          </p:nvSpPr>
          <p:spPr>
            <a:xfrm>
              <a:off x="3419640" y="582912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6"/>
            <p:cNvSpPr/>
            <p:nvPr/>
          </p:nvSpPr>
          <p:spPr>
            <a:xfrm>
              <a:off x="8532720" y="1413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7"/>
            <p:cNvSpPr/>
            <p:nvPr/>
          </p:nvSpPr>
          <p:spPr>
            <a:xfrm>
              <a:off x="2843280" y="604512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J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28"/>
            <p:cNvSpPr/>
            <p:nvPr/>
          </p:nvSpPr>
          <p:spPr>
            <a:xfrm>
              <a:off x="3564000" y="170172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29"/>
            <p:cNvSpPr/>
            <p:nvPr/>
          </p:nvSpPr>
          <p:spPr>
            <a:xfrm>
              <a:off x="8388360" y="58784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30"/>
            <p:cNvSpPr/>
            <p:nvPr/>
          </p:nvSpPr>
          <p:spPr>
            <a:xfrm rot="16200000">
              <a:off x="2207160" y="373104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Existencias de h en el año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31"/>
            <p:cNvSpPr/>
            <p:nvPr/>
          </p:nvSpPr>
          <p:spPr>
            <a:xfrm>
              <a:off x="4568400" y="587844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Existencias de h en el año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Text Box 32"/>
          <p:cNvSpPr/>
          <p:nvPr/>
        </p:nvSpPr>
        <p:spPr>
          <a:xfrm>
            <a:off x="5455800" y="4005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9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3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signación como en el punto E’ e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ficiente en el sentido de Pare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a que no es posible mejorar la situación de uno sin empeorar la situación del ot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signación no eficiente en el sentido de Pareto se considera “despilfarradora” ya que se podría mejorar la situación de uno sin dañar al ot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 en el sentido de Pareto: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asignación de recursos que implica un aumento en el bienestar de una persona sin perjudicar a o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Entonces,</a:t>
            </a:r>
            <a:br>
              <a:rPr sz="4600"/>
            </a:b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¿Porque existe el estado?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4617b"/>
                </a:solidFill>
                <a:latin typeface="Times New Roman"/>
              </a:rPr>
              <a:t>Racionalidad económica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tulado básico de teoría económica: agentes económicos actúan racionalmente, realizando acciones consistentes con el mejor logro de sus obje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jetivos varían según tipo de agent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sonas y hogares optimizan bienestar (utilida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resas optimizan gananci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rganizaciones sin fines de lucro tienen objetivos propios: aliviar  pobreza; desarrollo comunitario; medio ambiente limpio; 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a nivel de grupos o agregados; a nivel individual siempre puede haber comportamientos irracion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rcados competi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irmas y consumidores son tomadoras de pre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personas maximizan su bienestar cundo consumen a un nivel tal que el beneficio marginal es igual al precio del b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firma maximiza sus beneficios cuando produce una cantidad tal que el costo marginal de  es igual al precio del b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333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Demand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1600200" y="2362320"/>
            <a:ext cx="2286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2971800" y="4267080"/>
            <a:ext cx="2286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743200" y="3962520"/>
            <a:ext cx="2286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2514600" y="3657600"/>
            <a:ext cx="2286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0"/>
          <p:cNvSpPr/>
          <p:nvPr/>
        </p:nvSpPr>
        <p:spPr>
          <a:xfrm>
            <a:off x="2286000" y="3429000"/>
            <a:ext cx="228600" cy="22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2057400" y="3048120"/>
            <a:ext cx="22860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1828800" y="2743200"/>
            <a:ext cx="22860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3200400" y="4572000"/>
            <a:ext cx="228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3429000" y="4876920"/>
            <a:ext cx="2286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3657600" y="5105520"/>
            <a:ext cx="228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3886200" y="541008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916200" y="2590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2987640" y="184464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y individuos para quienes el beneficio marginal es 500; están dispuestos a pagar hasta $500 por consumi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0"/>
          <p:cNvSpPr/>
          <p:nvPr/>
        </p:nvSpPr>
        <p:spPr>
          <a:xfrm flipH="1">
            <a:off x="2133720" y="259092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916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2"/>
          <p:cNvSpPr/>
          <p:nvPr/>
        </p:nvSpPr>
        <p:spPr>
          <a:xfrm flipH="1">
            <a:off x="3048120" y="36576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3"/>
          <p:cNvSpPr/>
          <p:nvPr/>
        </p:nvSpPr>
        <p:spPr>
          <a:xfrm>
            <a:off x="1160640" y="545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5"/>
          <p:cNvSpPr/>
          <p:nvPr/>
        </p:nvSpPr>
        <p:spPr>
          <a:xfrm>
            <a:off x="3494520" y="3325680"/>
            <a:ext cx="442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y otros cuyo beneficio es 3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no están dispuestos a pagar má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300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240" y="404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Dema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Curva de demanda describe la cantidad que consumidores querrían comprar para distintos precios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a demanda de la industria es la suma de las demandas individuales, satisface la condición de que el beneficio marginal de cada consumidor sea igual al preci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Refleja las preferencias de los consumidores (valor que se le da al bien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Generalmente tiene pendiente negativ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Utilidad marginal decreciente: Los individuos valoran unidades adicionales del mismo bien en forma decreci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Costos (Ofert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2514600" y="4267080"/>
            <a:ext cx="2286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2743200" y="3962520"/>
            <a:ext cx="2286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2971800" y="3657600"/>
            <a:ext cx="2286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200400" y="3429000"/>
            <a:ext cx="228600" cy="22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3429000" y="3048120"/>
            <a:ext cx="22860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2286000" y="4572000"/>
            <a:ext cx="228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2"/>
          <p:cNvSpPr/>
          <p:nvPr/>
        </p:nvSpPr>
        <p:spPr>
          <a:xfrm>
            <a:off x="2057400" y="4876920"/>
            <a:ext cx="2286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1828800" y="5105520"/>
            <a:ext cx="228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4"/>
          <p:cNvSpPr/>
          <p:nvPr/>
        </p:nvSpPr>
        <p:spPr>
          <a:xfrm>
            <a:off x="1600200" y="541008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916200" y="2590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3021840" y="230040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de producir las primeras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8"/>
          <p:cNvSpPr/>
          <p:nvPr/>
        </p:nvSpPr>
        <p:spPr>
          <a:xfrm flipH="1">
            <a:off x="1904760" y="2590920"/>
            <a:ext cx="99036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916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0"/>
          <p:cNvSpPr/>
          <p:nvPr/>
        </p:nvSpPr>
        <p:spPr>
          <a:xfrm>
            <a:off x="1160640" y="545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1"/>
          <p:cNvSpPr/>
          <p:nvPr/>
        </p:nvSpPr>
        <p:spPr>
          <a:xfrm flipV="1">
            <a:off x="3809880" y="3733560"/>
            <a:ext cx="381240" cy="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4249440" y="3325680"/>
            <a:ext cx="4376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de producir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icionales generalmente va en au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La excepción son los monopolios natur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Costos (Ofert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Curva de oferta representa cantidad que productores desean vender a distintos precio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oferta de la industria, es la suma de las ofertas individuales, satisface la condición que el costo marginal de cada empresa sea igual al preci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¿Que es un cost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s el valor de los recursos utilizados en proveer el bien o servic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Por valor se entiende lo que las personas (en la sociedad) valoran los bienes y servicios que podrían haberse producido si esos recursos no se hubieran destinado a esa industria (al final dependen de las preferencias): Costo de Oport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y bienestar so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2052360" y="198108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manda (valor social de las unida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1600200" y="2819160"/>
            <a:ext cx="55627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3576600" y="51814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marginal (costo de oportun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 flipH="1" flipV="1">
            <a:off x="3581280" y="48769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 flipH="1">
            <a:off x="3276360" y="2438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76392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763200" y="5410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1600200" y="2514600"/>
            <a:ext cx="152280" cy="3200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1600200" y="5638680"/>
            <a:ext cx="152280" cy="76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8"/>
          <p:cNvSpPr/>
          <p:nvPr/>
        </p:nvSpPr>
        <p:spPr>
          <a:xfrm>
            <a:off x="1905120" y="2819520"/>
            <a:ext cx="75960" cy="2514600"/>
          </a:xfrm>
          <a:custGeom>
            <a:avLst/>
            <a:gdLst>
              <a:gd name="textAreaLeft" fmla="*/ 0 w 75960"/>
              <a:gd name="textAreaRight" fmla="*/ 27360 w 759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2129400" y="3657600"/>
            <a:ext cx="38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nancia ne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producir la primera 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3-30T13:34:30Z</dcterms:modified>
  <cp:revision>76</cp:revision>
  <dc:subject/>
  <dc:title>Economía del Sector Público</dc:title>
</cp:coreProperties>
</file>