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9.png" ContentType="image/png"/>
  <Override PartName="/ppt/media/image13.png" ContentType="image/png"/>
  <Override PartName="/ppt/media/image8.wmf" ContentType="image/x-wmf"/>
  <Override PartName="/ppt/media/image12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08AC-2F52-45DC-ACB3-A264C136F8F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9EF2-BA73-489A-A980-ED18F2A77FC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ine grat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CBBF-C6AB-466C-A39F-1E8FB7C4F57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9AD5-0C87-48D6-815E-B490B7B73EA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4592-2469-4DBF-8348-7B293BC99CE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1 .- PRECISAR EL ROL ECONÓMICO QUE DEBE JUGAR EL</a:t>
            </a: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 ESTADO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 EN UNA ECONOMÍA DE MERC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2.- ESTUDIAR LAS FORMAS A TRAVÉS DE LAS CUALES EL ESTADO </a:t>
            </a: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INTERVIENE EN LA ECONOMÍA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, TANTO POR EL LADO DE LOS INGRESOS COMO DE LOS GASTOS DE SU PRESUPUES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3.- ESTUDIAR </a:t>
            </a: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LOS BENEFICIOS Y LOS COSTOS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 DE TAL INTERVEN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4.- REALIZAR UN ANÁLISIS TEÓRICO Y PRÁCTICO DEL </a:t>
            </a: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CASO CHILE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EB7B-F9C1-41BF-BDEB-22CDA78C5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92F7-1B58-4FC8-BD82-A9BA4ED4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432D1-4465-44E3-8D85-CA3CCEB3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A19855-07FE-47E3-9682-9C280095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568E6B-8031-44E9-9A9F-DA6A8F65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6A1E9-FB3F-48C1-86F8-58B88DE3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63775-AA5D-4EDA-A6EA-E2676184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8B8ED-30A4-4731-A93A-C2CB427A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7DA367-F2E1-4BC7-BD35-9A9EE630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79217B-EFA5-4D93-9DED-341ECD170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FE43F-823E-463B-87D8-940D44FD4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065EE-C16D-4795-9A03-BA7712829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FEA8-A64C-4424-B4A1-B31ED2FEB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5DFD7-9ADA-40DC-9E76-0340A883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04F7BC-2C5F-4579-B89F-273B1BE3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D13A0-6121-4018-86E2-35B007EA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83E712-A270-4927-922A-578C28A3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F4E87C-96C2-4BFC-A370-63865F66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8A5AFD-1289-4282-B462-1DD795E4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76A09-DC17-4DA1-8D0B-1000E32E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397EAF-8CD0-4A78-9417-EF4F7C07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A7B59-6CB6-42DA-BC8E-BFB9D192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155E89-3B89-4427-A065-0D0F6B0BC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6AAB-66AD-40EA-8990-D74DBCF9E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8FB431-BC1D-4EE7-96E7-5FD078C36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8167E-82F0-40DD-978B-1B5939847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30027-752A-46FA-B09E-356D83A4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C2A86-21AE-4E65-BF67-0B3C7FC3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5D458-F0C8-424A-8139-3F13D255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1D6DE-1C0C-4C83-A5B0-6B48594D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EECED4-D4B4-4C5C-A088-6C3F7BD0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229FC-C235-4C6A-8E5F-A6713310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F0CA1-15DD-49AF-A705-B702579B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18963-0DA5-496D-9FBA-7023C05C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08FD-38FE-4632-B8D6-906B95154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69759-B214-47D6-B0CF-16F84965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F9F28-DD4A-48C3-9E90-3EC8278EE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E30C2-4D56-465C-8E65-F6C184AB8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851582-F2B0-41E2-BACE-8DCC5A034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6F4219-204B-419E-B7B4-473009CA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12597E-D7A6-4A0D-BA21-3994271F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280BB-3D44-42B6-AA49-219080F4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F4623-B9F3-4353-A2D3-7407E143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247A9D-AEE7-487D-916F-73CAB22D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501197-DB71-4B57-8E24-1129B925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821D-CFFA-4693-8E89-9552964F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3A013B-49BD-4198-A5FE-73732DBB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C69FDC-09EB-426A-9545-09D8BDCE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E587BE-0A06-4CB1-BDB0-AB1F4841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92CA0B-2607-4799-B90C-577D7CBBD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8E18E9-6189-4FF1-BA58-12BE8C9B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C9E1-A792-4123-ACF0-3EE74989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6B09-AF4A-4AB2-85BB-93B86606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CD8D-C3E8-4827-8BDB-C5DFCF95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2F27-1481-4AC7-B004-94097481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CD29-460D-40C7-93D8-7AF31C42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4C38-2284-4783-B9D7-62635E70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8430-E25F-49DF-B074-CF0954D1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C769-48DE-40CA-BEB4-FD689C12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8674-5F9E-4E65-A2A5-AF8913CA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C49C-3971-4B8E-A2C7-9EF3994E1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CB24-C555-4F0A-AAFD-19513AEAC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BA678-B19B-4262-8CE0-C41A709B2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784CE-36BC-4077-9255-76ADA5F7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A927E-1CCF-4F02-9753-75869CD7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25672-E281-481D-9C02-61991CF5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99882-A047-4483-B07D-31D498B5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598F-ADE3-43CB-8CB0-C18A2BBF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2F820-2BB7-4D7C-8A55-E0685ED9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76874-F1CC-4985-8F58-E1820930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FAEDB-D87A-4319-8C19-632581B9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F99AC-E150-4B00-AB2E-1D02964F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0DB88-32CB-4FC3-ACD7-D6518901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B3296-1032-4097-9437-54353E77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E4193-935F-4A21-B0C9-A092C7868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9A994-E007-45D9-B95C-F74F15F7A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B7B87-2637-457E-9D16-6EF0621F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B1711-3CC5-4912-9728-B83A79F5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F177-0B67-4B1F-88DB-7EBBCA32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A43B4-86C9-43C2-A280-1C3B62E2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1A0B6-7137-4367-AD88-F986FAE4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E35DA-C88D-4B66-8427-5EF2628F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F6968-2C53-4891-A15C-89925CC9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8D898-6EF7-4230-9F8E-92D22F78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859B3-8BCC-48C7-B324-369A9836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E21AC-E2F6-4142-A0B4-8E907AF5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A945F-F6EA-489C-BA3E-B87CA29FE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ED78E-72ED-49EC-9970-A492F0419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EB03D-CFF5-4880-ADF8-ED3366A11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DF64-32E0-4E14-8F01-1271BC4E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E9A55-1D5C-4071-967D-F5914590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28CAE-DF3C-4BD8-BDEF-7785AA79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73ABE-6E0E-4A11-96E2-89C7A53D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39805-439C-4C60-B774-1C248AD2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C9393-093E-47F4-A68C-3DFAB7C1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B8D03-4ED5-44D5-BCD2-AC3C7131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14CDA-9272-4045-BB31-7ECCEEF3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DAB0C-4F9E-40A4-B8A9-DAA725CE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0DE79-14BF-4B1E-9741-58D754C7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EC740-1A57-4B00-86CF-D2199A695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DFE5-59F7-455A-A5FE-A033C4B5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BEE5E-6514-4251-864B-ABC3D0052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710B8-76A8-4C70-81E7-F91EA1B3B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B80C0-FF14-44C7-9F7C-602BC287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AB7F3-55FE-490A-B7C4-6EE50EB7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C05A0-D9AF-4707-B1D3-5B36731E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6F6BA-46C8-4A71-8219-B3D93274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35F82-9F2F-4130-8064-20FE1B1B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F753A-02B2-4CDC-9002-5D7ECA1B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6DF67-3EC3-4A73-98FE-2D523949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A1E3F-F5CD-4CA1-8390-BBD91AE5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F527-F11F-4137-AA95-325D35AA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03A60-797B-4143-81DF-6B1F6453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0272D-AABC-4EA5-95F6-EF3619CD0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B2865-66E5-4BD0-86A7-6762B7052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13A5B-B21D-4E91-B4CD-CB0FC908A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255C6-1813-4636-9BBB-97314733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1D889-A71C-4FD3-B9AD-537424E2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07583-FD78-4152-A6DC-00D92505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D48BC-3343-4905-BA20-170515CF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49673-131D-41F9-BA0B-25A0CE15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A8063-EDFC-4FB1-9D5D-6117DBE2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F1D4-7B2D-4B12-B8BF-7CA403C8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4D12C-E3B9-4B8E-8152-3824B3FF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98F80-76C4-4486-AE14-F883503C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CE41D-3FB2-4C7D-8445-BEA60F9A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7E556-B969-409E-8622-D34F0BC3A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AFE2F-52DC-471D-8944-DE00A914B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46B21-2557-4C2C-B3E2-1E6D82F42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7FCBA-DC5B-46C7-B3E0-8AB5CCA1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89D9A-720C-4484-BCF2-4194C767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F5E6F-0DF2-4537-BC37-795B169C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86AE0-CD68-4794-AC5C-5170081B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84DC-3FC0-4E22-952E-0147073F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9745F-C0D5-48A1-A9FB-A70968DC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46901-3989-47BD-9AA3-A4487F9E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55EC3-BC18-4819-BA4B-2F97CE45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CC71D-33B0-4E80-9D7E-944E7C98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B4AB2-FD4F-43B9-99BF-ED7D564F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3D552-2DE9-4B21-AC4A-FE97FF61A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9118A-06F9-4348-AC96-DFE3BF7F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20C16C-C473-487F-A023-D63692333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3B9DB-D2DA-4181-9CFE-9F8C0BB8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12203-D7E0-4919-80B5-D9C5E1B2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3A05-4B3B-442B-8C20-1DBE8586452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7" descr=""/>
          <p:cNvPicPr/>
          <p:nvPr/>
        </p:nvPicPr>
        <p:blipFill>
          <a:blip r:embed="rId3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3D89-768C-4B90-AA14-4E683F257D8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10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11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4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16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0D8F-9CA8-48DC-8D19-9DBD0B132DF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61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2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65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67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32A4-2FC3-40F1-8A03-0BD54EC87EF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70DD-2ECB-4EA0-BA51-99CB9B174E7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7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8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1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3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F37B-94D5-4AF7-BD6F-33E11A6AB5C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4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7960-CD0B-4E49-A703-8999CE444F8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9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10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3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5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7E9D-B4CE-48B1-AE03-53CA7C33719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60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61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4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6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2866-53D9-4D16-BB62-9338C5E4C80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11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12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5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7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1248-C697-4D57-8AB7-C98F348B9C4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62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63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6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68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FD94-FF42-4F1E-9340-FD61455D901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1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1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1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19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0D18-5F99-453F-A2BF-3320ED08A89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Rectangle 2" descr=""/>
          <p:cNvPicPr/>
          <p:nvPr/>
        </p:nvPicPr>
        <p:blipFill>
          <a:blip r:embed="rId2"/>
          <a:stretch/>
        </p:blipFill>
        <p:spPr>
          <a:xfrm>
            <a:off x="530280" y="1255680"/>
            <a:ext cx="8461440" cy="2011320"/>
          </a:xfrm>
          <a:prstGeom prst="rect">
            <a:avLst/>
          </a:prstGeom>
          <a:ln w="0">
            <a:noFill/>
          </a:ln>
        </p:spPr>
      </p:pic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Profesor: Andrés Tomasell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Gasto Público en Chi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638" name="3 Marcador de contenido"/>
          <p:cNvGraphicFramePr/>
          <p:nvPr/>
        </p:nvGraphicFramePr>
        <p:xfrm>
          <a:off x="457200" y="1560600"/>
          <a:ext cx="8229600" cy="4701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39" name="3 Marcador de contenido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560600"/>
                    <a:ext cx="8229600" cy="47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0" name="1 Título"/>
          <p:cNvSpPr/>
          <p:nvPr/>
        </p:nvSpPr>
        <p:spPr>
          <a:xfrm>
            <a:off x="285840" y="6500880"/>
            <a:ext cx="82296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Fuente: Dip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7"/>
          <p:cNvSpPr/>
          <p:nvPr/>
        </p:nvSpPr>
        <p:spPr>
          <a:xfrm>
            <a:off x="437400" y="198900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% P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n la OEC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44" name="Picture 2" descr=""/>
          <p:cNvPicPr/>
          <p:nvPr/>
        </p:nvPicPr>
        <p:blipFill>
          <a:blip r:embed="rId2"/>
          <a:stretch/>
        </p:blipFill>
        <p:spPr>
          <a:xfrm>
            <a:off x="857160" y="1305000"/>
            <a:ext cx="7745400" cy="53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onde Gast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46" name="4 Marcador de contenido" descr=""/>
          <p:cNvPicPr/>
          <p:nvPr/>
        </p:nvPicPr>
        <p:blipFill>
          <a:blip r:embed="rId2"/>
          <a:stretch/>
        </p:blipFill>
        <p:spPr>
          <a:xfrm>
            <a:off x="457200" y="1500120"/>
            <a:ext cx="8229600" cy="4824360"/>
          </a:xfrm>
          <a:prstGeom prst="rect">
            <a:avLst/>
          </a:prstGeom>
          <a:ln w="0">
            <a:noFill/>
          </a:ln>
        </p:spPr>
      </p:pic>
      <p:sp>
        <p:nvSpPr>
          <p:cNvPr id="647" name="1 Título"/>
          <p:cNvSpPr/>
          <p:nvPr/>
        </p:nvSpPr>
        <p:spPr>
          <a:xfrm>
            <a:off x="285840" y="6500880"/>
            <a:ext cx="82296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Fuente: Martínez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Las Prioridades Cambia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49" name="Picture 2" descr=""/>
          <p:cNvPicPr/>
          <p:nvPr/>
        </p:nvPicPr>
        <p:blipFill>
          <a:blip r:embed="rId2"/>
          <a:stretch/>
        </p:blipFill>
        <p:spPr>
          <a:xfrm>
            <a:off x="220680" y="1714680"/>
            <a:ext cx="834552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omo lo financiam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651" name="4 Marcador de contenido"/>
          <p:cNvGraphicFramePr/>
          <p:nvPr/>
        </p:nvGraphicFramePr>
        <p:xfrm>
          <a:off x="457200" y="1560600"/>
          <a:ext cx="8229600" cy="4701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52" name="4 Marcador de contenido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560600"/>
                    <a:ext cx="8229600" cy="47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omo lo financiam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54" name="Picture 2" descr=""/>
          <p:cNvPicPr/>
          <p:nvPr/>
        </p:nvPicPr>
        <p:blipFill>
          <a:blip r:embed="rId2"/>
          <a:stretch/>
        </p:blipFill>
        <p:spPr>
          <a:xfrm>
            <a:off x="793800" y="1500120"/>
            <a:ext cx="75564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egresión PIB / Carga Tributar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656" name="Object 4"/>
          <p:cNvGraphicFramePr/>
          <p:nvPr/>
        </p:nvGraphicFramePr>
        <p:xfrm>
          <a:off x="1547640" y="1471680"/>
          <a:ext cx="6264360" cy="4189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5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471680"/>
                    <a:ext cx="626436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8" name="Rectangle 6"/>
          <p:cNvSpPr/>
          <p:nvPr/>
        </p:nvSpPr>
        <p:spPr>
          <a:xfrm>
            <a:off x="473400" y="6289560"/>
            <a:ext cx="434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Fuente: FMI,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www.nationmaster.com/graph/tax_tax_rev_of_gdp-taxation-tax-revenue-of-gd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619280" y="2928960"/>
            <a:ext cx="6121440" cy="30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000000"/>
                </a:solidFill>
                <a:latin typeface="Constantia"/>
              </a:rPr>
              <a:t>Causalidad?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Nos presentamo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Objetivo del Curs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214200" y="1357200"/>
            <a:ext cx="8715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tregar al alumno principios económicos básicos que fundamentan la intervención del Estado en una economía de mercado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Algunas preguntas que intentaremos respond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Por qué debe existir el Estad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Por qué distintos gobiernos intervienen de manera distinta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En qué y cómo gasta el gobierno y cómo se financia este gast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Cuáles son los costos y beneficios de la intervención del estad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Plan de Estud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68360" y="98100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El Papel del Estado en la Economí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nstantia"/>
              </a:rPr>
              <a:t>Problema económico y mecanismos de asignación de recurso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nstantia"/>
              </a:rPr>
              <a:t>Las cifras del Estado en la Economía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nstantia"/>
              </a:rPr>
              <a:t>La estructura del mercado eficiente y fallas de mercado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nstantia"/>
              </a:rPr>
              <a:t>Modalidades de intervención y financiamiento del Estado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nstantia"/>
              </a:rPr>
              <a:t>Política Fiscal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nstantia"/>
              </a:rPr>
              <a:t>Política Monetaria y Cambiaria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468360" y="2997360"/>
            <a:ext cx="822960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Gasto 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Ingresos Públ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nstantia"/>
              </a:rPr>
              <a:t>Impues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nstantia"/>
              </a:rPr>
              <a:t>Incentivos Fiscales y Gasto Tributar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nstantia"/>
              </a:rPr>
              <a:t>Endeudamiento Público y Reglas Fiscal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3"/>
          <p:cNvSpPr/>
          <p:nvPr/>
        </p:nvSpPr>
        <p:spPr>
          <a:xfrm>
            <a:off x="468360" y="4437000"/>
            <a:ext cx="82296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Federalismo Fi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La Economía y las Preferencias Colec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nstantia"/>
              </a:rPr>
              <a:t>Naturaleza Política de las decisiones colectiv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lnSpc>
                <a:spcPct val="8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Selección de relglas de decisión colectiva y teoría del public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lnSpc>
                <a:spcPct val="8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Teorema del Votante Medi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8"/>
          <p:cNvSpPr/>
          <p:nvPr/>
        </p:nvSpPr>
        <p:spPr>
          <a:xfrm>
            <a:off x="321480" y="6459480"/>
            <a:ext cx="2070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Gasto 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19523E-006 L 0.00087 0.29771 E">
                                      <p:cBhvr>
                                        <p:cTn id="6" dur="2000" fill="hold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8973E-006 L -0.00277 0.25376 E">
                                      <p:cBhvr>
                                        <p:cTn id="8" dur="2000" fill="hold"/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5 0.00809 L 3.88889E-006 -0.0421 E">
                                      <p:cBhvr>
                                        <p:cTn id="10" dur="2000" fill="hold"/>
                                        <p:tgtEl>
                                          <p:spTgt spid="6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36017E-006 L -0.00122 -0.10479 E">
                                      <p:cBhvr>
                                        <p:cTn id="12" dur="20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36017E-006 L -0.00122 -0.10479 E">
                                      <p:cBhvr>
                                        <p:cTn id="14" dur="20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36017E-006 L -0.00122 -0.10479 E">
                                      <p:cBhvr>
                                        <p:cTn id="16" dur="2000" fill="hold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36017E-006 L -0.00122 -0.10479 E">
                                      <p:cBhvr>
                                        <p:cTn id="18" dur="2000" fill="hold"/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36017E-006 L -0.00122 -0.10479 E">
                                      <p:cBhvr>
                                        <p:cTn id="20" dur="2000" fill="hold"/>
                                        <p:tgtEl>
                                          <p:spTgt spid="6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Sobre las Evaluacion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125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os pruebas parcial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Materia + control de lectur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5 de Mayo (“La Racionalidad del Mercado” y “Las fallas del Mercado; Letelier 2006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23 de Junio (“Las Instituciones en el Crecimiento Económico”; Rosende 2008 y “Instituciones y Crecimiento Económico” Sebastián; 2006 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ueba Global (acumulativo, solo materia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Semana del 5 al 17 de julio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xamen Final (materia + lecturas + Ross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Semana del 19 al 24 de Julio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La Bibliografía (adicional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57200" y="1341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Jorrat, Michael (2009). “La tributación directa en Chile: equidad y desafíos”, Ilpes-Cepal, Santiago </a:t>
            </a:r>
            <a:r>
              <a:rPr b="0" lang="es-CL" sz="1400" spc="-1" strike="noStrike">
                <a:solidFill>
                  <a:srgbClr val="000000"/>
                </a:solidFill>
                <a:latin typeface="Constantia"/>
              </a:rPr>
              <a:t>www.eclac.cl/publicaciones/xml/9/37319/Serie_MD_92.pdf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osende, Francisco (2008).“Las Instituciones en el Crecimiento Económico”,CEP, Santiago </a:t>
            </a:r>
            <a:r>
              <a:rPr b="0" i="1" lang="es-ES" sz="1400" spc="-1" strike="noStrike">
                <a:solidFill>
                  <a:srgbClr val="000000"/>
                </a:solidFill>
                <a:latin typeface="Constantia"/>
              </a:rPr>
              <a:t>www.</a:t>
            </a:r>
            <a:r>
              <a:rPr b="1" i="1" lang="es-ES" sz="1400" spc="-1" strike="noStrike">
                <a:solidFill>
                  <a:srgbClr val="000000"/>
                </a:solidFill>
                <a:latin typeface="Constantia"/>
              </a:rPr>
              <a:t>cep</a:t>
            </a:r>
            <a:r>
              <a:rPr b="0" i="1" lang="es-ES" sz="1400" spc="-1" strike="noStrike">
                <a:solidFill>
                  <a:srgbClr val="000000"/>
                </a:solidFill>
                <a:latin typeface="Constantia"/>
              </a:rPr>
              <a:t>chile.cl/dms/archivo_4237.../rev111_rosende_</a:t>
            </a:r>
            <a:r>
              <a:rPr b="1" i="1" lang="es-ES" sz="1400" spc="-1" strike="noStrike">
                <a:solidFill>
                  <a:srgbClr val="000000"/>
                </a:solidFill>
                <a:latin typeface="Constantia"/>
              </a:rPr>
              <a:t>crecimiento</a:t>
            </a:r>
            <a:r>
              <a:rPr b="0" i="1" lang="es-ES" sz="1400" spc="-1" strike="noStrike">
                <a:solidFill>
                  <a:srgbClr val="000000"/>
                </a:solidFill>
                <a:latin typeface="Constantia"/>
              </a:rPr>
              <a:t>.pdf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bastián, Carlos (2006). “Instituciones y Crecimiento Económico, Un marco conceptual”, Universidad Complutense, Madrid </a:t>
            </a:r>
            <a:r>
              <a:rPr b="0" lang="es-CL" sz="1400" spc="-1" strike="noStrike">
                <a:solidFill>
                  <a:srgbClr val="000000"/>
                </a:solidFill>
                <a:latin typeface="Constantia"/>
              </a:rPr>
              <a:t>www.ucm.es/info/ecocuan/MacroDin/Organizacion/INSTITUCIONES%20Y%20ECONOMIA.pdf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ossen, Harvey (2002). “Hacienda Pública”, Quinta edición, Mc Graw Hill.  Capítulos 4- 8, 13-15, 17, 19, 20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Las Reglas de Jueg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spe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untualidad: 8h35 se toma lis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  <a:ea typeface="Arial"/>
              </a:rPr>
              <a:t>Poner atención a las indic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ntroduc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udio del rol del gobierno en la econom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eguntas que la ciencia económica busca respond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Debe el gobierno intervenir en la economía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¿Cuándo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¿Cómo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Cuáles son los efectos de dicha intervención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No hay respuestas ún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caso de la salu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tados Unidos: Seguro privad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eino Unido: Atención gratui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anadá: Seguro públic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hile: Sistema mixto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Educación Públ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tados Unidos: Distritos Escola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cuador: Centralizad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hile: Municipalizada y subvencionad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4:55:32Z</dcterms:created>
  <dc:creator>atomaselli</dc:creator>
  <dc:description/>
  <dc:language>en-US</dc:language>
  <cp:lastModifiedBy>atomaselli</cp:lastModifiedBy>
  <dcterms:modified xsi:type="dcterms:W3CDTF">2010-03-23T18:07:12Z</dcterms:modified>
  <cp:revision>74</cp:revision>
  <dc:subject/>
  <dc:title>Economía del Sector Público</dc:title>
</cp:coreProperties>
</file>