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54D-A701-4468-9533-BC272B523B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F5D-A8F2-4540-99BA-B2486327DB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ne gr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396-50B0-49ED-8525-099C74C582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1B3-B2D4-44C2-86E0-80E6F5DCCD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717-537D-45F9-B7D3-D70E6D0FDA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 .- PRECISAR EL ROL ECONÓMICO QUE DEBE JUGAR EL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ESTADO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EN UNA ECONOMÍA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- ESTUDIAR LAS FORMAS A TRAVÉS DE LAS CUALES EL ESTADO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INTERVIENE EN LA ECONOMÍ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, TANTO POR EL LADO DE LOS INGRESOS COMO DE LOS GASTOS DE SU PRESUPUE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- ESTUDIAR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LOS BENEFICIOS Y LOS COSTO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DE TAL INTERVEN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.- REALIZAR UN ANÁLISIS TEÓRICO Y PRÁCTICO DEL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SO CHIL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699-E330-4B1C-B8AC-59AD8962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DF6-2E18-4BFE-A4F6-1903F54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5F5A0-317D-4269-BF50-7E3CC6A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1B1FD-8059-45B6-94C1-B2D2573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5886D-2AE5-4592-84DA-316B06C8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F4419-66FF-474C-8721-2E70A69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C1D63-7D0A-4CD6-ABD5-CC6AC7B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7E73-DB63-4255-AD69-B344616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6CA2C-A9E1-4AFA-866E-02EC42A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0322-95B3-46B1-9D22-0E31E74C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A3C76-40D9-48E7-B208-95319C96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C9E3B-2697-47E5-BCE3-BCB1F3AD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A48-C476-4B8D-B251-6C0C96B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7EDE8-12EA-44DA-B24E-2B14E11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932C4-BDD4-4619-BB7F-29C6720B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BD38A-6F62-4D39-9FC4-4892E7F4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FC656-2201-409D-B35E-C0E389A4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2B875-66C1-4402-812C-D82490C7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3EA3D-200D-4B8F-926E-965D7CD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F08AD-9E0C-4F01-8C14-D955BC3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F1788-11FD-4305-A743-8E600C4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BC50A-60E5-421D-97B5-962B9AE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C3A23-0BA2-44DF-B59E-D978AB64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A24-6C15-40A5-B147-D09C377B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18E2-9E7F-4C2A-B5D7-BD0E8556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8501-81D3-463A-AC4F-AD888184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5663-6F0B-4DB0-B948-C17EA8DF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60F6-021E-419A-886A-139A615A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7EDA-C387-46F9-B13C-8194F10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AA77-9FB8-4BA8-B41F-E1645553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C9729-BA1B-4782-A91D-3252186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D36B2-0512-4BF4-86AE-C0081CD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8DFE8-B66B-4C05-99D8-1137C37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68978-61E9-4DED-BBB5-0A185D8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E053-2032-41E8-B953-F98E0128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8779-2E7F-47F7-9FC9-FDF41A14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66C67-CED6-475A-BD03-E2334FD9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231A-27A9-4464-BF22-D10DAAA7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FE640-B092-4862-B434-70A39E43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49B6D-47D6-424A-934A-FEDB7002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33F56-67DB-4B53-9DF8-0D2EFCF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BEF9C-F208-4C43-A1F9-3EC57CC1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D9923-9A30-41B1-B564-29CB2AAB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182B5-4FFC-4885-88C8-3D5A3BD7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B1B55-CD2F-4BA3-9F00-05C6F9D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B85-B2A8-4BB9-8692-69060A45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5B3B7-A121-4BCB-80FC-47AF148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8834E-F713-4BEF-AB13-79677DC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686ED-5BB2-4A11-8F3E-97C2CA55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F8DAB-31B1-4AE5-A52E-E2A4904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6D39E-29BB-4956-90D7-276253D2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DA57-F75B-4AA1-AA64-2D5168B5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3E9D-024D-47AE-890D-76CAE18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D886-DDC7-4349-B883-436CE8E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1C3C-8F34-4BA0-B522-9F63773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D194-995D-4E7B-B432-76FF22D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6CC-6B33-437A-9C78-53C3E73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F7E2-E921-4D4C-99B2-2A8A2AA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D703-C868-4766-AAF3-489AD5A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7A33-753F-46FB-A3A2-42A73B8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4877-8271-4A4D-82DE-5A21C5BE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038-BF27-4572-9F27-442CF093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FD0E-99EE-4009-B616-8C6DF100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8012-8D56-4E81-8581-C6F769E4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0123-ABCC-4099-BADB-A9604C71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A97E-9C0D-4743-9320-32F9F63D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90EB-026F-401D-821C-E0132D0E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9D3-3A4A-4EBC-A766-C8DA8F8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B894-3DF0-45EB-8416-D652C77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D639-4B96-4EB0-B136-7BFB1E7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A7A0-51EC-4D31-8F1A-1F1E391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BE8C-8FCD-4ADF-9B2A-63CA468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B37D-6333-4AA7-B816-11CF37B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9F16-BBFB-4AED-AD66-42DDC408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74AB-1590-43CB-87BD-4F08F727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40FE-9FC1-48C6-B702-017191E2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662C-D0A9-4909-BC4D-194C2010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F3BB-B57B-4FA8-8930-2964A37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C3D-6B3F-4203-844A-47338193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3987-EC5B-4200-9382-36FE0D1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2C4B-229B-4108-9A75-1EDD442D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3F74-673F-4480-A061-18231D14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4497-CBBE-425B-91DD-DE66E080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C30C-A66C-4596-86F6-109A44E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A666-FE5B-46D3-B7EB-F6E561E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FF6E5-7BB6-4BCF-9F3D-DADD659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4A14-06FE-426F-9F5E-B41944B6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8DF6-0A34-44C5-B992-A91E7B27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A36D-2D05-4FCE-A9A2-C8D9E557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542-6CBA-46CB-B9B2-2F0E227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9CB3-08BE-478D-912C-4C2751D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55DB-6A1F-4427-B609-387E20F0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2741-538A-4DFF-94E9-29FCC01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B9AD-792A-4C49-9F72-7DDDCC41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7361-12EF-4ACE-BF42-7FEB6FE3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22CF-F851-46FF-A920-9489281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7179-9D71-49B9-A3A3-FC52818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9C86-374F-4D62-9257-CB1B582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BC8C-03FC-4593-B494-F85B9B2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51E5-5539-46E3-BAD4-D9D0CD54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309-CF32-4F02-B462-3CC24CF6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8587-BA7E-4FB9-BDF1-87B7741A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D03C-632D-4635-8576-462B96A4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69D0-F5EC-40F6-AF46-7A5990CB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C484-1205-4815-ADED-1F21F4E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0A1E-3986-4EEA-B3CC-7C6F9E10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BBD5-E943-4402-B440-34B54350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E13D-4120-402A-B436-51ECD54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B3DDA-5F22-4C6E-AA05-2AF3A04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1C4DA-6584-4825-BE1D-A7BA1ED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00FA-141B-47C4-AD3F-36C6090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3D7-120A-48F1-AB28-D1B28E0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82308-DE16-4088-95DD-18BC9CB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C7BE-C22E-44A7-83C7-89E6D774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DB61-D105-4920-B2BE-05FE7930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1448-1D85-473D-A421-804C665D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9F64-9154-4C4F-A178-5061FBD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9489-029F-47AE-A94B-D99B3583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F086-4641-4AE0-99EE-C20846B7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8953-31B2-461B-8F2D-7F8DC2E9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D5B8-359B-411A-A906-0FCBE22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A5F02-831D-4028-BA27-89859FE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99E-BACE-4DAD-ADEA-E07E02B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6468-E909-40CA-8385-D0117D3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7F64-65D4-4502-B25A-110A847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2F73-2738-487D-8179-71591CF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C4EE-2D9B-4D4B-A3C2-6F859335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08D47-F5C2-41B6-B420-8F9044EB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4ED6-6F4B-45AE-A855-8B2EA1D7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5E19-40A5-4EB7-B6E1-E82E06D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4E6D7-5896-4351-BA05-1F3BB20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D151-556C-41A6-A1CD-3169CC0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FE23B-2C98-4BF4-A708-77E7E2A1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03B-EDC4-4E72-B204-322C118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4BC18-7B5A-45A0-AD00-F019D8D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71AC-3CBB-4C0A-BC3C-801A3E4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2F2A1-14ED-4D87-8867-562D902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F383B-344D-4BB6-9935-DAB2A96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A76A-757C-47DF-B82A-5D6C190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234A-3DF4-4AD8-86F4-C03F9D34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B14C-F68F-4E87-B699-D604D131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A174-B1AF-406E-AA25-BE956AE9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6CB8-61ED-4E82-A137-144F048F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4852-C115-4893-9761-9917F3F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4938-1CF4-4871-ADF0-8909A81441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3B9F-4991-4EC7-926F-F8C54D332C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141-0957-40AF-91FF-C6A11E14F9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3EC6-A857-4719-AFDE-E86756B46E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CD18-F73B-4FC6-B530-0926B209F5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26A8-7C78-40D4-893D-7248DC85EC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A57D-73D4-42D6-A418-10D84886E2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A32A-1444-4DBD-9944-BE1DEED9DD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3765-4E9A-434C-9403-C2C27369F7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171-2645-4411-9121-828705142F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7408-D249-4EC9-BEDE-18F1C022C9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1F3-C1AD-46CC-A421-461279BF3A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Profesor: Andrés Tomasel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Públic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8" name="3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9" name="3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Di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37400" y="1989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% P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la OEC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857160" y="1305000"/>
            <a:ext cx="7745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onde Gast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6" name="4 Marcador de contenido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8229600" cy="4824360"/>
          </a:xfrm>
          <a:prstGeom prst="rect">
            <a:avLst/>
          </a:prstGeom>
          <a:ln w="0">
            <a:noFill/>
          </a:ln>
        </p:spPr>
      </p:pic>
      <p:sp>
        <p:nvSpPr>
          <p:cNvPr id="647" name="1 Título"/>
          <p:cNvSpPr/>
          <p:nvPr/>
        </p:nvSpPr>
        <p:spPr>
          <a:xfrm>
            <a:off x="285840" y="6500880"/>
            <a:ext cx="82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uente: Martínez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Prioridades Cambi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2"/>
          <a:stretch/>
        </p:blipFill>
        <p:spPr>
          <a:xfrm>
            <a:off x="220680" y="1714680"/>
            <a:ext cx="83455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1" name="4 Marcador de contenido"/>
          <p:cNvGraphicFramePr/>
          <p:nvPr/>
        </p:nvGraphicFramePr>
        <p:xfrm>
          <a:off x="457200" y="1560600"/>
          <a:ext cx="8229600" cy="47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2" name="4 Marcador de contenid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60600"/>
                    <a:ext cx="82296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 lo financia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93800" y="1500120"/>
            <a:ext cx="755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gresión PIB / Carga Tribut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56" name="Object 4"/>
          <p:cNvGraphicFramePr/>
          <p:nvPr/>
        </p:nvGraphicFramePr>
        <p:xfrm>
          <a:off x="1547640" y="1471680"/>
          <a:ext cx="6264360" cy="418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71680"/>
                    <a:ext cx="626436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473400" y="6289560"/>
            <a:ext cx="434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Fuente: FMI,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ww.nationmaster.com/graph/tax_tax_rev_of_gdp-taxation-tax-revenue-of-g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619280" y="2928960"/>
            <a:ext cx="61214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onstantia"/>
              </a:rPr>
              <a:t>Causalidad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Nos presentam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 del Curs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357200"/>
            <a:ext cx="8715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regar al alumno principios económicos básicos que fundamentan la intervención del Estado en una economía de merc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lgunas preguntas que intentaremos respon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ebe existir 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 qué distintos gobiernos intervienen de manera distin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En qué y cómo gasta el gobierno y cómo se financia este gas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costos y beneficios de la intervención del esta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lan de Estu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98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l Papel del Estado en la Economí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roblema económico y mecanismos de asignación de recurso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s cifras del Estado en la Economí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La estructura del mercado eficiente y fallas de mercad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Modalidades de intervención y financiamiento del Estad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Política Monetaria y Cambiari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68360" y="299736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gre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mpu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Incentivos Fiscales y Gasto Tribu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Endeudamiento Público y Reglas Fisc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468360" y="443700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ederalismo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La Economía y las Preferencias Col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aturaleza Política de las decisiones colectiv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elección de relglas de decisión colectiva y teoría del public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eorema del Votante Med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21480" y="6459480"/>
            <a:ext cx="207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523E-006 L 0.00087 0.29771 E">
                                      <p:cBhvr>
                                        <p:cTn id="6" dur="2000" fill="hold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8973E-006 L -0.00277 0.25376 E">
                                      <p:cBhvr>
                                        <p:cTn id="8" dur="2000" fill="hold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0809 L 3.88889E-006 -0.0421 E">
                                      <p:cBhvr>
                                        <p:cTn id="10" dur="2000" fill="hold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2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4" dur="2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6" dur="2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18" dur="2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36017E-006 L -0.00122 -0.10479 E">
                                      <p:cBhvr>
                                        <p:cTn id="20" dur="2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bre las Evalu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125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os pruebas parcia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teria + control de lectu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5 de Mayo (“La Racionalidad del Mercado” y “Las fallas del Mercado; Letelier 2006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23 de Junio (“Las Instituciones en el Crecimiento Económico”; Rosende 2008 y “Instituciones y Crecimiento Económico” Sebastián; 2006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ueba Global (acumulativo, solo materia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5 al 17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amen Final (materia + lecturas + Ross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mana del 19 al 24 de Ju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Bibliografía (adiciona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rat, Michael (2009). “La tributación directa en Chile: equidad y desafíos”, Ilpes-Cepal, Santiago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eclac.cl/publicaciones/xml/9/37319/Serie_MD_92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ende, Francisco (2008).“Las Instituciones en el Crecimiento Económico”,CEP, Santiago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www.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ep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chile.cl/dms/archivo_4237.../rev111_rosende_</a:t>
            </a:r>
            <a:r>
              <a:rPr b="1" i="1" lang="es-ES" sz="1400" spc="-1" strike="noStrike">
                <a:solidFill>
                  <a:srgbClr val="000000"/>
                </a:solidFill>
                <a:latin typeface="Constantia"/>
              </a:rPr>
              <a:t>crecimiento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.pdf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bastián, Carlos (2006). “Instituciones y Crecimiento Económico, Un marco conceptual”, Universidad Complutense, Madrid </a:t>
            </a:r>
            <a:r>
              <a:rPr b="0" lang="es-CL" sz="1400" spc="-1" strike="noStrike">
                <a:solidFill>
                  <a:srgbClr val="000000"/>
                </a:solidFill>
                <a:latin typeface="Constantia"/>
              </a:rPr>
              <a:t>www.ucm.es/info/ecocuan/MacroDin/Organizacion/INSTITUCIONES%20Y%20ECONOMIA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ossen, Harvey (2002). “Hacienda Pública”, Quinta edición, Mc Graw Hill.  Capítulos 4- 8, 13-15, 17, 19, 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Reglas de Jue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p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ntualidad: 8h35 se toma l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Poner atención a las ind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o del rol del gobierno en la econom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guntas que la ciencia económica busca respo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Debe el gobierno intervenir en la economí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uán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¿Cóm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uáles son los efectos de dicha intervenció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 hay respuestas ú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aso de la sal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Seguro priv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ino Unido: Atención gratui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nadá: Segur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Sistema mix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ducación Pú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s Unidos: Distritos 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cuador: Centraliz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hile: Municipalizada y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23T18:07:12Z</dcterms:modified>
  <cp:revision>74</cp:revision>
  <dc:subject/>
  <dc:title>Economía del Sector Público</dc:title>
</cp:coreProperties>
</file>