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9.png" ContentType="image/png"/>
  <Override PartName="/ppt/media/image13.png" ContentType="image/png"/>
  <Override PartName="/ppt/media/image8.wmf" ContentType="image/x-wmf"/>
  <Override PartName="/ppt/media/image12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4E3E-00B5-432B-B505-96EA357589C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AFBE-4B9F-4C20-815B-A51550F78C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ne gr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B92D-A450-4FD9-93C5-E24508001A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98DF-83B1-47E7-B0BF-1BF22329B2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6FB6-4E30-496B-A52E-E509E8067D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 .- PRECISAR EL ROL ECONÓMICO QUE DEBE JUGAR EL</a:t>
            </a: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 ESTADO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EN UNA ECONOMÍA DE MERC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.- ESTUDIAR LAS FORMAS A TRAVÉS DE LAS CUALES EL ESTADO </a:t>
            </a: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INTERVIENE EN LA ECONOMÍA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, TANTO POR EL LADO DE LOS INGRESOS COMO DE LOS GASTOS DE SU PRESUPUES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- ESTUDIAR </a:t>
            </a: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LOS BENEFICIOS Y LOS COSTOS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DE TAL INTERVEN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.- REALIZAR UN ANÁLISIS TEÓRICO Y PRÁCTICO DEL </a:t>
            </a: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CASO CHIL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1893-170B-402E-B357-8B0CF1E8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9A8-534F-4AF4-B209-98054C0B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E5A64-A15F-4771-B499-8C4989EA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18A29-0B98-476A-AA37-111F7B23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473A5-62B4-4CD9-AD2D-F83C0B76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BEB52-B28F-49D1-A7C0-A459A872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7A956-6C27-4913-93FD-A93B34AA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46C6F-DAFD-47B0-9F63-D269C12D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65ADB-3119-440C-87A7-13AC1DDE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BA178-6315-4E3D-9A24-431E58F1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D253C-9F88-4D14-9BCA-8D7118AC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4B676-E1C4-4FC9-9FC1-30E8B693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5E4-B766-4994-8C05-1B9D8CB4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F3672-CF54-43B6-B9A8-050DF386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CB518-C5C7-49C9-BB47-615EB15A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4EE0F-740C-464E-8E7E-72D59BB3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2D4E5-12FF-4534-B384-C9CF2021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68538-80F3-4611-ABE7-7E97F431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A5F1E-689C-4764-8A32-D51E27AC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E5A31-D4C0-4985-8051-65DCB541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AA9C6-BB7B-4016-96DD-344D749F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5D95C-2979-48F7-B76D-7FB75FA3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066B7-5160-4DA5-9381-CCFF5909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33D-04F2-477D-815D-FEB426BA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47769-9691-4A09-A324-F4215AD3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18F74-43DD-4EF9-B9BE-927717DF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18D67-20AD-44EA-A5FF-BDDE26B5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A098A-5375-46DF-98C1-F1A85F2B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2E3FC-91F6-403A-9A55-FE967CA0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9F0D4-D3BA-44ED-BE11-3FC02232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7C918-6F42-44FE-9398-695D6B89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7DB96-4BC2-4957-BEFA-F8386753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A8AD9-FAC9-4E5A-8356-30A9387D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5CC3B-B098-44F6-9B6E-91D37519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40EE-B3A5-4C40-876E-9E21AD25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9D7B0-D42B-43B0-B777-136020DF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CDB38-23C3-4E11-9DA4-84862FAB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014E7-6D11-40A5-B174-89260E1A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6167A-D207-4729-BE3F-706A75BD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5B4B1-8FEB-498D-89F5-DF777086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41DBD-45B3-4D72-9818-3BE45B39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313E7-363F-4181-B140-06925869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B3DC5-7F7D-43AD-8C81-E61CAA70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8A278-3E0A-4FB2-96A9-5090C08B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C2E22-C7B6-400C-92EB-D106832E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A8DD-F0D7-4A80-B4FE-77A344DF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87E3D-0A38-47A4-8CE5-A12B3A79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57986-5770-49BD-A250-E3CAED0C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600C1-9A71-4D55-ABCC-40E63742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E23BC-2E48-4222-8F8B-45A5C89F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2D9CC-7BDC-4877-9FC5-39C6BD3C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6FD0-446F-4D23-89DF-DFBBAF44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0027-9983-432E-A9FD-129D8923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6F7A-B885-4B21-9352-40273A6E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AA7E-35ED-4783-8EC6-30842269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E6CE-63C9-4C61-B4BC-855CC75C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9DAE-FCD5-4A14-95CC-E9F82C48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6077-D1A4-4A72-B3D4-C07F1C83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6EF7-C12F-4A84-A5CD-B7B4D950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9224-6CEB-435A-82EA-13495678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FE5D-C2DF-4F78-B7C4-FCF2294F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58FB-C6C6-4895-BC6F-D21A8D3D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28725-883A-4FA3-8701-3E7A47C8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7A35B-0B15-439A-AE71-9AB3A931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A1BCC-F989-4DDA-87B2-6D38C42B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B09E3-1BEA-4928-AFB9-563CC885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1F238-D5B5-4357-833A-C3F17936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1CD-339E-459E-8B53-124F4BF9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E08A3-75CE-43F5-AFAA-AC68C6DF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5C212-8323-4E69-A489-AC472609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4280B-253A-40AD-9ABF-B49AAC01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FCFE9-4A87-4561-B22A-49559B4D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6A6AD-19E2-493A-A7A8-0940AF12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436F7-F42F-4852-92FA-43C9D241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C0BFF-4BD2-4803-8996-8AF49159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E36C4-1E9C-4909-BBCE-C76E501A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5F869-EDDC-4BA0-89BE-1B08A597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CD796-7D19-4684-87E9-6D1D3AA0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89DF-B765-4CDA-B7AA-242D151C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35218-562A-4499-A8F8-9BDFA023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67A02-8238-4DA5-8D21-6510570D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8EE46-39AC-4548-B8B3-950D2BD9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F2D5B-FE61-41BD-9A78-996CF650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4EE1F-B29B-4AAD-A4F0-33B992B0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5C6BE-F5BC-4EAF-BD30-BDE68EB2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8DB6B-2476-4635-898C-2C861A93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FE6E2-F9B2-4871-93B3-F7C61782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9276A-5A1E-4D38-BBE0-BD9CC7CD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12008-D306-4DCA-A5BD-30CBE8EA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3F6-9502-4324-ADEB-36EF68D0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5DE09-766A-46C3-9DB4-73C4E8F4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7F6D6-F393-4003-A8AF-055492E3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62360-3287-4EAE-BE98-E3140629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19262-BA33-47B6-9C36-F74BB62E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4B0E7-2772-4505-8100-653E76EF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AF5A2-29B8-4BDD-B367-A0E74BFB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BCB93-C40A-476D-B7A6-513E234E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067E3-5FCE-4871-926E-BCDC8C48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5ABD5-F00A-4F31-895B-2EE167FA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4E531-DBC4-4B35-819C-B82C6FD8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EAC4-860D-4680-9108-538B990A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B81EF-59E7-408D-915F-FBFEC09A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8474D-A3D2-4012-B2B7-D472332B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CEB28-5646-4430-B5F0-07B96A63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1783A-1B0A-44DB-BEB0-632BE3B5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DC82C-D072-4120-988C-528EF9F7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FC159-F77C-4C48-AADD-B3AC711E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A434E-02A4-440D-B062-01B5ACB9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404A3-4BF8-446B-8783-56078363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0199F-F744-4E5C-9D05-0DD69E62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8CCBD-3B5D-4609-A3FF-01CC0C9A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9618-046B-44A5-BB95-E74545CF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2D8D0-A24D-4B21-9476-26D5F6EF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66D80-6D1D-4538-9523-A8AC9F7E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B9901-8D27-414A-B567-CF284094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5DFEB-2BBC-4EA4-8EE0-976BD9BD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AC722-2C16-4288-AB65-62BA8D36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709CD-6509-4E1E-92EB-FF2CAAB2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AA1F0-5295-4C59-84FA-5E93CAD8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B82A3-34A7-41CC-A503-166B002D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F552E-376F-44B3-8DDB-1A46B407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86DD9-AF30-418C-B022-F11A1A6A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A069-7E06-4150-825C-B0E05617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179ED-AF62-4E83-BBC5-9C5A7E42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93A69-26C0-4293-8A27-F0C57840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C7DA1-740F-4A7A-94E3-19F93C31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B042B-17A8-4021-AD43-1E3E325B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2CA50-A14F-4958-8295-320AC87E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1798F-30D9-49E6-AC15-046D78A3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6F2D7-5988-4982-B6FC-9095895E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9B110-C921-4336-86C2-1232F9BD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D54C9-1F3E-433F-A72A-2204A1A2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AB7E0-FBD8-45F0-9B8C-F97F8747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5A91-37AB-4F51-9C21-5C0E6C9C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981BD-3C35-4558-A7DF-FDB078C5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2DACD-4216-4CF8-B0AF-63A17D0E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B989E-D5A9-40D6-9B6A-57FBD099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9391B-46AD-4C69-A11F-009E7F81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FD51F-CA48-4835-B4AD-0F3193D1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47C6E-D203-40BB-A365-FE734A78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CDB29-F546-4610-B41E-5BF958FA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60567-200F-48F7-BC0D-3963F34A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27F7C-FA42-4696-93D7-3177D99F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31FB3-4695-4C3B-8C90-43D1B18D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45A2-E7A4-4E73-B264-36728E289FC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0AF4-87F5-4815-8C20-00CBEB01531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1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AEA3-CB5A-4030-91E5-D4D79C39AA9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022C-66AB-4F64-9728-5C12F8BBFFF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13E3-A6C1-4637-89E8-D412A0DAA33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4C0B-BAF9-4A58-ADFD-1A8C2241C61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071F-6C2B-404A-B8CA-185441A91F6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1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4A46-6F82-4173-9B34-838A11F03C9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6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1BF3-F13F-4780-BF4C-A0805BB44C7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1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F002-D956-4ED5-A0F9-249052BA371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2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3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6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8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C014-8A0E-47D3-B388-4A7C71E9092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9CC8-C4E2-44F9-BA3E-C306D36328E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Rectangle 2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Profesor: Andrés Tomasell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Gasto Público en Chi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38" name="3 Marcador de contenido"/>
          <p:cNvGraphicFramePr/>
          <p:nvPr/>
        </p:nvGraphicFramePr>
        <p:xfrm>
          <a:off x="457200" y="1560600"/>
          <a:ext cx="8229600" cy="470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39" name="3 Marcador de contenido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60600"/>
                    <a:ext cx="8229600" cy="47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1 Título"/>
          <p:cNvSpPr/>
          <p:nvPr/>
        </p:nvSpPr>
        <p:spPr>
          <a:xfrm>
            <a:off x="285840" y="6500880"/>
            <a:ext cx="82296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Fuente: Dip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437400" y="19890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% P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n la OEC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44" name="Picture 2" descr=""/>
          <p:cNvPicPr/>
          <p:nvPr/>
        </p:nvPicPr>
        <p:blipFill>
          <a:blip r:embed="rId2"/>
          <a:stretch/>
        </p:blipFill>
        <p:spPr>
          <a:xfrm>
            <a:off x="857160" y="1305000"/>
            <a:ext cx="774540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onde Gast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46" name="4 Marcador de contenido" descr=""/>
          <p:cNvPicPr/>
          <p:nvPr/>
        </p:nvPicPr>
        <p:blipFill>
          <a:blip r:embed="rId2"/>
          <a:stretch/>
        </p:blipFill>
        <p:spPr>
          <a:xfrm>
            <a:off x="457200" y="1500120"/>
            <a:ext cx="8229600" cy="4824360"/>
          </a:xfrm>
          <a:prstGeom prst="rect">
            <a:avLst/>
          </a:prstGeom>
          <a:ln w="0">
            <a:noFill/>
          </a:ln>
        </p:spPr>
      </p:pic>
      <p:sp>
        <p:nvSpPr>
          <p:cNvPr id="647" name="1 Título"/>
          <p:cNvSpPr/>
          <p:nvPr/>
        </p:nvSpPr>
        <p:spPr>
          <a:xfrm>
            <a:off x="285840" y="6500880"/>
            <a:ext cx="82296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Fuente: Martínez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s Prioridades Cambi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49" name="Picture 2" descr=""/>
          <p:cNvPicPr/>
          <p:nvPr/>
        </p:nvPicPr>
        <p:blipFill>
          <a:blip r:embed="rId2"/>
          <a:stretch/>
        </p:blipFill>
        <p:spPr>
          <a:xfrm>
            <a:off x="220680" y="1714680"/>
            <a:ext cx="83455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omo lo financiam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51" name="4 Marcador de contenido"/>
          <p:cNvGraphicFramePr/>
          <p:nvPr/>
        </p:nvGraphicFramePr>
        <p:xfrm>
          <a:off x="457200" y="1560600"/>
          <a:ext cx="8229600" cy="470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2" name="4 Marcador de contenido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60600"/>
                    <a:ext cx="8229600" cy="47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omo lo financiam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2"/>
          <a:stretch/>
        </p:blipFill>
        <p:spPr>
          <a:xfrm>
            <a:off x="793800" y="1500120"/>
            <a:ext cx="7556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gresión PIB / Carga Tributar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56" name="Object 4"/>
          <p:cNvGraphicFramePr/>
          <p:nvPr/>
        </p:nvGraphicFramePr>
        <p:xfrm>
          <a:off x="1547640" y="1471680"/>
          <a:ext cx="6264360" cy="4189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471680"/>
                    <a:ext cx="626436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Rectangle 6"/>
          <p:cNvSpPr/>
          <p:nvPr/>
        </p:nvSpPr>
        <p:spPr>
          <a:xfrm>
            <a:off x="473400" y="6289560"/>
            <a:ext cx="434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Fuente: FMI,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ww.nationmaster.com/graph/tax_tax_rev_of_gdp-taxation-tax-revenue-of-gd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619280" y="2928960"/>
            <a:ext cx="612144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0000"/>
                </a:solidFill>
                <a:latin typeface="Constantia"/>
              </a:rPr>
              <a:t>Causalidad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Nos presentam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bjetivo del Curs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14200" y="1357200"/>
            <a:ext cx="8715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tregar al alumno principios económicos básicos que fundamentan la intervención del Estado en una economía de mercad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Algunas preguntas que intentaremos respond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 qué debe existir el Esta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 qué distintos gobiernos intervienen de manera distinta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En qué y cómo gasta el gobierno y cómo se financia este gas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uáles son los costos y beneficios de la intervención del esta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lan de Estud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68360" y="981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El Papel del Estado en la Economí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Problema económico y mecanismos de asignación de recurso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Las cifras del Estado en la Economía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La estructura del mercado eficiente y fallas de mercado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Modalidades de intervención y financiamiento del Estado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Política Fiscal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Política Monetaria y Cambiaria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468360" y="2997360"/>
            <a:ext cx="82296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Gasto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ngreso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Impues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Incentivos Fiscales y Gasto Tributar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Endeudamiento Público y Reglas Fisca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468360" y="4437000"/>
            <a:ext cx="82296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Federalismo Fi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La Economía y las Preferencias Col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Naturaleza Política de las decisiones colectiv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lnSpc>
                <a:spcPct val="8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Selección de relglas de decisión colectiva y teoría del public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lnSpc>
                <a:spcPct val="8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Teorema del Votante Med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321480" y="6459480"/>
            <a:ext cx="2070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Gasto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19523E-006 L 0.00087 0.29771 E">
                                      <p:cBhvr>
                                        <p:cTn id="6" dur="2000" fill="hold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8973E-006 L -0.00277 0.25376 E">
                                      <p:cBhvr>
                                        <p:cTn id="8" dur="2000" fill="hold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5 0.00809 L 3.88889E-006 -0.0421 E">
                                      <p:cBhvr>
                                        <p:cTn id="10" dur="2000" fill="hold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36017E-006 L -0.00122 -0.10479 E">
                                      <p:cBhvr>
                                        <p:cTn id="12" dur="2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36017E-006 L -0.00122 -0.10479 E">
                                      <p:cBhvr>
                                        <p:cTn id="14" dur="2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36017E-006 L -0.00122 -0.10479 E">
                                      <p:cBhvr>
                                        <p:cTn id="16" dur="20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36017E-006 L -0.00122 -0.10479 E">
                                      <p:cBhvr>
                                        <p:cTn id="18" dur="20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36017E-006 L -0.00122 -0.10479 E">
                                      <p:cBhvr>
                                        <p:cTn id="20" dur="2000" fill="hold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Sobre las Evalua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125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os pruebas parcial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ateria + control de lectur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5 de Mayo (“La Racionalidad del Mercado” y “Las fallas del Mercado; Letelier 2006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23 de Junio (“Las Instituciones en el Crecimiento Económico”; Rosende 2008 y “Instituciones y Crecimiento Económico” Sebastián; 2006 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ueba Global (acumulativo, solo materia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Semana del 5 al 17 de juli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xamen Final (materia + lecturas + Ross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Semana del 19 al 24 de Juli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 Bibliografía (adicional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720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orrat, Michael (2009). “La tributación directa en Chile: equidad y desafíos”, Ilpes-Cepal, Santiago </a:t>
            </a:r>
            <a:r>
              <a:rPr b="0" lang="es-CL" sz="1400" spc="-1" strike="noStrike">
                <a:solidFill>
                  <a:srgbClr val="000000"/>
                </a:solidFill>
                <a:latin typeface="Constantia"/>
              </a:rPr>
              <a:t>www.eclac.cl/publicaciones/xml/9/37319/Serie_MD_92.pdf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osende, Francisco (2008).“Las Instituciones en el Crecimiento Económico”,CEP, Santiago </a:t>
            </a:r>
            <a:r>
              <a:rPr b="0" i="1" lang="es-ES" sz="1400" spc="-1" strike="noStrike">
                <a:solidFill>
                  <a:srgbClr val="000000"/>
                </a:solidFill>
                <a:latin typeface="Constantia"/>
              </a:rPr>
              <a:t>www.</a:t>
            </a:r>
            <a:r>
              <a:rPr b="1" i="1" lang="es-ES" sz="1400" spc="-1" strike="noStrike">
                <a:solidFill>
                  <a:srgbClr val="000000"/>
                </a:solidFill>
                <a:latin typeface="Constantia"/>
              </a:rPr>
              <a:t>cep</a:t>
            </a:r>
            <a:r>
              <a:rPr b="0" i="1" lang="es-ES" sz="1400" spc="-1" strike="noStrike">
                <a:solidFill>
                  <a:srgbClr val="000000"/>
                </a:solidFill>
                <a:latin typeface="Constantia"/>
              </a:rPr>
              <a:t>chile.cl/dms/archivo_4237.../rev111_rosende_</a:t>
            </a:r>
            <a:r>
              <a:rPr b="1" i="1" lang="es-ES" sz="1400" spc="-1" strike="noStrike">
                <a:solidFill>
                  <a:srgbClr val="000000"/>
                </a:solidFill>
                <a:latin typeface="Constantia"/>
              </a:rPr>
              <a:t>crecimiento</a:t>
            </a:r>
            <a:r>
              <a:rPr b="0" i="1" lang="es-ES" sz="1400" spc="-1" strike="noStrike">
                <a:solidFill>
                  <a:srgbClr val="000000"/>
                </a:solidFill>
                <a:latin typeface="Constantia"/>
              </a:rPr>
              <a:t>.pdf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bastián, Carlos (2006). “Instituciones y Crecimiento Económico, Un marco conceptual”, Universidad Complutense, Madrid </a:t>
            </a:r>
            <a:r>
              <a:rPr b="0" lang="es-CL" sz="1400" spc="-1" strike="noStrike">
                <a:solidFill>
                  <a:srgbClr val="000000"/>
                </a:solidFill>
                <a:latin typeface="Constantia"/>
              </a:rPr>
              <a:t>www.ucm.es/info/ecocuan/MacroDin/Organizacion/INSTITUCIONES%20Y%20ECONOMIA.pdf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ossen, Harvey (2002). “Hacienda Pública”, Quinta edición, Mc Graw Hill.  Capítulos 4- 8, 13-15, 17, 19, 20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s Reglas de Jueg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spe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untualidad: 8h35 se toma lis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  <a:ea typeface="Arial"/>
              </a:rPr>
              <a:t>Poner atención a las indic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troduc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o del rol del gobierno en la econom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eguntas que la ciencia económica busca respon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Debe el gobierno intervenir en la economía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¿Cuándo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¿Cómo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uáles son los efectos de dicha intervención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No hay respuestas ún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caso de la salu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ados Unidos: Seguro privad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ino Unido: Atención gratui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anadá: Seguro públic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hile: Sistema mixt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Educación Públ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ados Unidos: Distritos Escola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cuador: Centralizad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hile: Municipalizada y subvencionad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3-23T18:07:12Z</dcterms:modified>
  <cp:revision>74</cp:revision>
  <dc:subject/>
  <dc:title>Economía del Sector Público</dc:title>
</cp:coreProperties>
</file>